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21E-B5E2-4716-B614-8B5E07D2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CA8-B969-4C11-B5DB-AB1410E5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800-1F58-4D8C-ADCE-1173D917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0D0-0122-44A6-A198-D1309A7F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F2B-1BFD-4E7F-9F96-59506DD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A80-5888-49D7-9853-4E02FFA1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98F7-4A05-4639-9728-D475A351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5DE-4675-4076-8F46-C3331C5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FB1-83C7-4DF5-8068-970BB525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5DB-EC67-466F-B976-941E8C3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95B-707E-486C-B46E-5F12248D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2429-A29C-4E0D-926B-E34F98F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440" y="6400800"/>
            <a:ext cx="776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C025-AAF4-40B0-AFF1-7B64B671B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.edu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 transport service does an app need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5920" y="1390320"/>
            <a:ext cx="38862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ta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pps (e.g., audio) can tolerate some lo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apps (e.g., file transfer, telnet) require 100% 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0440" y="2838240"/>
            <a:ext cx="381024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pps (e.g., Internet telephony, interactive games) require low delay to be “effectiv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23800" y="3724200"/>
            <a:ext cx="388620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pps (e.g., multimedia) require minimum amount of bandwidth to be “effect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apps (“elastic apps”) make use of whatever bandwidth they 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171-4DD2-404D-929A-FE47CBB78B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Non-persistent and persistent connection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981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-persist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/1.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parses request, responds, and closes TCP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RTTs (Round Trip Time) to fetch each obje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object transfer suffers from slow st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428720" y="97128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for HTTP/1.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same TCP connection: serv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ses request, responds, parses new request,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sends requests for all referenced objects as soon as it receives base HTM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er RTTs and less slow st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54960" y="5398920"/>
            <a:ext cx="39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t most 1.0 browsers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rallel TCP conne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47B-FB71-4BAA-B88D-4E6B1812F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message format: reques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types of http messages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ques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ttp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quest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mess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926080" y="3444840"/>
            <a:ext cx="6276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 /somedir/page.html HTTP/1.0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www.school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ion: 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-agent: Mozilla/4.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: text/html, image/gif,image/jpe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-language: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tra carriage return, line fee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400" y="3103560"/>
            <a:ext cx="233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 comm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38320" y="331488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57400" y="3753000"/>
            <a:ext cx="223920" cy="1581120"/>
          </a:xfrm>
          <a:custGeom>
            <a:avLst/>
            <a:gdLst/>
            <a:ahLst/>
            <a:rect l="l" t="t" r="r" b="b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29240" y="425592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162160" y="563832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6480" y="5208480"/>
            <a:ext cx="216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 f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dicates 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f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30C-1B02-4F1F-A653-8964DB1CA2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http request message: general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20680" y="1649520"/>
            <a:ext cx="751212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5ED-BC9A-48FB-A6AB-7C6E9B76C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message format: respon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s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3183120" y="1987560"/>
            <a:ext cx="5819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200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e: Thu, 06 Aug 1998 12:00:15 GM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rver: Apache/1.3.0 (Uni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ast-Modified: Mon, 22 Jun 1998 …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Length: 68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5720" y="1407960"/>
            <a:ext cx="187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protoco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cod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5360" y="1914480"/>
            <a:ext cx="924120" cy="2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5640" y="2276640"/>
            <a:ext cx="257040" cy="163800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301788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190600" y="4381560"/>
            <a:ext cx="924120" cy="257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880" y="4361040"/>
            <a:ext cx="142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6B4-A0DA-42DB-9664-598EBF4089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response status cod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2314440"/>
            <a:ext cx="7934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 succeeded, requested object later in this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ed object moved, new location specified later in this message (Location: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 message not understood by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523800" y="1324080"/>
            <a:ext cx="7686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first line in serv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&gt;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 response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8200" indent="-17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few sample c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7CC-55E1-41A3-BE12-CCC27D159B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rying out http (client side) for yourself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0240" y="159084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017960" y="2155680"/>
            <a:ext cx="50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efault http server port) at www.eurecom.f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thing typed in s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port 80 at www.eurecom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9720" y="21906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elnet www.eurecom.fr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1800" y="36003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5880" y="4202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ET /~ross/index.html HTTP/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3320" y="409896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2162160"/>
            <a:ext cx="247680" cy="118116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9040" y="4067280"/>
            <a:ext cx="257400" cy="1190520"/>
          </a:xfrm>
          <a:custGeom>
            <a:avLst/>
            <a:gdLst/>
            <a:ahLst/>
            <a:rect l="l" t="t" r="r" b="b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1800" y="542916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89D-331B-49FB-B273-7F65A4D661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User-server interaction: authenticat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860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uthentication 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rol access to server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atel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lient must present authorization in each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zation: typically name, pass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thoriz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eader line in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o authorization presented, server refuses access, s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line in respon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199080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2240" y="14558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33920" y="1407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8560" y="1990800"/>
            <a:ext cx="2686320" cy="314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45040" y="197496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828680" y="243828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62400" y="2411280"/>
            <a:ext cx="2505240" cy="55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83200" y="23749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01: authorization re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 authentic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9960" y="3581280"/>
            <a:ext cx="33055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073480" y="3384720"/>
            <a:ext cx="2681280" cy="642600"/>
            <a:chOff x="5073480" y="3384720"/>
            <a:chExt cx="2681280" cy="642600"/>
          </a:xfrm>
        </p:grpSpPr>
        <p:sp>
          <p:nvSpPr>
            <p:cNvPr id="176" name=""/>
            <p:cNvSpPr/>
            <p:nvPr/>
          </p:nvSpPr>
          <p:spPr>
            <a:xfrm>
              <a:off x="5171760" y="3430800"/>
              <a:ext cx="2505240" cy="55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73480" y="3384720"/>
              <a:ext cx="26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horization: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H="1">
            <a:off x="4800240" y="40672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016600" y="4098960"/>
            <a:ext cx="2766960" cy="642600"/>
            <a:chOff x="5016600" y="4098960"/>
            <a:chExt cx="2766960" cy="642600"/>
          </a:xfrm>
        </p:grpSpPr>
        <p:sp>
          <p:nvSpPr>
            <p:cNvPr id="180" name=""/>
            <p:cNvSpPr/>
            <p:nvPr/>
          </p:nvSpPr>
          <p:spPr>
            <a:xfrm>
              <a:off x="5038920" y="4114800"/>
              <a:ext cx="2685960" cy="31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16600" y="4098960"/>
              <a:ext cx="27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781520" y="50673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054760" y="4889520"/>
            <a:ext cx="2681280" cy="642600"/>
            <a:chOff x="5054760" y="4889520"/>
            <a:chExt cx="2681280" cy="642600"/>
          </a:xfrm>
        </p:grpSpPr>
        <p:sp>
          <p:nvSpPr>
            <p:cNvPr id="184" name=""/>
            <p:cNvSpPr/>
            <p:nvPr/>
          </p:nvSpPr>
          <p:spPr>
            <a:xfrm>
              <a:off x="5153040" y="4935600"/>
              <a:ext cx="2505240" cy="55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4760" y="4889520"/>
              <a:ext cx="26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uthorization: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4809960" y="5562720"/>
            <a:ext cx="33055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5960" y="5594400"/>
            <a:ext cx="2766960" cy="642600"/>
            <a:chOff x="5025960" y="5594400"/>
            <a:chExt cx="2766960" cy="642600"/>
          </a:xfrm>
        </p:grpSpPr>
        <p:sp>
          <p:nvSpPr>
            <p:cNvPr id="188" name=""/>
            <p:cNvSpPr/>
            <p:nvPr/>
          </p:nvSpPr>
          <p:spPr>
            <a:xfrm>
              <a:off x="5048280" y="5610240"/>
              <a:ext cx="2685960" cy="31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25960" y="5594400"/>
              <a:ext cx="27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8467560" y="2019240"/>
            <a:ext cx="0" cy="4143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111880" y="5504040"/>
            <a:ext cx="718560" cy="398880"/>
            <a:chOff x="8111880" y="5504040"/>
            <a:chExt cx="718560" cy="398880"/>
          </a:xfrm>
        </p:grpSpPr>
        <p:sp>
          <p:nvSpPr>
            <p:cNvPr id="192" name=""/>
            <p:cNvSpPr/>
            <p:nvPr/>
          </p:nvSpPr>
          <p:spPr>
            <a:xfrm>
              <a:off x="8201160" y="5600520"/>
              <a:ext cx="571680" cy="22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11880" y="550404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85760" y="5999040"/>
            <a:ext cx="56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rowser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aches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name &amp; password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hat user does not have to repeatedly enter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AD3-4DFD-413B-93B6-736EA251E0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User-server interaction: cooki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0240" y="1590480"/>
            <a:ext cx="360036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sends “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ooki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to client in response m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-cookie: 167845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presents cookie in later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okie: 167845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atches presented-cookie with server-stored inf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membering user preferences, previous cho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197172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9080" y="143676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3920" y="1407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05400" y="1971720"/>
            <a:ext cx="2685960" cy="314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11520" y="195588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295520" y="2419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29240" y="2392200"/>
            <a:ext cx="2504880" cy="55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49680" y="2355840"/>
            <a:ext cx="264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 http respons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-cookie: 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76800" y="3562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540320" y="3365640"/>
            <a:ext cx="2681280" cy="673200"/>
            <a:chOff x="4540320" y="3365640"/>
            <a:chExt cx="2681280" cy="673200"/>
          </a:xfrm>
        </p:grpSpPr>
        <p:sp>
          <p:nvSpPr>
            <p:cNvPr id="207" name=""/>
            <p:cNvSpPr/>
            <p:nvPr/>
          </p:nvSpPr>
          <p:spPr>
            <a:xfrm>
              <a:off x="4638600" y="3411720"/>
              <a:ext cx="2505240" cy="55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40320" y="3365640"/>
              <a:ext cx="2681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okie: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>
            <a:off x="4266720" y="404820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483080" y="4079880"/>
            <a:ext cx="2766960" cy="642600"/>
            <a:chOff x="4483080" y="4079880"/>
            <a:chExt cx="2766960" cy="642600"/>
          </a:xfrm>
        </p:grpSpPr>
        <p:sp>
          <p:nvSpPr>
            <p:cNvPr id="211" name=""/>
            <p:cNvSpPr/>
            <p:nvPr/>
          </p:nvSpPr>
          <p:spPr>
            <a:xfrm>
              <a:off x="4505400" y="4095720"/>
              <a:ext cx="2685960" cy="31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83080" y="4079880"/>
              <a:ext cx="27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248000" y="504828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21240" y="4870440"/>
            <a:ext cx="2681280" cy="673200"/>
            <a:chOff x="4521240" y="4870440"/>
            <a:chExt cx="2681280" cy="673200"/>
          </a:xfrm>
        </p:grpSpPr>
        <p:sp>
          <p:nvSpPr>
            <p:cNvPr id="215" name=""/>
            <p:cNvSpPr/>
            <p:nvPr/>
          </p:nvSpPr>
          <p:spPr>
            <a:xfrm>
              <a:off x="4619520" y="4916520"/>
              <a:ext cx="2505240" cy="556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21240" y="4870440"/>
              <a:ext cx="2681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okie: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4276440" y="5543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492800" y="5575320"/>
            <a:ext cx="2766960" cy="642600"/>
            <a:chOff x="4492800" y="5575320"/>
            <a:chExt cx="2766960" cy="642600"/>
          </a:xfrm>
        </p:grpSpPr>
        <p:sp>
          <p:nvSpPr>
            <p:cNvPr id="219" name=""/>
            <p:cNvSpPr/>
            <p:nvPr/>
          </p:nvSpPr>
          <p:spPr>
            <a:xfrm>
              <a:off x="4515120" y="5591160"/>
              <a:ext cx="2685960" cy="314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92800" y="5575320"/>
              <a:ext cx="2766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ual http response 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649640" y="3522600"/>
            <a:ext cx="106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ok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97160" y="4998960"/>
            <a:ext cx="106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ok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peci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705-AB85-42AD-AD9B-E5B13F6DEA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User-server interaction: conditional GE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590480"/>
            <a:ext cx="38862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on’t send object if client has up-to-date stored (cached) ver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: specify date of cached copy in http requ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: response contains no object if cached copy up-to-dat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27680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9080" y="143676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33920" y="14079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4760" y="2114640"/>
            <a:ext cx="2686320" cy="79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21240" y="2098800"/>
            <a:ext cx="2681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295520" y="31050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02160" y="2975040"/>
            <a:ext cx="2643120" cy="855000"/>
            <a:chOff x="4502160" y="2975040"/>
            <a:chExt cx="2643120" cy="855000"/>
          </a:xfrm>
        </p:grpSpPr>
        <p:sp>
          <p:nvSpPr>
            <p:cNvPr id="232" name=""/>
            <p:cNvSpPr/>
            <p:nvPr/>
          </p:nvSpPr>
          <p:spPr>
            <a:xfrm>
              <a:off x="4600440" y="3030840"/>
              <a:ext cx="2504520" cy="73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02160" y="2975040"/>
              <a:ext cx="264312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7572600" y="2360520"/>
            <a:ext cx="124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0640" y="4172040"/>
            <a:ext cx="3905280" cy="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44672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1360" y="4467240"/>
            <a:ext cx="2686320" cy="79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87840" y="4451400"/>
            <a:ext cx="2681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36212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67400" y="5383080"/>
            <a:ext cx="2504880" cy="104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68760" y="5327640"/>
            <a:ext cx="26431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39200" y="4808520"/>
            <a:ext cx="124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824-60A5-42BD-9F90-702A38A5DB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eb Caches (proxy server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2009520"/>
            <a:ext cx="32670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sets browser: Web accesses via web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sends all http requests to  web ca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object at web cache, web cache immediately returns object in http respons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se requests object from origin server, then returns http response to cli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600120" y="1428840"/>
            <a:ext cx="7200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atisfy client request without involving origin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03720" y="2955960"/>
            <a:ext cx="515880" cy="414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53320" y="336852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268880" y="4826160"/>
            <a:ext cx="515880" cy="412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37920" y="277488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249960" y="3556080"/>
            <a:ext cx="345600" cy="742680"/>
            <a:chOff x="6249960" y="3556080"/>
            <a:chExt cx="345600" cy="742680"/>
          </a:xfrm>
        </p:grpSpPr>
        <p:sp>
          <p:nvSpPr>
            <p:cNvPr id="251" name=""/>
            <p:cNvSpPr/>
            <p:nvPr/>
          </p:nvSpPr>
          <p:spPr>
            <a:xfrm>
              <a:off x="6249960" y="41270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24920" y="35607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51760" y="37227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49960" y="35560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95560" y="356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470640" y="41270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79480" y="37980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00360" y="38970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765680" y="3144960"/>
            <a:ext cx="1428840" cy="668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803840" y="3284640"/>
            <a:ext cx="1350720" cy="627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759200" y="409572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809600" y="4183200"/>
            <a:ext cx="1403640" cy="785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08840" y="52848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422000">
            <a:off x="4859280" y="3195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9906800">
            <a:off x="4637880" y="420012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411200">
            <a:off x="4658040" y="356184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9861800">
            <a:off x="4826880" y="451872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174160" y="2765520"/>
            <a:ext cx="345600" cy="741960"/>
            <a:chOff x="8174160" y="2765520"/>
            <a:chExt cx="345600" cy="741960"/>
          </a:xfrm>
        </p:grpSpPr>
        <p:sp>
          <p:nvSpPr>
            <p:cNvPr id="269" name=""/>
            <p:cNvSpPr/>
            <p:nvPr/>
          </p:nvSpPr>
          <p:spPr>
            <a:xfrm>
              <a:off x="8174160" y="33361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49120" y="277020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75960" y="2932200"/>
              <a:ext cx="218880" cy="570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74160" y="2765520"/>
              <a:ext cx="345600" cy="171360"/>
            </a:xfrm>
            <a:prstGeom prst="parallelogram">
              <a:avLst>
                <a:gd name="adj" fmla="val 7769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19760" y="277740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394840" y="333612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203680" y="3007080"/>
              <a:ext cx="145080" cy="328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4560" y="310644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8174160" y="4670280"/>
            <a:ext cx="345600" cy="742680"/>
            <a:chOff x="8174160" y="4670280"/>
            <a:chExt cx="345600" cy="742680"/>
          </a:xfrm>
        </p:grpSpPr>
        <p:sp>
          <p:nvSpPr>
            <p:cNvPr id="278" name=""/>
            <p:cNvSpPr/>
            <p:nvPr/>
          </p:nvSpPr>
          <p:spPr>
            <a:xfrm>
              <a:off x="8174160" y="524124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49120" y="4674960"/>
              <a:ext cx="158760" cy="570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75960" y="4836960"/>
              <a:ext cx="218880" cy="5709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74160" y="4670280"/>
              <a:ext cx="345600" cy="171720"/>
            </a:xfrm>
            <a:prstGeom prst="parallelogram">
              <a:avLst>
                <a:gd name="adj" fmla="val 7753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9760" y="46821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394840" y="5241240"/>
              <a:ext cx="124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203680" y="4912200"/>
              <a:ext cx="145080" cy="3290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24560" y="5011200"/>
              <a:ext cx="11016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6692760" y="3095640"/>
            <a:ext cx="1401840" cy="760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743880" y="3182760"/>
            <a:ext cx="1403280" cy="785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9906800">
            <a:off x="6571440" y="320004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9861800">
            <a:off x="6760440" y="351864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51720" y="4259160"/>
            <a:ext cx="1428480" cy="668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689880" y="4398840"/>
            <a:ext cx="1350720" cy="627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422000">
            <a:off x="6745320" y="43095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411200">
            <a:off x="6544080" y="467640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888320" y="5465880"/>
            <a:ext cx="7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16760" y="2131920"/>
            <a:ext cx="79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0A6-37B6-4329-B398-43B0AA3C0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ransport service requirements of common app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03480" y="176364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ap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400" y="176364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73520" y="176364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-1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-5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16800" y="174456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’s m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’s m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95320" y="2133720"/>
            <a:ext cx="75628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280" y="4905360"/>
            <a:ext cx="762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892D-C647-426E-B722-D9AAE2030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067360" y="207648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Why Web Caching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sum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ache is “close” to client (e.g., in same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er response time: cache “closer” to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rease traffic to distant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out of institutional/local ISP network often bottleneck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878360" y="1698480"/>
            <a:ext cx="184320" cy="542880"/>
            <a:chOff x="4878360" y="1698480"/>
            <a:chExt cx="184320" cy="542880"/>
          </a:xfrm>
        </p:grpSpPr>
        <p:sp>
          <p:nvSpPr>
            <p:cNvPr id="300" name=""/>
            <p:cNvSpPr/>
            <p:nvPr/>
          </p:nvSpPr>
          <p:spPr>
            <a:xfrm>
              <a:off x="4878360" y="21160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71600" y="17020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79440" y="18201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78360" y="16984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2680" y="17071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996080" y="21160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94200" y="18752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05360" y="19479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02480" y="1155600"/>
            <a:ext cx="183960" cy="542520"/>
            <a:chOff x="5802480" y="1155600"/>
            <a:chExt cx="183960" cy="542520"/>
          </a:xfrm>
        </p:grpSpPr>
        <p:sp>
          <p:nvSpPr>
            <p:cNvPr id="309" name=""/>
            <p:cNvSpPr/>
            <p:nvPr/>
          </p:nvSpPr>
          <p:spPr>
            <a:xfrm>
              <a:off x="5802480" y="157284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95720" y="11592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03560" y="12772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02480" y="1155600"/>
              <a:ext cx="183960" cy="125280"/>
            </a:xfrm>
            <a:prstGeom prst="parallelogram">
              <a:avLst>
                <a:gd name="adj" fmla="val 565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86440" y="11642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5920200" y="15728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18320" y="13323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29480" y="14047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478560" y="1184400"/>
            <a:ext cx="184320" cy="542520"/>
            <a:chOff x="6478560" y="1184400"/>
            <a:chExt cx="184320" cy="542520"/>
          </a:xfrm>
        </p:grpSpPr>
        <p:sp>
          <p:nvSpPr>
            <p:cNvPr id="318" name=""/>
            <p:cNvSpPr/>
            <p:nvPr/>
          </p:nvSpPr>
          <p:spPr>
            <a:xfrm>
              <a:off x="6478560" y="160164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71800" y="118800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79640" y="130608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78560" y="118440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62880" y="119304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6280" y="160164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94400" y="136116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05560" y="143352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059600" y="1365120"/>
            <a:ext cx="184320" cy="542520"/>
            <a:chOff x="7059600" y="1365120"/>
            <a:chExt cx="184320" cy="542520"/>
          </a:xfrm>
        </p:grpSpPr>
        <p:sp>
          <p:nvSpPr>
            <p:cNvPr id="327" name=""/>
            <p:cNvSpPr/>
            <p:nvPr/>
          </p:nvSpPr>
          <p:spPr>
            <a:xfrm>
              <a:off x="7059600" y="178236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52840" y="136872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60680" y="1486800"/>
              <a:ext cx="116640" cy="417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59600" y="136512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243920" y="1373760"/>
              <a:ext cx="0" cy="4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177320" y="178236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75440" y="154188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86600" y="1614240"/>
              <a:ext cx="58680" cy="8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373880" y="2155680"/>
            <a:ext cx="184320" cy="542880"/>
            <a:chOff x="7373880" y="2155680"/>
            <a:chExt cx="184320" cy="542880"/>
          </a:xfrm>
        </p:grpSpPr>
        <p:sp>
          <p:nvSpPr>
            <p:cNvPr id="336" name=""/>
            <p:cNvSpPr/>
            <p:nvPr/>
          </p:nvSpPr>
          <p:spPr>
            <a:xfrm>
              <a:off x="7373880" y="25732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67120" y="2159280"/>
              <a:ext cx="84600" cy="416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74960" y="2277360"/>
              <a:ext cx="116640" cy="417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73880" y="2155680"/>
              <a:ext cx="184320" cy="125280"/>
            </a:xfrm>
            <a:prstGeom prst="parallelogram">
              <a:avLst>
                <a:gd name="adj" fmla="val 5667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558200" y="2164320"/>
              <a:ext cx="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491600" y="2573280"/>
              <a:ext cx="6624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89720" y="2332440"/>
              <a:ext cx="77400" cy="240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00880" y="2405160"/>
              <a:ext cx="58680" cy="8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615080" y="1208160"/>
            <a:ext cx="105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77000" y="169560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505200" y="173340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962760" y="1895400"/>
            <a:ext cx="13320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7124760" y="265752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62400" y="1689120"/>
            <a:ext cx="2175120" cy="158112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145200" y="2890800"/>
            <a:ext cx="501840" cy="232920"/>
            <a:chOff x="6145200" y="2890800"/>
            <a:chExt cx="501840" cy="232920"/>
          </a:xfrm>
        </p:grpSpPr>
        <p:sp>
          <p:nvSpPr>
            <p:cNvPr id="351" name=""/>
            <p:cNvSpPr/>
            <p:nvPr/>
          </p:nvSpPr>
          <p:spPr>
            <a:xfrm>
              <a:off x="6149160" y="29948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916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47040" y="298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49160" y="29836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5200" y="2890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264720" y="2923560"/>
              <a:ext cx="246240" cy="88200"/>
              <a:chOff x="6264720" y="2923560"/>
              <a:chExt cx="246240" cy="88200"/>
            </a:xfrm>
          </p:grpSpPr>
          <p:sp>
            <p:nvSpPr>
              <p:cNvPr id="357" name=""/>
              <p:cNvSpPr/>
              <p:nvPr/>
            </p:nvSpPr>
            <p:spPr>
              <a:xfrm flipV="1">
                <a:off x="6264720" y="292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33560" y="3011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45720" y="292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264720" y="2922840"/>
              <a:ext cx="246240" cy="88200"/>
              <a:chOff x="6264720" y="2922840"/>
              <a:chExt cx="246240" cy="88200"/>
            </a:xfrm>
          </p:grpSpPr>
          <p:sp>
            <p:nvSpPr>
              <p:cNvPr id="361" name=""/>
              <p:cNvSpPr/>
              <p:nvPr/>
            </p:nvSpPr>
            <p:spPr>
              <a:xfrm>
                <a:off x="6264720" y="3009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33560" y="292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6345720" y="29228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5630040" y="1998720"/>
            <a:ext cx="101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2200" y="4059360"/>
            <a:ext cx="2965680" cy="1390680"/>
          </a:xfrm>
          <a:custGeom>
            <a:avLst/>
            <a:gdLst/>
            <a:ahLst/>
            <a:rect l="l" t="t" r="r" b="b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979880" y="4803840"/>
            <a:ext cx="444600" cy="3571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484960" y="4803840"/>
            <a:ext cx="444240" cy="3571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6018120" y="4794120"/>
            <a:ext cx="444600" cy="3574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6532560" y="4803840"/>
            <a:ext cx="444600" cy="357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72120" y="4605480"/>
            <a:ext cx="220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460548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91240" y="461484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29440" y="4610160"/>
            <a:ext cx="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29480" y="4610160"/>
            <a:ext cx="0" cy="2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67760" y="4605480"/>
            <a:ext cx="0" cy="22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142040" y="4689360"/>
            <a:ext cx="347760" cy="695160"/>
            <a:chOff x="7142040" y="4689360"/>
            <a:chExt cx="347760" cy="695160"/>
          </a:xfrm>
        </p:grpSpPr>
        <p:sp>
          <p:nvSpPr>
            <p:cNvPr id="377" name=""/>
            <p:cNvSpPr/>
            <p:nvPr/>
          </p:nvSpPr>
          <p:spPr>
            <a:xfrm>
              <a:off x="7142040" y="4689360"/>
              <a:ext cx="347760" cy="695160"/>
            </a:xfrm>
            <a:custGeom>
              <a:avLst/>
              <a:gdLst/>
              <a:ahLst/>
              <a:rect l="l" t="t" r="r" b="b"/>
              <a:pathLst>
                <a:path w="219" h="438">
                  <a:moveTo>
                    <a:pt x="16" y="109"/>
                  </a:moveTo>
                  <a:cubicBezTo>
                    <a:pt x="31" y="58"/>
                    <a:pt x="67" y="14"/>
                    <a:pt x="94" y="7"/>
                  </a:cubicBezTo>
                  <a:cubicBezTo>
                    <a:pt x="121" y="0"/>
                    <a:pt x="161" y="5"/>
                    <a:pt x="178" y="67"/>
                  </a:cubicBezTo>
                  <a:cubicBezTo>
                    <a:pt x="195" y="129"/>
                    <a:pt x="219" y="320"/>
                    <a:pt x="196" y="379"/>
                  </a:cubicBezTo>
                  <a:cubicBezTo>
                    <a:pt x="173" y="438"/>
                    <a:pt x="72" y="432"/>
                    <a:pt x="40" y="421"/>
                  </a:cubicBezTo>
                  <a:cubicBezTo>
                    <a:pt x="8" y="410"/>
                    <a:pt x="8" y="365"/>
                    <a:pt x="4" y="313"/>
                  </a:cubicBezTo>
                  <a:cubicBezTo>
                    <a:pt x="0" y="261"/>
                    <a:pt x="1" y="160"/>
                    <a:pt x="16" y="10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207200" y="4770360"/>
              <a:ext cx="183960" cy="542520"/>
              <a:chOff x="7207200" y="4770360"/>
              <a:chExt cx="183960" cy="542520"/>
            </a:xfrm>
          </p:grpSpPr>
          <p:sp>
            <p:nvSpPr>
              <p:cNvPr id="379" name=""/>
              <p:cNvSpPr/>
              <p:nvPr/>
            </p:nvSpPr>
            <p:spPr>
              <a:xfrm>
                <a:off x="7207200" y="518760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300440" y="4773960"/>
                <a:ext cx="84600" cy="416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08280" y="4892040"/>
                <a:ext cx="116640" cy="417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207200" y="4770360"/>
                <a:ext cx="183960" cy="125280"/>
              </a:xfrm>
              <a:prstGeom prst="parallelogram">
                <a:avLst>
                  <a:gd name="adj" fmla="val 5656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91160" y="4779000"/>
                <a:ext cx="0" cy="40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7324920" y="5187600"/>
                <a:ext cx="6624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223040" y="4947120"/>
                <a:ext cx="77400" cy="24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4200" y="5019480"/>
                <a:ext cx="58680" cy="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6145200" y="4181400"/>
            <a:ext cx="501840" cy="232920"/>
            <a:chOff x="6145200" y="4181400"/>
            <a:chExt cx="501840" cy="232920"/>
          </a:xfrm>
        </p:grpSpPr>
        <p:sp>
          <p:nvSpPr>
            <p:cNvPr id="388" name=""/>
            <p:cNvSpPr/>
            <p:nvPr/>
          </p:nvSpPr>
          <p:spPr>
            <a:xfrm>
              <a:off x="6149160" y="4285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4916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47040" y="4274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9160" y="4274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145200" y="4181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264720" y="4214160"/>
              <a:ext cx="246240" cy="88200"/>
              <a:chOff x="6264720" y="4214160"/>
              <a:chExt cx="246240" cy="88200"/>
            </a:xfrm>
          </p:grpSpPr>
          <p:sp>
            <p:nvSpPr>
              <p:cNvPr id="394" name=""/>
              <p:cNvSpPr/>
              <p:nvPr/>
            </p:nvSpPr>
            <p:spPr>
              <a:xfrm flipV="1">
                <a:off x="6264720" y="42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33560" y="4302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345720" y="4216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6264720" y="4213440"/>
              <a:ext cx="246240" cy="88200"/>
              <a:chOff x="6264720" y="4213440"/>
              <a:chExt cx="246240" cy="88200"/>
            </a:xfrm>
          </p:grpSpPr>
          <p:sp>
            <p:nvSpPr>
              <p:cNvPr id="398" name=""/>
              <p:cNvSpPr/>
              <p:nvPr/>
            </p:nvSpPr>
            <p:spPr>
              <a:xfrm>
                <a:off x="6264720" y="429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433560" y="4213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6345720" y="4213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6391440" y="313380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96120" y="4419720"/>
            <a:ext cx="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00520" y="394668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14280" y="429408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Mbp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395760" y="3322800"/>
            <a:ext cx="11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Mb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77080" y="537048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stitu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2D3-7A3B-4188-A29E-1B889105D8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tp: the file transfer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28880" y="3704760"/>
            <a:ext cx="7457760" cy="25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ransfer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le to/from remote 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/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ide that initiates transfer (either to/from remo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mote 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: RFC 95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 server: port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313080" y="1574640"/>
            <a:ext cx="776160" cy="623880"/>
          </a:xfrm>
          <a:prstGeom prst="rect">
            <a:avLst/>
          </a:prstGeom>
          <a:ln w="0">
            <a:noFill/>
          </a:ln>
        </p:spPr>
      </p:pic>
      <p:grpSp>
        <p:nvGrpSpPr>
          <p:cNvPr id="411" name=""/>
          <p:cNvGrpSpPr/>
          <p:nvPr/>
        </p:nvGrpSpPr>
        <p:grpSpPr>
          <a:xfrm>
            <a:off x="6764400" y="1413000"/>
            <a:ext cx="355320" cy="932760"/>
            <a:chOff x="6764400" y="1413000"/>
            <a:chExt cx="355320" cy="932760"/>
          </a:xfrm>
        </p:grpSpPr>
        <p:sp>
          <p:nvSpPr>
            <p:cNvPr id="412" name=""/>
            <p:cNvSpPr/>
            <p:nvPr/>
          </p:nvSpPr>
          <p:spPr>
            <a:xfrm>
              <a:off x="6764400" y="213012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44400" y="141912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66200" y="16221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64400" y="1413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19720" y="14281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91200" y="21301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95000" y="171684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16240" y="184140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4352760" y="2190600"/>
            <a:ext cx="2210040" cy="97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75000" y="1874880"/>
            <a:ext cx="24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file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522840" y="1866960"/>
            <a:ext cx="777960" cy="828720"/>
            <a:chOff x="6522840" y="1866960"/>
            <a:chExt cx="777960" cy="828720"/>
          </a:xfrm>
        </p:grpSpPr>
        <p:sp>
          <p:nvSpPr>
            <p:cNvPr id="423" name=""/>
            <p:cNvSpPr/>
            <p:nvPr/>
          </p:nvSpPr>
          <p:spPr>
            <a:xfrm>
              <a:off x="6562440" y="1866960"/>
              <a:ext cx="70452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522840" y="1989000"/>
              <a:ext cx="777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83000" y="1857240"/>
            <a:ext cx="1789200" cy="851040"/>
            <a:chOff x="2583000" y="1857240"/>
            <a:chExt cx="1789200" cy="851040"/>
          </a:xfrm>
        </p:grpSpPr>
        <p:sp>
          <p:nvSpPr>
            <p:cNvPr id="426" name=""/>
            <p:cNvSpPr/>
            <p:nvPr/>
          </p:nvSpPr>
          <p:spPr>
            <a:xfrm>
              <a:off x="3667320" y="1857240"/>
              <a:ext cx="704880" cy="82872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76600" y="1866960"/>
              <a:ext cx="961920" cy="828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83000" y="1884240"/>
              <a:ext cx="117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69120" y="1979640"/>
              <a:ext cx="69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219480" y="2695680"/>
            <a:ext cx="1674360" cy="712440"/>
            <a:chOff x="3219480" y="2695680"/>
            <a:chExt cx="1674360" cy="712440"/>
          </a:xfrm>
        </p:grpSpPr>
        <p:grpSp>
          <p:nvGrpSpPr>
            <p:cNvPr id="431" name=""/>
            <p:cNvGrpSpPr/>
            <p:nvPr/>
          </p:nvGrpSpPr>
          <p:grpSpPr>
            <a:xfrm>
              <a:off x="3363480" y="2805120"/>
              <a:ext cx="501120" cy="496440"/>
              <a:chOff x="3363480" y="2805120"/>
              <a:chExt cx="501120" cy="496440"/>
            </a:xfrm>
          </p:grpSpPr>
          <p:sp>
            <p:nvSpPr>
              <p:cNvPr id="432" name=""/>
              <p:cNvSpPr/>
              <p:nvPr/>
            </p:nvSpPr>
            <p:spPr>
              <a:xfrm>
                <a:off x="3366360" y="3173040"/>
                <a:ext cx="491760" cy="128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368160" y="2898360"/>
                <a:ext cx="496440" cy="339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363840" y="2805120"/>
                <a:ext cx="496440" cy="1504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58480" y="2881080"/>
                <a:ext cx="1440" cy="36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63480" y="2887560"/>
                <a:ext cx="108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17800" y="2827440"/>
              <a:ext cx="1076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ocal fi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19480" y="2695680"/>
              <a:ext cx="32364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H="1">
            <a:off x="3714840" y="2685960"/>
            <a:ext cx="333360" cy="438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659640" y="2824200"/>
            <a:ext cx="501480" cy="496440"/>
            <a:chOff x="6659640" y="2824200"/>
            <a:chExt cx="501480" cy="496440"/>
          </a:xfrm>
        </p:grpSpPr>
        <p:sp>
          <p:nvSpPr>
            <p:cNvPr id="441" name=""/>
            <p:cNvSpPr/>
            <p:nvPr/>
          </p:nvSpPr>
          <p:spPr>
            <a:xfrm>
              <a:off x="6662520" y="3192120"/>
              <a:ext cx="492120" cy="128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64320" y="2917440"/>
              <a:ext cx="496800" cy="339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59640" y="2824200"/>
              <a:ext cx="496800" cy="1504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54640" y="2900160"/>
              <a:ext cx="1800" cy="36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9640" y="2906640"/>
              <a:ext cx="1440" cy="36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161120" y="2789280"/>
            <a:ext cx="14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mot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915240" y="2695680"/>
            <a:ext cx="0" cy="428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1490760" y="19098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1379520" y="2617920"/>
            <a:ext cx="9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28960" y="230508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4B9-D2CF-4061-A86B-4D88980CBE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tp: separate control, data connect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66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 client contacts ftp server at port 21, specifying TCP as transport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two parallel TCP connections opene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change commands, responses between client, ser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out of band control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ile data to/from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 server </a:t>
            </a: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maintains “state”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urrent directory, earlier 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780080" y="2398680"/>
            <a:ext cx="3985560" cy="1884960"/>
            <a:chOff x="4780080" y="2398680"/>
            <a:chExt cx="3985560" cy="1884960"/>
          </a:xfrm>
        </p:grpSpPr>
        <p:pic>
          <p:nvPicPr>
            <p:cNvPr id="454" name="" descr=""/>
            <p:cNvPicPr/>
            <p:nvPr/>
          </p:nvPicPr>
          <p:blipFill>
            <a:blip r:embed="rId1"/>
            <a:stretch/>
          </p:blipFill>
          <p:spPr>
            <a:xfrm>
              <a:off x="4780080" y="2898720"/>
              <a:ext cx="77616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"/>
            <p:cNvGrpSpPr/>
            <p:nvPr/>
          </p:nvGrpSpPr>
          <p:grpSpPr>
            <a:xfrm>
              <a:off x="8193240" y="2679840"/>
              <a:ext cx="354960" cy="932760"/>
              <a:chOff x="8193240" y="2679840"/>
              <a:chExt cx="354960" cy="932760"/>
            </a:xfrm>
          </p:grpSpPr>
          <p:sp>
            <p:nvSpPr>
              <p:cNvPr id="456" name=""/>
              <p:cNvSpPr/>
              <p:nvPr/>
            </p:nvSpPr>
            <p:spPr>
              <a:xfrm>
                <a:off x="8193240" y="339696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372880" y="268596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95040" y="288900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193240" y="267984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48200" y="269496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8420040" y="339696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223840" y="298368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245080" y="310824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4819680" y="3570120"/>
              <a:ext cx="82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836480" y="357984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T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43640" y="3048120"/>
              <a:ext cx="25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562720" y="3362400"/>
              <a:ext cx="2562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37240" y="239868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CP control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port 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89720" y="3436920"/>
              <a:ext cx="240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TCP da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port 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C16-CB63-4BDA-AE32-02DA9E8CBD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ftp commands, respon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ample command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t as ASCII text over control chan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user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list of file in current direc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 file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ieves (gets)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 filen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s (puts) file onto remote 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ample return c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us code and phrase (as in htt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31 Username OK, password requi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5 data connection already open; transfer star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25 Can’t open data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52 Error writing fi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FB9-0F6A-4855-8453-0C27DACE57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lectronic Mai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ree major compon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user ag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mail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874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mail transfer protocol: </a:t>
            </a: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k.a. “mail reade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sing, editing, reading mail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Eudora, Outlook,  Netscape Messe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going, incoming messages stored on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60012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6953400" y="569880"/>
            <a:ext cx="1793880" cy="956520"/>
            <a:chOff x="6953400" y="569880"/>
            <a:chExt cx="1793880" cy="956520"/>
          </a:xfrm>
        </p:grpSpPr>
        <p:sp>
          <p:nvSpPr>
            <p:cNvPr id="477" name=""/>
            <p:cNvSpPr/>
            <p:nvPr/>
          </p:nvSpPr>
          <p:spPr>
            <a:xfrm>
              <a:off x="7266600" y="1189080"/>
              <a:ext cx="141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6953400" y="685800"/>
              <a:ext cx="714240" cy="190440"/>
              <a:chOff x="6953400" y="685800"/>
              <a:chExt cx="714240" cy="190440"/>
            </a:xfrm>
          </p:grpSpPr>
          <p:sp>
            <p:nvSpPr>
              <p:cNvPr id="479" name=""/>
              <p:cNvSpPr/>
              <p:nvPr/>
            </p:nvSpPr>
            <p:spPr>
              <a:xfrm>
                <a:off x="6953400" y="68580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31160" y="730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7203600" y="72864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291440" y="731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8180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47864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567560" y="7286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115040" y="7304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6975360" y="127476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57800" y="569880"/>
              <a:ext cx="1689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486320" y="1374840"/>
            <a:ext cx="4062600" cy="4826880"/>
            <a:chOff x="4486320" y="1374840"/>
            <a:chExt cx="4062600" cy="4826880"/>
          </a:xfrm>
        </p:grpSpPr>
        <p:sp>
          <p:nvSpPr>
            <p:cNvPr id="490" name=""/>
            <p:cNvSpPr/>
            <p:nvPr/>
          </p:nvSpPr>
          <p:spPr>
            <a:xfrm>
              <a:off x="5724360" y="2552760"/>
              <a:ext cx="1123920" cy="79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7116840" y="2479680"/>
              <a:ext cx="354960" cy="932760"/>
              <a:chOff x="7116840" y="2479680"/>
              <a:chExt cx="354960" cy="932760"/>
            </a:xfrm>
          </p:grpSpPr>
          <p:sp>
            <p:nvSpPr>
              <p:cNvPr id="492" name=""/>
              <p:cNvSpPr/>
              <p:nvPr/>
            </p:nvSpPr>
            <p:spPr>
              <a:xfrm>
                <a:off x="7116840" y="319680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296480" y="248580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18640" y="268884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16840" y="247968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71800" y="249480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343640" y="319680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147440" y="278352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168680" y="290808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6884640" y="2932200"/>
              <a:ext cx="811440" cy="1049400"/>
              <a:chOff x="6884640" y="2932200"/>
              <a:chExt cx="811440" cy="104940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6440" y="2972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884640" y="293220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24600" y="3534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02360" y="3578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175520" y="3576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262640" y="3580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53360" y="3576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450200" y="3576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539120" y="3576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086600" y="3578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37200" y="3799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074000" y="3799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10440" y="3797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64160" y="3794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516800" y="3794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7588080" y="2070000"/>
              <a:ext cx="732240" cy="702720"/>
              <a:chOff x="7588080" y="2070000"/>
              <a:chExt cx="732240" cy="702720"/>
            </a:xfrm>
          </p:grpSpPr>
          <p:pic>
            <p:nvPicPr>
              <p:cNvPr id="5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00680" y="207000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"/>
              <p:cNvGrpSpPr/>
              <p:nvPr/>
            </p:nvGrpSpPr>
            <p:grpSpPr>
              <a:xfrm>
                <a:off x="7588080" y="2192040"/>
                <a:ext cx="732240" cy="580680"/>
                <a:chOff x="7588080" y="2192040"/>
                <a:chExt cx="732240" cy="5806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646760" y="223812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588080" y="219204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7816680" y="3079800"/>
              <a:ext cx="732240" cy="702720"/>
              <a:chOff x="7816680" y="3079800"/>
              <a:chExt cx="732240" cy="702720"/>
            </a:xfrm>
          </p:grpSpPr>
          <p:pic>
            <p:nvPicPr>
              <p:cNvPr id="5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29280" y="307980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3" name=""/>
              <p:cNvGrpSpPr/>
              <p:nvPr/>
            </p:nvGrpSpPr>
            <p:grpSpPr>
              <a:xfrm>
                <a:off x="7816680" y="3201840"/>
                <a:ext cx="732240" cy="580680"/>
                <a:chOff x="7816680" y="3201840"/>
                <a:chExt cx="732240" cy="5806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7875360" y="324792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816680" y="320184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6" name=""/>
            <p:cNvGrpSpPr/>
            <p:nvPr/>
          </p:nvGrpSpPr>
          <p:grpSpPr>
            <a:xfrm>
              <a:off x="7588080" y="4127400"/>
              <a:ext cx="732240" cy="702720"/>
              <a:chOff x="7588080" y="4127400"/>
              <a:chExt cx="732240" cy="702720"/>
            </a:xfrm>
          </p:grpSpPr>
          <p:pic>
            <p:nvPicPr>
              <p:cNvPr id="5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00680" y="412740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8" name=""/>
              <p:cNvGrpSpPr/>
              <p:nvPr/>
            </p:nvGrpSpPr>
            <p:grpSpPr>
              <a:xfrm>
                <a:off x="7588080" y="4249440"/>
                <a:ext cx="732240" cy="580680"/>
                <a:chOff x="7588080" y="4249440"/>
                <a:chExt cx="732240" cy="5806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7646760" y="429552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588080" y="424944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884480" y="3889440"/>
              <a:ext cx="811440" cy="1501920"/>
              <a:chOff x="4884480" y="3889440"/>
              <a:chExt cx="811440" cy="150192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5106960" y="3889440"/>
                <a:ext cx="354600" cy="932760"/>
                <a:chOff x="5106960" y="3889440"/>
                <a:chExt cx="354600" cy="9327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5106960" y="460656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286600" y="3895560"/>
                  <a:ext cx="16308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108760" y="4098600"/>
                  <a:ext cx="22464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106960" y="388944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461560" y="390456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5333760" y="4606560"/>
                  <a:ext cx="12744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137200" y="4193280"/>
                  <a:ext cx="14904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158800" y="4317840"/>
                  <a:ext cx="11304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4884480" y="4341960"/>
                <a:ext cx="811440" cy="1049400"/>
                <a:chOff x="4884480" y="4341960"/>
                <a:chExt cx="811440" cy="10494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886280" y="4381920"/>
                  <a:ext cx="809640" cy="100944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884480" y="4341960"/>
                  <a:ext cx="777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924440" y="494388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002200" y="498816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175360" y="49867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62480" y="498996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353200" y="49867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450040" y="49867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538960" y="49867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086440" y="498816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937040" y="520884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073840" y="520884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210280" y="520740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364000" y="520416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16640" y="520416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5816520" y="4994280"/>
              <a:ext cx="732240" cy="702720"/>
              <a:chOff x="5816520" y="4994280"/>
              <a:chExt cx="732240" cy="702720"/>
            </a:xfrm>
          </p:grpSpPr>
          <p:pic>
            <p:nvPicPr>
              <p:cNvPr id="5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829120" y="499428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9" name=""/>
              <p:cNvGrpSpPr/>
              <p:nvPr/>
            </p:nvGrpSpPr>
            <p:grpSpPr>
              <a:xfrm>
                <a:off x="5816520" y="5116320"/>
                <a:ext cx="732240" cy="580680"/>
                <a:chOff x="5816520" y="5116320"/>
                <a:chExt cx="732240" cy="5806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5875200" y="516240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816520" y="511632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"/>
            <p:cNvGrpSpPr/>
            <p:nvPr/>
          </p:nvGrpSpPr>
          <p:grpSpPr>
            <a:xfrm>
              <a:off x="4978440" y="5499000"/>
              <a:ext cx="732240" cy="702720"/>
              <a:chOff x="4978440" y="5499000"/>
              <a:chExt cx="732240" cy="702720"/>
            </a:xfrm>
          </p:grpSpPr>
          <p:pic>
            <p:nvPicPr>
              <p:cNvPr id="5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91040" y="549900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4" name=""/>
              <p:cNvGrpSpPr/>
              <p:nvPr/>
            </p:nvGrpSpPr>
            <p:grpSpPr>
              <a:xfrm>
                <a:off x="4978440" y="5621040"/>
                <a:ext cx="732240" cy="580680"/>
                <a:chOff x="4978440" y="5621040"/>
                <a:chExt cx="732240" cy="5806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037120" y="566712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978440" y="562104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7" name=""/>
            <p:cNvGrpSpPr/>
            <p:nvPr/>
          </p:nvGrpSpPr>
          <p:grpSpPr>
            <a:xfrm>
              <a:off x="4884480" y="1631880"/>
              <a:ext cx="811440" cy="1501920"/>
              <a:chOff x="4884480" y="1631880"/>
              <a:chExt cx="811440" cy="150192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5106960" y="1631880"/>
                <a:ext cx="354600" cy="932760"/>
                <a:chOff x="5106960" y="1631880"/>
                <a:chExt cx="354600" cy="93276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5106960" y="234900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286600" y="1638000"/>
                  <a:ext cx="16308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108760" y="1841040"/>
                  <a:ext cx="22464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106960" y="163188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461560" y="164700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H="1">
                  <a:off x="5333760" y="2349000"/>
                  <a:ext cx="12744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137200" y="1935720"/>
                  <a:ext cx="14904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5158800" y="2060280"/>
                  <a:ext cx="11304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4884480" y="2084400"/>
                <a:ext cx="811440" cy="1049400"/>
                <a:chOff x="4884480" y="2084400"/>
                <a:chExt cx="811440" cy="104940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4886280" y="2124360"/>
                  <a:ext cx="809640" cy="100944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884480" y="2084400"/>
                  <a:ext cx="777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24440" y="268632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002200" y="27306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175360" y="272916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5262480" y="273240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5353200" y="272916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450040" y="272916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538960" y="272916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5086440" y="273060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937040" y="295128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5073840" y="295128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5210280" y="294984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5364000" y="294660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516640" y="294660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3" name=""/>
            <p:cNvGrpSpPr/>
            <p:nvPr/>
          </p:nvGrpSpPr>
          <p:grpSpPr>
            <a:xfrm>
              <a:off x="5607000" y="1374840"/>
              <a:ext cx="732240" cy="702720"/>
              <a:chOff x="5607000" y="1374840"/>
              <a:chExt cx="732240" cy="7027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619600" y="137484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5" name=""/>
              <p:cNvGrpSpPr/>
              <p:nvPr/>
            </p:nvGrpSpPr>
            <p:grpSpPr>
              <a:xfrm>
                <a:off x="5607000" y="1496880"/>
                <a:ext cx="732240" cy="580680"/>
                <a:chOff x="5607000" y="1496880"/>
                <a:chExt cx="732240" cy="5806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665680" y="154296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5607000" y="149688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8" name=""/>
            <p:cNvSpPr/>
            <p:nvPr/>
          </p:nvSpPr>
          <p:spPr>
            <a:xfrm flipV="1">
              <a:off x="5724360" y="3676680"/>
              <a:ext cx="1123920" cy="1085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981320" y="315288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5848200" y="3970440"/>
              <a:ext cx="977760" cy="459720"/>
              <a:chOff x="5848200" y="3970440"/>
              <a:chExt cx="977760" cy="459720"/>
            </a:xfrm>
          </p:grpSpPr>
          <p:sp>
            <p:nvSpPr>
              <p:cNvPr id="601" name=""/>
              <p:cNvSpPr/>
              <p:nvPr/>
            </p:nvSpPr>
            <p:spPr>
              <a:xfrm>
                <a:off x="5905440" y="403884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48200" y="3970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5810040" y="2712960"/>
              <a:ext cx="977760" cy="459720"/>
              <a:chOff x="5810040" y="2712960"/>
              <a:chExt cx="977760" cy="459720"/>
            </a:xfrm>
          </p:grpSpPr>
          <p:sp>
            <p:nvSpPr>
              <p:cNvPr id="604" name=""/>
              <p:cNvSpPr/>
              <p:nvPr/>
            </p:nvSpPr>
            <p:spPr>
              <a:xfrm>
                <a:off x="5867280" y="27813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10040" y="271296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4486320" y="3427560"/>
              <a:ext cx="977760" cy="459720"/>
              <a:chOff x="4486320" y="3427560"/>
              <a:chExt cx="977760" cy="459720"/>
            </a:xfrm>
          </p:grpSpPr>
          <p:sp>
            <p:nvSpPr>
              <p:cNvPr id="607" name=""/>
              <p:cNvSpPr/>
              <p:nvPr/>
            </p:nvSpPr>
            <p:spPr>
              <a:xfrm>
                <a:off x="4543200" y="34959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486320" y="342756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D3A-0F3B-429F-BA74-E6EA55522E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09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lectronic Mail: mail server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ail Server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ailbo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ins incoming messages (yet to be read) for u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ueue of outgoing (to be sent) mail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mtp protoco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tween mail servers to send email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ending mail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”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ing mail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800600" y="1450800"/>
            <a:ext cx="4062600" cy="4826880"/>
            <a:chOff x="4800600" y="1450800"/>
            <a:chExt cx="4062600" cy="4826880"/>
          </a:xfrm>
        </p:grpSpPr>
        <p:sp>
          <p:nvSpPr>
            <p:cNvPr id="612" name=""/>
            <p:cNvSpPr/>
            <p:nvPr/>
          </p:nvSpPr>
          <p:spPr>
            <a:xfrm>
              <a:off x="6038640" y="2628720"/>
              <a:ext cx="1123920" cy="790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7431120" y="2555640"/>
              <a:ext cx="354960" cy="932760"/>
              <a:chOff x="7431120" y="2555640"/>
              <a:chExt cx="354960" cy="932760"/>
            </a:xfrm>
          </p:grpSpPr>
          <p:sp>
            <p:nvSpPr>
              <p:cNvPr id="614" name=""/>
              <p:cNvSpPr/>
              <p:nvPr/>
            </p:nvSpPr>
            <p:spPr>
              <a:xfrm>
                <a:off x="7431120" y="327276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10760" y="2561760"/>
                <a:ext cx="163080" cy="7164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432920" y="2764800"/>
                <a:ext cx="225000" cy="717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431120" y="2555640"/>
                <a:ext cx="354960" cy="215640"/>
              </a:xfrm>
              <a:prstGeom prst="parallelogram">
                <a:avLst>
                  <a:gd name="adj" fmla="val 63412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786080" y="2570760"/>
                <a:ext cx="0" cy="70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7657920" y="3272760"/>
                <a:ext cx="1278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1720" y="2859480"/>
                <a:ext cx="149040" cy="413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482960" y="2984040"/>
                <a:ext cx="113040" cy="145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7198920" y="3008160"/>
              <a:ext cx="811440" cy="1049400"/>
              <a:chOff x="7198920" y="3008160"/>
              <a:chExt cx="811440" cy="1049400"/>
            </a:xfrm>
          </p:grpSpPr>
          <p:sp>
            <p:nvSpPr>
              <p:cNvPr id="623" name=""/>
              <p:cNvSpPr/>
              <p:nvPr/>
            </p:nvSpPr>
            <p:spPr>
              <a:xfrm>
                <a:off x="7200720" y="304812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98920" y="3008160"/>
                <a:ext cx="777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38880" y="361008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16640" y="3654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489800" y="3652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76920" y="3656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67640" y="3652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64480" y="3652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853400" y="36529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400880" y="36543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51480" y="38750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88280" y="38750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524720" y="3873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678440" y="387036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831080" y="38703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7902360" y="2145960"/>
              <a:ext cx="732240" cy="702720"/>
              <a:chOff x="7902360" y="2145960"/>
              <a:chExt cx="732240" cy="702720"/>
            </a:xfrm>
          </p:grpSpPr>
          <p:pic>
            <p:nvPicPr>
              <p:cNvPr id="6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14960" y="214596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0" name=""/>
              <p:cNvGrpSpPr/>
              <p:nvPr/>
            </p:nvGrpSpPr>
            <p:grpSpPr>
              <a:xfrm>
                <a:off x="7902360" y="2268000"/>
                <a:ext cx="732240" cy="580680"/>
                <a:chOff x="7902360" y="2268000"/>
                <a:chExt cx="732240" cy="580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961040" y="231408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902360" y="226800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3" name=""/>
            <p:cNvGrpSpPr/>
            <p:nvPr/>
          </p:nvGrpSpPr>
          <p:grpSpPr>
            <a:xfrm>
              <a:off x="8130960" y="3155760"/>
              <a:ext cx="732240" cy="702720"/>
              <a:chOff x="8130960" y="3155760"/>
              <a:chExt cx="732240" cy="702720"/>
            </a:xfrm>
          </p:grpSpPr>
          <p:pic>
            <p:nvPicPr>
              <p:cNvPr id="6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43560" y="315576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45" name=""/>
              <p:cNvGrpSpPr/>
              <p:nvPr/>
            </p:nvGrpSpPr>
            <p:grpSpPr>
              <a:xfrm>
                <a:off x="8130960" y="3277800"/>
                <a:ext cx="732240" cy="580680"/>
                <a:chOff x="8130960" y="3277800"/>
                <a:chExt cx="732240" cy="58068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8189640" y="332388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130960" y="327780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8" name=""/>
            <p:cNvGrpSpPr/>
            <p:nvPr/>
          </p:nvGrpSpPr>
          <p:grpSpPr>
            <a:xfrm>
              <a:off x="7902360" y="4203360"/>
              <a:ext cx="732240" cy="702720"/>
              <a:chOff x="7902360" y="4203360"/>
              <a:chExt cx="732240" cy="7027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914960" y="420336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0" name=""/>
              <p:cNvGrpSpPr/>
              <p:nvPr/>
            </p:nvGrpSpPr>
            <p:grpSpPr>
              <a:xfrm>
                <a:off x="7902360" y="4325400"/>
                <a:ext cx="732240" cy="580680"/>
                <a:chOff x="7902360" y="4325400"/>
                <a:chExt cx="732240" cy="58068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7961040" y="437148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902360" y="432540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5198760" y="3965400"/>
              <a:ext cx="811440" cy="1501920"/>
              <a:chOff x="5198760" y="3965400"/>
              <a:chExt cx="811440" cy="15019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421240" y="3965400"/>
                <a:ext cx="354600" cy="932760"/>
                <a:chOff x="5421240" y="3965400"/>
                <a:chExt cx="354600" cy="9327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421240" y="468252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5600880" y="3971520"/>
                  <a:ext cx="16308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423040" y="4174560"/>
                  <a:ext cx="22464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5421240" y="396540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775840" y="398052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>
                  <a:off x="5648040" y="4682520"/>
                  <a:ext cx="12744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451480" y="4269240"/>
                  <a:ext cx="14904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473080" y="4393800"/>
                  <a:ext cx="11304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198760" y="4417920"/>
                <a:ext cx="811440" cy="1049400"/>
                <a:chOff x="5198760" y="4417920"/>
                <a:chExt cx="811440" cy="10494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200560" y="4457880"/>
                  <a:ext cx="809640" cy="100944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198760" y="4417920"/>
                  <a:ext cx="777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238720" y="501984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316480" y="506412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489640" y="506268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76760" y="50659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667480" y="506268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764320" y="506268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853240" y="506268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400720" y="506412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51320" y="528480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388120" y="528480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524560" y="528336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678280" y="528012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830920" y="528012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9" name=""/>
            <p:cNvGrpSpPr/>
            <p:nvPr/>
          </p:nvGrpSpPr>
          <p:grpSpPr>
            <a:xfrm>
              <a:off x="6130800" y="5070240"/>
              <a:ext cx="732240" cy="702720"/>
              <a:chOff x="6130800" y="5070240"/>
              <a:chExt cx="732240" cy="702720"/>
            </a:xfrm>
          </p:grpSpPr>
          <p:pic>
            <p:nvPicPr>
              <p:cNvPr id="6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3400" y="507024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1" name=""/>
              <p:cNvGrpSpPr/>
              <p:nvPr/>
            </p:nvGrpSpPr>
            <p:grpSpPr>
              <a:xfrm>
                <a:off x="6130800" y="5192280"/>
                <a:ext cx="732240" cy="580680"/>
                <a:chOff x="6130800" y="5192280"/>
                <a:chExt cx="732240" cy="58068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189480" y="523836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130800" y="519228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4" name=""/>
            <p:cNvGrpSpPr/>
            <p:nvPr/>
          </p:nvGrpSpPr>
          <p:grpSpPr>
            <a:xfrm>
              <a:off x="5292720" y="5574960"/>
              <a:ext cx="732240" cy="702720"/>
              <a:chOff x="5292720" y="5574960"/>
              <a:chExt cx="732240" cy="702720"/>
            </a:xfrm>
          </p:grpSpPr>
          <p:pic>
            <p:nvPicPr>
              <p:cNvPr id="6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05320" y="557496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" name=""/>
              <p:cNvGrpSpPr/>
              <p:nvPr/>
            </p:nvGrpSpPr>
            <p:grpSpPr>
              <a:xfrm>
                <a:off x="5292720" y="5697000"/>
                <a:ext cx="732240" cy="580680"/>
                <a:chOff x="5292720" y="5697000"/>
                <a:chExt cx="732240" cy="5806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5351400" y="574308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292720" y="569700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9" name=""/>
            <p:cNvGrpSpPr/>
            <p:nvPr/>
          </p:nvGrpSpPr>
          <p:grpSpPr>
            <a:xfrm>
              <a:off x="5198760" y="1707840"/>
              <a:ext cx="811440" cy="1501920"/>
              <a:chOff x="5198760" y="1707840"/>
              <a:chExt cx="811440" cy="150192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5421240" y="1707840"/>
                <a:ext cx="354600" cy="932760"/>
                <a:chOff x="5421240" y="1707840"/>
                <a:chExt cx="354600" cy="9327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421240" y="242496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600880" y="1713960"/>
                  <a:ext cx="163080" cy="716400"/>
                </a:xfrm>
                <a:prstGeom prst="rect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423040" y="1917000"/>
                  <a:ext cx="224640" cy="71712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421240" y="1707840"/>
                  <a:ext cx="354600" cy="215640"/>
                </a:xfrm>
                <a:prstGeom prst="parallelogram">
                  <a:avLst>
                    <a:gd name="adj" fmla="val 63347"/>
                  </a:avLst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775840" y="1722960"/>
                  <a:ext cx="0" cy="7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H="1">
                  <a:off x="5648040" y="2424960"/>
                  <a:ext cx="127440" cy="20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451480" y="2011680"/>
                  <a:ext cx="149040" cy="4132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473080" y="2136240"/>
                  <a:ext cx="113040" cy="145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198760" y="2160360"/>
                <a:ext cx="811440" cy="1049400"/>
                <a:chOff x="5198760" y="2160360"/>
                <a:chExt cx="811440" cy="10494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5200560" y="2200320"/>
                  <a:ext cx="809640" cy="100944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98760" y="2160360"/>
                  <a:ext cx="777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ser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238720" y="2762280"/>
                  <a:ext cx="714240" cy="190440"/>
                </a:xfrm>
                <a:prstGeom prst="rect">
                  <a:avLst/>
                </a:prstGeom>
                <a:solidFill>
                  <a:srgbClr val="00ff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316480" y="280656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89640" y="28051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5576760" y="280836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667480" y="28051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764320" y="28051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853240" y="2805120"/>
                  <a:ext cx="0" cy="11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400720" y="2806560"/>
                  <a:ext cx="0" cy="114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251320" y="302724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388120" y="302724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524560" y="302580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678280" y="3022560"/>
                  <a:ext cx="10188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830920" y="3022560"/>
                  <a:ext cx="101520" cy="1476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5" name=""/>
            <p:cNvGrpSpPr/>
            <p:nvPr/>
          </p:nvGrpSpPr>
          <p:grpSpPr>
            <a:xfrm>
              <a:off x="5921280" y="1450800"/>
              <a:ext cx="732240" cy="702720"/>
              <a:chOff x="5921280" y="1450800"/>
              <a:chExt cx="732240" cy="702720"/>
            </a:xfrm>
          </p:grpSpPr>
          <p:pic>
            <p:nvPicPr>
              <p:cNvPr id="7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933880" y="1450800"/>
                <a:ext cx="622440" cy="50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17" name=""/>
              <p:cNvGrpSpPr/>
              <p:nvPr/>
            </p:nvGrpSpPr>
            <p:grpSpPr>
              <a:xfrm>
                <a:off x="5921280" y="1572840"/>
                <a:ext cx="732240" cy="580680"/>
                <a:chOff x="5921280" y="1572840"/>
                <a:chExt cx="732240" cy="58068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979960" y="1618920"/>
                  <a:ext cx="604440" cy="523800"/>
                </a:xfrm>
                <a:prstGeom prst="rect">
                  <a:avLst/>
                </a:prstGeom>
                <a:solidFill>
                  <a:srgbClr val="cc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921280" y="1572840"/>
                  <a:ext cx="7322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us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ag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0" name=""/>
            <p:cNvSpPr/>
            <p:nvPr/>
          </p:nvSpPr>
          <p:spPr>
            <a:xfrm flipV="1">
              <a:off x="6038640" y="3752640"/>
              <a:ext cx="1123920" cy="1085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295600" y="3228840"/>
              <a:ext cx="0" cy="124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6162480" y="4046400"/>
              <a:ext cx="977760" cy="459720"/>
              <a:chOff x="6162480" y="4046400"/>
              <a:chExt cx="977760" cy="459720"/>
            </a:xfrm>
          </p:grpSpPr>
          <p:sp>
            <p:nvSpPr>
              <p:cNvPr id="723" name=""/>
              <p:cNvSpPr/>
              <p:nvPr/>
            </p:nvSpPr>
            <p:spPr>
              <a:xfrm>
                <a:off x="6219720" y="411480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162480" y="404640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6124320" y="2788920"/>
              <a:ext cx="977760" cy="459720"/>
              <a:chOff x="6124320" y="2788920"/>
              <a:chExt cx="977760" cy="459720"/>
            </a:xfrm>
          </p:grpSpPr>
          <p:sp>
            <p:nvSpPr>
              <p:cNvPr id="726" name=""/>
              <p:cNvSpPr/>
              <p:nvPr/>
            </p:nvSpPr>
            <p:spPr>
              <a:xfrm>
                <a:off x="6181560" y="285732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24320" y="27889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4800600" y="3503520"/>
              <a:ext cx="977760" cy="459720"/>
              <a:chOff x="4800600" y="3503520"/>
              <a:chExt cx="977760" cy="459720"/>
            </a:xfrm>
          </p:grpSpPr>
          <p:sp>
            <p:nvSpPr>
              <p:cNvPr id="729" name=""/>
              <p:cNvSpPr/>
              <p:nvPr/>
            </p:nvSpPr>
            <p:spPr>
              <a:xfrm>
                <a:off x="4857480" y="357192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800600" y="350352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73B-3AE9-4136-A5DA-EDDB694436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lectronic Mail: smtp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[RFC 821]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24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tcp to reliably transfer email msg from client to server, port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ct transfer: sending server to receiving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phases of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shaking (greet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er of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o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and/response intera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ommand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CII tex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spons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atus code and phr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s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e in </a:t>
            </a: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7-bit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E59-FC6B-4D54-9F1E-64FAEEF950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ample smtp inter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  How about pickl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F9B-FC1A-4909-B079-8EAF76D9D4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try smtp interaction for yourself:</a:t>
            </a:r>
            <a:br>
              <a:rPr sz="32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5BFF-AC5B-4DB9-8DBF-63A25CD101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mtp: final word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use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ersist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ne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requires that message (header &amp; body) be 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7-bit asc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ain character strings are not permitted in message (e.g., 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CRLF.CR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Thus message has to be encoded (usually into either base-64 or quoted printabl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server 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determine end of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481280" y="13428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arison with ht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 pu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mail: pus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have ASCII command/response interaction, status c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 each object is encapsulated in its own response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multiple objects message sent in a multipart mess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3CC-1B08-49AA-9251-0C63563191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ervices provided by Internet transport protoco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CP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(Transmission Control Protocol)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rv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onnection-oriente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tup required between client,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reliable transpor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tween sending and receiving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flow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nder won’t overwhelm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ongestion contro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ttle sender when network overloa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does not provid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iming, minimum bandwidth guarant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4000" y="15620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UDP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 (User Datagram Protocol)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serv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reliable data transfer between sending and receiving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es not provide: connection setup, reliability, flow control, congestion control, timing, or bandwidth guarante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y bother?  Why is there a UDP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9ED-C08E-4468-8958-CF9F945D14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Mail message forma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protocol for exchanging email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FC 822: standard for text message forma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er lines, e.g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different</a:t>
            </a:r>
            <a:r>
              <a:rPr b="0" i="1" lang="en-US" sz="2000" spc="-1" strike="noStrike">
                <a:solidFill>
                  <a:srgbClr val="66ffcc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from smtp command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“message”, ASCII character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115840" y="2112840"/>
            <a:ext cx="83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623-1CA2-41A1-A396-B1D81D81A8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essage format: multimedia extens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5000" y="1384200"/>
            <a:ext cx="732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E: multimedia mail extension, RFC 2045, 205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lines in msg header declare MIME content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943440" y="2851200"/>
            <a:ext cx="5003280" cy="3111480"/>
            <a:chOff x="3943440" y="2851200"/>
            <a:chExt cx="5003280" cy="3111480"/>
          </a:xfrm>
        </p:grpSpPr>
        <p:sp>
          <p:nvSpPr>
            <p:cNvPr id="752" name=""/>
            <p:cNvSpPr/>
            <p:nvPr/>
          </p:nvSpPr>
          <p:spPr>
            <a:xfrm>
              <a:off x="3968640" y="2851200"/>
              <a:ext cx="4978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om: alice@crepes.f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o: bob@hamburger.edu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ubject: Picture of yummy crep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IME-Version: 1.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ent-Transfer-Encoding: base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ntent-Type: image/jpe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ase64 encoded data 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.....................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......base64 encoded dat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943440" y="2851200"/>
              <a:ext cx="4736880" cy="2927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96120" y="4348080"/>
            <a:ext cx="28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medi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ype, subtyp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87400" y="3560760"/>
            <a:ext cx="196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encod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93600" y="3002040"/>
            <a:ext cx="18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I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081440" y="552924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od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57680" y="3276720"/>
            <a:ext cx="1155600" cy="546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832120" y="3911760"/>
            <a:ext cx="1181160" cy="190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2806560" y="4419360"/>
            <a:ext cx="1244880" cy="355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2844720" y="5168520"/>
            <a:ext cx="1003320" cy="50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71800" y="4809960"/>
            <a:ext cx="309600" cy="881280"/>
          </a:xfrm>
          <a:custGeom>
            <a:avLst/>
            <a:gdLst/>
            <a:ahLst/>
            <a:rect l="l" t="t" r="r" b="b"/>
            <a:pathLst>
              <a:path w="195" h="555">
                <a:moveTo>
                  <a:pt x="159" y="3"/>
                </a:moveTo>
                <a:lnTo>
                  <a:pt x="0" y="0"/>
                </a:lnTo>
                <a:lnTo>
                  <a:pt x="0" y="555"/>
                </a:lnTo>
                <a:lnTo>
                  <a:pt x="195" y="55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E76-80FE-49F9-A621-478EB20A9D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IME types</a:t>
            </a:r>
            <a:br>
              <a:rPr sz="32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ontent-Type: type/subtype; parameters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ain, htm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8-bit mu-law encoded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2kadpcm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32 kbps cod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eg, quick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data that must be processed by reader before “viewabl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subtype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word, octet-strea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CE3-1203-48FA-BFE3-EC60900F65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23800" y="-360"/>
            <a:ext cx="83822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art Typ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949320" y="650880"/>
            <a:ext cx="7346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om: alice@crepes.f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: bob@hamburger.ed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ject: Picture of yummy crep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multipart/mixed; boundary=98766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98766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ransfer-Encoding: quoted-prin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ar Bob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lease find a picture of a crep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987667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ransfer-Encoding: base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image/j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se64 encoded data 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..............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base64 encoded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98766789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28A-F737-48CD-B4A2-832F04E9BE6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ail access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80600" y="3219120"/>
            <a:ext cx="748188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: delivery/storage to receiver’s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il access protocol: retrieval from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PO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Post Office Protocol [RFC 1939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orization (agent &lt;--&gt;server) and downlo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IMA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Internet Mail Access Protocol [RFC 1730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features (more complex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ipulation of stored msgs o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729"/>
                </a:solidFill>
                <a:latin typeface="Comic Sans MS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Hotmail , Yahoo! Mail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"/>
          <p:cNvSpPr/>
          <p:nvPr/>
        </p:nvSpPr>
        <p:spPr>
          <a:xfrm>
            <a:off x="2238480" y="1847880"/>
            <a:ext cx="84780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6915600" y="1536840"/>
            <a:ext cx="914760" cy="702720"/>
            <a:chOff x="6915600" y="1536840"/>
            <a:chExt cx="914760" cy="702720"/>
          </a:xfrm>
        </p:grpSpPr>
        <p:pic>
          <p:nvPicPr>
            <p:cNvPr id="772" name="" descr=""/>
            <p:cNvPicPr/>
            <p:nvPr/>
          </p:nvPicPr>
          <p:blipFill>
            <a:blip r:embed="rId1"/>
            <a:stretch/>
          </p:blipFill>
          <p:spPr>
            <a:xfrm>
              <a:off x="7019640" y="153684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3" name=""/>
            <p:cNvGrpSpPr/>
            <p:nvPr/>
          </p:nvGrpSpPr>
          <p:grpSpPr>
            <a:xfrm>
              <a:off x="6915600" y="1658880"/>
              <a:ext cx="914760" cy="580680"/>
              <a:chOff x="6915600" y="1658880"/>
              <a:chExt cx="914760" cy="580680"/>
            </a:xfrm>
          </p:grpSpPr>
          <p:sp>
            <p:nvSpPr>
              <p:cNvPr id="774" name=""/>
              <p:cNvSpPr/>
              <p:nvPr/>
            </p:nvSpPr>
            <p:spPr>
              <a:xfrm>
                <a:off x="7065360" y="1704960"/>
                <a:ext cx="60516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15600" y="1658880"/>
                <a:ext cx="914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6" name=""/>
          <p:cNvGrpSpPr/>
          <p:nvPr/>
        </p:nvGrpSpPr>
        <p:grpSpPr>
          <a:xfrm>
            <a:off x="3135240" y="1631880"/>
            <a:ext cx="355320" cy="932760"/>
            <a:chOff x="3135240" y="1631880"/>
            <a:chExt cx="355320" cy="932760"/>
          </a:xfrm>
        </p:grpSpPr>
        <p:sp>
          <p:nvSpPr>
            <p:cNvPr id="777" name=""/>
            <p:cNvSpPr/>
            <p:nvPr/>
          </p:nvSpPr>
          <p:spPr>
            <a:xfrm>
              <a:off x="313524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1524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704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3524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9056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336204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16584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18708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458440" y="2009880"/>
            <a:ext cx="1669320" cy="1179000"/>
            <a:chOff x="2458440" y="2009880"/>
            <a:chExt cx="1669320" cy="1179000"/>
          </a:xfrm>
        </p:grpSpPr>
        <p:sp>
          <p:nvSpPr>
            <p:cNvPr id="786" name=""/>
            <p:cNvSpPr/>
            <p:nvPr/>
          </p:nvSpPr>
          <p:spPr>
            <a:xfrm>
              <a:off x="2458440" y="2608200"/>
              <a:ext cx="166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nder’s mai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2885760" y="2009880"/>
              <a:ext cx="809640" cy="561600"/>
              <a:chOff x="2885760" y="2009880"/>
              <a:chExt cx="809640" cy="561600"/>
            </a:xfrm>
          </p:grpSpPr>
          <p:sp>
            <p:nvSpPr>
              <p:cNvPr id="788" name=""/>
              <p:cNvSpPr/>
              <p:nvPr/>
            </p:nvSpPr>
            <p:spPr>
              <a:xfrm>
                <a:off x="2885760" y="2009880"/>
                <a:ext cx="809640" cy="5616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923920" y="2124000"/>
                <a:ext cx="714240" cy="1900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01680" y="21682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17484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261960" y="216972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35268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4952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538440" y="21668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085920" y="21682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936520" y="238896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072960" y="238896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209760" y="238752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363480" y="2384280"/>
                <a:ext cx="10188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16120" y="2384280"/>
                <a:ext cx="101520" cy="147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467360" y="1641600"/>
            <a:ext cx="914760" cy="702720"/>
            <a:chOff x="1467360" y="1641600"/>
            <a:chExt cx="914760" cy="702720"/>
          </a:xfrm>
        </p:grpSpPr>
        <p:pic>
          <p:nvPicPr>
            <p:cNvPr id="803" name="" descr=""/>
            <p:cNvPicPr/>
            <p:nvPr/>
          </p:nvPicPr>
          <p:blipFill>
            <a:blip r:embed="rId2"/>
            <a:stretch/>
          </p:blipFill>
          <p:spPr>
            <a:xfrm>
              <a:off x="1571400" y="1641600"/>
              <a:ext cx="622440" cy="50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04" name=""/>
            <p:cNvGrpSpPr/>
            <p:nvPr/>
          </p:nvGrpSpPr>
          <p:grpSpPr>
            <a:xfrm>
              <a:off x="1467360" y="1763640"/>
              <a:ext cx="914760" cy="580680"/>
              <a:chOff x="1467360" y="1763640"/>
              <a:chExt cx="914760" cy="580680"/>
            </a:xfrm>
          </p:grpSpPr>
          <p:sp>
            <p:nvSpPr>
              <p:cNvPr id="805" name=""/>
              <p:cNvSpPr/>
              <p:nvPr/>
            </p:nvSpPr>
            <p:spPr>
              <a:xfrm>
                <a:off x="1617120" y="1809720"/>
                <a:ext cx="60516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467360" y="1763640"/>
                <a:ext cx="914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2063880" y="1389240"/>
            <a:ext cx="1251720" cy="459720"/>
            <a:chOff x="2063880" y="1389240"/>
            <a:chExt cx="1251720" cy="459720"/>
          </a:xfrm>
        </p:grpSpPr>
        <p:sp>
          <p:nvSpPr>
            <p:cNvPr id="808" name=""/>
            <p:cNvSpPr/>
            <p:nvPr/>
          </p:nvSpPr>
          <p:spPr>
            <a:xfrm>
              <a:off x="2257200" y="145764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63880" y="1389240"/>
              <a:ext cx="125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5002200" y="1631880"/>
            <a:ext cx="355320" cy="932760"/>
            <a:chOff x="5002200" y="1631880"/>
            <a:chExt cx="355320" cy="932760"/>
          </a:xfrm>
        </p:grpSpPr>
        <p:sp>
          <p:nvSpPr>
            <p:cNvPr id="811" name=""/>
            <p:cNvSpPr/>
            <p:nvPr/>
          </p:nvSpPr>
          <p:spPr>
            <a:xfrm>
              <a:off x="5002200" y="234900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2200" y="1638000"/>
              <a:ext cx="16344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04000" y="184104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002200" y="1631880"/>
              <a:ext cx="355320" cy="215640"/>
            </a:xfrm>
            <a:prstGeom prst="parallelogram">
              <a:avLst>
                <a:gd name="adj" fmla="val 6347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57520" y="164700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5229000" y="234900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32800" y="1935720"/>
              <a:ext cx="14940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54040" y="2060280"/>
              <a:ext cx="11340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3524400" y="1866960"/>
            <a:ext cx="1390680" cy="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588120" y="1389240"/>
            <a:ext cx="12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M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400720" y="1857240"/>
            <a:ext cx="1647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71640" y="1474920"/>
            <a:ext cx="16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P3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54480" y="2598840"/>
            <a:ext cx="177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ver’s mai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4734000" y="2000160"/>
            <a:ext cx="809640" cy="561960"/>
            <a:chOff x="4734000" y="2000160"/>
            <a:chExt cx="809640" cy="561960"/>
          </a:xfrm>
        </p:grpSpPr>
        <p:sp>
          <p:nvSpPr>
            <p:cNvPr id="826" name=""/>
            <p:cNvSpPr/>
            <p:nvPr/>
          </p:nvSpPr>
          <p:spPr>
            <a:xfrm>
              <a:off x="47340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7721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499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30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102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009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977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86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341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847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212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0580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2117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643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776160" y="163368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4"/>
          <a:stretch/>
        </p:blipFill>
        <p:spPr>
          <a:xfrm>
            <a:off x="7891560" y="1571760"/>
            <a:ext cx="676080" cy="6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F90-B461-4992-9B47-113C1DF85B6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OP3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orization ph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action phase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"/>
          <p:cNvSpPr/>
          <p:nvPr/>
        </p:nvSpPr>
        <p:spPr>
          <a:xfrm>
            <a:off x="433440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al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971960" y="847800"/>
            <a:ext cx="371520" cy="145728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486240" y="1438200"/>
            <a:ext cx="1400040" cy="238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962600" y="2428920"/>
            <a:ext cx="371520" cy="3895560"/>
          </a:xfrm>
          <a:custGeom>
            <a:avLst/>
            <a:gdLst/>
            <a:ahLst/>
            <a:rect l="l" t="t" r="r" b="b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152880" y="3952800"/>
            <a:ext cx="1733400" cy="3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FEE-102E-40A0-923B-AE5B5C35FD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nternet apps: their protocols and transport protoco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312480" y="1773360"/>
            <a:ext cx="2814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il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99040" y="1459080"/>
            <a:ext cx="2433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82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06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RealNetwork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Vocalt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30800" y="1477800"/>
            <a:ext cx="2624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71440" y="2152800"/>
            <a:ext cx="733428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3920" y="2743200"/>
            <a:ext cx="732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33640" y="3038400"/>
            <a:ext cx="72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33360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162080" y="3657600"/>
            <a:ext cx="7257960" cy="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4560" y="4257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14560" y="45813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61920" y="5181480"/>
            <a:ext cx="73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017D-F7A4-487E-BFBC-20BDDF4711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he Web: some jarg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7560" y="1500120"/>
            <a:ext cx="38102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 pag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ists of “objects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ed by a </a:t>
            </a:r>
            <a:r>
              <a:rPr b="0" lang="en-US" sz="1800" spc="-1" strike="noStrike">
                <a:solidFill>
                  <a:srgbClr val="33b729"/>
                </a:solidFill>
                <a:latin typeface="Comic Sans MS"/>
              </a:rPr>
              <a:t>URL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Uniform Resource Locato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Web pages consist of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se </a:t>
            </a:r>
            <a:r>
              <a:rPr b="0" lang="en-US" sz="1800" spc="-1" strike="noStrike">
                <a:solidFill>
                  <a:srgbClr val="33b729"/>
                </a:solidFill>
                <a:latin typeface="Comic Sans MS"/>
              </a:rPr>
              <a:t>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age, a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ral referenced objec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RL has two components: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host 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ath 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8120" y="1419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agent for Web is called a </a:t>
            </a:r>
            <a:r>
              <a:rPr b="0" lang="en-US" sz="2400" spc="-1" strike="noStrike">
                <a:solidFill>
                  <a:srgbClr val="33b729"/>
                </a:solidFill>
                <a:latin typeface="Comic Sans MS"/>
              </a:rPr>
              <a:t>brows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Internet Explo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scape Communic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ver for Web is called </a:t>
            </a:r>
            <a:r>
              <a:rPr b="0" lang="en-US" sz="2400" spc="-1" strike="noStrike">
                <a:solidFill>
                  <a:srgbClr val="33b729"/>
                </a:solidFill>
                <a:latin typeface="Comic Sans MS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ache (public domai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Internet Information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5529240"/>
            <a:ext cx="78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www.dm.unife.it/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formatica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BBB-431C-4AE2-8615-ED7B26E44C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he Web: the http protoc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ttp: hypertext transfe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’s application layer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/serve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rowser that requests, receives, “displays” Web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eb server sends objects in response to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1.0: RFC 194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1.1: RFC 206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24440" y="186048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732560" y="2455920"/>
            <a:ext cx="12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plo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019840" y="4556160"/>
            <a:ext cx="752400" cy="596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590240" y="3836880"/>
            <a:ext cx="118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CSA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910640" y="2725560"/>
            <a:ext cx="504000" cy="1070640"/>
            <a:chOff x="7910640" y="2725560"/>
            <a:chExt cx="504000" cy="1070640"/>
          </a:xfrm>
        </p:grpSpPr>
        <p:sp>
          <p:nvSpPr>
            <p:cNvPr id="84" name=""/>
            <p:cNvSpPr/>
            <p:nvPr/>
          </p:nvSpPr>
          <p:spPr>
            <a:xfrm>
              <a:off x="7910640" y="354888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65880" y="2732400"/>
              <a:ext cx="231840" cy="822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13520" y="2966040"/>
              <a:ext cx="319680" cy="823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10640" y="2725560"/>
              <a:ext cx="504000" cy="247320"/>
            </a:xfrm>
            <a:prstGeom prst="parallelogram">
              <a:avLst>
                <a:gd name="adj" fmla="val 7850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414640" y="2742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233200" y="3548880"/>
              <a:ext cx="1814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3840" y="3074400"/>
              <a:ext cx="212040" cy="474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4440" y="3217680"/>
              <a:ext cx="1609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743440" y="2133720"/>
            <a:ext cx="2086200" cy="961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800320" y="2333520"/>
            <a:ext cx="1971720" cy="905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34080" y="3505320"/>
            <a:ext cx="2047680" cy="109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810400" y="3629160"/>
            <a:ext cx="2047680" cy="113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87000" y="5218200"/>
            <a:ext cx="139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 ru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vig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22000">
            <a:off x="6167520" y="22935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906800">
            <a:off x="5958720" y="378900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411200">
            <a:off x="5963040" y="274140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861800">
            <a:off x="6144480" y="412200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htt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24B-B4BC-4A52-A4C2-AAE1562EFE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81520" y="3400560"/>
            <a:ext cx="3838680" cy="272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http protocol: mo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ttp: TCP transport serv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initiates TCP connection (creates socket) to server, port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accepts TCP connection from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messages (application-layer protocol messages) exchanged between browser (http client) and Web server (http serv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nection clo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561680"/>
            <a:ext cx="317196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ttp is “stateles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maintains no information about past client reque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809960" y="3419640"/>
            <a:ext cx="37530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tocols that maintain “state” are complex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erver/client crashes, their views of “state”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3840" y="316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ED6-9805-4366-8D02-73EA84B100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114560"/>
            <a:ext cx="834408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se user enters URL www.dm.unife.it/informatica/index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57000" y="209556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a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ttp client initiates TCP connection to http server (process)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dm.unife.it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rt 80 is default for http ser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client sends http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request messa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(containing URL) into TCP connection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b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server at ho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dm.unife.it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TCP connection at port 80.  “accepts” connection, notifying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server receives request message, forms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response messag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ntaining requested object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ca/index.ht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, sends message into 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933360" y="512460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640" y="594216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019040" y="3162240"/>
            <a:ext cx="1095480" cy="52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07840" y="1236600"/>
            <a:ext cx="17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6B0-B1C7-4E98-9F5B-6FD53BFFD3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ttp example (cont.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http client receives response message containing html file, displays html.  Parsing html file, finds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ferenced jpeg  objec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714240" y="31240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ps 1-5 repeated for each of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jpe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1123920"/>
            <a:ext cx="381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ttp server closes TCP connec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2880" y="1247760"/>
            <a:ext cx="0" cy="2571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5400" y="367020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31B-6A8E-4046-974F-963A149DF3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4-27T12:03:12Z</dcterms:modified>
  <cp:revision>75</cp:revision>
  <dc:subject/>
  <dc:title>Part I: Introduction</dc:title>
</cp:coreProperties>
</file>