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4.jpeg" ContentType="image/jpeg"/>
  <Override PartName="/ppt/media/image2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91E-4A27-44D5-8E12-6683550A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4C5-7CD7-40A0-AEA8-0DA26BB7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67D-83F3-4849-BA65-1D633C75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0EF-A62F-4369-9449-CE9A0E81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289-2C57-43F7-9B46-A583F05E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8EA9-D0FF-449E-94DD-C6CA22EE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47A-ADA2-4B5D-84C2-9A48EBF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E43-692D-4518-81B9-D8C4EDD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9BD-BA17-4E7D-AA83-0DC12F50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89B-8551-4063-90FC-DE8D747C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B37B-A03D-4573-9064-FD9F8D2B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A0B-E38D-4866-A4ED-1566F20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252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taLink Lay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a-</a:t>
            </a:r>
            <a:fld id="{C8E6EBB6-BBDF-42DA-AE12-6BE450692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94120" y="3503520"/>
            <a:ext cx="4572000" cy="2876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AN technolog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9280" y="1349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link layer so f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ices, error detection/correction, multiple acc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: LAN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s, bridges, swit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F9D-8F7C-4554-83EA-E0A5EB557C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8360" y="1275840"/>
            <a:ext cx="7519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inant” LAN technology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ap $20 for 100Mb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widely used LAN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r, cheaper than token LANs and 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pt up with speed race: 10, 100, 1000 Mb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30160" y="3670200"/>
            <a:ext cx="5192640" cy="27799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282000" y="4487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tcalfe’s Ethe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k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C03-B90C-4502-B963-E90B553112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 Frame Structu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2320" y="1325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ing adapter encapsulates IP datagram (or other network layer protocol packet)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hernet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amb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 bytes with pattern 10101010 followed by one byte with pattern 101010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o synchronize receiver, sender clock r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6 to 1500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62200" y="2452680"/>
            <a:ext cx="5487840" cy="94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047-D771-4CE4-8D19-B0251687C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 Frame Structure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dress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6 bytes, frame is received by all adapters on a LAN and dropped if address does not m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yp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dicates the higher layer protocol, mostly IP but others may be supported such as Novell IPX and AppleTal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ecked at receiver, if error is detected, the frame is simply dropp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11360" y="4952880"/>
            <a:ext cx="755784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0D7-8D36-4C49-8389-522043A7D4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: uses CSMA/C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4680" y="1474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ense channel,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 and monitor the channel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detect another transmis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bort and send jam sign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date # collision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lay as required by exponential backoff algorith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o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{done with the frame; set collisions to zero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{wait until ongoing transmission is over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oto 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506-C1D6-4F4D-8DFA-5F6FEB1387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thernet’s CSMA/CD (more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Jam Sign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ke sure all other transmitters are aware of collision; 48 bits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ponential Backoff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dapt retransmission attemtps to estimated current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vy load: random wait will be lo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llision: choose K from {0,1}; delay is K x 512 bit transmission times (0.01 microsec at 100 M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second collision: choose K from {0,1,2,3}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ter ten or more collisions, choose K from {0,1,2,3,4,…,1023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FAF-D5CA-4F81-BA9B-E31C76260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thernet Technologies: 10Base2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74280" y="1139400"/>
            <a:ext cx="8169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Mbps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der 200 meters max  cable leng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 coaxial cable in a bus top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ers used to connect up to multiple seg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er repeats bits it hears on one interface to its other interfaces: </a:t>
            </a:r>
            <a:r>
              <a:rPr b="0" lang="en-US" sz="2400" spc="-1" strike="noStrike">
                <a:solidFill>
                  <a:srgbClr val="00cc66"/>
                </a:solidFill>
                <a:latin typeface="Comic Sans MS"/>
              </a:rPr>
              <a:t>physical lay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vice only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09760" y="2070000"/>
            <a:ext cx="632448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447-17A4-42C2-B5AB-74031F9837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10BaseT and 100Bas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/100 Mbps rate; latter called “fast etherne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nds for Twisted P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 to which nodes are connected by twisted pair, thus “star topolog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MA/CD implemented at h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49360" y="3657600"/>
            <a:ext cx="640224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874A-9489-4473-96ED-8D14E72AB5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10BaseT and 100BaseT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 distance from node to Hub is 100 me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 can disconnect “jabbering” adap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 can gather monitoring information, statistics for display to LAN administra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7261-824B-4F23-BFAD-352EAE1458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bit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standard Ethernet frame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for point-to-point links and shared broadcast chann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shared mode, CSMA/CD is used; short distances between nodes to be effic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hubs, called here “Buffered Distributor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ll-Duplex at 1 Gbps for point-to-point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606-803E-409D-8A2A-E148985089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oken Passing: IEEE802.5 standar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53680" y="1253880"/>
            <a:ext cx="799164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Mbp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 token holding time: 10 ms, limiting frame leng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633240" y="3562200"/>
            <a:ext cx="79916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D, 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rk start, end of 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cess control byt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oken bi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alue 0 means token can be seized, value 1 means data follows F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iority bit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iority of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servation bit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ation can write these bits to prevent stations with lower priority packet from seizing token after token becomes fre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30160" y="2197080"/>
            <a:ext cx="7504200" cy="12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6A1-E3CE-42F6-B34C-D95D2E396E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AN Addresses and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32-bit IP addres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etwork-lay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get datagram to destination network (recall IP network defini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AN (or MAC or physical) address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get frame from one interface to another physically-connected interface (same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8 bit MAC address (for most LAN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rned in the adapter R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B07-F056-4575-B60E-E262D819C4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oken Passing: IEEE802.5 standar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717480" y="2682720"/>
            <a:ext cx="7991640" cy="38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 control used for monitoring and mainte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urce, destination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48 bit physical address, as in Ether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from network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ecksum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 status: set by dest., read by se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 to indicate destination up, frame copied OK from 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LC-level ACK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09640" y="1319040"/>
            <a:ext cx="7504200" cy="121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A72-3087-446F-A0E0-8825DAE71C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LA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not just one big LAN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amount of supportable traffic: on single LAN, all stations must share bandwid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length: 802.3 specifies maximum cable leng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“collision domain” (can collide with many station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ed number of stations: 802.5 have token passing delays at each 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AD7-0CD6-4286-AAAB-3A6E81228A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ub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0960" y="1296720"/>
            <a:ext cx="777240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Layer devices: essentially repeaters operating at bit levels: repeat received bits on one interface to all other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s can be arranged in 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or multi-tier design), with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ackb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ub at its t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9360" y="3657600"/>
            <a:ext cx="640224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D2A-F4EA-4998-A2B4-1725E05D1A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ubs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210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onnected LAN referred to as LA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 not isol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llision domains: node may collide with any node residing at any segment in LA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 Advantag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, inexpensive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tier provides graceful degradation: portions of the LAN continue to operate if one hub mal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nds maximum distance between node pairs (100m per Hu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D6B-294B-46FF-A602-6B62D033F6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ub limita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collision domain results in no increase in max through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tier throughput same as single segment through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al LAN restrictions pose limits on number of nodes in same collision domain and on total allowed geographical cover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connect different Ethernet types (e.g., 10BaseT and 100bas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88C-F046-487C-AF51-34DACECAC7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rid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ink Layer devic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erate on Ethernet frames, examining frame header and selectively forwarding frame based on its destin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solates collis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mains since it buffers fra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frame is to be forwarded on segment, bridge uses CSMA/CD to access segment and transmi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729-CE67-4312-901A-840D83BD3A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ridges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 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olates collision domains resulting in higher total max throughput, and does not limit the number of nodes nor geographical co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connect different type Etherne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or other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ince it is a store and forward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arent: no need for any change to hosts LAN adap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570-75F4-496E-BFC6-FD1B8815C84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Bridges: frame filtering, forward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dges filter packe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-LAN -segment frames not forwarded onto other LAN segm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warding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o know which LAN segment on which to forward fram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s like a routing problem (more shortly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ECA-F365-4CF8-8F9D-1106A59765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ackbone Brid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520" y="2522520"/>
            <a:ext cx="777240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B07-DC49-44E9-8453-A13DEB51F9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on Without Backb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4103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recommended for two reas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single point of failure at Computer Science hu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all traffic between EE and SE must path over CS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402600" cy="155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874-BD68-4415-80EF-90D0D63185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AN Addresses and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73240" y="2114640"/>
            <a:ext cx="5938920" cy="414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3480" y="133812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adapter on LAN has unique LA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538-DB45-4DC9-B90F-AED6C7CB5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ridges Spanning Tre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349280"/>
            <a:ext cx="77724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increased reliability, desirable to have redundant, alternate paths from source to d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ultiple simultaneous paths, cycles result - bridges may multiply and forward frame fore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ion: organize bridges in a spanning tree by disabling subset of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84080" y="3898800"/>
            <a:ext cx="6402240" cy="2629080"/>
            <a:chOff x="784080" y="3898800"/>
            <a:chExt cx="6402240" cy="26290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784080" y="3975120"/>
              <a:ext cx="640224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146400" y="4432320"/>
              <a:ext cx="533160" cy="38088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61000" y="5651280"/>
              <a:ext cx="533160" cy="38124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60600" y="42037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51840" y="389880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ab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D70-89F7-47C4-BC23-49DEA19D4A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4288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Bridges vs. Rout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42880" y="1233000"/>
            <a:ext cx="7981920" cy="22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store-and-forward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: network layer devices (examine network layer head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dges are Link Layer de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maintain routing tables, implement routing algo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dges maintain filtering tables, implement filtering, learning and spanning tree algorith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38360" y="4417920"/>
            <a:ext cx="5456160" cy="21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1BE-3036-451D-8283-F3450F3C2E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rs vs. Brid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idges + and 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Bridge operation is simpler requiring less processing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Topologies are restricted with bridges: a spanning tree must be built to avoid cycl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Bridges do not offer protection from broadcast storms (endless broadcasting by a host will be forwarded by a brid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A1C-8DCC-41F1-8B43-974EDE4696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rs vs. Brid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70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ers + and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bitrary topologies can be supported, cycling is limited by TTL counters (and good routing protocol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provide firewall protection against broadcast stor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require IP address configuration (not plug and pla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require higher processing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idges do well in small (few hundred hosts) while routers used in large networks (thousands of hos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7C8-EDA8-4904-824D-AA25F93899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 Switch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503600" cy="45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 2 (frame) forwarding, filtering using LAN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itching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to-B and A’-to-B’ simultaneously, no coll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rg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interfa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ten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dividual ho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tar-connected into swi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, but no collision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40280" y="1789200"/>
            <a:ext cx="3875040" cy="40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0CC-29FD-4923-9E3D-57E951BE0EA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 Switch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ut-through switch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me forwarded from input to output port without awaiting for assembly of entire fr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ght reduction in laten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ations of shared/dedicated, 10/100/1000 Mbps interfa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5BC-72A6-4C57-9137-39E31475B37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 Switches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5166000" y="140976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267080" y="1676520"/>
            <a:ext cx="990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90720" y="270504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29718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30320" y="1317600"/>
            <a:ext cx="6910200" cy="490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C42-05F5-457B-B2A8-764BA6F370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EEE 802.11 Wireless 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81723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reless LANs: untethered (often mobile) networ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EE 802.11 standar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licensed frequency spectrum: 900Mhz,  2.4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960800" y="3398760"/>
            <a:ext cx="3768840" cy="2133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46120" y="3206880"/>
            <a:ext cx="45496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SS’s combined to form distribution system (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asic Service Set (BSS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a.k.a. “cell”) contai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ireless 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ccess point (AP)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as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775F-3D18-418F-92AA-917D962E72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 Hoc Networ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63044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 hoc 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EEE 802.11 stations can dynamically form network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with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ptop” meeting in conference room, c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connection of “personal” devi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 MAN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obile Ad hoc Network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grou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408640" y="4068720"/>
            <a:ext cx="237168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71A-F241-401F-A60A-8A7E7B6B56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EEE 802.11 MAC Protocol: CSMA/C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37960" y="1639440"/>
            <a:ext cx="4562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02.11 CSMA: s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- if sense channel 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IF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 (Distr. Inter Frame Sp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t entire frame (no collision detec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-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se channel bus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ary backo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02.11 CSMA 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received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ACK after SIF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hort Inter Frame Spacing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91160" y="2627280"/>
            <a:ext cx="416232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5FD-63ED-4E8B-AA8B-7F49560BD3D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AN Address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 address allocation administered by IE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ufacturer buys portion of MAC address space (to assure uniquenes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og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) MAC address: like Social Security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) IP address: like postal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 flat address  =&gt; portabil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move LAN card from one LAN to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hierarchical address NOT por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s on network to which one attach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DF3-4022-4B20-8101-9BA6C7A072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EEE 802.11 MAC Protoc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641840" y="2498760"/>
            <a:ext cx="4162320" cy="2733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45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802.11 CSMA Protocol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etwork Allo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1 frame has transmission time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 (hearing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a) defer access for NAV time un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15A-69F5-4436-9611-C2BBC34222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dden Terminal effec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6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dden terminal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, C cannot hear each 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tacles, signal atten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isions at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oid collisions at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MA/CA: CSMA wi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lision Avoid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52600" y="4381560"/>
            <a:ext cx="566748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0EB-3839-4A27-AE8A-1818CCEB23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ision Avoidance: RTS-CTS exchan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99000" y="218916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260880" y="123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7120" y="1550520"/>
            <a:ext cx="42098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SMA/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xplicit channel reser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: send shor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request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: reply with shor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lear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S reserves channel for sender, notifying (possibly hidden)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idden station collis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BC5-C946-418A-837A-950A198E8AA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ision Avoidance: RTS-CTS exchan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99000" y="236520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60880" y="123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6960" y="1491840"/>
            <a:ext cx="4540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TS and CTS shor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isions less likely, of shorter du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result similar to collision det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 802.11 a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MA/CA: reser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ling from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836-F43F-42DC-BC3B-4FCA67F41E2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int to Point Data Link Contr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sender, one receiver, one link: easier than broadcast lin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dia Acc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explicit MAC 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dialup link, ISDN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lar  point-to-point DLC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PP (point-to-point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DLC: High level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k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trol (Data link used to be considered “high layer” in protocol stac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E17-71AD-4ADA-B71A-5CA3A3082F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PP Design Requirements [RFC 1557]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 fram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capsulation of network-layer datagram in data link fra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ry network layer data of any network layer protocol (not just IP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same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demultiplex upw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t transparen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carry any bit pattern in the data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det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 correc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nection liven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ct, signal link failure to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layer address negoti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dpoint can learn/configure each other’s network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DC5-AB3B-4639-A990-BB3BD6EE02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PPP non-requirements</a:t>
            </a:r>
            <a:endParaRPr b="0" lang="en-US" sz="4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error correction/recov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 of order delivery O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ed to support multipoint links (e.g., poll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808920" y="3908520"/>
            <a:ext cx="77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rror recovery, flow control, data re-ord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l relegated to higher layers!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F61-E424-4533-87B7-AA3E1D155EA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PP Data Fram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imiter (fram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ddres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oes nothing (only one op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es nothing; in the future possible multiple control fiel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toc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per layer protocol to which frame delivered (eg, PPP-LCP, IP, IPCP, etc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6840" y="455760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E54-8E41-43EE-9265-B75B42A312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PP Data Fram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fo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per layer data being carr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eck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cyclic redundancy check for error de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816120" y="294156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6481-3745-4793-A101-223D90EED29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ynchronous Transfer Mode: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80s/1990’s standard for high-spe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55Mbps to 622 Mbps and higher)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Broadband Integrated Service Digital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grated, end-end transport of carry voice, video,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eting timing/QoS requirements of voice, video (versus Internet best-effort mod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generation” telephony: technical roots in telephone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packet-switch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ixed length packets, called “cells”) using 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virtu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46E-3152-4413-AF57-A2EC5F2BC6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97080" y="4826160"/>
            <a:ext cx="3402000" cy="669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880" y="22032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call earlier routing discuss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618080" y="1460520"/>
            <a:ext cx="4192200" cy="2998440"/>
            <a:chOff x="4618080" y="1460520"/>
            <a:chExt cx="4192200" cy="2998440"/>
          </a:xfrm>
        </p:grpSpPr>
        <p:sp>
          <p:nvSpPr>
            <p:cNvPr id="54" name=""/>
            <p:cNvSpPr/>
            <p:nvPr/>
          </p:nvSpPr>
          <p:spPr>
            <a:xfrm>
              <a:off x="4618080" y="1460520"/>
              <a:ext cx="1840320" cy="1948320"/>
            </a:xfrm>
            <a:custGeom>
              <a:avLst/>
              <a:gdLst/>
              <a:ahLst/>
              <a:rect l="l" t="t" r="r" b="b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03080" y="1733400"/>
              <a:ext cx="1807200" cy="1862280"/>
            </a:xfrm>
            <a:custGeom>
              <a:avLst/>
              <a:gdLst/>
              <a:ahLst/>
              <a:rect l="l" t="t" r="r" b="b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62880" y="3042000"/>
              <a:ext cx="1948680" cy="1416960"/>
            </a:xfrm>
            <a:custGeom>
              <a:avLst/>
              <a:gdLst/>
              <a:ahLst/>
              <a:rect l="l" t="t" r="r" b="b"/>
              <a:pathLst>
                <a:path w="1295" h="939">
                  <a:moveTo>
                    <a:pt x="600" y="30"/>
                  </a:moveTo>
                  <a:cubicBezTo>
                    <a:pt x="486" y="60"/>
                    <a:pt x="610" y="247"/>
                    <a:pt x="525" y="393"/>
                  </a:cubicBezTo>
                  <a:cubicBezTo>
                    <a:pt x="439" y="467"/>
                    <a:pt x="162" y="394"/>
                    <a:pt x="81" y="471"/>
                  </a:cubicBezTo>
                  <a:cubicBezTo>
                    <a:pt x="0" y="548"/>
                    <a:pt x="18" y="779"/>
                    <a:pt x="39" y="855"/>
                  </a:cubicBezTo>
                  <a:cubicBezTo>
                    <a:pt x="60" y="931"/>
                    <a:pt x="142" y="915"/>
                    <a:pt x="207" y="927"/>
                  </a:cubicBezTo>
                  <a:cubicBezTo>
                    <a:pt x="272" y="939"/>
                    <a:pt x="346" y="933"/>
                    <a:pt x="429" y="927"/>
                  </a:cubicBezTo>
                  <a:cubicBezTo>
                    <a:pt x="512" y="921"/>
                    <a:pt x="572" y="904"/>
                    <a:pt x="705" y="891"/>
                  </a:cubicBezTo>
                  <a:cubicBezTo>
                    <a:pt x="838" y="878"/>
                    <a:pt x="1159" y="921"/>
                    <a:pt x="1227" y="849"/>
                  </a:cubicBezTo>
                  <a:cubicBezTo>
                    <a:pt x="1295" y="777"/>
                    <a:pt x="1188" y="540"/>
                    <a:pt x="1113" y="459"/>
                  </a:cubicBezTo>
                  <a:cubicBezTo>
                    <a:pt x="1038" y="378"/>
                    <a:pt x="835" y="432"/>
                    <a:pt x="777" y="363"/>
                  </a:cubicBezTo>
                  <a:cubicBezTo>
                    <a:pt x="719" y="294"/>
                    <a:pt x="791" y="97"/>
                    <a:pt x="762" y="42"/>
                  </a:cubicBezTo>
                  <a:cubicBezTo>
                    <a:pt x="708" y="15"/>
                    <a:pt x="714" y="0"/>
                    <a:pt x="600" y="3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691520" y="1559880"/>
              <a:ext cx="5533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22520" y="1914480"/>
              <a:ext cx="263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97920" y="1901160"/>
              <a:ext cx="0" cy="12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222520" y="2527200"/>
              <a:ext cx="2631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1880" y="3123360"/>
              <a:ext cx="258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691520" y="2193840"/>
              <a:ext cx="55332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691520" y="2773080"/>
              <a:ext cx="5533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497920" y="2716200"/>
              <a:ext cx="98100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392160" y="2682720"/>
              <a:ext cx="673560" cy="361440"/>
              <a:chOff x="6392160" y="2682720"/>
              <a:chExt cx="673560" cy="361440"/>
            </a:xfrm>
          </p:grpSpPr>
          <p:sp>
            <p:nvSpPr>
              <p:cNvPr id="66" name=""/>
              <p:cNvSpPr/>
              <p:nvPr/>
            </p:nvSpPr>
            <p:spPr>
              <a:xfrm>
                <a:off x="6397560" y="2844000"/>
                <a:ext cx="668160" cy="200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397560" y="2827080"/>
                <a:ext cx="0" cy="12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065720" y="2827080"/>
                <a:ext cx="0" cy="12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397560" y="2827080"/>
                <a:ext cx="662040" cy="122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92160" y="2682720"/>
                <a:ext cx="667800" cy="2332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6552720" y="2733840"/>
                <a:ext cx="330840" cy="136800"/>
                <a:chOff x="6552720" y="2733840"/>
                <a:chExt cx="330840" cy="136800"/>
              </a:xfrm>
            </p:grpSpPr>
            <p:sp>
              <p:nvSpPr>
                <p:cNvPr id="72" name=""/>
                <p:cNvSpPr/>
                <p:nvPr/>
              </p:nvSpPr>
              <p:spPr>
                <a:xfrm flipV="1">
                  <a:off x="6552720" y="2733840"/>
                  <a:ext cx="1177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779520" y="2870640"/>
                  <a:ext cx="104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661440" y="2736720"/>
                  <a:ext cx="12276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552720" y="2732040"/>
                <a:ext cx="330840" cy="136800"/>
                <a:chOff x="6552720" y="2732040"/>
                <a:chExt cx="330840" cy="136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552720" y="2866320"/>
                  <a:ext cx="11772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779520" y="2732040"/>
                  <a:ext cx="104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V="1">
                  <a:off x="6661440" y="2732400"/>
                  <a:ext cx="12276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5183280" y="16052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66440" y="2290320"/>
              <a:ext cx="293400" cy="172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99480" y="2202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77080" y="3106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26600" y="2469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65640" y="2724840"/>
              <a:ext cx="96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47560" y="2460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6200" y="2064240"/>
              <a:ext cx="0" cy="12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8104680" y="1786320"/>
              <a:ext cx="55368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936200" y="2068560"/>
              <a:ext cx="222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5"/>
            <a:stretch/>
          </p:blipFill>
          <p:spPr>
            <a:xfrm>
              <a:off x="8109000" y="3099240"/>
              <a:ext cx="553680" cy="4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936200" y="3277440"/>
              <a:ext cx="222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85080" y="3037320"/>
              <a:ext cx="162360" cy="172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06560" y="29545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98760" y="2113560"/>
              <a:ext cx="234720" cy="172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3640" y="2021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39560" y="3046680"/>
              <a:ext cx="0" cy="68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116760" y="3730320"/>
              <a:ext cx="112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6113880" y="3722760"/>
              <a:ext cx="2880" cy="22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7228800" y="3726720"/>
              <a:ext cx="2880" cy="22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7025760" y="3877920"/>
              <a:ext cx="553680" cy="44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5833800" y="3891600"/>
              <a:ext cx="5533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236000" y="3583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73920" y="3619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79440" y="3173400"/>
              <a:ext cx="121680" cy="172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69680" y="30992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799160" y="1523520"/>
              <a:ext cx="343800" cy="398880"/>
              <a:chOff x="4799160" y="1523520"/>
              <a:chExt cx="343800" cy="398880"/>
            </a:xfrm>
          </p:grpSpPr>
          <p:sp>
            <p:nvSpPr>
              <p:cNvPr id="106" name=""/>
              <p:cNvSpPr/>
              <p:nvPr/>
            </p:nvSpPr>
            <p:spPr>
              <a:xfrm>
                <a:off x="4882320" y="1597320"/>
                <a:ext cx="17136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799160" y="15235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774680" y="2701080"/>
              <a:ext cx="346680" cy="398880"/>
              <a:chOff x="4774680" y="2701080"/>
              <a:chExt cx="346680" cy="398880"/>
            </a:xfrm>
          </p:grpSpPr>
          <p:sp>
            <p:nvSpPr>
              <p:cNvPr id="109" name=""/>
              <p:cNvSpPr/>
              <p:nvPr/>
            </p:nvSpPr>
            <p:spPr>
              <a:xfrm>
                <a:off x="4872960" y="2774880"/>
                <a:ext cx="171360" cy="24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4680" y="27010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8209800" y="3043440"/>
              <a:ext cx="322560" cy="398880"/>
              <a:chOff x="8209800" y="3043440"/>
              <a:chExt cx="322560" cy="398880"/>
            </a:xfrm>
          </p:grpSpPr>
          <p:sp>
            <p:nvSpPr>
              <p:cNvPr id="112" name=""/>
              <p:cNvSpPr/>
              <p:nvPr/>
            </p:nvSpPr>
            <p:spPr>
              <a:xfrm>
                <a:off x="8295480" y="3118680"/>
                <a:ext cx="171360" cy="24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209800" y="3043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328680" y="1373040"/>
            <a:ext cx="43336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ing at A, given IP datagram addressed to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up net. address of B, find B on same net.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nk layer send datagram to B inside link-layer fr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9880" y="4843440"/>
            <a:ext cx="10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s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3960" y="4843440"/>
            <a:ext cx="10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s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4680" y="482616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s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9040" y="4832280"/>
            <a:ext cx="7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s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69600" y="4964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8120" y="4824360"/>
            <a:ext cx="6060960" cy="669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4835520"/>
            <a:ext cx="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32120" y="4830840"/>
            <a:ext cx="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00320" y="4836960"/>
            <a:ext cx="0" cy="669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6360" y="4773600"/>
            <a:ext cx="74520" cy="1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800" y="5408640"/>
            <a:ext cx="7452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22480" y="4776840"/>
            <a:ext cx="7488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40120" y="5423040"/>
            <a:ext cx="74520" cy="1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680" y="56196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37360" y="59500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4280" y="5810400"/>
            <a:ext cx="119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139920" y="5819760"/>
            <a:ext cx="98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2560" y="6108840"/>
            <a:ext cx="22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7560" y="6130800"/>
            <a:ext cx="30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90080" y="3813120"/>
            <a:ext cx="16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me sour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5440" y="384012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gram sour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82240" y="4448160"/>
            <a:ext cx="49212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8160" y="4443480"/>
            <a:ext cx="43992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522240" y="4452840"/>
            <a:ext cx="49212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8160" y="4448160"/>
            <a:ext cx="43992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3B6-00C6-4A72-A9DC-603C99AE15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rchitectur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9760" y="3632040"/>
            <a:ext cx="79610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daptation layer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ly at edge of ATM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segmentation/reassemb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ghly analagous to Internet transport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M lay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network”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 switching, ro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446120" y="1027080"/>
            <a:ext cx="609444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E4A-1FE6-498F-B946-63D66A99489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:  network or link layer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4557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i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d-to-end transport: “ATM from desktop to deskto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network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al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d to connect IP backbone route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over AT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as switched link layer, connecting IP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327560" y="1628640"/>
            <a:ext cx="4403520" cy="38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36D-FDB5-4259-829B-041BE97941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 (AAL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aptation Lay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AL): “adapts” upper layers (IP or native ATM applications)  to ATM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 present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in end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t in swit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 layer segment (header/trailer fields, data) fragmented across multiple ATM cel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ogy: TCP segment in many IP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60480" y="4492800"/>
            <a:ext cx="54291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8C5-6000-4D35-BAEB-EFC09E4AA03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ion Layer (AAL) [more]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9406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versions of AAL layers, depending on ATM service clas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AL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CBR (Constant Bit Rate) services, e.g. circuit e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AL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VBR (Variable Bit Rate) services, e.g., MPEG 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AL5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ata (eg, IP datagram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913040" y="4022640"/>
            <a:ext cx="6524640" cy="2835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73840" y="46353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AL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3960" y="559440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6120" y="36878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3A5-BDDA-4476-852C-B1B6CF11E2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2880" y="144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8640" y="94248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port cells across ATM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agous to IP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different services than IP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99160" y="251136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56600" y="251136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90040" y="280656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9960" y="3328920"/>
            <a:ext cx="84297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4720" y="4062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468144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2600" y="5310360"/>
            <a:ext cx="84294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1960" y="58910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91160" y="280656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14400" y="281628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73720" y="281628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70920" y="253044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60560" y="23796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81480" y="2805120"/>
            <a:ext cx="3733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C07-31C9-405F-AAB5-23302EEDE2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Layer: Virtual Circu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87328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C transpor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lls carried on VC from source to d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setup, teardown for each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can f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acket carries VC identifier (not destination I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witch on source-dest path maintain “state” for each passing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,switch resources (bandwidth, buffers) may b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llocat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VC: to get circuit-like perf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manent VCs (PV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 lasting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: “permanent” route between to IP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itched VCs (SVC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ally set up on per-call ba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095-D90F-457F-BF2E-9F688CC2E6A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V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572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vantages of ATM VC appr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oS performance guarantee for connection mapped to VC (bandwidth, delay, delay jit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rawbacks of ATM VC appr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efficient support of datagram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VC between each source/dest pair) does not scale (N*2 connections needed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VC introduces call setup latency, processing overhead for short lived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D3C8-3C22-4BE0-A957-E15ED6FD543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Layer: ATM cel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-byte ATM cell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8-byte pay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: small payload -&gt; short cell-creation delay for digitized v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fway between 32 and 64 (compromise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927080" y="3722760"/>
            <a:ext cx="5276880" cy="80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839960" y="5052960"/>
            <a:ext cx="5361120" cy="1582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00600" y="400356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ll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1840" y="514044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l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995-657D-4E6A-9BD6-9F1A19D775B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cell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08576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C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irtual channel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link to link thru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T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yload type (e.g. RM cell versus data cell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LP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 Loss Priority 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P = 1 implies low priority cell, can be discarded if cong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EC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der Error Checks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clic redundancy che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719360" y="5187960"/>
            <a:ext cx="527688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C11-6C49-4B12-9293-D80F30C370D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Physical Layer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6400" y="1562040"/>
            <a:ext cx="8877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w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(sublayers) of physical lay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Convergence Sublayer (TC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apts ATM layer above to PMD sub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Medium Depend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pends on physical medium being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CS 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hecksu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ion: 8 bits CR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eline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“unstructured” PMD sublayer, transmission of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dle cel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n no data cells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BD61-6AB9-4CD7-A878-9BC6C17173E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3440" y="3179880"/>
            <a:ext cx="5156280" cy="3051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RP: Address Resolution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08600" y="1474560"/>
            <a:ext cx="3990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P node (Host, Router) on LAN has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RP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e,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P Table: IP/MAC address mappings for some LAN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 IP address; MAC address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      …………………………..   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TL (Time To Live): time after which address mapping will be forgotten (typically 20 m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30040" y="1487520"/>
            <a:ext cx="4343400" cy="1278000"/>
            <a:chOff x="230040" y="1487520"/>
            <a:chExt cx="4343400" cy="1278000"/>
          </a:xfrm>
        </p:grpSpPr>
        <p:sp>
          <p:nvSpPr>
            <p:cNvPr id="144" name=""/>
            <p:cNvSpPr/>
            <p:nvPr/>
          </p:nvSpPr>
          <p:spPr>
            <a:xfrm>
              <a:off x="336960" y="1509840"/>
              <a:ext cx="4208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Question: how to determ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AC address of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iven B’s IP addres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0040" y="1487520"/>
              <a:ext cx="43434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39D-0215-4C94-9E06-31EA49B424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Physical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hysical Medium Dependent (PMD) sub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NET/SDH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ssion frame structure (like a container carrying bits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t synchronization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partitions (TDM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speeds: OC1 = 51.84 Mbps; OC3 = 155.52 Mbps; OC12 = 622.08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/T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ansmission frame structure (old telephone hierarchy): 1.5 Mbps/ 45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nstructu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just cells (busy/id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966-2009-48A4-A69F-927D155AC49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-Over-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50440" y="1077840"/>
            <a:ext cx="33973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assic IP on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“networks” (e.g., LAN segme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02600" indent="-1026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 (802.3) and IP addres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773280" y="3152880"/>
            <a:ext cx="2479320" cy="3260160"/>
            <a:chOff x="773280" y="3152880"/>
            <a:chExt cx="2479320" cy="3260160"/>
          </a:xfrm>
        </p:grpSpPr>
        <p:sp>
          <p:nvSpPr>
            <p:cNvPr id="326" name=""/>
            <p:cNvSpPr/>
            <p:nvPr/>
          </p:nvSpPr>
          <p:spPr>
            <a:xfrm>
              <a:off x="1628640" y="5553360"/>
              <a:ext cx="1623960" cy="403200"/>
            </a:xfrm>
            <a:custGeom>
              <a:avLst/>
              <a:gdLst/>
              <a:ahLst/>
              <a:rect l="l" t="t" r="r" b="b"/>
              <a:pathLst>
                <a:path w="824" h="187">
                  <a:moveTo>
                    <a:pt x="333" y="184"/>
                  </a:moveTo>
                  <a:cubicBezTo>
                    <a:pt x="189" y="187"/>
                    <a:pt x="84" y="183"/>
                    <a:pt x="42" y="164"/>
                  </a:cubicBezTo>
                  <a:cubicBezTo>
                    <a:pt x="0" y="144"/>
                    <a:pt x="40" y="79"/>
                    <a:pt x="80" y="64"/>
                  </a:cubicBezTo>
                  <a:cubicBezTo>
                    <a:pt x="119" y="50"/>
                    <a:pt x="217" y="74"/>
                    <a:pt x="281" y="76"/>
                  </a:cubicBezTo>
                  <a:cubicBezTo>
                    <a:pt x="345" y="78"/>
                    <a:pt x="431" y="85"/>
                    <a:pt x="466" y="74"/>
                  </a:cubicBezTo>
                  <a:cubicBezTo>
                    <a:pt x="501" y="63"/>
                    <a:pt x="476" y="16"/>
                    <a:pt x="493" y="8"/>
                  </a:cubicBezTo>
                  <a:cubicBezTo>
                    <a:pt x="510" y="0"/>
                    <a:pt x="557" y="12"/>
                    <a:pt x="568" y="23"/>
                  </a:cubicBezTo>
                  <a:cubicBezTo>
                    <a:pt x="579" y="34"/>
                    <a:pt x="529" y="63"/>
                    <a:pt x="559" y="74"/>
                  </a:cubicBezTo>
                  <a:cubicBezTo>
                    <a:pt x="589" y="85"/>
                    <a:pt x="719" y="70"/>
                    <a:pt x="751" y="86"/>
                  </a:cubicBezTo>
                  <a:cubicBezTo>
                    <a:pt x="783" y="102"/>
                    <a:pt x="824" y="154"/>
                    <a:pt x="754" y="170"/>
                  </a:cubicBezTo>
                  <a:cubicBezTo>
                    <a:pt x="684" y="186"/>
                    <a:pt x="421" y="181"/>
                    <a:pt x="333" y="18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44880" y="3279600"/>
              <a:ext cx="648360" cy="2290680"/>
            </a:xfrm>
            <a:custGeom>
              <a:avLst/>
              <a:gdLst/>
              <a:ahLst/>
              <a:rect l="l" t="t" r="r" b="b"/>
              <a:pathLst>
                <a:path w="329" h="1063">
                  <a:moveTo>
                    <a:pt x="24" y="340"/>
                  </a:moveTo>
                  <a:cubicBezTo>
                    <a:pt x="22" y="215"/>
                    <a:pt x="27" y="98"/>
                    <a:pt x="48" y="49"/>
                  </a:cubicBezTo>
                  <a:cubicBezTo>
                    <a:pt x="69" y="0"/>
                    <a:pt x="109" y="42"/>
                    <a:pt x="150" y="43"/>
                  </a:cubicBezTo>
                  <a:cubicBezTo>
                    <a:pt x="191" y="44"/>
                    <a:pt x="271" y="46"/>
                    <a:pt x="297" y="55"/>
                  </a:cubicBezTo>
                  <a:cubicBezTo>
                    <a:pt x="323" y="64"/>
                    <a:pt x="329" y="83"/>
                    <a:pt x="306" y="94"/>
                  </a:cubicBezTo>
                  <a:cubicBezTo>
                    <a:pt x="283" y="105"/>
                    <a:pt x="185" y="92"/>
                    <a:pt x="156" y="124"/>
                  </a:cubicBezTo>
                  <a:cubicBezTo>
                    <a:pt x="127" y="156"/>
                    <a:pt x="135" y="209"/>
                    <a:pt x="132" y="289"/>
                  </a:cubicBezTo>
                  <a:cubicBezTo>
                    <a:pt x="129" y="369"/>
                    <a:pt x="137" y="501"/>
                    <a:pt x="135" y="607"/>
                  </a:cubicBezTo>
                  <a:cubicBezTo>
                    <a:pt x="133" y="713"/>
                    <a:pt x="112" y="866"/>
                    <a:pt x="120" y="925"/>
                  </a:cubicBezTo>
                  <a:cubicBezTo>
                    <a:pt x="128" y="984"/>
                    <a:pt x="181" y="947"/>
                    <a:pt x="186" y="964"/>
                  </a:cubicBezTo>
                  <a:cubicBezTo>
                    <a:pt x="191" y="981"/>
                    <a:pt x="180" y="1029"/>
                    <a:pt x="153" y="1027"/>
                  </a:cubicBezTo>
                  <a:cubicBezTo>
                    <a:pt x="126" y="1025"/>
                    <a:pt x="42" y="1063"/>
                    <a:pt x="21" y="949"/>
                  </a:cubicBezTo>
                  <a:cubicBezTo>
                    <a:pt x="0" y="835"/>
                    <a:pt x="23" y="467"/>
                    <a:pt x="24" y="34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83400" y="3695760"/>
              <a:ext cx="287640" cy="1868400"/>
            </a:xfrm>
            <a:custGeom>
              <a:avLst/>
              <a:gdLst/>
              <a:ahLst/>
              <a:rect l="l" t="t" r="r" b="b"/>
              <a:pathLst>
                <a:path w="146" h="867">
                  <a:moveTo>
                    <a:pt x="2" y="333"/>
                  </a:moveTo>
                  <a:cubicBezTo>
                    <a:pt x="0" y="208"/>
                    <a:pt x="6" y="84"/>
                    <a:pt x="26" y="42"/>
                  </a:cubicBezTo>
                  <a:cubicBezTo>
                    <a:pt x="46" y="0"/>
                    <a:pt x="106" y="23"/>
                    <a:pt x="125" y="81"/>
                  </a:cubicBezTo>
                  <a:cubicBezTo>
                    <a:pt x="144" y="139"/>
                    <a:pt x="140" y="306"/>
                    <a:pt x="143" y="393"/>
                  </a:cubicBezTo>
                  <a:cubicBezTo>
                    <a:pt x="146" y="480"/>
                    <a:pt x="145" y="538"/>
                    <a:pt x="140" y="603"/>
                  </a:cubicBezTo>
                  <a:cubicBezTo>
                    <a:pt x="135" y="668"/>
                    <a:pt x="127" y="755"/>
                    <a:pt x="110" y="786"/>
                  </a:cubicBezTo>
                  <a:cubicBezTo>
                    <a:pt x="93" y="817"/>
                    <a:pt x="56" y="867"/>
                    <a:pt x="38" y="792"/>
                  </a:cubicBezTo>
                  <a:cubicBezTo>
                    <a:pt x="20" y="717"/>
                    <a:pt x="4" y="458"/>
                    <a:pt x="2" y="33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456280" y="5262480"/>
              <a:ext cx="622440" cy="316080"/>
              <a:chOff x="2456280" y="5262480"/>
              <a:chExt cx="622440" cy="316080"/>
            </a:xfrm>
          </p:grpSpPr>
          <p:sp>
            <p:nvSpPr>
              <p:cNvPr id="330" name=""/>
              <p:cNvSpPr/>
              <p:nvPr/>
            </p:nvSpPr>
            <p:spPr>
              <a:xfrm>
                <a:off x="2461320" y="540360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613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0787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61320" y="538884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56280" y="526248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2604600" y="5307480"/>
                <a:ext cx="305640" cy="119160"/>
                <a:chOff x="2604600" y="5307480"/>
                <a:chExt cx="305640" cy="119160"/>
              </a:xfrm>
            </p:grpSpPr>
            <p:sp>
              <p:nvSpPr>
                <p:cNvPr id="336" name=""/>
                <p:cNvSpPr/>
                <p:nvPr/>
              </p:nvSpPr>
              <p:spPr>
                <a:xfrm flipV="1">
                  <a:off x="2604600" y="530748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814120" y="542664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705040" y="530964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604600" y="5305320"/>
                <a:ext cx="305640" cy="119160"/>
                <a:chOff x="2604600" y="5305320"/>
                <a:chExt cx="305640" cy="1191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604600" y="54223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814120" y="530532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2705040" y="53056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773280" y="34884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00640" y="496296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675160" y="315288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4"/>
            <a:stretch/>
          </p:blipFill>
          <p:spPr>
            <a:xfrm>
              <a:off x="1522080" y="595872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281600" y="3844440"/>
              <a:ext cx="153720" cy="144792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3532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86480" y="420660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86480" y="4419360"/>
              <a:ext cx="928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86480" y="460728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553400" y="4212720"/>
              <a:ext cx="622440" cy="316080"/>
              <a:chOff x="1553400" y="4212720"/>
              <a:chExt cx="622440" cy="316080"/>
            </a:xfrm>
          </p:grpSpPr>
          <p:sp>
            <p:nvSpPr>
              <p:cNvPr id="353" name=""/>
              <p:cNvSpPr/>
              <p:nvPr/>
            </p:nvSpPr>
            <p:spPr>
              <a:xfrm>
                <a:off x="1558440" y="435384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584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1758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58440" y="433908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53400" y="421272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1701720" y="4257720"/>
                <a:ext cx="305640" cy="119160"/>
                <a:chOff x="1701720" y="4257720"/>
                <a:chExt cx="305640" cy="11916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1701720" y="42577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911240" y="437688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02160" y="42598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1701720" y="4255560"/>
                <a:ext cx="305640" cy="119160"/>
                <a:chOff x="1701720" y="4255560"/>
                <a:chExt cx="305640" cy="1191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701720" y="437256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911240" y="425556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V="1">
                  <a:off x="1802160" y="425592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2300760" y="3437280"/>
              <a:ext cx="470880" cy="1978200"/>
            </a:xfrm>
            <a:custGeom>
              <a:avLst/>
              <a:gdLst/>
              <a:ahLst/>
              <a:rect l="l" t="t" r="r" b="b"/>
              <a:pathLst>
                <a:path w="239" h="918">
                  <a:moveTo>
                    <a:pt x="239" y="3"/>
                  </a:moveTo>
                  <a:lnTo>
                    <a:pt x="0" y="0"/>
                  </a:lnTo>
                  <a:lnTo>
                    <a:pt x="0" y="918"/>
                  </a:lnTo>
                  <a:lnTo>
                    <a:pt x="78" y="9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15640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5"/>
            <a:stretch/>
          </p:blipFill>
          <p:spPr>
            <a:xfrm>
              <a:off x="2710440" y="59220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6209600">
              <a:off x="2327040" y="5224680"/>
              <a:ext cx="167400" cy="132408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656440" y="5583600"/>
              <a:ext cx="144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587840" y="673200"/>
            <a:ext cx="37227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P over AT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lace “network” (e.g., LAN segment) with ATM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M addresses, IP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78360" y="5537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53200" y="3505320"/>
            <a:ext cx="1500120" cy="180648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33840" y="3679920"/>
            <a:ext cx="28764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605640" y="5246640"/>
            <a:ext cx="623520" cy="317160"/>
            <a:chOff x="6605640" y="5246640"/>
            <a:chExt cx="623520" cy="317160"/>
          </a:xfrm>
        </p:grpSpPr>
        <p:sp>
          <p:nvSpPr>
            <p:cNvPr id="376" name=""/>
            <p:cNvSpPr/>
            <p:nvPr/>
          </p:nvSpPr>
          <p:spPr>
            <a:xfrm>
              <a:off x="6610680" y="5388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1068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2916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10680" y="5373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05640" y="5246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754320" y="5291640"/>
              <a:ext cx="306000" cy="119520"/>
              <a:chOff x="6754320" y="5291640"/>
              <a:chExt cx="306000" cy="119520"/>
            </a:xfrm>
          </p:grpSpPr>
          <p:sp>
            <p:nvSpPr>
              <p:cNvPr id="382" name=""/>
              <p:cNvSpPr/>
              <p:nvPr/>
            </p:nvSpPr>
            <p:spPr>
              <a:xfrm flipV="1">
                <a:off x="6754320" y="5291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64200" y="5411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55120" y="5293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6754320" y="5290200"/>
              <a:ext cx="306000" cy="119520"/>
              <a:chOff x="6754320" y="5290200"/>
              <a:chExt cx="306000" cy="119520"/>
            </a:xfrm>
          </p:grpSpPr>
          <p:sp>
            <p:nvSpPr>
              <p:cNvPr id="386" name=""/>
              <p:cNvSpPr/>
              <p:nvPr/>
            </p:nvSpPr>
            <p:spPr>
              <a:xfrm>
                <a:off x="6754320" y="5407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964200" y="5290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5120" y="5290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9" name="" descr=""/>
          <p:cNvPicPr/>
          <p:nvPr/>
        </p:nvPicPr>
        <p:blipFill>
          <a:blip r:embed="rId6"/>
          <a:stretch/>
        </p:blipFill>
        <p:spPr>
          <a:xfrm>
            <a:off x="4923000" y="3473280"/>
            <a:ext cx="523800" cy="4543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4950000" y="4946760"/>
            <a:ext cx="525240" cy="4554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6824520" y="3137040"/>
            <a:ext cx="524160" cy="4539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9"/>
          <a:stretch/>
        </p:blipFill>
        <p:spPr>
          <a:xfrm>
            <a:off x="5672160" y="594360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430960" y="3828960"/>
            <a:ext cx="15372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84680" y="436572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235480" y="419112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235480" y="44038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35480" y="45910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703840" y="4197240"/>
            <a:ext cx="622080" cy="315720"/>
            <a:chOff x="5703840" y="4197240"/>
            <a:chExt cx="622080" cy="315720"/>
          </a:xfrm>
        </p:grpSpPr>
        <p:sp>
          <p:nvSpPr>
            <p:cNvPr id="399" name=""/>
            <p:cNvSpPr/>
            <p:nvPr/>
          </p:nvSpPr>
          <p:spPr>
            <a:xfrm>
              <a:off x="5708880" y="433800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0888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32592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08880" y="432324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03840" y="419724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852160" y="4242240"/>
              <a:ext cx="305640" cy="119160"/>
              <a:chOff x="5852160" y="4242240"/>
              <a:chExt cx="305640" cy="11916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5852160" y="4242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61680" y="4361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952600" y="424440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5852160" y="4240080"/>
              <a:ext cx="305640" cy="119160"/>
              <a:chOff x="5852160" y="4240080"/>
              <a:chExt cx="305640" cy="119160"/>
            </a:xfrm>
          </p:grpSpPr>
          <p:sp>
            <p:nvSpPr>
              <p:cNvPr id="409" name=""/>
              <p:cNvSpPr/>
              <p:nvPr/>
            </p:nvSpPr>
            <p:spPr>
              <a:xfrm>
                <a:off x="5852160" y="43570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61680" y="424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952600" y="424044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"/>
          <p:cNvSpPr/>
          <p:nvPr/>
        </p:nvSpPr>
        <p:spPr>
          <a:xfrm>
            <a:off x="6310440" y="420516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6861240" y="5905440"/>
            <a:ext cx="523800" cy="4557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 rot="16209600">
            <a:off x="6476760" y="5209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807240" y="5567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738840" y="3830760"/>
            <a:ext cx="554040" cy="468360"/>
            <a:chOff x="6738840" y="3830760"/>
            <a:chExt cx="554040" cy="468360"/>
          </a:xfrm>
        </p:grpSpPr>
        <p:sp>
          <p:nvSpPr>
            <p:cNvPr id="417" name=""/>
            <p:cNvSpPr/>
            <p:nvPr/>
          </p:nvSpPr>
          <p:spPr>
            <a:xfrm>
              <a:off x="6859800" y="3835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40640" y="3902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807240" y="4032000"/>
              <a:ext cx="304560" cy="119160"/>
              <a:chOff x="6807240" y="4032000"/>
              <a:chExt cx="304560" cy="119160"/>
            </a:xfrm>
          </p:grpSpPr>
          <p:sp>
            <p:nvSpPr>
              <p:cNvPr id="420" name=""/>
              <p:cNvSpPr/>
              <p:nvPr/>
            </p:nvSpPr>
            <p:spPr>
              <a:xfrm>
                <a:off x="6807240" y="4149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16040" y="4032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6907320" y="4032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02560" y="4024440"/>
              <a:ext cx="303840" cy="119160"/>
              <a:chOff x="6802560" y="4024440"/>
              <a:chExt cx="303840" cy="11916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6802560" y="4024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11000" y="4143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902640" y="4026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6738840" y="3830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162920" y="3830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016760" y="4643280"/>
            <a:ext cx="554040" cy="468360"/>
            <a:chOff x="7016760" y="4643280"/>
            <a:chExt cx="554040" cy="468360"/>
          </a:xfrm>
        </p:grpSpPr>
        <p:sp>
          <p:nvSpPr>
            <p:cNvPr id="430" name=""/>
            <p:cNvSpPr/>
            <p:nvPr/>
          </p:nvSpPr>
          <p:spPr>
            <a:xfrm>
              <a:off x="7137720" y="4647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8560" y="4714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7085160" y="4844520"/>
              <a:ext cx="304560" cy="119160"/>
              <a:chOff x="7085160" y="4844520"/>
              <a:chExt cx="304560" cy="119160"/>
            </a:xfrm>
          </p:grpSpPr>
          <p:sp>
            <p:nvSpPr>
              <p:cNvPr id="433" name=""/>
              <p:cNvSpPr/>
              <p:nvPr/>
            </p:nvSpPr>
            <p:spPr>
              <a:xfrm>
                <a:off x="7085160" y="4961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93960" y="4844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185240" y="4844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080480" y="4836960"/>
              <a:ext cx="303840" cy="119160"/>
              <a:chOff x="7080480" y="4836960"/>
              <a:chExt cx="303840" cy="119160"/>
            </a:xfrm>
          </p:grpSpPr>
          <p:sp>
            <p:nvSpPr>
              <p:cNvPr id="437" name=""/>
              <p:cNvSpPr/>
              <p:nvPr/>
            </p:nvSpPr>
            <p:spPr>
              <a:xfrm flipV="1">
                <a:off x="7080480" y="4836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288920" y="4956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80560" y="4839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16760" y="4643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40840" y="4643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034040" y="3576600"/>
            <a:ext cx="100080" cy="2430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01000" y="5110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067520" y="430524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93360" y="325296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7577280" y="3611520"/>
            <a:ext cx="39816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440" y="5802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58920" y="4927320"/>
            <a:ext cx="892080" cy="92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263600" y="5396040"/>
            <a:ext cx="14148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257480" y="5738400"/>
            <a:ext cx="44892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94520" y="582120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369040" y="5415120"/>
            <a:ext cx="14112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362560" y="575748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2F69-811F-457A-A349-31B08366F28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-Over-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652320" y="1154160"/>
            <a:ext cx="355464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P datagrams into ATM AAL5 PD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om IP addresses to ATM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like IP addresses to 802.3 MAC address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653080" y="4145040"/>
            <a:ext cx="162396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27920" y="2112840"/>
            <a:ext cx="1500120" cy="180684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08560" y="228744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480000" y="3854520"/>
            <a:ext cx="623880" cy="317160"/>
            <a:chOff x="6480000" y="3854520"/>
            <a:chExt cx="623880" cy="317160"/>
          </a:xfrm>
        </p:grpSpPr>
        <p:sp>
          <p:nvSpPr>
            <p:cNvPr id="460" name=""/>
            <p:cNvSpPr/>
            <p:nvPr/>
          </p:nvSpPr>
          <p:spPr>
            <a:xfrm>
              <a:off x="6485040" y="3996000"/>
              <a:ext cx="61884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504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10388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5040" y="3981240"/>
              <a:ext cx="61344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80000" y="3854520"/>
              <a:ext cx="61848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6628680" y="3899520"/>
              <a:ext cx="306000" cy="119520"/>
              <a:chOff x="6628680" y="3899520"/>
              <a:chExt cx="306000" cy="11952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6628680" y="389952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838560" y="401904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29480" y="390168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628680" y="3898080"/>
              <a:ext cx="306000" cy="119520"/>
              <a:chOff x="6628680" y="3898080"/>
              <a:chExt cx="306000" cy="119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628680" y="40154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38560" y="3898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729480" y="389844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797360" y="20811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824360" y="355428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699240" y="17445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4"/>
          <a:stretch/>
        </p:blipFill>
        <p:spPr>
          <a:xfrm>
            <a:off x="5546880" y="455148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305320" y="243684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59400" y="29732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10200" y="279864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110200" y="3011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110200" y="319896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578560" y="2805120"/>
            <a:ext cx="621720" cy="315720"/>
            <a:chOff x="5578560" y="2805120"/>
            <a:chExt cx="621720" cy="315720"/>
          </a:xfrm>
        </p:grpSpPr>
        <p:sp>
          <p:nvSpPr>
            <p:cNvPr id="483" name=""/>
            <p:cNvSpPr/>
            <p:nvPr/>
          </p:nvSpPr>
          <p:spPr>
            <a:xfrm>
              <a:off x="5583600" y="294588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8360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0028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83600" y="293112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78560" y="280512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5726880" y="2850120"/>
              <a:ext cx="304920" cy="119160"/>
              <a:chOff x="5726880" y="2850120"/>
              <a:chExt cx="304920" cy="11916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5726880" y="28501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36040" y="29692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27320" y="28522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726880" y="2847960"/>
              <a:ext cx="304920" cy="119160"/>
              <a:chOff x="5726880" y="2847960"/>
              <a:chExt cx="304920" cy="119160"/>
            </a:xfrm>
          </p:grpSpPr>
          <p:sp>
            <p:nvSpPr>
              <p:cNvPr id="493" name=""/>
              <p:cNvSpPr/>
              <p:nvPr/>
            </p:nvSpPr>
            <p:spPr>
              <a:xfrm>
                <a:off x="5726880" y="29649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936040" y="2847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5827320" y="2848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"/>
          <p:cNvSpPr/>
          <p:nvPr/>
        </p:nvSpPr>
        <p:spPr>
          <a:xfrm>
            <a:off x="6184800" y="281304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735600" y="451332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 rot="16209600">
            <a:off x="6351480" y="3817440"/>
            <a:ext cx="16812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681960" y="417528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613560" y="2438280"/>
            <a:ext cx="554040" cy="468360"/>
            <a:chOff x="6613560" y="2438280"/>
            <a:chExt cx="554040" cy="468360"/>
          </a:xfrm>
        </p:grpSpPr>
        <p:sp>
          <p:nvSpPr>
            <p:cNvPr id="501" name=""/>
            <p:cNvSpPr/>
            <p:nvPr/>
          </p:nvSpPr>
          <p:spPr>
            <a:xfrm>
              <a:off x="6734520" y="2442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15360" y="2509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681960" y="2639520"/>
              <a:ext cx="304560" cy="119160"/>
              <a:chOff x="6681960" y="2639520"/>
              <a:chExt cx="304560" cy="119160"/>
            </a:xfrm>
          </p:grpSpPr>
          <p:sp>
            <p:nvSpPr>
              <p:cNvPr id="504" name=""/>
              <p:cNvSpPr/>
              <p:nvPr/>
            </p:nvSpPr>
            <p:spPr>
              <a:xfrm>
                <a:off x="6681960" y="2756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890760" y="2639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782040" y="2639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6677280" y="2631960"/>
              <a:ext cx="303840" cy="119160"/>
              <a:chOff x="6677280" y="2631960"/>
              <a:chExt cx="303840" cy="119160"/>
            </a:xfrm>
          </p:grpSpPr>
          <p:sp>
            <p:nvSpPr>
              <p:cNvPr id="508" name=""/>
              <p:cNvSpPr/>
              <p:nvPr/>
            </p:nvSpPr>
            <p:spPr>
              <a:xfrm flipV="1">
                <a:off x="6677280" y="2631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5720" y="2751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777360" y="2634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613560" y="2438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037640" y="2438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891480" y="3251160"/>
            <a:ext cx="554040" cy="468360"/>
            <a:chOff x="6891480" y="3251160"/>
            <a:chExt cx="554040" cy="468360"/>
          </a:xfrm>
        </p:grpSpPr>
        <p:sp>
          <p:nvSpPr>
            <p:cNvPr id="514" name=""/>
            <p:cNvSpPr/>
            <p:nvPr/>
          </p:nvSpPr>
          <p:spPr>
            <a:xfrm>
              <a:off x="7012440" y="32558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93280" y="33224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6959880" y="3452400"/>
              <a:ext cx="304560" cy="119160"/>
              <a:chOff x="6959880" y="3452400"/>
              <a:chExt cx="304560" cy="119160"/>
            </a:xfrm>
          </p:grpSpPr>
          <p:sp>
            <p:nvSpPr>
              <p:cNvPr id="517" name=""/>
              <p:cNvSpPr/>
              <p:nvPr/>
            </p:nvSpPr>
            <p:spPr>
              <a:xfrm>
                <a:off x="6959880" y="3569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68680" y="34524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059960" y="34527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955200" y="3444840"/>
              <a:ext cx="303840" cy="119160"/>
              <a:chOff x="6955200" y="3444840"/>
              <a:chExt cx="303840" cy="119160"/>
            </a:xfrm>
          </p:grpSpPr>
          <p:sp>
            <p:nvSpPr>
              <p:cNvPr id="521" name=""/>
              <p:cNvSpPr/>
              <p:nvPr/>
            </p:nvSpPr>
            <p:spPr>
              <a:xfrm flipV="1">
                <a:off x="6955200" y="34448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163640" y="35640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55280" y="34470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6891480" y="32511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560" y="32511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6908760" y="2184480"/>
            <a:ext cx="100080" cy="2426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75360" y="371808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6942240" y="291312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68080" y="18604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7451280" y="2219400"/>
            <a:ext cx="398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240" y="4429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243400" y="4022280"/>
            <a:ext cx="14148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237280" y="436536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95B-9EDE-4C14-8150-9422D3673F0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atagram Journey in IP-over-ATM Network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Source Hos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layer finds mapping between IP, ATM dest address (using AR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datagram to AAL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5 encapsulates data, segments to cells, passes to ATM 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M network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es cell along VC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Destination Hos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5  reassembles cells into original dat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RC OK, datgram is passed t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795320" y="5253120"/>
            <a:ext cx="5429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D8D-7E70-4337-8292-8671424CD2D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P in ATM N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M network needs destination ATM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ust like Ethernet needs destination Ethernet 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/ATM address translation done by ATM ARP (Address Resolution Protoco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P server in ATM network performs broadcast of ATM ARP translation request to all connected ATM dev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ts can register their ATM addresses with server to avoid look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8D0-4669-43F9-B3FD-3B226CBD14E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X.25 and Frame Rela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ke AT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de area network technolog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rtual circuit orien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s in telephony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 used to carry IP data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thus be viewed as Link Layers by IP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311-5104-428A-868A-14F75E80929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X.25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.25 builds VC between source and destination for each user conn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er-hop control along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 control (with retransmissions) on each hop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nt of the HDLC protoco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-hop flow control using cred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estion arising at intermediate node propagates to previous node on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 to source via  back pres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151-A759-4218-B7FF-562B3A6708D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versus X.25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.25: reliable in-sequence end-end delivery from end-to-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lligence in the network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P: unreliable, out-of-sequence end-end deliv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lligence in the endpoint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gabit routers: limited processing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0: IP w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C29-E229-42D1-AB96-B6090BC3FD2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ame Rela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ed in late ‘80s, widely deployed in the ‘90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relay serv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error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d-to-end congestion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425600" y="3230640"/>
            <a:ext cx="640224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81C-60F1-4C9E-BD34-E050F5C9166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ame Relay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81896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igned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conne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porate customer L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permanent VC’s: 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ip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carrying aggregate traffic between two rout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ed VC’s: as in AT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porate custom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lease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 service from public Frame Relay network (eg,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elecom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rint, AT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692360" y="4124160"/>
            <a:ext cx="4890960" cy="21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FF56-138F-49E2-9289-974BD4D58FB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P protoc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1600" y="1442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knows B's IP address, wants to learn physical address of B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oadcas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P query pkt, containing B's IP addr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achines on LAN receive ARP que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receives ARP packet, replies to A with its (B's) physical layer addr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caches (saves) IP-to-physical address pairs until information becomes old (times out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 state: information that times out (goes away) unless refresh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5B52-1930-4DD7-A32E-DE81C2706D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ame Relay -VC Rate Contr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mitted Information Rate (CI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d, “guaranteed” for each V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ed at VC set up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stomer pays based on CI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 bit: Discard Eligibility bi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ge FR switch measures traffic rate for each VC; marks DE 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= 0: high priority, rate compliant frame; deliver at “all cost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= 1: low priority, eligible for discard when cong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C84-E2A3-4A7A-A9FB-0309802B0D8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630440"/>
            <a:ext cx="730728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les behind data link layer servi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 detection, cor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a broadcast channel: 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layer addressing, AR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ous link layer technolo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s, bridges, swit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 802.11 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-22572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.25, Frame R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spcBef>
                <a:spcPts val="700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urney down the protocol stack now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OVER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50A-B68C-4B85-8EC1-BCFEE367333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4040" y="2879640"/>
            <a:ext cx="8209080" cy="3192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to another 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185480"/>
            <a:ext cx="77724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lkthrough: routing from A to B via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routing table at source Host, find router 111.111.111.11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RP table at source, find MAC address E6-E9-00-17-BB-4B, et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911880" y="33084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7800" y="46022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41240" y="48909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89C-42C6-4937-A8F6-258285ED3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60480" y="3970440"/>
            <a:ext cx="6964200" cy="2708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22360" y="280800"/>
            <a:ext cx="777240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reates IP packet with source A, destination 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uses ARP to get R’s physical layer address fo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1.111.111.1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reates Ethernet frame with R's physical address as dest, Ethernet frame contains A-to-B IP dat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’s data link layer sends Ethernet fr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’s data link layer receives Ethernet fr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 removes IP datagram from Ethernet frame, sees its destined t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 uses ARP to get B’s physical layer addres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 creates frame containing A-to-B IP datagram sends t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1237320" y="42814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1880" y="53863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9600" y="5634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A5B-A67B-4141-B68C-C5BB56FBD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cp:lastPrinted>2000-10-23T11:49:35Z</cp:lastPrinted>
  <dcterms:modified xsi:type="dcterms:W3CDTF">2004-06-08T12:57:25Z</dcterms:modified>
  <cp:revision>170</cp:revision>
  <dc:subject/>
  <dc:title>Part I: Introduction</dc:title>
</cp:coreProperties>
</file>