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9AC1-5FEE-4913-8D34-E5BE47B3D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4AA8-F8F6-4FB7-A484-2D4EBA37F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63E7-986C-4835-93F7-BA0EB3175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5388-1124-491E-833E-300B6CADA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024D-2EA9-4C60-A522-22484B7F5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34C7-74A4-4445-A156-0F9A56E2F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8573-44D6-4C9D-B675-2A8CCE0DD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9513-AB02-49CA-9972-D105FAC4D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F358-A3D7-4884-8C8E-1F79E5604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A1E8-1C6E-4206-B4D0-38B0E10F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D833-835F-4D6E-B287-EC912302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FC6C-D0B4-49C5-BB14-16CF3436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6000" y="6400800"/>
            <a:ext cx="7729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work Layer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rose, Ross,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nternet e reti di calcolato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b-</a:t>
            </a:r>
            <a:fld id="{9D6C3B37-5210-44E0-B92A-859AF113CF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The Data Link Layer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581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Our goal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derstand principles behind data link layer service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rror detection, corre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haring a broadcast channel: multiple acces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ink layer address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liable data transfer, flow control: </a:t>
            </a: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done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stantiation and implementation of various link layer technolog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114440" y="1371600"/>
            <a:ext cx="4267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Overview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nk layer servi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rror detection, correc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ultiple access protocols and LA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nk layer addressing, AR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ecific link layer technologie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thern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s, bridges, switch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EEE 802.11 LA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T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D317-BE9B-4692-BA38-A59B511499E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Multiple Access Links and Protocol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36980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ree types of “links”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oint-to-poi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single wire, e.g. PPP, SLIP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roadca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shared wire or medium; e.g, Ethernet, Wavelan, etc.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witch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e.g., switched Ethernet, ATM etc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176480" y="3179880"/>
            <a:ext cx="5800680" cy="19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8EBC-D3C5-4991-A1B7-10BCC0C31DD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Multiple Access protocol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99680" y="1395360"/>
            <a:ext cx="8396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ngle shared communication channel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wo or more simultaneous transmissions by nodes: interferenc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ly one node can send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successfull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t a tim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multiple access protocol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stributed algorithm that determines how stations share channel, i.e., determine when station can transmi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munication about channel sharing must use channel itself!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to look for in multiple access protocols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ynchronous or asynchronou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formation needed about other station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bustness (e.g., to channel errors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formanc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6062-ED9A-4C20-A3D3-4F4FF4B8E3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Multiple Access  Protocol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3520" y="127152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ree broad class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hannel Partition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vide channel into smaller “pieces” (time slots, frequency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ocate piece to node for exclusive u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andom Acc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ow collis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over” from collis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king turns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ghtly coordinate shared access to avoid collis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"/>
          <p:cNvSpPr/>
          <p:nvPr/>
        </p:nvSpPr>
        <p:spPr>
          <a:xfrm>
            <a:off x="444600" y="5684760"/>
            <a:ext cx="79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Goa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fficient, fair, simple, decentraliz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88B1-44E2-4BD2-878E-AA95BA887D2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30040" y="228240"/>
            <a:ext cx="862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Channel Partitioning MAC protocols: TDM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01480" y="1422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DMA: time division multiple acces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cess to channel in "rounds"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station gets fixed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engt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lot (length =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kt trans ti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in each round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used slots go idl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: 6-station LAN, 1,3,4 have pkt, slots 2,5,6 idl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473120" y="4946760"/>
            <a:ext cx="5438880" cy="7239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2075400">
            <a:off x="1977840" y="4505400"/>
            <a:ext cx="723600" cy="352440"/>
          </a:xfrm>
          <a:prstGeom prst="rightArrow">
            <a:avLst>
              <a:gd name="adj1" fmla="val 50000"/>
              <a:gd name="adj2" fmla="val 5132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E4EC-968E-463E-B763-7ECB87C3332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240"/>
            <a:ext cx="862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Channel Partitioning MAC protocols: FDM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1120" y="1369800"/>
            <a:ext cx="8223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FDMA: frequency division multiple acces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annel spectrum divided into frequency ban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station assigned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ixed frequency ba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used transmission time in frequency bands go idl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: 6-station LAN, 1,3,4 have pkt, frequency bands 2,5,6 idl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"/>
          <p:cNvSpPr/>
          <p:nvPr/>
        </p:nvSpPr>
        <p:spPr>
          <a:xfrm>
            <a:off x="3370320" y="4167360"/>
            <a:ext cx="627120" cy="2251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3368520" y="5291280"/>
            <a:ext cx="622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373560" y="5635440"/>
            <a:ext cx="63180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3368520" y="6068520"/>
            <a:ext cx="6271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3363840" y="4905360"/>
            <a:ext cx="63180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3368520" y="4519440"/>
            <a:ext cx="63216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089240" y="4340160"/>
            <a:ext cx="2228760" cy="119160"/>
            <a:chOff x="4089240" y="4340160"/>
            <a:chExt cx="2228760" cy="119160"/>
          </a:xfrm>
        </p:grpSpPr>
        <p:sp>
          <p:nvSpPr>
            <p:cNvPr id="257" name=""/>
            <p:cNvSpPr/>
            <p:nvPr/>
          </p:nvSpPr>
          <p:spPr>
            <a:xfrm>
              <a:off x="4089240" y="4459320"/>
              <a:ext cx="2228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236840" y="4340160"/>
              <a:ext cx="1728720" cy="114120"/>
            </a:xfrm>
            <a:custGeom>
              <a:avLst/>
              <a:gdLst/>
              <a:ahLst/>
              <a:rect l="l" t="t" r="r" b="b"/>
              <a:pathLst>
                <a:path w="1089" h="72">
                  <a:moveTo>
                    <a:pt x="0" y="72"/>
                  </a:moveTo>
                  <a:lnTo>
                    <a:pt x="0" y="3"/>
                  </a:lnTo>
                  <a:lnTo>
                    <a:pt x="1089" y="0"/>
                  </a:lnTo>
                  <a:lnTo>
                    <a:pt x="1089" y="72"/>
                  </a:lnTo>
                </a:path>
              </a:pathLst>
            </a:custGeom>
            <a:solidFill>
              <a:srgbClr val="ffff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4137120" y="4862520"/>
            <a:ext cx="2228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4137120" y="5141880"/>
            <a:ext cx="2228760" cy="119160"/>
            <a:chOff x="4137120" y="5141880"/>
            <a:chExt cx="2228760" cy="119160"/>
          </a:xfrm>
        </p:grpSpPr>
        <p:sp>
          <p:nvSpPr>
            <p:cNvPr id="261" name=""/>
            <p:cNvSpPr/>
            <p:nvPr/>
          </p:nvSpPr>
          <p:spPr>
            <a:xfrm>
              <a:off x="4137120" y="5261040"/>
              <a:ext cx="2228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284720" y="5141880"/>
              <a:ext cx="1728720" cy="114120"/>
            </a:xfrm>
            <a:custGeom>
              <a:avLst/>
              <a:gdLst/>
              <a:ahLst/>
              <a:rect l="l" t="t" r="r" b="b"/>
              <a:pathLst>
                <a:path w="1089" h="72">
                  <a:moveTo>
                    <a:pt x="0" y="72"/>
                  </a:moveTo>
                  <a:lnTo>
                    <a:pt x="0" y="3"/>
                  </a:lnTo>
                  <a:lnTo>
                    <a:pt x="1089" y="0"/>
                  </a:lnTo>
                  <a:lnTo>
                    <a:pt x="1089" y="72"/>
                  </a:lnTo>
                </a:path>
              </a:pathLst>
            </a:custGeom>
            <a:solidFill>
              <a:srgbClr val="ffff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4154400" y="5546880"/>
            <a:ext cx="2228760" cy="118800"/>
            <a:chOff x="4154400" y="5546880"/>
            <a:chExt cx="2228760" cy="118800"/>
          </a:xfrm>
        </p:grpSpPr>
        <p:sp>
          <p:nvSpPr>
            <p:cNvPr id="264" name=""/>
            <p:cNvSpPr/>
            <p:nvPr/>
          </p:nvSpPr>
          <p:spPr>
            <a:xfrm>
              <a:off x="4154400" y="5665680"/>
              <a:ext cx="2228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302000" y="5546880"/>
              <a:ext cx="1728720" cy="113760"/>
            </a:xfrm>
            <a:custGeom>
              <a:avLst/>
              <a:gdLst/>
              <a:ahLst/>
              <a:rect l="l" t="t" r="r" b="b"/>
              <a:pathLst>
                <a:path w="1089" h="72">
                  <a:moveTo>
                    <a:pt x="0" y="72"/>
                  </a:moveTo>
                  <a:lnTo>
                    <a:pt x="0" y="3"/>
                  </a:lnTo>
                  <a:lnTo>
                    <a:pt x="1089" y="0"/>
                  </a:lnTo>
                  <a:lnTo>
                    <a:pt x="1089" y="72"/>
                  </a:lnTo>
                </a:path>
              </a:pathLst>
            </a:custGeom>
            <a:solidFill>
              <a:srgbClr val="ffff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4184640" y="6072120"/>
            <a:ext cx="2228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191120" y="6402240"/>
            <a:ext cx="2228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2114640" y="5033160"/>
            <a:ext cx="198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requency b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rot="67200">
            <a:off x="6071760" y="4012920"/>
            <a:ext cx="6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50EE-BB57-4DAE-A86D-49076735BC6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hannel Partitioning (CDMA)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DMA (Code Division Multiple Access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ique “code” assigned to each user; ie, code set partition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d mostly in wireless broadcast channels (cellular, satellite,etc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 users share same frequency, but each user has own “chipping” sequence (ie, code) to encode da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Comic Sans MS"/>
              </a:rPr>
              <a:t>encoded signal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= (original data) X (chipping sequenc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Comic Sans MS"/>
              </a:rPr>
              <a:t>decoding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nner-product of encoded signal and chipping seque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ows multiple users to “coexist” and transmit simultaneously with minimal interference (if codes are “orthogonal”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1DDF-8360-439E-8CCF-F849FD2D5A5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Random Access protocol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node has packet to se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mit at full channel data rate 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a priori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oordination among nod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wo or more trasnmitting nodes -&gt; “collision”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andom access MAC protoco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pecifies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w to detect collis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w to recover from collisions (e.g., via delayed retransmission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 of random access MAC protocol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lotted ALOH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OH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SMA and CSMA/C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2413-C574-498D-9797-AE2264F6F34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Slotted Aloha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83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me is divided into equal size slots (= pkt trans. tim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de with new arriving pkt: transmit at beginning of next slo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collision: retransmit pkt in future slots with probability p, until successfu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474840" y="3960720"/>
            <a:ext cx="8089560" cy="19544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900440" y="5973840"/>
            <a:ext cx="501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cess (S), Collision (C),  Empty (E) sl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E118-D321-4C40-AFE5-57AFABB820D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Slotted Aloha efficiency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39720" y="168732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what is max fraction slots successful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A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ppose N stations have packets to se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transmits in slot with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b. successful transmission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y single node:    S=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p (1-p)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Comic Sans MS"/>
              </a:rPr>
              <a:t>(N-1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y any of N node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S =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b (only one transmits)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= N p (1-p)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Comic Sans MS"/>
              </a:rPr>
              <a:t>(N-1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16000">
                <a:solidFill>
                  <a:srgbClr val="000000"/>
                </a:solidFill>
                <a:latin typeface="Comic Sans MS"/>
              </a:rPr>
              <a:t>               … </a:t>
            </a:r>
            <a:r>
              <a:rPr b="0" lang="en-US" sz="2800" spc="-1" strike="noStrike" baseline="16000">
                <a:solidFill>
                  <a:srgbClr val="000000"/>
                </a:solidFill>
                <a:latin typeface="Comic Sans MS"/>
              </a:rPr>
              <a:t>choosing optimum p as N -&gt; infty ..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= 1/e = .37 as N -&gt; inf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6299280" y="4700520"/>
            <a:ext cx="2200320" cy="1308240"/>
            <a:chOff x="6299280" y="4700520"/>
            <a:chExt cx="2200320" cy="1308240"/>
          </a:xfrm>
        </p:grpSpPr>
        <p:sp>
          <p:nvSpPr>
            <p:cNvPr id="281" name=""/>
            <p:cNvSpPr/>
            <p:nvPr/>
          </p:nvSpPr>
          <p:spPr>
            <a:xfrm>
              <a:off x="6299280" y="4700520"/>
              <a:ext cx="2146320" cy="1308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308640" y="4751640"/>
              <a:ext cx="2190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0000"/>
                  </a:solidFill>
                  <a:latin typeface="Comic Sans MS"/>
                </a:rPr>
                <a:t>At best: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chann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use for usefu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ransmissions 37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of time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6FD6-9C28-4BF4-A9A7-80D50A868AE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Pure (unslotted) ALOHA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1422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slotted Aloha: simpler, no synchroniz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kt needs transmission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nd without awaiting for beginning of slo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llision probability increas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kt sent at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ollide with other pkts sent in [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,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+1]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1862280" y="3838680"/>
            <a:ext cx="6279840" cy="2543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CE35-E02B-48F2-9BC6-30D0BBF5C3A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Link Layer: setting the context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7394400" cy="37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D3BF-AA35-40E9-A173-7BB202681F8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Pure Aloha (cont.)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71240" y="1328760"/>
            <a:ext cx="8264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(success by given node) = P(node transmits) </a:t>
            </a:r>
            <a:r>
              <a:rPr b="0" lang="en-US" sz="2800" spc="-1" strike="noStrike" baseline="16000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(no other node transmits in [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] </a:t>
            </a:r>
            <a:r>
              <a:rPr b="0" lang="en-US" sz="2800" spc="-1" strike="noStrike" baseline="16000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(no other node transmits in [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1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]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p </a:t>
            </a:r>
            <a:r>
              <a:rPr b="0" lang="en-US" sz="2800" spc="-1" strike="noStrike" baseline="16000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1-p)</a:t>
            </a:r>
            <a:r>
              <a:rPr b="0" lang="en-US" sz="2800" spc="-1" strike="noStrike" baseline="16000">
                <a:solidFill>
                  <a:srgbClr val="000000"/>
                </a:solidFill>
                <a:latin typeface="Comic Sans MS"/>
              </a:rPr>
              <a:t> .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1-p)</a:t>
            </a:r>
            <a:r>
              <a:rPr b="0" lang="en-US" sz="2800" spc="-1" strike="noStrike" baseline="16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(success by any of N nodes) = N p </a:t>
            </a:r>
            <a:r>
              <a:rPr b="0" lang="en-US" sz="2800" spc="-1" strike="noStrike" baseline="16000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1-p)</a:t>
            </a:r>
            <a:r>
              <a:rPr b="0" lang="en-US" sz="2800" spc="-1" strike="noStrike" baseline="16000">
                <a:solidFill>
                  <a:srgbClr val="000000"/>
                </a:solidFill>
                <a:latin typeface="Comic Sans MS"/>
              </a:rPr>
              <a:t> .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1-p)</a:t>
            </a:r>
            <a:r>
              <a:rPr b="0" lang="en-US" sz="2800" spc="-1" strike="noStrike" baseline="16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16000">
                <a:solidFill>
                  <a:srgbClr val="000000"/>
                </a:solidFill>
                <a:latin typeface="Comic Sans MS"/>
              </a:rPr>
              <a:t>                                                    … </a:t>
            </a:r>
            <a:r>
              <a:rPr b="0" lang="en-US" sz="2800" spc="-1" strike="noStrike" baseline="16000">
                <a:solidFill>
                  <a:srgbClr val="000000"/>
                </a:solidFill>
                <a:latin typeface="Comic Sans MS"/>
              </a:rPr>
              <a:t>choosing optimum p as n -&gt; infty ..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16000">
                <a:solidFill>
                  <a:srgbClr val="000000"/>
                </a:solidFill>
                <a:latin typeface="Comic Sans MS"/>
              </a:rPr>
              <a:t>                                                  </a:t>
            </a:r>
            <a:r>
              <a:rPr b="0" lang="en-US" sz="2800" spc="-1" strike="noStrike" baseline="16000">
                <a:solidFill>
                  <a:srgbClr val="000000"/>
                </a:solidFill>
                <a:latin typeface="Comic Sans MS"/>
              </a:rPr>
              <a:t>= 1/(2e) = .18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"/>
          <p:cNvSpPr/>
          <p:nvPr/>
        </p:nvSpPr>
        <p:spPr>
          <a:xfrm rot="16208400">
            <a:off x="-685080" y="4466520"/>
            <a:ext cx="297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 = throughput = “goodput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success rat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1006920" y="3710160"/>
            <a:ext cx="5087160" cy="2834280"/>
            <a:chOff x="1006920" y="3710160"/>
            <a:chExt cx="5087160" cy="2834280"/>
          </a:xfrm>
        </p:grpSpPr>
        <p:sp>
          <p:nvSpPr>
            <p:cNvPr id="290" name=""/>
            <p:cNvSpPr/>
            <p:nvPr/>
          </p:nvSpPr>
          <p:spPr>
            <a:xfrm>
              <a:off x="1465200" y="5977080"/>
              <a:ext cx="4270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460520" y="3710160"/>
              <a:ext cx="0" cy="2263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155680" y="5915160"/>
              <a:ext cx="0" cy="13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878200" y="5911920"/>
              <a:ext cx="0" cy="13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81280" y="5904000"/>
              <a:ext cx="0" cy="13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276800" y="5908680"/>
              <a:ext cx="0" cy="13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684760" y="5905440"/>
              <a:ext cx="0" cy="1368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392120" y="4056120"/>
              <a:ext cx="146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386000" y="4552920"/>
              <a:ext cx="14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393920" y="5040360"/>
              <a:ext cx="14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397160" y="5492880"/>
              <a:ext cx="14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454040" y="5087880"/>
              <a:ext cx="4275360" cy="879480"/>
            </a:xfrm>
            <a:custGeom>
              <a:avLst/>
              <a:gdLst/>
              <a:ahLst/>
              <a:rect l="l" t="t" r="r" b="b"/>
              <a:pathLst>
                <a:path w="2693" h="554">
                  <a:moveTo>
                    <a:pt x="0" y="554"/>
                  </a:moveTo>
                  <a:cubicBezTo>
                    <a:pt x="48" y="437"/>
                    <a:pt x="96" y="320"/>
                    <a:pt x="145" y="238"/>
                  </a:cubicBezTo>
                  <a:cubicBezTo>
                    <a:pt x="194" y="156"/>
                    <a:pt x="254" y="98"/>
                    <a:pt x="297" y="60"/>
                  </a:cubicBezTo>
                  <a:cubicBezTo>
                    <a:pt x="340" y="22"/>
                    <a:pt x="369" y="20"/>
                    <a:pt x="404" y="11"/>
                  </a:cubicBezTo>
                  <a:cubicBezTo>
                    <a:pt x="439" y="2"/>
                    <a:pt x="463" y="0"/>
                    <a:pt x="508" y="7"/>
                  </a:cubicBezTo>
                  <a:cubicBezTo>
                    <a:pt x="553" y="14"/>
                    <a:pt x="607" y="29"/>
                    <a:pt x="673" y="53"/>
                  </a:cubicBezTo>
                  <a:cubicBezTo>
                    <a:pt x="739" y="77"/>
                    <a:pt x="821" y="116"/>
                    <a:pt x="904" y="152"/>
                  </a:cubicBezTo>
                  <a:cubicBezTo>
                    <a:pt x="987" y="188"/>
                    <a:pt x="1085" y="232"/>
                    <a:pt x="1174" y="271"/>
                  </a:cubicBezTo>
                  <a:cubicBezTo>
                    <a:pt x="1263" y="310"/>
                    <a:pt x="1349" y="355"/>
                    <a:pt x="1438" y="389"/>
                  </a:cubicBezTo>
                  <a:cubicBezTo>
                    <a:pt x="1527" y="423"/>
                    <a:pt x="1619" y="453"/>
                    <a:pt x="1708" y="475"/>
                  </a:cubicBezTo>
                  <a:cubicBezTo>
                    <a:pt x="1797" y="497"/>
                    <a:pt x="1878" y="512"/>
                    <a:pt x="1972" y="521"/>
                  </a:cubicBezTo>
                  <a:cubicBezTo>
                    <a:pt x="2066" y="530"/>
                    <a:pt x="2182" y="527"/>
                    <a:pt x="2275" y="528"/>
                  </a:cubicBezTo>
                  <a:cubicBezTo>
                    <a:pt x="2368" y="529"/>
                    <a:pt x="2462" y="528"/>
                    <a:pt x="2532" y="528"/>
                  </a:cubicBezTo>
                  <a:cubicBezTo>
                    <a:pt x="2602" y="528"/>
                    <a:pt x="2660" y="527"/>
                    <a:pt x="2693" y="527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465200" y="4226040"/>
              <a:ext cx="4280040" cy="1752480"/>
            </a:xfrm>
            <a:custGeom>
              <a:avLst/>
              <a:gdLst/>
              <a:ahLst/>
              <a:rect l="l" t="t" r="r" b="b"/>
              <a:pathLst>
                <a:path w="2696" h="1104">
                  <a:moveTo>
                    <a:pt x="0" y="1104"/>
                  </a:moveTo>
                  <a:cubicBezTo>
                    <a:pt x="37" y="964"/>
                    <a:pt x="80" y="816"/>
                    <a:pt x="125" y="702"/>
                  </a:cubicBezTo>
                  <a:cubicBezTo>
                    <a:pt x="170" y="588"/>
                    <a:pt x="221" y="496"/>
                    <a:pt x="268" y="419"/>
                  </a:cubicBezTo>
                  <a:cubicBezTo>
                    <a:pt x="315" y="342"/>
                    <a:pt x="360" y="290"/>
                    <a:pt x="406" y="239"/>
                  </a:cubicBezTo>
                  <a:cubicBezTo>
                    <a:pt x="452" y="188"/>
                    <a:pt x="495" y="146"/>
                    <a:pt x="547" y="110"/>
                  </a:cubicBezTo>
                  <a:cubicBezTo>
                    <a:pt x="599" y="74"/>
                    <a:pt x="664" y="40"/>
                    <a:pt x="719" y="22"/>
                  </a:cubicBezTo>
                  <a:cubicBezTo>
                    <a:pt x="774" y="4"/>
                    <a:pt x="826" y="4"/>
                    <a:pt x="877" y="2"/>
                  </a:cubicBezTo>
                  <a:cubicBezTo>
                    <a:pt x="928" y="0"/>
                    <a:pt x="976" y="2"/>
                    <a:pt x="1027" y="11"/>
                  </a:cubicBezTo>
                  <a:cubicBezTo>
                    <a:pt x="1078" y="20"/>
                    <a:pt x="1129" y="42"/>
                    <a:pt x="1183" y="59"/>
                  </a:cubicBezTo>
                  <a:cubicBezTo>
                    <a:pt x="1237" y="76"/>
                    <a:pt x="1283" y="87"/>
                    <a:pt x="1351" y="115"/>
                  </a:cubicBezTo>
                  <a:cubicBezTo>
                    <a:pt x="1419" y="143"/>
                    <a:pt x="1509" y="189"/>
                    <a:pt x="1589" y="227"/>
                  </a:cubicBezTo>
                  <a:cubicBezTo>
                    <a:pt x="1669" y="265"/>
                    <a:pt x="1754" y="306"/>
                    <a:pt x="1833" y="345"/>
                  </a:cubicBezTo>
                  <a:cubicBezTo>
                    <a:pt x="1912" y="384"/>
                    <a:pt x="1987" y="427"/>
                    <a:pt x="2064" y="464"/>
                  </a:cubicBezTo>
                  <a:cubicBezTo>
                    <a:pt x="2141" y="501"/>
                    <a:pt x="2216" y="536"/>
                    <a:pt x="2294" y="570"/>
                  </a:cubicBezTo>
                  <a:cubicBezTo>
                    <a:pt x="2372" y="604"/>
                    <a:pt x="2465" y="646"/>
                    <a:pt x="2532" y="669"/>
                  </a:cubicBezTo>
                  <a:cubicBezTo>
                    <a:pt x="2599" y="692"/>
                    <a:pt x="2647" y="700"/>
                    <a:pt x="2696" y="70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1465200" y="5108760"/>
              <a:ext cx="690480" cy="1080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139840" y="5103720"/>
              <a:ext cx="11160" cy="8794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867040" y="4281480"/>
              <a:ext cx="11160" cy="16858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1490760" y="4214520"/>
              <a:ext cx="1371600" cy="2844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250000" y="6207120"/>
              <a:ext cx="221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G = offered load = N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960920" y="60073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56440" y="60073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366000" y="59929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070880" y="60022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026000" y="53323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032120" y="48657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006920" y="4421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013040" y="391500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204440" y="5523120"/>
              <a:ext cx="1221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Pure Aloh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646880" y="4670640"/>
              <a:ext cx="144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Slotted Aloh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6435720" y="4460760"/>
            <a:ext cx="2462040" cy="1005120"/>
            <a:chOff x="6435720" y="4460760"/>
            <a:chExt cx="2462040" cy="1005120"/>
          </a:xfrm>
        </p:grpSpPr>
        <p:sp>
          <p:nvSpPr>
            <p:cNvPr id="319" name=""/>
            <p:cNvSpPr/>
            <p:nvPr/>
          </p:nvSpPr>
          <p:spPr>
            <a:xfrm>
              <a:off x="6435720" y="4460760"/>
              <a:ext cx="2462040" cy="1005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568200" y="4508280"/>
              <a:ext cx="2203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0000"/>
                  </a:solidFill>
                  <a:latin typeface="Comic Sans MS"/>
                </a:rPr>
                <a:t>protocol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constrai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ffective chann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hroughput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BF95-02FF-47BD-978C-9A14013F468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33000" y="228240"/>
            <a:ext cx="846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CSMA: Carrier Sense Multiple Acces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3160" y="1789200"/>
            <a:ext cx="8296200" cy="32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CSMA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listen before transmit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channel sensed idle: transmit entire pk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channel sensed busy, defer transmission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ersistent CSMA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try immediately with probability p when channel becomes idle (may cause instability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on-persistent CSMA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try after random interv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uman analogy: don’t interrupt others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2197-7644-46CE-BD4A-96F37366500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SMA collision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4443480" y="1322280"/>
            <a:ext cx="4287600" cy="505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573120" y="1536840"/>
            <a:ext cx="310032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llisions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can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occu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pagation delay mea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wo nodes may not h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ch other’s trans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87520" y="3559320"/>
            <a:ext cx="34988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ll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tire packet transmiss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me was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759200" y="874800"/>
            <a:ext cx="411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patial layout of nodes along eth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3360" y="4853160"/>
            <a:ext cx="34988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le of distance and propagation delay in determining collision pro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A47D-5A1A-4B94-915F-B6150CBDE88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SMA/CD (Collision Detection)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22000" y="1433520"/>
            <a:ext cx="8264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SMA/CD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arrier sensing, deferral as in CSM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llisions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detect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ithin short ti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lliding transmissions aborted, reducing channel wastag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sistent or non-persistent retransmiss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llision detection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sy in wired LANs: measure signal strengths, compare transmitted, received signa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fficult in wireless LANs: receiver shut off while transmitt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uman analogy: the polite conversationalist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4F3A-CA22-401E-B8D4-65B3F5C0FC6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SMA/CD collision detectio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855800" y="1531800"/>
            <a:ext cx="4433760" cy="387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AE3E-D036-4F36-8802-2D55AD33B79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“</a:t>
            </a: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Taking Turns” MAC protocol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hannel partitioning MAC protocol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are channel efficiently at high loa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efficient at low load: delay in channel access, 1/N bandwidth allocated even if only 1 active node!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andom access MAC protoc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fficient at low load: single node can fully utilize chann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igh load: collision overhea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aking turns” protoc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ok for best of both worlds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B822-5E86-4EE9-9F93-1976C33C297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“</a:t>
            </a: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Taking Turns” MAC protocol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90120" y="1485720"/>
            <a:ext cx="3460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olling: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ster node “invites” slave nodes to transmit in tur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quest to Send, Clear to Send msg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cern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lling overhead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atenc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ngle point of failure (master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"/>
          <p:cNvSpPr/>
          <p:nvPr/>
        </p:nvSpPr>
        <p:spPr>
          <a:xfrm>
            <a:off x="4200480" y="1376280"/>
            <a:ext cx="46116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oken pass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rol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oke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ssed from one node to next sequential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ken 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cer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ken overhea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at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ngle point of failure (tok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3686040" y="5002200"/>
            <a:ext cx="2808360" cy="172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0271-BF9F-4712-8FF2-152D378E450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Reservation-based protocol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120" y="1390680"/>
            <a:ext cx="7983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istributed Polling: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me divided into slo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gins with N short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reservation slot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servation slot time equal to channel end-end propagation delay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tion with message to send posts reserv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servation seen by all station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fter reservation slots, message transmissions ordered by known priorit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1749600" y="4743360"/>
            <a:ext cx="5530680" cy="1596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041D-7C1A-45B5-BF27-7A1EFEFA083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Summary of MAC protocol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do you do with a shared media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annel Partitioning, by time, frequency or co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me Division,Code Division, Frequency Divis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ndom partitioning (dynamic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OHA, S-ALOHA, CSMA, CSMA/C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rrier sensing: easy in some technoligies (wire), hard in others (wireles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SMA/CD used in Ether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king Tur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lling from a central cite, token pass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FCCD-1B0E-4B00-8347-598553406B6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4612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Link Layer: setting the context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79320" y="14079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wo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physically connect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evic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st-router, router-router, host-hos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it of data: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2053080" y="3635280"/>
            <a:ext cx="1776600" cy="2022840"/>
            <a:chOff x="2053080" y="3635280"/>
            <a:chExt cx="1776600" cy="2022840"/>
          </a:xfrm>
        </p:grpSpPr>
        <p:grpSp>
          <p:nvGrpSpPr>
            <p:cNvPr id="49" name=""/>
            <p:cNvGrpSpPr/>
            <p:nvPr/>
          </p:nvGrpSpPr>
          <p:grpSpPr>
            <a:xfrm>
              <a:off x="2097000" y="3635280"/>
              <a:ext cx="1732680" cy="2009520"/>
              <a:chOff x="2097000" y="3635280"/>
              <a:chExt cx="1732680" cy="2009520"/>
            </a:xfrm>
          </p:grpSpPr>
          <p:sp>
            <p:nvSpPr>
              <p:cNvPr id="50" name=""/>
              <p:cNvSpPr/>
              <p:nvPr/>
            </p:nvSpPr>
            <p:spPr>
              <a:xfrm>
                <a:off x="2171160" y="3635280"/>
                <a:ext cx="1658520" cy="19263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109240" y="3718440"/>
                <a:ext cx="1658520" cy="19263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flipV="1">
                <a:off x="2103120" y="4147200"/>
                <a:ext cx="1639800" cy="6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V="1">
                <a:off x="2127960" y="4530960"/>
                <a:ext cx="1639800" cy="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flipV="1">
                <a:off x="2127960" y="4876560"/>
                <a:ext cx="1639800" cy="6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V="1">
                <a:off x="2097000" y="5254560"/>
                <a:ext cx="1639800" cy="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2053080" y="3735360"/>
              <a:ext cx="17640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rans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lin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5510160" y="4405320"/>
            <a:ext cx="1658880" cy="1138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48240" y="4511520"/>
            <a:ext cx="1658880" cy="111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467320" y="4857480"/>
            <a:ext cx="1639800" cy="6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435640" y="5235480"/>
            <a:ext cx="1639800" cy="6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23200" y="3693960"/>
            <a:ext cx="136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69720" y="3770280"/>
            <a:ext cx="1668600" cy="1553040"/>
            <a:chOff x="369720" y="3770280"/>
            <a:chExt cx="1668600" cy="1553040"/>
          </a:xfrm>
        </p:grpSpPr>
        <p:sp>
          <p:nvSpPr>
            <p:cNvPr id="63" name=""/>
            <p:cNvSpPr/>
            <p:nvPr/>
          </p:nvSpPr>
          <p:spPr>
            <a:xfrm>
              <a:off x="1420560" y="3770280"/>
              <a:ext cx="600120" cy="314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420560" y="4179600"/>
              <a:ext cx="600120" cy="314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438200" y="4564080"/>
              <a:ext cx="600120" cy="314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438200" y="4944960"/>
              <a:ext cx="600120" cy="314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1009440" y="4151160"/>
              <a:ext cx="487440" cy="407160"/>
              <a:chOff x="1009440" y="4151160"/>
              <a:chExt cx="487440" cy="407160"/>
            </a:xfrm>
          </p:grpSpPr>
          <p:sp>
            <p:nvSpPr>
              <p:cNvPr id="68" name=""/>
              <p:cNvSpPr/>
              <p:nvPr/>
            </p:nvSpPr>
            <p:spPr>
              <a:xfrm>
                <a:off x="1085760" y="4179960"/>
                <a:ext cx="330120" cy="314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009440" y="4151160"/>
                <a:ext cx="312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199880" y="4221000"/>
                <a:ext cx="297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1030320" y="4535280"/>
              <a:ext cx="486720" cy="407160"/>
              <a:chOff x="1030320" y="4535280"/>
              <a:chExt cx="486720" cy="407160"/>
            </a:xfrm>
          </p:grpSpPr>
          <p:sp>
            <p:nvSpPr>
              <p:cNvPr id="72" name=""/>
              <p:cNvSpPr/>
              <p:nvPr/>
            </p:nvSpPr>
            <p:spPr>
              <a:xfrm>
                <a:off x="1106280" y="4564080"/>
                <a:ext cx="329760" cy="314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030320" y="4535280"/>
                <a:ext cx="312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220400" y="46051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703080" y="4535280"/>
              <a:ext cx="487440" cy="407160"/>
              <a:chOff x="703080" y="4535280"/>
              <a:chExt cx="487440" cy="407160"/>
            </a:xfrm>
          </p:grpSpPr>
          <p:sp>
            <p:nvSpPr>
              <p:cNvPr id="76" name=""/>
              <p:cNvSpPr/>
              <p:nvPr/>
            </p:nvSpPr>
            <p:spPr>
              <a:xfrm>
                <a:off x="779400" y="4564080"/>
                <a:ext cx="330120" cy="314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03080" y="4535280"/>
                <a:ext cx="312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93520" y="4605120"/>
                <a:ext cx="297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703080" y="4914720"/>
              <a:ext cx="813960" cy="407160"/>
              <a:chOff x="703080" y="4914720"/>
              <a:chExt cx="813960" cy="407160"/>
            </a:xfrm>
          </p:grpSpPr>
          <p:grpSp>
            <p:nvGrpSpPr>
              <p:cNvPr id="80" name=""/>
              <p:cNvGrpSpPr/>
              <p:nvPr/>
            </p:nvGrpSpPr>
            <p:grpSpPr>
              <a:xfrm>
                <a:off x="1030320" y="4914720"/>
                <a:ext cx="486720" cy="407160"/>
                <a:chOff x="1030320" y="4914720"/>
                <a:chExt cx="486720" cy="40716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1106280" y="4943520"/>
                  <a:ext cx="329760" cy="314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1030320" y="4914720"/>
                  <a:ext cx="312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1220400" y="49845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703080" y="4914720"/>
                <a:ext cx="487440" cy="407160"/>
                <a:chOff x="703080" y="4914720"/>
                <a:chExt cx="487440" cy="40716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779400" y="4943520"/>
                  <a:ext cx="330120" cy="314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703080" y="4914720"/>
                  <a:ext cx="312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893520" y="4984560"/>
                  <a:ext cx="297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8" name=""/>
            <p:cNvGrpSpPr/>
            <p:nvPr/>
          </p:nvGrpSpPr>
          <p:grpSpPr>
            <a:xfrm>
              <a:off x="369720" y="4916160"/>
              <a:ext cx="487440" cy="407160"/>
              <a:chOff x="369720" y="4916160"/>
              <a:chExt cx="487440" cy="407160"/>
            </a:xfrm>
          </p:grpSpPr>
          <p:sp>
            <p:nvSpPr>
              <p:cNvPr id="89" name=""/>
              <p:cNvSpPr/>
              <p:nvPr/>
            </p:nvSpPr>
            <p:spPr>
              <a:xfrm>
                <a:off x="446040" y="4944960"/>
                <a:ext cx="330120" cy="314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69720" y="4916160"/>
                <a:ext cx="312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60160" y="4986000"/>
                <a:ext cx="297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2" name=""/>
          <p:cNvSpPr/>
          <p:nvPr/>
        </p:nvSpPr>
        <p:spPr>
          <a:xfrm>
            <a:off x="8288280" y="4888080"/>
            <a:ext cx="600120" cy="314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7553160" y="4857840"/>
            <a:ext cx="813960" cy="407160"/>
            <a:chOff x="7553160" y="4857840"/>
            <a:chExt cx="813960" cy="407160"/>
          </a:xfrm>
        </p:grpSpPr>
        <p:grpSp>
          <p:nvGrpSpPr>
            <p:cNvPr id="94" name=""/>
            <p:cNvGrpSpPr/>
            <p:nvPr/>
          </p:nvGrpSpPr>
          <p:grpSpPr>
            <a:xfrm>
              <a:off x="7880400" y="4857840"/>
              <a:ext cx="486720" cy="407160"/>
              <a:chOff x="7880400" y="4857840"/>
              <a:chExt cx="486720" cy="407160"/>
            </a:xfrm>
          </p:grpSpPr>
          <p:sp>
            <p:nvSpPr>
              <p:cNvPr id="95" name=""/>
              <p:cNvSpPr/>
              <p:nvPr/>
            </p:nvSpPr>
            <p:spPr>
              <a:xfrm>
                <a:off x="7956360" y="4886640"/>
                <a:ext cx="329760" cy="314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880400" y="4857840"/>
                <a:ext cx="312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070480" y="49276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7553160" y="4857840"/>
              <a:ext cx="487440" cy="407160"/>
              <a:chOff x="7553160" y="4857840"/>
              <a:chExt cx="487440" cy="407160"/>
            </a:xfrm>
          </p:grpSpPr>
          <p:sp>
            <p:nvSpPr>
              <p:cNvPr id="99" name=""/>
              <p:cNvSpPr/>
              <p:nvPr/>
            </p:nvSpPr>
            <p:spPr>
              <a:xfrm>
                <a:off x="7629480" y="4886640"/>
                <a:ext cx="330120" cy="314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553160" y="4857840"/>
                <a:ext cx="312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743600" y="4927680"/>
                <a:ext cx="297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219800" y="4859280"/>
            <a:ext cx="487440" cy="407160"/>
            <a:chOff x="7219800" y="4859280"/>
            <a:chExt cx="487440" cy="407160"/>
          </a:xfrm>
        </p:grpSpPr>
        <p:sp>
          <p:nvSpPr>
            <p:cNvPr id="103" name=""/>
            <p:cNvSpPr/>
            <p:nvPr/>
          </p:nvSpPr>
          <p:spPr>
            <a:xfrm>
              <a:off x="7296120" y="4888080"/>
              <a:ext cx="330120" cy="314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219800" y="4859280"/>
              <a:ext cx="31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10240" y="4929120"/>
              <a:ext cx="297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7655400" y="5281560"/>
            <a:ext cx="89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60920" y="5429160"/>
            <a:ext cx="1654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911320" y="3013200"/>
            <a:ext cx="460440" cy="382320"/>
          </a:xfrm>
          <a:prstGeom prst="rect">
            <a:avLst/>
          </a:prstGeom>
          <a:ln w="0">
            <a:noFill/>
          </a:ln>
        </p:spPr>
      </p:pic>
      <p:grpSp>
        <p:nvGrpSpPr>
          <p:cNvPr id="109" name=""/>
          <p:cNvGrpSpPr/>
          <p:nvPr/>
        </p:nvGrpSpPr>
        <p:grpSpPr>
          <a:xfrm>
            <a:off x="4816440" y="3110040"/>
            <a:ext cx="554040" cy="279000"/>
            <a:chOff x="4816440" y="3110040"/>
            <a:chExt cx="554040" cy="279000"/>
          </a:xfrm>
        </p:grpSpPr>
        <p:sp>
          <p:nvSpPr>
            <p:cNvPr id="110" name=""/>
            <p:cNvSpPr/>
            <p:nvPr/>
          </p:nvSpPr>
          <p:spPr>
            <a:xfrm>
              <a:off x="4820760" y="3234600"/>
              <a:ext cx="549360" cy="1544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20760" y="322128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70480" y="322128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820760" y="3221280"/>
              <a:ext cx="544320" cy="94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16440" y="3110040"/>
              <a:ext cx="549000" cy="1803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4948560" y="3149640"/>
              <a:ext cx="271800" cy="105120"/>
              <a:chOff x="4948560" y="3149640"/>
              <a:chExt cx="271800" cy="105120"/>
            </a:xfrm>
          </p:grpSpPr>
          <p:sp>
            <p:nvSpPr>
              <p:cNvPr id="116" name=""/>
              <p:cNvSpPr/>
              <p:nvPr/>
            </p:nvSpPr>
            <p:spPr>
              <a:xfrm flipV="1">
                <a:off x="4948560" y="3149640"/>
                <a:ext cx="968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135040" y="325476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037840" y="3151800"/>
                <a:ext cx="10080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4948560" y="3148200"/>
              <a:ext cx="271800" cy="105120"/>
              <a:chOff x="4948560" y="3148200"/>
              <a:chExt cx="271800" cy="105120"/>
            </a:xfrm>
          </p:grpSpPr>
          <p:sp>
            <p:nvSpPr>
              <p:cNvPr id="120" name=""/>
              <p:cNvSpPr/>
              <p:nvPr/>
            </p:nvSpPr>
            <p:spPr>
              <a:xfrm>
                <a:off x="4948560" y="3251160"/>
                <a:ext cx="968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135040" y="314820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V="1">
                <a:off x="5037840" y="3148200"/>
                <a:ext cx="10080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" name=""/>
          <p:cNvSpPr/>
          <p:nvPr/>
        </p:nvSpPr>
        <p:spPr>
          <a:xfrm>
            <a:off x="3314880" y="3263760"/>
            <a:ext cx="1501560" cy="7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668760" y="4873680"/>
            <a:ext cx="407880" cy="743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632040" y="4898880"/>
            <a:ext cx="408240" cy="743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51600" y="4867200"/>
            <a:ext cx="407880" cy="743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67440" y="4903920"/>
            <a:ext cx="407880" cy="7426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21280" y="5429160"/>
            <a:ext cx="107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hys. 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672000" y="5091120"/>
            <a:ext cx="186372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08320" y="4524480"/>
            <a:ext cx="99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data 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protoc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3839760" y="5716440"/>
            <a:ext cx="336600" cy="4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42720" y="6146640"/>
            <a:ext cx="140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adapter c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4965840" y="5711400"/>
            <a:ext cx="417240" cy="49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7038-7421-4527-9381-9DA75789CD5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Link Layer Service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84200" y="141912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raming, link acces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capsulate datagram into frame, adding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header, trail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mplement channel access if shared medium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US" sz="2000" spc="-1" strike="noStrike">
                <a:solidFill>
                  <a:srgbClr val="00cc66"/>
                </a:solidFill>
                <a:latin typeface="Comic Sans MS"/>
              </a:rPr>
              <a:t>physical address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’ used in frame headers to identify source, dest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cc66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cc66"/>
                </a:solidFill>
                <a:uFillTx/>
                <a:latin typeface="Comic Sans MS"/>
              </a:rPr>
              <a:t>differ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rom IP address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eliable delivery between two physically connected device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 learned how to do this already 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ldom used on low bit error link (fiber, some twisted pair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ireless links: high error rat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75EB-B9FD-43C5-A132-39151D5E49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Link Layer Services (more)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low Contro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cing between sender and receiv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Error Detection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rrors caused by signal </a:t>
            </a:r>
            <a:r>
              <a:rPr b="0" lang="en-US" sz="2400" spc="-1" strike="noStrike">
                <a:solidFill>
                  <a:srgbClr val="00cc66"/>
                </a:solidFill>
                <a:latin typeface="Comic Sans MS"/>
              </a:rPr>
              <a:t>attenua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cc66"/>
                </a:solidFill>
                <a:latin typeface="Comic Sans MS"/>
              </a:rPr>
              <a:t>noi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eiver detects presence of errors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nder signals for retransmission or drops fram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 Correction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eiver identifies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and correc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it error(s) without resorting to retransmiss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D6D0-F94A-4A77-9BD9-57F2523619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Link Layer: Implementation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26972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mplemented in “</a:t>
            </a:r>
            <a:r>
              <a:rPr b="0" lang="en-US" sz="2800" spc="-1" strike="noStrike">
                <a:solidFill>
                  <a:srgbClr val="00cc66"/>
                </a:solidFill>
                <a:latin typeface="Comic Sans MS"/>
              </a:rPr>
              <a:t>adapt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.g., PCMCIA card, Ethernet card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ypically includes: RAM, chips, host bus interface, and link interf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012040" y="3770280"/>
            <a:ext cx="1776600" cy="2022840"/>
            <a:chOff x="2012040" y="3770280"/>
            <a:chExt cx="1776600" cy="2022840"/>
          </a:xfrm>
        </p:grpSpPr>
        <p:grpSp>
          <p:nvGrpSpPr>
            <p:cNvPr id="141" name=""/>
            <p:cNvGrpSpPr/>
            <p:nvPr/>
          </p:nvGrpSpPr>
          <p:grpSpPr>
            <a:xfrm>
              <a:off x="2055960" y="3770280"/>
              <a:ext cx="1732680" cy="2009520"/>
              <a:chOff x="2055960" y="3770280"/>
              <a:chExt cx="1732680" cy="2009520"/>
            </a:xfrm>
          </p:grpSpPr>
          <p:sp>
            <p:nvSpPr>
              <p:cNvPr id="142" name=""/>
              <p:cNvSpPr/>
              <p:nvPr/>
            </p:nvSpPr>
            <p:spPr>
              <a:xfrm>
                <a:off x="2130120" y="3770280"/>
                <a:ext cx="1658520" cy="19263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068200" y="3853440"/>
                <a:ext cx="1658520" cy="19263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V="1">
                <a:off x="2062080" y="4282200"/>
                <a:ext cx="1639800" cy="6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V="1">
                <a:off x="2086920" y="4665960"/>
                <a:ext cx="1639800" cy="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V="1">
                <a:off x="2086920" y="5011560"/>
                <a:ext cx="1639800" cy="6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V="1">
                <a:off x="2055960" y="5389560"/>
                <a:ext cx="1639800" cy="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2012040" y="3870360"/>
              <a:ext cx="17640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rans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etw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lin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hysic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5468760" y="4540320"/>
            <a:ext cx="1659240" cy="1138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07200" y="4646520"/>
            <a:ext cx="1658880" cy="111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425920" y="4992480"/>
            <a:ext cx="1640160" cy="6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394240" y="5370480"/>
            <a:ext cx="1639800" cy="6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582160" y="3828960"/>
            <a:ext cx="136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28680" y="3905280"/>
            <a:ext cx="1667880" cy="1553040"/>
            <a:chOff x="328680" y="3905280"/>
            <a:chExt cx="1667880" cy="1553040"/>
          </a:xfrm>
        </p:grpSpPr>
        <p:sp>
          <p:nvSpPr>
            <p:cNvPr id="155" name=""/>
            <p:cNvSpPr/>
            <p:nvPr/>
          </p:nvSpPr>
          <p:spPr>
            <a:xfrm>
              <a:off x="1379160" y="3905280"/>
              <a:ext cx="599760" cy="314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379160" y="4314600"/>
              <a:ext cx="599760" cy="314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396800" y="4699080"/>
              <a:ext cx="599760" cy="314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396800" y="5079960"/>
              <a:ext cx="599760" cy="314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968040" y="4286160"/>
              <a:ext cx="486720" cy="407160"/>
              <a:chOff x="968040" y="4286160"/>
              <a:chExt cx="486720" cy="407160"/>
            </a:xfrm>
          </p:grpSpPr>
          <p:sp>
            <p:nvSpPr>
              <p:cNvPr id="160" name=""/>
              <p:cNvSpPr/>
              <p:nvPr/>
            </p:nvSpPr>
            <p:spPr>
              <a:xfrm>
                <a:off x="1044000" y="4314960"/>
                <a:ext cx="329760" cy="314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968040" y="4286160"/>
                <a:ext cx="312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158120" y="43560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988920" y="4670280"/>
              <a:ext cx="486360" cy="407160"/>
              <a:chOff x="988920" y="4670280"/>
              <a:chExt cx="486360" cy="407160"/>
            </a:xfrm>
          </p:grpSpPr>
          <p:sp>
            <p:nvSpPr>
              <p:cNvPr id="164" name=""/>
              <p:cNvSpPr/>
              <p:nvPr/>
            </p:nvSpPr>
            <p:spPr>
              <a:xfrm>
                <a:off x="1064880" y="4699080"/>
                <a:ext cx="329400" cy="314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988920" y="4670280"/>
                <a:ext cx="312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179000" y="4740120"/>
                <a:ext cx="296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661680" y="4670280"/>
              <a:ext cx="486720" cy="407160"/>
              <a:chOff x="661680" y="4670280"/>
              <a:chExt cx="486720" cy="407160"/>
            </a:xfrm>
          </p:grpSpPr>
          <p:sp>
            <p:nvSpPr>
              <p:cNvPr id="168" name=""/>
              <p:cNvSpPr/>
              <p:nvPr/>
            </p:nvSpPr>
            <p:spPr>
              <a:xfrm>
                <a:off x="737640" y="4699080"/>
                <a:ext cx="329760" cy="314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61680" y="4670280"/>
                <a:ext cx="312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1760" y="47401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661680" y="5049720"/>
              <a:ext cx="813240" cy="407160"/>
              <a:chOff x="661680" y="5049720"/>
              <a:chExt cx="813240" cy="407160"/>
            </a:xfrm>
          </p:grpSpPr>
          <p:grpSp>
            <p:nvGrpSpPr>
              <p:cNvPr id="172" name=""/>
              <p:cNvGrpSpPr/>
              <p:nvPr/>
            </p:nvGrpSpPr>
            <p:grpSpPr>
              <a:xfrm>
                <a:off x="988560" y="5049720"/>
                <a:ext cx="486360" cy="407160"/>
                <a:chOff x="988560" y="5049720"/>
                <a:chExt cx="486360" cy="407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1064520" y="5078520"/>
                  <a:ext cx="329400" cy="314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988560" y="5049720"/>
                  <a:ext cx="312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1178640" y="5119560"/>
                  <a:ext cx="296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661680" y="5049720"/>
                <a:ext cx="486720" cy="407160"/>
                <a:chOff x="661680" y="5049720"/>
                <a:chExt cx="486720" cy="40716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737640" y="5078520"/>
                  <a:ext cx="329760" cy="314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661680" y="5049720"/>
                  <a:ext cx="312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851760" y="51195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omic Sans MS"/>
                    </a:rPr>
                    <a:t>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0" name=""/>
            <p:cNvGrpSpPr/>
            <p:nvPr/>
          </p:nvGrpSpPr>
          <p:grpSpPr>
            <a:xfrm>
              <a:off x="328680" y="5051160"/>
              <a:ext cx="486720" cy="407160"/>
              <a:chOff x="328680" y="5051160"/>
              <a:chExt cx="486720" cy="407160"/>
            </a:xfrm>
          </p:grpSpPr>
          <p:sp>
            <p:nvSpPr>
              <p:cNvPr id="181" name=""/>
              <p:cNvSpPr/>
              <p:nvPr/>
            </p:nvSpPr>
            <p:spPr>
              <a:xfrm>
                <a:off x="404640" y="5079960"/>
                <a:ext cx="329760" cy="314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28680" y="5051160"/>
                <a:ext cx="312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18760" y="51210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4" name=""/>
          <p:cNvSpPr/>
          <p:nvPr/>
        </p:nvSpPr>
        <p:spPr>
          <a:xfrm>
            <a:off x="8247240" y="5022720"/>
            <a:ext cx="599760" cy="314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7512120" y="4992840"/>
            <a:ext cx="813960" cy="406800"/>
            <a:chOff x="7512120" y="4992840"/>
            <a:chExt cx="813960" cy="406800"/>
          </a:xfrm>
        </p:grpSpPr>
        <p:grpSp>
          <p:nvGrpSpPr>
            <p:cNvPr id="186" name=""/>
            <p:cNvGrpSpPr/>
            <p:nvPr/>
          </p:nvGrpSpPr>
          <p:grpSpPr>
            <a:xfrm>
              <a:off x="7839360" y="4992840"/>
              <a:ext cx="486720" cy="406800"/>
              <a:chOff x="7839360" y="4992840"/>
              <a:chExt cx="486720" cy="406800"/>
            </a:xfrm>
          </p:grpSpPr>
          <p:sp>
            <p:nvSpPr>
              <p:cNvPr id="187" name=""/>
              <p:cNvSpPr/>
              <p:nvPr/>
            </p:nvSpPr>
            <p:spPr>
              <a:xfrm>
                <a:off x="7915320" y="5021280"/>
                <a:ext cx="329760" cy="3139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839360" y="4992840"/>
                <a:ext cx="312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029440" y="50623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7512120" y="4992840"/>
              <a:ext cx="487440" cy="406800"/>
              <a:chOff x="7512120" y="4992840"/>
              <a:chExt cx="487440" cy="406800"/>
            </a:xfrm>
          </p:grpSpPr>
          <p:sp>
            <p:nvSpPr>
              <p:cNvPr id="191" name=""/>
              <p:cNvSpPr/>
              <p:nvPr/>
            </p:nvSpPr>
            <p:spPr>
              <a:xfrm>
                <a:off x="7588440" y="5021280"/>
                <a:ext cx="330120" cy="3139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512120" y="4992840"/>
                <a:ext cx="312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702560" y="5062320"/>
                <a:ext cx="297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4" name=""/>
          <p:cNvGrpSpPr/>
          <p:nvPr/>
        </p:nvGrpSpPr>
        <p:grpSpPr>
          <a:xfrm>
            <a:off x="7178760" y="4994280"/>
            <a:ext cx="487440" cy="407160"/>
            <a:chOff x="7178760" y="4994280"/>
            <a:chExt cx="487440" cy="407160"/>
          </a:xfrm>
        </p:grpSpPr>
        <p:sp>
          <p:nvSpPr>
            <p:cNvPr id="195" name=""/>
            <p:cNvSpPr/>
            <p:nvPr/>
          </p:nvSpPr>
          <p:spPr>
            <a:xfrm>
              <a:off x="7255080" y="5023080"/>
              <a:ext cx="330120" cy="314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178760" y="4994280"/>
              <a:ext cx="31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369200" y="5064120"/>
              <a:ext cx="297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7614360" y="5416560"/>
            <a:ext cx="89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19520" y="5564160"/>
            <a:ext cx="1654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3467160" y="3117960"/>
            <a:ext cx="460440" cy="382320"/>
          </a:xfrm>
          <a:prstGeom prst="rect">
            <a:avLst/>
          </a:prstGeom>
          <a:ln w="0">
            <a:noFill/>
          </a:ln>
        </p:spPr>
      </p:pic>
      <p:grpSp>
        <p:nvGrpSpPr>
          <p:cNvPr id="201" name=""/>
          <p:cNvGrpSpPr/>
          <p:nvPr/>
        </p:nvGrpSpPr>
        <p:grpSpPr>
          <a:xfrm>
            <a:off x="5372280" y="3214800"/>
            <a:ext cx="553680" cy="279000"/>
            <a:chOff x="5372280" y="3214800"/>
            <a:chExt cx="553680" cy="279000"/>
          </a:xfrm>
        </p:grpSpPr>
        <p:sp>
          <p:nvSpPr>
            <p:cNvPr id="202" name=""/>
            <p:cNvSpPr/>
            <p:nvPr/>
          </p:nvSpPr>
          <p:spPr>
            <a:xfrm>
              <a:off x="5376600" y="3339360"/>
              <a:ext cx="549000" cy="1544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376600" y="332604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25960" y="3326040"/>
              <a:ext cx="0" cy="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376600" y="3326040"/>
              <a:ext cx="543960" cy="94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372280" y="3214800"/>
              <a:ext cx="548640" cy="1803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5504400" y="3254400"/>
              <a:ext cx="271800" cy="105120"/>
              <a:chOff x="5504400" y="3254400"/>
              <a:chExt cx="271800" cy="105120"/>
            </a:xfrm>
          </p:grpSpPr>
          <p:sp>
            <p:nvSpPr>
              <p:cNvPr id="208" name=""/>
              <p:cNvSpPr/>
              <p:nvPr/>
            </p:nvSpPr>
            <p:spPr>
              <a:xfrm flipV="1">
                <a:off x="5504400" y="3254400"/>
                <a:ext cx="968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690880" y="335952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593680" y="3256560"/>
                <a:ext cx="10080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5504400" y="3252960"/>
              <a:ext cx="271800" cy="105120"/>
              <a:chOff x="5504400" y="3252960"/>
              <a:chExt cx="271800" cy="105120"/>
            </a:xfrm>
          </p:grpSpPr>
          <p:sp>
            <p:nvSpPr>
              <p:cNvPr id="212" name=""/>
              <p:cNvSpPr/>
              <p:nvPr/>
            </p:nvSpPr>
            <p:spPr>
              <a:xfrm>
                <a:off x="5504400" y="3355920"/>
                <a:ext cx="968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690880" y="3252960"/>
                <a:ext cx="85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V="1">
                <a:off x="5593680" y="3252960"/>
                <a:ext cx="100800" cy="102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5" name=""/>
          <p:cNvSpPr/>
          <p:nvPr/>
        </p:nvSpPr>
        <p:spPr>
          <a:xfrm>
            <a:off x="3870360" y="3368520"/>
            <a:ext cx="1501920" cy="7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627360" y="5008680"/>
            <a:ext cx="408240" cy="7426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91000" y="5033880"/>
            <a:ext cx="407880" cy="743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10200" y="5002200"/>
            <a:ext cx="407880" cy="743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26040" y="5038560"/>
            <a:ext cx="407880" cy="743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079880" y="5564160"/>
            <a:ext cx="107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hys. 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630600" y="5226120"/>
            <a:ext cx="186372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066920" y="4659480"/>
            <a:ext cx="99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data 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protoc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3798360" y="5851440"/>
            <a:ext cx="336600" cy="4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01680" y="6281640"/>
            <a:ext cx="140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apter c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4924440" y="5846400"/>
            <a:ext cx="417600" cy="49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8480-C240-42BD-AE7C-E5EB22F523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Error Detectio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371600" y="1284120"/>
            <a:ext cx="5670720" cy="311004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343080" y="4551480"/>
            <a:ext cx="8331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DC= Error Detection and Correction bits (redundanc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    = Data protected by error checking, may include header fields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rror detection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100% reliabl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tocol may miss some errors, but rar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arger EDC field yields better detection and cor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2789-CC31-498A-AF59-5DFB6B9DC3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nternet checksum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38280" y="2619360"/>
            <a:ext cx="3657600" cy="34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Sende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eat segment contents as sequence of 16-bit integ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ecksum: addition (1’s complement sum) of segment cont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nder puts checksum value into UDP checksum fiel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47960" y="2552400"/>
            <a:ext cx="4057560" cy="32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Receive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ute checksum of received seg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eck if computed checksum equals checksum field valu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 - error detec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ES - no error detected.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But maybe errors nonethless?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More later …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"/>
          <p:cNvSpPr/>
          <p:nvPr/>
        </p:nvSpPr>
        <p:spPr>
          <a:xfrm>
            <a:off x="695160" y="1457280"/>
            <a:ext cx="79250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Goal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etect “errors” (e.g., flipped bits) in transmitted segment (note: used at transport layer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3FDC-F363-49BB-BE16-E114FCDB6E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Checksumming: Cyclic Redundancy Check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84200" y="1361880"/>
            <a:ext cx="7772400" cy="33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iew data bits,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as a binary numb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oose r+1 bit pattern (generator),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oal: choose r CRC bits,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such tha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D,R&gt; exactly divisible by G (modulo 2)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ceiver knows G, divides &lt;D,R&gt; by G.  If non-zero remainder: error detected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n detect all burst errors less than r+1 bi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idely used in practice (ATM, HDCL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504800" y="4543560"/>
            <a:ext cx="5739120" cy="1587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F8AC-CCE8-409C-9454-676279CF3D1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Don Towsley</dc:creator>
  <dc:description/>
  <dc:language>en-US</dc:language>
  <cp:lastModifiedBy>Eleonora Luppi</cp:lastModifiedBy>
  <dcterms:modified xsi:type="dcterms:W3CDTF">2004-06-01T12:48:54Z</dcterms:modified>
  <cp:revision>179</cp:revision>
  <dc:subject/>
  <dc:title>Part I: Introduction</dc:title>
</cp:coreProperties>
</file>