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69B-7FE1-46A7-9F0E-AFCDA47D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C01-4174-484E-90B3-65524DB4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EF9-1E0F-4F52-8B7B-89968C43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EC1-CD19-4610-914D-AE660C11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81CA-9214-48BC-A20A-C2F4B3F8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F42-FA67-4DA1-A0DC-B3EC275F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A62-D608-43F9-A9EB-EC804C7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2BF-D320-4B32-AB6F-CEBFE83D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DCE7-07DE-4306-BC4A-5DACB48A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1BD-284F-41C1-A189-EED383CD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B5E-886F-484B-A937-DE841B5C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158-ED97-4B7D-AF79-B3DB1A3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440" y="6400800"/>
            <a:ext cx="776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D09B-6310-41BB-BE34-FFD31676B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ipelined protocol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ipelin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nder allows multiple, “in-flight”, yet-to-be-acknowledged pk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nge of sequence numbers must be increas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ing at sender and/or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generic forms of pipelined protocols: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o-Back-N, selective repe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52760" y="2890800"/>
            <a:ext cx="610524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BE2-016F-4E87-8E72-FD0C071D1B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:</a:t>
            </a:r>
            <a:br>
              <a:rPr sz="3200"/>
            </a:b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 dilem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 #’s: 0, 1, 2, 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dow size=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 sees no difference in two scenario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orrectly passes duplicate data as new in (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hat relationship between seq # size and window siz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424400" y="324000"/>
            <a:ext cx="4226040" cy="602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BEA-CA64-41BD-AFDC-C4DC63BE45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CP: Overview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FCs: 793, 1122, 1323, 2018, 2581</a:t>
            </a:r>
            <a:endParaRPr b="0" lang="en-US" sz="2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ull duplex dat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-directional data flow in same conn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S: maximum segment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dshaking (exchange of control msgs) init’s sender, receiver state before data exchan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low controll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will not overwhelm rece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int-to-poin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sender, one receiver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liable, in-order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byte stea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“message boundaries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ipeline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CP congestion and flow control set window siz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end &amp; receive buff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-490680" y="5421240"/>
          <a:ext cx="602640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90680" y="5421240"/>
                    <a:ext cx="602640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8EF-98C5-4331-867B-C64C9FAD30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 segment structur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748240" y="1103400"/>
            <a:ext cx="4100040" cy="5330880"/>
            <a:chOff x="2748240" y="1103400"/>
            <a:chExt cx="4100040" cy="5330880"/>
          </a:xfrm>
        </p:grpSpPr>
        <p:sp>
          <p:nvSpPr>
            <p:cNvPr id="83" name=""/>
            <p:cNvSpPr/>
            <p:nvPr/>
          </p:nvSpPr>
          <p:spPr>
            <a:xfrm>
              <a:off x="2896920" y="1513080"/>
              <a:ext cx="3951360" cy="4824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1240" y="162900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4760" y="1594080"/>
              <a:ext cx="17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ource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97520" y="1598760"/>
              <a:ext cx="149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st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14480" y="2003400"/>
              <a:ext cx="3946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08000" y="23828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754520" y="16286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78960" y="11034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97400" y="1344600"/>
              <a:ext cx="1427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788560" y="1355760"/>
              <a:ext cx="134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5200" y="4573800"/>
              <a:ext cx="212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variable lengt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44840" y="1982880"/>
              <a:ext cx="24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quence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17720" y="27640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4520" y="238284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cknowledgeme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3040" y="3159360"/>
              <a:ext cx="395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08000" y="35496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08000" y="4111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768560" y="2766600"/>
              <a:ext cx="504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64600" y="2774880"/>
              <a:ext cx="196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cvr window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94920" y="3170160"/>
              <a:ext cx="182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tr urgen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56120" y="31514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43200" y="28036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611600" y="2757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44960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28292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120920" y="276696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96396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792240" y="27716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78680" y="27990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3720" y="279900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27939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83320" y="27939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11960" y="27939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48240" y="2700360"/>
              <a:ext cx="601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29560" y="2700360"/>
              <a:ext cx="5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28752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00040" y="3654360"/>
              <a:ext cx="31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ions (variable lengt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61280" y="1432080"/>
            <a:ext cx="23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5760" y="21556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0680" y="283212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4680" y="3632040"/>
            <a:ext cx="202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71680" y="1800360"/>
            <a:ext cx="1495440" cy="9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3240" y="247644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352600" y="28288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35800" y="301320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14680" y="152712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6840" y="4965840"/>
            <a:ext cx="13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E83-885F-4B37-8519-C23898597E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971960" y="4686480"/>
            <a:ext cx="2791080" cy="561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6000" y="2238480"/>
            <a:ext cx="261936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CP seq. #’s and ACK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2080" y="1295280"/>
            <a:ext cx="3257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Seq. #’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te stream “number” of first byte in segment’s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ACK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q # of next byte expected from other s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mulative A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Q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how receiver handles out-of-order seg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 TCP spec doesn’t say, - up to implemen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133880" y="1407960"/>
            <a:ext cx="606240" cy="48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58280" y="1322280"/>
            <a:ext cx="606240" cy="480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807440" y="14605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7080" y="14508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706200">
            <a:off x="4976640" y="222048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2, ACK=79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755200">
            <a:off x="5032440" y="327816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‘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683400">
            <a:off x="5097240" y="4519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26960" y="1932120"/>
            <a:ext cx="69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12400" y="4046400"/>
            <a:ext cx="113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95560" y="258912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’, ech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ck ‘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86280" y="3200400"/>
            <a:ext cx="26100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20200" y="1714680"/>
            <a:ext cx="0" cy="4514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289720" y="5527800"/>
            <a:ext cx="665280" cy="368280"/>
            <a:chOff x="8289720" y="5527800"/>
            <a:chExt cx="665280" cy="368280"/>
          </a:xfrm>
        </p:grpSpPr>
        <p:sp>
          <p:nvSpPr>
            <p:cNvPr id="152" name=""/>
            <p:cNvSpPr/>
            <p:nvPr/>
          </p:nvSpPr>
          <p:spPr>
            <a:xfrm>
              <a:off x="8353080" y="5600520"/>
              <a:ext cx="514440" cy="24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89720" y="552780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376600" y="57942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507-5666-459F-A1C1-92593A47C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reliable data transfer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4335480" y="1703520"/>
            <a:ext cx="45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d sender, assu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2880" y="3228840"/>
            <a:ext cx="1228680" cy="116208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640" y="3276720"/>
            <a:ext cx="1229040" cy="116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8720" y="2581200"/>
            <a:ext cx="819000" cy="695520"/>
          </a:xfrm>
          <a:custGeom>
            <a:avLst/>
            <a:gdLst/>
            <a:ahLst/>
            <a:rect l="l" t="t" r="r" b="b"/>
            <a:pathLst>
              <a:path w="516" h="438">
                <a:moveTo>
                  <a:pt x="150" y="432"/>
                </a:moveTo>
                <a:cubicBezTo>
                  <a:pt x="24" y="198"/>
                  <a:pt x="0" y="0"/>
                  <a:pt x="258" y="6"/>
                </a:cubicBezTo>
                <a:cubicBezTo>
                  <a:pt x="516" y="12"/>
                  <a:pt x="462" y="216"/>
                  <a:pt x="348" y="43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4480" y="1608120"/>
            <a:ext cx="247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receiv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pplication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011200">
            <a:off x="1575720" y="3628800"/>
            <a:ext cx="819360" cy="438120"/>
          </a:xfrm>
          <a:custGeom>
            <a:avLst/>
            <a:gdLst/>
            <a:ahLst/>
            <a:rect l="l" t="t" r="r" b="b"/>
            <a:pathLst>
              <a:path w="516" h="438">
                <a:moveTo>
                  <a:pt x="150" y="432"/>
                </a:moveTo>
                <a:cubicBezTo>
                  <a:pt x="24" y="198"/>
                  <a:pt x="0" y="0"/>
                  <a:pt x="258" y="6"/>
                </a:cubicBezTo>
                <a:cubicBezTo>
                  <a:pt x="516" y="12"/>
                  <a:pt x="462" y="216"/>
                  <a:pt x="348" y="43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0626600">
            <a:off x="780480" y="4428720"/>
            <a:ext cx="819000" cy="695520"/>
          </a:xfrm>
          <a:custGeom>
            <a:avLst/>
            <a:gdLst/>
            <a:ahLst/>
            <a:rect l="l" t="t" r="r" b="b"/>
            <a:pathLst>
              <a:path w="516" h="438">
                <a:moveTo>
                  <a:pt x="150" y="432"/>
                </a:moveTo>
                <a:cubicBezTo>
                  <a:pt x="24" y="198"/>
                  <a:pt x="0" y="0"/>
                  <a:pt x="258" y="6"/>
                </a:cubicBezTo>
                <a:cubicBezTo>
                  <a:pt x="516" y="12"/>
                  <a:pt x="462" y="216"/>
                  <a:pt x="348" y="43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67200" y="3236760"/>
            <a:ext cx="25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r timeout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with seq #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1480" y="5132520"/>
            <a:ext cx="23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K receiv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CK #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1680" y="2217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, send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7640" y="2238480"/>
            <a:ext cx="2419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53680" y="38941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ansmit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295360" y="3895200"/>
            <a:ext cx="22482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4240" y="5781600"/>
            <a:ext cx="20671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5720" y="5827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59440" y="2141640"/>
            <a:ext cx="354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way data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flow, congest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192-F724-4D61-A7CA-794338A6C8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 ACK generation</a:t>
            </a: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[RFC 1122, RFC 2581]</a:t>
            </a:r>
            <a:endParaRPr b="0" lang="en-US" sz="2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57440" y="1554120"/>
            <a:ext cx="33109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order segment arriv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a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else already A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order segment arriv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a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delayed ACK pe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of-order segment arri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19800" y="1544760"/>
            <a:ext cx="39585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ive A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duplicate ACK, indicating seq. 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next expected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ACK if segment st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ower end of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76240" y="2009880"/>
            <a:ext cx="746784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47800" y="3191040"/>
            <a:ext cx="7477200" cy="9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7160" y="4305240"/>
            <a:ext cx="75056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6880" y="5410080"/>
            <a:ext cx="748656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C34-33BB-4F09-A8FF-1461735994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H="1">
            <a:off x="5810040" y="314316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349600" y="237492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6880" y="2273400"/>
            <a:ext cx="203040" cy="13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781240" y="2733840"/>
            <a:ext cx="2543400" cy="13809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728400">
            <a:off x="6075000" y="3814920"/>
            <a:ext cx="1817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: retransmission scenario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55520" y="1389240"/>
            <a:ext cx="3489120" cy="4821120"/>
            <a:chOff x="155520" y="1389240"/>
            <a:chExt cx="3489120" cy="4821120"/>
          </a:xfrm>
        </p:grpSpPr>
        <p:sp>
          <p:nvSpPr>
            <p:cNvPr id="187" name=""/>
            <p:cNvSpPr/>
            <p:nvPr/>
          </p:nvSpPr>
          <p:spPr>
            <a:xfrm flipH="1">
              <a:off x="1857240" y="2781360"/>
              <a:ext cx="1581120" cy="48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14400" y="2057400"/>
              <a:ext cx="2533320" cy="590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01480" y="1389240"/>
              <a:ext cx="485640" cy="3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932040" y="1389240"/>
              <a:ext cx="80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ost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06200">
              <a:off x="1290600" y="206856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617200">
              <a:off x="2182320" y="27540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95440" y="331776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249840" y="2864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5640" y="1695600"/>
              <a:ext cx="0" cy="4514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155520" y="5508720"/>
              <a:ext cx="665280" cy="368280"/>
              <a:chOff x="155520" y="5508720"/>
              <a:chExt cx="665280" cy="368280"/>
            </a:xfrm>
          </p:grpSpPr>
          <p:sp>
            <p:nvSpPr>
              <p:cNvPr id="197" name=""/>
              <p:cNvSpPr/>
              <p:nvPr/>
            </p:nvSpPr>
            <p:spPr>
              <a:xfrm>
                <a:off x="218880" y="5581440"/>
                <a:ext cx="514440" cy="24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5520" y="5508720"/>
                <a:ext cx="66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ti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157760" y="5622840"/>
              <a:ext cx="20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ost ACK scen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3159000" y="1398600"/>
              <a:ext cx="485640" cy="3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445120" y="140832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ost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8120" y="3040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14400" y="3924360"/>
              <a:ext cx="2533320" cy="590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706200">
              <a:off x="1204920" y="3868920"/>
              <a:ext cx="187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q=92, 8 bytes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4680" y="1838520"/>
              <a:ext cx="0" cy="38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19280" y="1838520"/>
              <a:ext cx="0" cy="38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923760" y="4705560"/>
              <a:ext cx="249552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20673000">
              <a:off x="1733760" y="4789080"/>
              <a:ext cx="96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33320" y="2037960"/>
              <a:ext cx="0" cy="60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2680" y="3438720"/>
              <a:ext cx="0" cy="47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800680" y="2009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5388120" y="1341360"/>
            <a:ext cx="485640" cy="385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818680" y="13413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808200">
            <a:off x="5979240" y="2421000"/>
            <a:ext cx="20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100, 20 byt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9829400">
            <a:off x="6745680" y="3068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4872600" y="2783880"/>
            <a:ext cx="149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q=92 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041800" y="5460840"/>
            <a:ext cx="665280" cy="368280"/>
            <a:chOff x="5041800" y="5460840"/>
            <a:chExt cx="665280" cy="368280"/>
          </a:xfrm>
        </p:grpSpPr>
        <p:sp>
          <p:nvSpPr>
            <p:cNvPr id="218" name=""/>
            <p:cNvSpPr/>
            <p:nvPr/>
          </p:nvSpPr>
          <p:spPr>
            <a:xfrm>
              <a:off x="510516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41800" y="54608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915880" y="5575320"/>
            <a:ext cx="23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mature timeou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umulative 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045280" y="1351080"/>
            <a:ext cx="486000" cy="385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331760" y="136044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00680" y="387684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706200">
            <a:off x="6062760" y="379260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1320" y="1790640"/>
            <a:ext cx="6120" cy="382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1790640"/>
            <a:ext cx="0" cy="384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20261400">
            <a:off x="7106040" y="3179520"/>
            <a:ext cx="96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638680" y="2015640"/>
            <a:ext cx="6480" cy="244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29320" y="3645000"/>
            <a:ext cx="0" cy="22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88080" y="2362320"/>
            <a:ext cx="2508120" cy="628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706200">
            <a:off x="6091560" y="201132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92, 8 bytes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613480" y="3876840"/>
            <a:ext cx="18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594040" y="2016000"/>
            <a:ext cx="1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368680" y="4387680"/>
            <a:ext cx="422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585320" y="320796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q=100 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378400" y="2371680"/>
            <a:ext cx="6480" cy="29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88120" y="4089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816160" y="4521240"/>
            <a:ext cx="2476440" cy="11048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20261400">
            <a:off x="6921720" y="460800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148-EB31-46A4-A768-4FAE95E182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95320" y="1504800"/>
            <a:ext cx="3057480" cy="142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CP Flow Control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219280" y="1314360"/>
            <a:ext cx="33339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ceiv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plicitly informs sender of (dynamically changing) amount of free buffer spa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Window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e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CP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ende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keeps the amount of transmitted, unACKed data less than most recently receiv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Wind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981000" y="1655640"/>
            <a:ext cx="287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won’t over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iver’s buffers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ting too mu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o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62640" y="1274760"/>
            <a:ext cx="1886040" cy="459720"/>
            <a:chOff x="962640" y="1274760"/>
            <a:chExt cx="1886040" cy="459720"/>
          </a:xfrm>
        </p:grpSpPr>
        <p:sp>
          <p:nvSpPr>
            <p:cNvPr id="245" name=""/>
            <p:cNvSpPr/>
            <p:nvPr/>
          </p:nvSpPr>
          <p:spPr>
            <a:xfrm>
              <a:off x="1018800" y="1314360"/>
              <a:ext cx="180036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62640" y="1274760"/>
              <a:ext cx="188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low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68200" y="4176720"/>
            <a:ext cx="4800600" cy="1752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1480" y="60642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er buff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7120" y="3262320"/>
            <a:ext cx="40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= size 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CP Receive 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Window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= amount of spare room in Buffe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2B6-11DD-4BB2-AE3C-216D97BADC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Go-Back-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-bit seq # in pkt hea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dow” of up to N, consecutive unack’ed pkts allow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8360" y="275256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6280" y="463860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(n): ACKs all pkts up to, including seq # n - “cumulative AC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deceive duplicate ACKs (see recei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r for each in-flight p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imeout(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transmit pkt n and all higher seq # pkts in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BB8-8577-48DF-B8E2-5C5595D628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sender extended FS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504800"/>
            <a:ext cx="8163000" cy="38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A16-684E-4BF3-8C56-D4EF86E035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GBN: receiver extended FS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8040" y="1425600"/>
            <a:ext cx="8016840" cy="154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280" y="3085920"/>
            <a:ext cx="78296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iver si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K-only: always send ACK for correctly-received pkt with highest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n-ord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q #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generate duplicate A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only reme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-of-order pkt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ard (don’t buffer) -&gt;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 receiver buffe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 pkt with highest in-order seq #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206-4C39-4600-9871-5AF9033286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2880" y="43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GBN in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0200" y="482760"/>
            <a:ext cx="5972400" cy="57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F49-0D4F-4BD6-B42A-0417FD8931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ndividual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knowledges all correctly received pk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s pkts, as needed, for eventual in-order delivery to upper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er only resends pkts for which ACK not recei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timer for each unACKed pk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er wind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 consecutive seq #’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ain limits seq #s of sent, unACKed pk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7992-7BE3-4663-9EE7-ED3ED6E15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: sender, receiver window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1A0-407C-401B-B82F-4B4D1D135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ata from above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ext available seq # in window, send pk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imeout(n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end pkt n, restart tim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K(n)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[sendbase,sendbase+N]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k pkt n as receiv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n smallest unACKed pkt, advance window base to next unACKed seq #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91920" y="1208160"/>
            <a:ext cx="1174320" cy="459720"/>
            <a:chOff x="691920" y="1208160"/>
            <a:chExt cx="1174320" cy="459720"/>
          </a:xfrm>
        </p:grpSpPr>
        <p:sp>
          <p:nvSpPr>
            <p:cNvPr id="64" name=""/>
            <p:cNvSpPr/>
            <p:nvPr/>
          </p:nvSpPr>
          <p:spPr>
            <a:xfrm>
              <a:off x="77184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1920" y="120816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sen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kt n in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rcvbase, rcvbase+N-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ACK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-of-order: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-order: deliver (also deliver buffered, in-order pkts), advance window to next not-yet-received p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kt n in 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rcvbase-N,rcvbase-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K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therwise: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gn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204160" y="1179360"/>
            <a:ext cx="1331280" cy="459720"/>
            <a:chOff x="5204160" y="1179360"/>
            <a:chExt cx="1331280" cy="459720"/>
          </a:xfrm>
        </p:grpSpPr>
        <p:sp>
          <p:nvSpPr>
            <p:cNvPr id="69" name=""/>
            <p:cNvSpPr/>
            <p:nvPr/>
          </p:nvSpPr>
          <p:spPr>
            <a:xfrm>
              <a:off x="5219640" y="1295280"/>
              <a:ext cx="1304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04160" y="1179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recei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773E-D279-406C-9087-3F129D05DC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elective repeat in ac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57240" y="1319040"/>
            <a:ext cx="726768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1B9-EADE-4131-B3CE-462D07D313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5-13T07:25:39Z</dcterms:modified>
  <cp:revision>88</cp:revision>
  <dc:subject/>
  <dc:title>Part I: Introduction</dc:title>
</cp:coreProperties>
</file>