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90348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620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152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916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152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916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620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895320" y="6326280"/>
            <a:ext cx="74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5: Ethernet Swi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Kurose, Ross,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pplication use case : Secure e-mail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320840" y="4513320"/>
            <a:ext cx="68086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tes random symmetric private key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rypts message with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 encrypts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Bob’s public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s both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) and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to B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37920" y="1327320"/>
            <a:ext cx="80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wants to send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secr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-mail message, m, to B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9920" y="1952640"/>
            <a:ext cx="70135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ESP Protocol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82320"/>
            <a:ext cx="44100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s 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secrecy, host authentication, data integr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, ESP trailer encryp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header field is in ESP trail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0840" y="1352520"/>
            <a:ext cx="38098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P authentication field is similar to AH authentication fiel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 = 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50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01680" y="4205160"/>
            <a:ext cx="72597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Network Security (summary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400040"/>
            <a:ext cx="8148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asic techniques…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yptography (symmetric and publi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integ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. used in many different security scena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e ema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e transport (SS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se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Secure e-mail (continued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517680" y="1359000"/>
            <a:ext cx="80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wants to provide sender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authenticatio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message integ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040" y="5183280"/>
            <a:ext cx="83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digitally signs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s both message (in the clear) and digital sign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0120" y="2335320"/>
            <a:ext cx="81900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Secure e-mail (continued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540000" y="1314360"/>
            <a:ext cx="811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wants to provide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secrecy, sender authentication, </a:t>
            </a:r>
            <a:br>
              <a:rPr sz="2400"/>
            </a:b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   message integ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74800" y="5508720"/>
            <a:ext cx="75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ice uses both her private key, Bob’s public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70120" y="2259000"/>
            <a:ext cx="752616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Pretty good privacy (PGP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898280"/>
            <a:ext cx="38098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 e-mail encryption scheme, a de-facto standar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symmetric key cryptography, public key cryptography, hash function, and digital signature as describ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s secrecy, sender authentication, integri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06760" y="2134800"/>
            <a:ext cx="4205520" cy="3605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BEGIN PGP SIGNED MESSAGE---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sh: SHA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b:My husband is out of town tonight.Passionately yours, Ali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BEGIN PGP SIGNATURE---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rsion: PGP 5.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set: noconv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hHJRHhGJGhgg/12EpJ+lo8gE4vB3mqJhFEvZP9t6n7G6m5Gw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END PGP SIGNATURE---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4482000" y="1647720"/>
            <a:ext cx="29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GP signed mess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Secure sockets layer (SSL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1880" y="133164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GP provides security for a specific network ap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SL works at transport layer. Provides security to any TCP-based app using SSL servic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SL: used between WWW browsers, servers for E-commerce (https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SL security servic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 authent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encryp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 authentication (optiona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5680" y="1339560"/>
            <a:ext cx="381024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erver authent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SL-enabled browser includes public keys for trusted CA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rowser requests server certificate, issued by trusted CA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rowser uses CA’s public key to extract server’s public key from certificate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Visit your browser’s security menu to see its trusted C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SSL (continued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49360" y="1158840"/>
            <a:ext cx="3892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ncrypted SSL sess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wser generates symmetric session key, encrypts it with server’s public key, sends encrypted key to serv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its private key, server decrypts session ke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wser, server agree that future msgs will be encryp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data sent into TCP socket (by client or server)  encrypted with session ke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3240" y="1244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SL: basis of IETF Transport Layer Security (TLS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SL can be used for non-Web applications, e.g., IMA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 authentication can be done with client certificat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Secure electronic transactions (SET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8240" y="137772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signed for payment-card transactions over Intern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vides security services among 3 player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h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hant’s ba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must have certifica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T specifies legal meanings of certifica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ortionment of liabilities for trans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4000" y="138888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ustomer’s card number passed to merchant’s bank without merchant ever seeing number in plain tex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vents merchants from stealing, leaking payment card numb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ree software component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wser wall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hant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quirer gate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e documentation for description of SET transac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IPsec: Network Layer Security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4040" y="1376280"/>
            <a:ext cx="408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twork-layer secrecy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ing host encrypts the data in IP datagr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and UDP segments; ICMP and SNMP messag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twork-layer authent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tination host can authenticate source IP add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wo principle protocol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entication header (AH)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apsulation security payload (ESP)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7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r both AH and ESP, source, destination handshak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 network-layer logical channel called a service agreement (S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ach SA unidirection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Uniquely determined b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urity protocol (AH or ES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urce IP add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-bit connection 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uthentication Header (AH) Protocol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5240" y="1318680"/>
            <a:ext cx="3809880" cy="35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s source 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host authentication, data integr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but not secrec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H header inserted between IP header and IP data fiel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 field = 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5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mediate routers process datagrams as usu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22680" y="1185840"/>
            <a:ext cx="419760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H header includ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ion identifi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entication data: signed message digest, calculated over original IP datagram, providing source authentication, data integri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header field: specifies type of data (TCP, UDP, ICMP,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7440" y="4646520"/>
            <a:ext cx="70516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cp:lastPrinted>2000-11-12T20:22:22Z</cp:lastPrinted>
  <dcterms:modified xsi:type="dcterms:W3CDTF">2004-06-17T12:53:54Z</dcterms:modified>
  <cp:revision>197</cp:revision>
  <dc:subject/>
  <dc:title>Part I: Introduction</dc:title>
</cp:coreProperties>
</file>