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96B-B361-4CD8-91EF-2D914472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04C-387B-400A-949C-829FF805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17A-69A2-4F21-9C5E-AA9A6C7C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D63-6516-4D79-9188-15B969F9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229-328D-4C3F-979A-C20C3502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DAE-4A56-4468-8790-D25CCDC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528-CCA7-466F-A82C-4693D74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BAF-3159-4295-84FC-47AA007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17B-8462-4B94-927B-3D420A0B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DDB-A325-4D0E-8301-59FE95E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E76F-096E-4919-8BF6-97A2E52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811-E90A-440B-BCCF-C055E31D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344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A9A3A76B-F4D9-452C-B1A4-3EC871BF4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ra-AS and Inter-AS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27120" y="4076640"/>
            <a:ext cx="4245120" cy="235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70520" y="1308240"/>
            <a:ext cx="28735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te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inter-AS routing amongst themse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 intra-AS routers with other routers in their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120" y="4575240"/>
            <a:ext cx="26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-AS, intra-AS routing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gateway A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66040" y="42228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1080" y="46227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3080" y="5013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981760" y="4429080"/>
            <a:ext cx="552240" cy="3430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38640" y="4867200"/>
            <a:ext cx="657000" cy="685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6067080" y="5238720"/>
            <a:ext cx="809640" cy="752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37080" y="2179800"/>
            <a:ext cx="1844640" cy="861840"/>
          </a:xfrm>
          <a:custGeom>
            <a:avLst/>
            <a:gdLst/>
            <a:ahLst/>
            <a:rect l="l" t="t" r="r" b="b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7360" y="2163600"/>
            <a:ext cx="1901880" cy="716040"/>
          </a:xfrm>
          <a:custGeom>
            <a:avLst/>
            <a:gdLst/>
            <a:ahLst/>
            <a:rect l="l" t="t" r="r" b="b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6480" y="2374920"/>
            <a:ext cx="2832120" cy="22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33520" y="2692440"/>
            <a:ext cx="2513160" cy="1082520"/>
          </a:xfrm>
          <a:custGeom>
            <a:avLst/>
            <a:gdLst/>
            <a:ahLst/>
            <a:rect l="l" t="t" r="r" b="b"/>
            <a:pathLst>
              <a:path w="1583" h="682">
                <a:moveTo>
                  <a:pt x="155" y="224"/>
                </a:moveTo>
                <a:cubicBezTo>
                  <a:pt x="208" y="137"/>
                  <a:pt x="302" y="108"/>
                  <a:pt x="407" y="74"/>
                </a:cubicBezTo>
                <a:cubicBezTo>
                  <a:pt x="512" y="40"/>
                  <a:pt x="660" y="0"/>
                  <a:pt x="785" y="20"/>
                </a:cubicBezTo>
                <a:cubicBezTo>
                  <a:pt x="910" y="40"/>
                  <a:pt x="1027" y="126"/>
                  <a:pt x="1157" y="194"/>
                </a:cubicBezTo>
                <a:cubicBezTo>
                  <a:pt x="1287" y="262"/>
                  <a:pt x="1545" y="353"/>
                  <a:pt x="1564" y="428"/>
                </a:cubicBezTo>
                <a:cubicBezTo>
                  <a:pt x="1583" y="503"/>
                  <a:pt x="1417" y="606"/>
                  <a:pt x="1272" y="644"/>
                </a:cubicBezTo>
                <a:cubicBezTo>
                  <a:pt x="1127" y="682"/>
                  <a:pt x="887" y="664"/>
                  <a:pt x="690" y="656"/>
                </a:cubicBezTo>
                <a:cubicBezTo>
                  <a:pt x="493" y="648"/>
                  <a:pt x="178" y="668"/>
                  <a:pt x="89" y="596"/>
                </a:cubicBezTo>
                <a:cubicBezTo>
                  <a:pt x="0" y="524"/>
                  <a:pt x="102" y="311"/>
                  <a:pt x="155" y="224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2556000"/>
            <a:ext cx="49680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360" y="254484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1160" y="254484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4360" y="254484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9680" y="2451240"/>
            <a:ext cx="496800" cy="150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7560" y="2471760"/>
            <a:ext cx="223920" cy="19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3280" y="2374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7920" y="3517920"/>
            <a:ext cx="49680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7920" y="3506760"/>
            <a:ext cx="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44720" y="3506760"/>
            <a:ext cx="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7920" y="350676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3240" y="3413160"/>
            <a:ext cx="496800" cy="150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430720" y="3327480"/>
            <a:ext cx="337680" cy="398880"/>
            <a:chOff x="2430720" y="3327480"/>
            <a:chExt cx="337680" cy="398880"/>
          </a:xfrm>
        </p:grpSpPr>
        <p:sp>
          <p:nvSpPr>
            <p:cNvPr id="68" name=""/>
            <p:cNvSpPr/>
            <p:nvPr/>
          </p:nvSpPr>
          <p:spPr>
            <a:xfrm>
              <a:off x="2480400" y="3423960"/>
              <a:ext cx="225000" cy="20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0720" y="332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71880" y="25192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52800" y="20764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62080" y="1549440"/>
            <a:ext cx="781200" cy="774720"/>
          </a:xfrm>
          <a:custGeom>
            <a:avLst/>
            <a:gdLst/>
            <a:ahLst/>
            <a:rect l="l" t="t" r="r" b="b"/>
            <a:pathLst>
              <a:path w="492" h="488">
                <a:moveTo>
                  <a:pt x="84" y="486"/>
                </a:moveTo>
                <a:lnTo>
                  <a:pt x="0" y="0"/>
                </a:lnTo>
                <a:lnTo>
                  <a:pt x="492" y="0"/>
                </a:lnTo>
                <a:lnTo>
                  <a:pt x="404" y="488"/>
                </a:lnTo>
                <a:lnTo>
                  <a:pt x="84" y="48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5000" y="2346480"/>
            <a:ext cx="49680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05000" y="233532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01800" y="233532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05000" y="233532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00320" y="2241720"/>
            <a:ext cx="496800" cy="150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8200" y="2262240"/>
            <a:ext cx="225360" cy="17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87800" y="2165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90680" y="2889360"/>
            <a:ext cx="49680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90680" y="287820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87480" y="287820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0680" y="287820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784600"/>
            <a:ext cx="496800" cy="150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76720" y="2698920"/>
            <a:ext cx="324000" cy="398880"/>
            <a:chOff x="2376720" y="2698920"/>
            <a:chExt cx="324000" cy="398880"/>
          </a:xfrm>
        </p:grpSpPr>
        <p:sp>
          <p:nvSpPr>
            <p:cNvPr id="86" name=""/>
            <p:cNvSpPr/>
            <p:nvPr/>
          </p:nvSpPr>
          <p:spPr>
            <a:xfrm>
              <a:off x="2420280" y="2795400"/>
              <a:ext cx="225000" cy="209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376720" y="2698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06840" y="1757520"/>
            <a:ext cx="78120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40440" y="2590920"/>
            <a:ext cx="4888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54520" y="2470320"/>
            <a:ext cx="146160" cy="18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32440" y="2400120"/>
            <a:ext cx="181080" cy="120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1480" y="3406680"/>
            <a:ext cx="419400" cy="130320"/>
          </a:xfrm>
          <a:custGeom>
            <a:avLst/>
            <a:gdLst/>
            <a:ahLst/>
            <a:rect l="l" t="t" r="r" b="b"/>
            <a:pathLst>
              <a:path w="264" h="82">
                <a:moveTo>
                  <a:pt x="0" y="82"/>
                </a:moveTo>
                <a:lnTo>
                  <a:pt x="26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11400" y="3349800"/>
            <a:ext cx="241200" cy="187200"/>
          </a:xfrm>
          <a:custGeom>
            <a:avLst/>
            <a:gdLst/>
            <a:ahLst/>
            <a:rect l="l" t="t" r="r" b="b"/>
            <a:pathLst>
              <a:path w="152" h="118">
                <a:moveTo>
                  <a:pt x="0" y="0"/>
                </a:moveTo>
                <a:lnTo>
                  <a:pt x="152" y="11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8320" y="3238560"/>
            <a:ext cx="895320" cy="129960"/>
          </a:xfrm>
          <a:custGeom>
            <a:avLst/>
            <a:gdLst/>
            <a:ahLst/>
            <a:rect l="l" t="t" r="r" b="b"/>
            <a:pathLst>
              <a:path w="564" h="82">
                <a:moveTo>
                  <a:pt x="0" y="0"/>
                </a:moveTo>
                <a:lnTo>
                  <a:pt x="564" y="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98116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0" y="9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384280"/>
            <a:ext cx="399960" cy="181080"/>
          </a:xfrm>
          <a:custGeom>
            <a:avLst/>
            <a:gdLst/>
            <a:ahLst/>
            <a:rect l="l" t="t" r="r" b="b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90840" y="2479680"/>
            <a:ext cx="704520" cy="409680"/>
          </a:xfrm>
          <a:custGeom>
            <a:avLst/>
            <a:gdLst/>
            <a:ahLst/>
            <a:rect l="l" t="t" r="r" b="b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520" y="266688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1581120"/>
            <a:ext cx="774720" cy="533520"/>
          </a:xfrm>
          <a:custGeom>
            <a:avLst/>
            <a:gdLst/>
            <a:ahLst/>
            <a:rect l="l" t="t" r="r" b="b"/>
            <a:pathLst>
              <a:path w="272" h="318">
                <a:moveTo>
                  <a:pt x="0" y="0"/>
                </a:moveTo>
                <a:lnTo>
                  <a:pt x="272" y="318"/>
                </a:ln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0040" y="1492200"/>
            <a:ext cx="2603520" cy="222480"/>
          </a:xfrm>
          <a:custGeom>
            <a:avLst/>
            <a:gdLst/>
            <a:ahLst/>
            <a:rect l="l" t="t" r="r" b="b"/>
            <a:pathLst>
              <a:path w="1640" h="140">
                <a:moveTo>
                  <a:pt x="0" y="0"/>
                </a:moveTo>
                <a:lnTo>
                  <a:pt x="1640" y="140"/>
                </a:ln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3760" y="1841400"/>
            <a:ext cx="1117440" cy="657360"/>
          </a:xfrm>
          <a:custGeom>
            <a:avLst/>
            <a:gdLst/>
            <a:ahLst/>
            <a:rect l="l" t="t" r="r" b="b"/>
            <a:pathLst>
              <a:path w="568" h="344">
                <a:moveTo>
                  <a:pt x="0" y="344"/>
                </a:moveTo>
                <a:lnTo>
                  <a:pt x="568" y="0"/>
                </a:ln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5040" y="2152800"/>
            <a:ext cx="473040" cy="384120"/>
          </a:xfrm>
          <a:custGeom>
            <a:avLst/>
            <a:gdLst/>
            <a:ahLst/>
            <a:rect l="l" t="t" r="r" b="b"/>
            <a:pathLst>
              <a:path w="272" h="212">
                <a:moveTo>
                  <a:pt x="0" y="0"/>
                </a:moveTo>
                <a:lnTo>
                  <a:pt x="272" y="212"/>
                </a:ln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565360"/>
            <a:ext cx="49716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2554200"/>
            <a:ext cx="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0440" y="2554200"/>
            <a:ext cx="0" cy="7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55420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8600" y="2460600"/>
            <a:ext cx="496800" cy="150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6840" y="2481120"/>
            <a:ext cx="223920" cy="190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32560" y="2384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8600" y="2484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21160" y="33703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7040" y="26971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5040" y="3222720"/>
            <a:ext cx="496800" cy="128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05040" y="321156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1840" y="3211560"/>
            <a:ext cx="0" cy="7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05040" y="3211560"/>
            <a:ext cx="492120" cy="77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00360" y="3124080"/>
            <a:ext cx="496800" cy="150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35000" y="3166920"/>
            <a:ext cx="225720" cy="152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0000" y="3038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43080" y="1866960"/>
            <a:ext cx="779400" cy="398880"/>
            <a:chOff x="2143080" y="1866960"/>
            <a:chExt cx="779400" cy="398880"/>
          </a:xfrm>
        </p:grpSpPr>
        <p:sp>
          <p:nvSpPr>
            <p:cNvPr id="121" name=""/>
            <p:cNvSpPr/>
            <p:nvPr/>
          </p:nvSpPr>
          <p:spPr>
            <a:xfrm>
              <a:off x="2151000" y="2046240"/>
              <a:ext cx="768240" cy="17928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9240" y="2031840"/>
              <a:ext cx="32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51000" y="2031840"/>
              <a:ext cx="762120" cy="10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43080" y="1901880"/>
              <a:ext cx="770040" cy="2095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2031840"/>
              <a:ext cx="144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224800" y="1866960"/>
              <a:ext cx="555480" cy="398880"/>
              <a:chOff x="2224800" y="1866960"/>
              <a:chExt cx="555480" cy="398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305080" y="1963800"/>
                <a:ext cx="420840" cy="21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4800" y="18669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.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3068640" y="2251080"/>
            <a:ext cx="779400" cy="398880"/>
            <a:chOff x="3068640" y="2251080"/>
            <a:chExt cx="779400" cy="398880"/>
          </a:xfrm>
        </p:grpSpPr>
        <p:sp>
          <p:nvSpPr>
            <p:cNvPr id="130" name=""/>
            <p:cNvSpPr/>
            <p:nvPr/>
          </p:nvSpPr>
          <p:spPr>
            <a:xfrm>
              <a:off x="3076560" y="2430360"/>
              <a:ext cx="768240" cy="17928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4800" y="2415960"/>
              <a:ext cx="32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76560" y="2415960"/>
              <a:ext cx="762120" cy="10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68640" y="2286000"/>
              <a:ext cx="770040" cy="2095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2415960"/>
              <a:ext cx="144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161160" y="2251080"/>
              <a:ext cx="534240" cy="398880"/>
              <a:chOff x="3161160" y="2251080"/>
              <a:chExt cx="534240" cy="398880"/>
            </a:xfrm>
          </p:grpSpPr>
          <p:sp>
            <p:nvSpPr>
              <p:cNvPr id="136" name=""/>
              <p:cNvSpPr/>
              <p:nvPr/>
            </p:nvSpPr>
            <p:spPr>
              <a:xfrm>
                <a:off x="3230640" y="2347920"/>
                <a:ext cx="420840" cy="21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61160" y="22510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.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166760" y="1287360"/>
            <a:ext cx="779400" cy="398880"/>
            <a:chOff x="1166760" y="1287360"/>
            <a:chExt cx="779400" cy="398880"/>
          </a:xfrm>
        </p:grpSpPr>
        <p:sp>
          <p:nvSpPr>
            <p:cNvPr id="139" name=""/>
            <p:cNvSpPr/>
            <p:nvPr/>
          </p:nvSpPr>
          <p:spPr>
            <a:xfrm>
              <a:off x="1174680" y="1466640"/>
              <a:ext cx="768240" cy="17928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2920" y="1452240"/>
              <a:ext cx="32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74680" y="1452240"/>
              <a:ext cx="762120" cy="10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66760" y="1322280"/>
              <a:ext cx="770040" cy="2095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70000" y="1452240"/>
              <a:ext cx="144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242720" y="1287360"/>
              <a:ext cx="567720" cy="398880"/>
              <a:chOff x="1242720" y="1287360"/>
              <a:chExt cx="567720" cy="398880"/>
            </a:xfrm>
          </p:grpSpPr>
          <p:sp>
            <p:nvSpPr>
              <p:cNvPr id="145" name=""/>
              <p:cNvSpPr/>
              <p:nvPr/>
            </p:nvSpPr>
            <p:spPr>
              <a:xfrm>
                <a:off x="1328760" y="1384200"/>
                <a:ext cx="420840" cy="21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242720" y="128736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.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4497480" y="1503360"/>
            <a:ext cx="779400" cy="398880"/>
            <a:chOff x="4497480" y="1503360"/>
            <a:chExt cx="779400" cy="398880"/>
          </a:xfrm>
        </p:grpSpPr>
        <p:sp>
          <p:nvSpPr>
            <p:cNvPr id="148" name=""/>
            <p:cNvSpPr/>
            <p:nvPr/>
          </p:nvSpPr>
          <p:spPr>
            <a:xfrm>
              <a:off x="4505400" y="1682640"/>
              <a:ext cx="768240" cy="17928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3640" y="1668240"/>
              <a:ext cx="3240" cy="10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05400" y="1668240"/>
              <a:ext cx="762120" cy="10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7480" y="1538280"/>
              <a:ext cx="770040" cy="209520"/>
            </a:xfrm>
            <a:prstGeom prst="ellipse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00720" y="1668240"/>
              <a:ext cx="1440" cy="109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7760" y="1503360"/>
              <a:ext cx="558720" cy="398880"/>
              <a:chOff x="4577760" y="1503360"/>
              <a:chExt cx="558720" cy="398880"/>
            </a:xfrm>
          </p:grpSpPr>
          <p:sp>
            <p:nvSpPr>
              <p:cNvPr id="154" name=""/>
              <p:cNvSpPr/>
              <p:nvPr/>
            </p:nvSpPr>
            <p:spPr>
              <a:xfrm>
                <a:off x="4659120" y="1600200"/>
                <a:ext cx="420840" cy="21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7760" y="1503360"/>
                <a:ext cx="55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.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191200" y="2203560"/>
            <a:ext cx="501480" cy="398880"/>
            <a:chOff x="5191200" y="2203560"/>
            <a:chExt cx="501480" cy="398880"/>
          </a:xfrm>
        </p:grpSpPr>
        <p:sp>
          <p:nvSpPr>
            <p:cNvPr id="157" name=""/>
            <p:cNvSpPr/>
            <p:nvPr/>
          </p:nvSpPr>
          <p:spPr>
            <a:xfrm>
              <a:off x="5195880" y="23846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95880" y="2373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92680" y="237348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95880" y="23734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91200" y="2279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29440" y="2300400"/>
              <a:ext cx="223560" cy="18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95240" y="220356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629320" y="2556000"/>
            <a:ext cx="501480" cy="398880"/>
            <a:chOff x="5629320" y="2556000"/>
            <a:chExt cx="501480" cy="398880"/>
          </a:xfrm>
        </p:grpSpPr>
        <p:sp>
          <p:nvSpPr>
            <p:cNvPr id="165" name=""/>
            <p:cNvSpPr/>
            <p:nvPr/>
          </p:nvSpPr>
          <p:spPr>
            <a:xfrm>
              <a:off x="5633640" y="27370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33640" y="2725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30800" y="27259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72592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29320" y="263196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67200" y="2652840"/>
              <a:ext cx="22500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6440" y="25560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86280" y="3429000"/>
            <a:ext cx="2933640" cy="657360"/>
          </a:xfrm>
          <a:custGeom>
            <a:avLst/>
            <a:gdLst/>
            <a:ahLst/>
            <a:rect l="l" t="t" r="r" b="b"/>
            <a:pathLst>
              <a:path w="1848" h="414">
                <a:moveTo>
                  <a:pt x="0" y="414"/>
                </a:moveTo>
                <a:lnTo>
                  <a:pt x="84" y="0"/>
                </a:lnTo>
                <a:lnTo>
                  <a:pt x="384" y="6"/>
                </a:lnTo>
                <a:lnTo>
                  <a:pt x="1848" y="414"/>
                </a:lnTo>
                <a:lnTo>
                  <a:pt x="0" y="41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00400" y="3143160"/>
            <a:ext cx="501480" cy="398880"/>
            <a:chOff x="3200400" y="3143160"/>
            <a:chExt cx="501480" cy="398880"/>
          </a:xfrm>
        </p:grpSpPr>
        <p:sp>
          <p:nvSpPr>
            <p:cNvPr id="174" name=""/>
            <p:cNvSpPr/>
            <p:nvPr/>
          </p:nvSpPr>
          <p:spPr>
            <a:xfrm>
              <a:off x="3205080" y="33368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5080" y="3325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1880" y="3325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5080" y="33256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2320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301560" y="3143160"/>
              <a:ext cx="302760" cy="398880"/>
              <a:chOff x="3301560" y="3143160"/>
              <a:chExt cx="302760" cy="398880"/>
            </a:xfrm>
          </p:grpSpPr>
          <p:sp>
            <p:nvSpPr>
              <p:cNvPr id="180" name=""/>
              <p:cNvSpPr/>
              <p:nvPr/>
            </p:nvSpPr>
            <p:spPr>
              <a:xfrm>
                <a:off x="3334680" y="324000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1560" y="314316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D73-0E6F-4A6C-86E9-7C8F8BB8E7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: how to get one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0320" y="1393560"/>
            <a:ext cx="803412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(network portion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 allocated portion of ISP’s address 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0" y="2709720"/>
            <a:ext cx="9144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SP's block         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11001000  00010111  000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0000  00000000    200.23.16.0/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317-3619-4864-8F70-F66F473956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P addressing: the last word...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ICAN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tern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poration f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sign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es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cates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es DN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root ser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igns domain names, resolves disp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RIN in U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PE in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PIN in A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130-0EC9-4263-BFA6-0E3B2B948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etting a datagram from source to dest.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2314440"/>
            <a:ext cx="36957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P datagram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606920" y="3094200"/>
            <a:ext cx="4422600" cy="3154320"/>
            <a:chOff x="4606920" y="3094200"/>
            <a:chExt cx="4422600" cy="3154320"/>
          </a:xfrm>
        </p:grpSpPr>
        <p:sp>
          <p:nvSpPr>
            <p:cNvPr id="677" name=""/>
            <p:cNvSpPr/>
            <p:nvPr/>
          </p:nvSpPr>
          <p:spPr>
            <a:xfrm>
              <a:off x="4606920" y="3094200"/>
              <a:ext cx="1941480" cy="204948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22960" y="3381480"/>
              <a:ext cx="1906560" cy="195912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14720" y="4757760"/>
              <a:ext cx="2055960" cy="149076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4684680" y="31989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5244840" y="3571920"/>
              <a:ext cx="27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35360" y="355788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5244840" y="4216680"/>
              <a:ext cx="277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4560" y="484344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5" name="" descr=""/>
            <p:cNvPicPr/>
            <p:nvPr/>
          </p:nvPicPr>
          <p:blipFill>
            <a:blip r:embed="rId2"/>
            <a:stretch/>
          </p:blipFill>
          <p:spPr>
            <a:xfrm>
              <a:off x="4684680" y="386568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4684680" y="44751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5535360" y="4415040"/>
              <a:ext cx="10350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6478560" y="4380120"/>
              <a:ext cx="710640" cy="380160"/>
              <a:chOff x="6478560" y="4380120"/>
              <a:chExt cx="710640" cy="380160"/>
            </a:xfrm>
          </p:grpSpPr>
          <p:sp>
            <p:nvSpPr>
              <p:cNvPr id="689" name=""/>
              <p:cNvSpPr/>
              <p:nvPr/>
            </p:nvSpPr>
            <p:spPr>
              <a:xfrm>
                <a:off x="6484320" y="4549680"/>
                <a:ext cx="704880" cy="21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8432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8920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84320" y="4532040"/>
                <a:ext cx="698760" cy="12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478560" y="4380120"/>
                <a:ext cx="704520" cy="24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648120" y="4434120"/>
                <a:ext cx="349200" cy="143640"/>
                <a:chOff x="6648120" y="4434120"/>
                <a:chExt cx="349200" cy="143640"/>
              </a:xfrm>
            </p:grpSpPr>
            <p:sp>
              <p:nvSpPr>
                <p:cNvPr id="695" name=""/>
                <p:cNvSpPr/>
                <p:nvPr/>
              </p:nvSpPr>
              <p:spPr>
                <a:xfrm flipV="1">
                  <a:off x="6648120" y="44341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887520" y="45777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762960" y="443700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648120" y="4431960"/>
                <a:ext cx="349200" cy="143640"/>
                <a:chOff x="6648120" y="4431960"/>
                <a:chExt cx="349200" cy="14364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6648120" y="45727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887520" y="44319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6762960" y="443232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206320" y="3246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90920" y="3967200"/>
              <a:ext cx="30960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20360" y="3875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1840" y="4827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882400" y="41562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83360" y="4424400"/>
              <a:ext cx="1015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58800" y="4146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07200" y="372924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4"/>
            <a:stretch/>
          </p:blipFill>
          <p:spPr>
            <a:xfrm>
              <a:off x="8285040" y="343692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8107200" y="373392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2" name="" descr=""/>
            <p:cNvPicPr/>
            <p:nvPr/>
          </p:nvPicPr>
          <p:blipFill>
            <a:blip r:embed="rId5"/>
            <a:stretch/>
          </p:blipFill>
          <p:spPr>
            <a:xfrm>
              <a:off x="8289720" y="4818240"/>
              <a:ext cx="5842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8107200" y="500544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053200" y="4753080"/>
              <a:ext cx="17136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44440" y="4665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067600" y="3781440"/>
              <a:ext cx="24768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92160" y="3684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45040" y="476280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188040" y="5481720"/>
              <a:ext cx="11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6184440" y="547380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7360560" y="5478120"/>
              <a:ext cx="3240" cy="2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6"/>
            <a:stretch/>
          </p:blipFill>
          <p:spPr>
            <a:xfrm>
              <a:off x="7146720" y="563724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7"/>
            <a:stretch/>
          </p:blipFill>
          <p:spPr>
            <a:xfrm>
              <a:off x="5889600" y="565164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7368480" y="53276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91920" y="5365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81680" y="4896000"/>
              <a:ext cx="12852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44560" y="48182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4797360" y="3160800"/>
              <a:ext cx="343800" cy="398880"/>
              <a:chOff x="4797360" y="3160800"/>
              <a:chExt cx="343800" cy="398880"/>
            </a:xfrm>
          </p:grpSpPr>
          <p:sp>
            <p:nvSpPr>
              <p:cNvPr id="729" name=""/>
              <p:cNvSpPr/>
              <p:nvPr/>
            </p:nvSpPr>
            <p:spPr>
              <a:xfrm>
                <a:off x="4885920" y="32385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797360" y="31608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773960" y="4399200"/>
              <a:ext cx="346680" cy="398880"/>
              <a:chOff x="4773960" y="4399200"/>
              <a:chExt cx="346680" cy="398880"/>
            </a:xfrm>
          </p:grpSpPr>
          <p:sp>
            <p:nvSpPr>
              <p:cNvPr id="732" name=""/>
              <p:cNvSpPr/>
              <p:nvPr/>
            </p:nvSpPr>
            <p:spPr>
              <a:xfrm>
                <a:off x="4876560" y="44769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773960" y="4399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8395200" y="4761000"/>
              <a:ext cx="322560" cy="398880"/>
              <a:chOff x="8395200" y="4761000"/>
              <a:chExt cx="322560" cy="398880"/>
            </a:xfrm>
          </p:grpSpPr>
          <p:sp>
            <p:nvSpPr>
              <p:cNvPr id="735" name=""/>
              <p:cNvSpPr/>
              <p:nvPr/>
            </p:nvSpPr>
            <p:spPr>
              <a:xfrm>
                <a:off x="8486280" y="4838760"/>
                <a:ext cx="18072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395200" y="4761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"/>
          <p:cNvGrpSpPr/>
          <p:nvPr/>
        </p:nvGrpSpPr>
        <p:grpSpPr>
          <a:xfrm>
            <a:off x="475920" y="2870280"/>
            <a:ext cx="3667320" cy="661320"/>
            <a:chOff x="475920" y="2870280"/>
            <a:chExt cx="3667320" cy="661320"/>
          </a:xfrm>
        </p:grpSpPr>
        <p:sp>
          <p:nvSpPr>
            <p:cNvPr id="738" name=""/>
            <p:cNvSpPr/>
            <p:nvPr/>
          </p:nvSpPr>
          <p:spPr>
            <a:xfrm>
              <a:off x="552240" y="2923920"/>
              <a:ext cx="3591000" cy="50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475920" y="2870280"/>
              <a:ext cx="3591000" cy="661320"/>
              <a:chOff x="475920" y="2870280"/>
              <a:chExt cx="3591000" cy="661320"/>
            </a:xfrm>
          </p:grpSpPr>
          <p:sp>
            <p:nvSpPr>
              <p:cNvPr id="740" name=""/>
              <p:cNvSpPr/>
              <p:nvPr/>
            </p:nvSpPr>
            <p:spPr>
              <a:xfrm>
                <a:off x="475920" y="2971440"/>
                <a:ext cx="3591000" cy="504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89600" y="2889000"/>
                <a:ext cx="75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is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eld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238040" y="2981160"/>
                <a:ext cx="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247040" y="287028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sour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61440" y="288900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des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199960" y="2981160"/>
                <a:ext cx="0" cy="50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133440" y="2990520"/>
                <a:ext cx="0" cy="50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244320" y="3041280"/>
                <a:ext cx="659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8" name=""/>
          <p:cNvSpPr/>
          <p:nvPr/>
        </p:nvSpPr>
        <p:spPr>
          <a:xfrm>
            <a:off x="514440" y="3619440"/>
            <a:ext cx="369576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 remains unchanged, as it travels source to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 fields of interest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750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686560" y="1123920"/>
            <a:ext cx="2733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outing table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E6D-5A3E-4669-9525-4559B98042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etting a datagram from source to dest.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4606920" y="3094200"/>
            <a:ext cx="4422600" cy="3154320"/>
            <a:chOff x="4606920" y="3094200"/>
            <a:chExt cx="4422600" cy="3154320"/>
          </a:xfrm>
        </p:grpSpPr>
        <p:sp>
          <p:nvSpPr>
            <p:cNvPr id="761" name=""/>
            <p:cNvSpPr/>
            <p:nvPr/>
          </p:nvSpPr>
          <p:spPr>
            <a:xfrm>
              <a:off x="4606920" y="3094200"/>
              <a:ext cx="1941480" cy="204948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22960" y="3381480"/>
              <a:ext cx="1906560" cy="195912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814720" y="4757760"/>
              <a:ext cx="2055960" cy="149076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1"/>
            <a:stretch/>
          </p:blipFill>
          <p:spPr>
            <a:xfrm>
              <a:off x="4684680" y="31989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5244840" y="3571920"/>
              <a:ext cx="27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35360" y="355788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5244840" y="4216680"/>
              <a:ext cx="277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54560" y="484344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9" name="" descr=""/>
            <p:cNvPicPr/>
            <p:nvPr/>
          </p:nvPicPr>
          <p:blipFill>
            <a:blip r:embed="rId2"/>
            <a:stretch/>
          </p:blipFill>
          <p:spPr>
            <a:xfrm>
              <a:off x="4684680" y="386568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3"/>
            <a:stretch/>
          </p:blipFill>
          <p:spPr>
            <a:xfrm>
              <a:off x="4684680" y="44751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5535360" y="4415040"/>
              <a:ext cx="10350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478560" y="4380120"/>
              <a:ext cx="710640" cy="380160"/>
              <a:chOff x="6478560" y="4380120"/>
              <a:chExt cx="710640" cy="380160"/>
            </a:xfrm>
          </p:grpSpPr>
          <p:sp>
            <p:nvSpPr>
              <p:cNvPr id="773" name=""/>
              <p:cNvSpPr/>
              <p:nvPr/>
            </p:nvSpPr>
            <p:spPr>
              <a:xfrm>
                <a:off x="6484320" y="4549680"/>
                <a:ext cx="704880" cy="21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8432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18920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84320" y="4532040"/>
                <a:ext cx="698760" cy="12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78560" y="4380120"/>
                <a:ext cx="704520" cy="24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6648120" y="4434120"/>
                <a:ext cx="349200" cy="143640"/>
                <a:chOff x="6648120" y="4434120"/>
                <a:chExt cx="349200" cy="143640"/>
              </a:xfrm>
            </p:grpSpPr>
            <p:sp>
              <p:nvSpPr>
                <p:cNvPr id="779" name=""/>
                <p:cNvSpPr/>
                <p:nvPr/>
              </p:nvSpPr>
              <p:spPr>
                <a:xfrm flipV="1">
                  <a:off x="6648120" y="44341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6887520" y="45777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762960" y="443700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648120" y="4431960"/>
                <a:ext cx="349200" cy="143640"/>
                <a:chOff x="6648120" y="4431960"/>
                <a:chExt cx="349200" cy="14364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6648120" y="45727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887520" y="44319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6762960" y="443232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5206320" y="3246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90920" y="3967200"/>
              <a:ext cx="30960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220360" y="3875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91840" y="4827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882400" y="41562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83360" y="4424400"/>
              <a:ext cx="1015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58800" y="4146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107200" y="372924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4" name="" descr=""/>
            <p:cNvPicPr/>
            <p:nvPr/>
          </p:nvPicPr>
          <p:blipFill>
            <a:blip r:embed="rId4"/>
            <a:stretch/>
          </p:blipFill>
          <p:spPr>
            <a:xfrm>
              <a:off x="8285040" y="343692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107200" y="373392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5"/>
            <a:stretch/>
          </p:blipFill>
          <p:spPr>
            <a:xfrm>
              <a:off x="8289720" y="4818240"/>
              <a:ext cx="5842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107200" y="500544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3200" y="4753080"/>
              <a:ext cx="17136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44440" y="4665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067600" y="3781440"/>
              <a:ext cx="24768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92160" y="3684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845040" y="476280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188040" y="5481720"/>
              <a:ext cx="11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6184440" y="547380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7360560" y="5478120"/>
              <a:ext cx="3240" cy="2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6" name="" descr=""/>
            <p:cNvPicPr/>
            <p:nvPr/>
          </p:nvPicPr>
          <p:blipFill>
            <a:blip r:embed="rId6"/>
            <a:stretch/>
          </p:blipFill>
          <p:spPr>
            <a:xfrm>
              <a:off x="7146720" y="563724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7"/>
            <a:stretch/>
          </p:blipFill>
          <p:spPr>
            <a:xfrm>
              <a:off x="5889600" y="565164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7368480" y="53276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191920" y="5365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81680" y="4896000"/>
              <a:ext cx="12852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244560" y="48182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4797360" y="3160800"/>
              <a:ext cx="343800" cy="398880"/>
              <a:chOff x="4797360" y="3160800"/>
              <a:chExt cx="343800" cy="398880"/>
            </a:xfrm>
          </p:grpSpPr>
          <p:sp>
            <p:nvSpPr>
              <p:cNvPr id="813" name=""/>
              <p:cNvSpPr/>
              <p:nvPr/>
            </p:nvSpPr>
            <p:spPr>
              <a:xfrm>
                <a:off x="4885920" y="32385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797360" y="31608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4773960" y="4399200"/>
              <a:ext cx="346680" cy="398880"/>
              <a:chOff x="4773960" y="4399200"/>
              <a:chExt cx="346680" cy="398880"/>
            </a:xfrm>
          </p:grpSpPr>
          <p:sp>
            <p:nvSpPr>
              <p:cNvPr id="816" name=""/>
              <p:cNvSpPr/>
              <p:nvPr/>
            </p:nvSpPr>
            <p:spPr>
              <a:xfrm>
                <a:off x="4876560" y="44769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773960" y="4399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8395200" y="4761000"/>
              <a:ext cx="322560" cy="398880"/>
              <a:chOff x="8395200" y="4761000"/>
              <a:chExt cx="322560" cy="398880"/>
            </a:xfrm>
          </p:grpSpPr>
          <p:sp>
            <p:nvSpPr>
              <p:cNvPr id="819" name=""/>
              <p:cNvSpPr/>
              <p:nvPr/>
            </p:nvSpPr>
            <p:spPr>
              <a:xfrm>
                <a:off x="8486280" y="4838760"/>
                <a:ext cx="18072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95200" y="4761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1" name=""/>
          <p:cNvSpPr/>
          <p:nvPr/>
        </p:nvSpPr>
        <p:spPr>
          <a:xfrm>
            <a:off x="371520" y="2305080"/>
            <a:ext cx="43336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ing at A, given IP datagram addressed to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up net. address of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B is on same net.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will send datagram directly to B inside link-layer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 and A are directly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823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42880" y="1523880"/>
            <a:ext cx="3591000" cy="505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6560" y="1590840"/>
            <a:ext cx="3591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0600" y="15080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28680" y="1600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6424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8268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19400" y="1600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38560" y="16002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34960" y="16606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F03-F7B7-4A83-9DED-630B8ADE23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etting a datagram from source to dest.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606920" y="3094200"/>
            <a:ext cx="4422600" cy="3154320"/>
            <a:chOff x="4606920" y="3094200"/>
            <a:chExt cx="4422600" cy="3154320"/>
          </a:xfrm>
        </p:grpSpPr>
        <p:sp>
          <p:nvSpPr>
            <p:cNvPr id="842" name=""/>
            <p:cNvSpPr/>
            <p:nvPr/>
          </p:nvSpPr>
          <p:spPr>
            <a:xfrm>
              <a:off x="4606920" y="3094200"/>
              <a:ext cx="1941480" cy="204948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122960" y="3381480"/>
              <a:ext cx="1906560" cy="195912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814720" y="4757760"/>
              <a:ext cx="2055960" cy="149076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1"/>
            <a:stretch/>
          </p:blipFill>
          <p:spPr>
            <a:xfrm>
              <a:off x="4684680" y="31989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5244840" y="3571920"/>
              <a:ext cx="27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535360" y="355788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244840" y="4216680"/>
              <a:ext cx="277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54560" y="484344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0" name="" descr=""/>
            <p:cNvPicPr/>
            <p:nvPr/>
          </p:nvPicPr>
          <p:blipFill>
            <a:blip r:embed="rId2"/>
            <a:stretch/>
          </p:blipFill>
          <p:spPr>
            <a:xfrm>
              <a:off x="4684680" y="386568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" descr=""/>
            <p:cNvPicPr/>
            <p:nvPr/>
          </p:nvPicPr>
          <p:blipFill>
            <a:blip r:embed="rId3"/>
            <a:stretch/>
          </p:blipFill>
          <p:spPr>
            <a:xfrm>
              <a:off x="4684680" y="44751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5535360" y="4415040"/>
              <a:ext cx="10350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6478560" y="4380120"/>
              <a:ext cx="710640" cy="380160"/>
              <a:chOff x="6478560" y="4380120"/>
              <a:chExt cx="710640" cy="380160"/>
            </a:xfrm>
          </p:grpSpPr>
          <p:sp>
            <p:nvSpPr>
              <p:cNvPr id="854" name=""/>
              <p:cNvSpPr/>
              <p:nvPr/>
            </p:nvSpPr>
            <p:spPr>
              <a:xfrm>
                <a:off x="6484320" y="4549680"/>
                <a:ext cx="704880" cy="21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8432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18920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484320" y="4532040"/>
                <a:ext cx="698760" cy="12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78560" y="4380120"/>
                <a:ext cx="704520" cy="24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6648120" y="4434120"/>
                <a:ext cx="349200" cy="143640"/>
                <a:chOff x="6648120" y="4434120"/>
                <a:chExt cx="349200" cy="143640"/>
              </a:xfrm>
            </p:grpSpPr>
            <p:sp>
              <p:nvSpPr>
                <p:cNvPr id="860" name=""/>
                <p:cNvSpPr/>
                <p:nvPr/>
              </p:nvSpPr>
              <p:spPr>
                <a:xfrm flipV="1">
                  <a:off x="6648120" y="44341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887520" y="45777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762960" y="443700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6648120" y="4431960"/>
                <a:ext cx="349200" cy="143640"/>
                <a:chOff x="6648120" y="4431960"/>
                <a:chExt cx="349200" cy="14364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6648120" y="45727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6887520" y="44319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6762960" y="443232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5206320" y="3246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90920" y="3967200"/>
              <a:ext cx="30960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220360" y="3875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91840" y="4827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882400" y="41562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83360" y="4424400"/>
              <a:ext cx="1015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958800" y="4146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107200" y="372924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4"/>
            <a:stretch/>
          </p:blipFill>
          <p:spPr>
            <a:xfrm>
              <a:off x="8285040" y="343692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8107200" y="373392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5"/>
            <a:stretch/>
          </p:blipFill>
          <p:spPr>
            <a:xfrm>
              <a:off x="8289720" y="4818240"/>
              <a:ext cx="5842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>
              <a:off x="8107200" y="500544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053200" y="4753080"/>
              <a:ext cx="17136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44440" y="4665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67600" y="3781440"/>
              <a:ext cx="24768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92160" y="3684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845040" y="476280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6188040" y="5481720"/>
              <a:ext cx="11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6184440" y="547380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60560" y="5478120"/>
              <a:ext cx="3240" cy="2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" descr=""/>
            <p:cNvPicPr/>
            <p:nvPr/>
          </p:nvPicPr>
          <p:blipFill>
            <a:blip r:embed="rId6"/>
            <a:stretch/>
          </p:blipFill>
          <p:spPr>
            <a:xfrm>
              <a:off x="7146720" y="563724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8" name="" descr=""/>
            <p:cNvPicPr/>
            <p:nvPr/>
          </p:nvPicPr>
          <p:blipFill>
            <a:blip r:embed="rId7"/>
            <a:stretch/>
          </p:blipFill>
          <p:spPr>
            <a:xfrm>
              <a:off x="5889600" y="565164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7368480" y="53276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91920" y="5365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81680" y="4896000"/>
              <a:ext cx="12852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44560" y="48182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4797360" y="3160800"/>
              <a:ext cx="343800" cy="398880"/>
              <a:chOff x="4797360" y="3160800"/>
              <a:chExt cx="343800" cy="398880"/>
            </a:xfrm>
          </p:grpSpPr>
          <p:sp>
            <p:nvSpPr>
              <p:cNvPr id="894" name=""/>
              <p:cNvSpPr/>
              <p:nvPr/>
            </p:nvSpPr>
            <p:spPr>
              <a:xfrm>
                <a:off x="4885920" y="32385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97360" y="31608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4773960" y="4399200"/>
              <a:ext cx="346680" cy="398880"/>
              <a:chOff x="4773960" y="4399200"/>
              <a:chExt cx="346680" cy="398880"/>
            </a:xfrm>
          </p:grpSpPr>
          <p:sp>
            <p:nvSpPr>
              <p:cNvPr id="897" name=""/>
              <p:cNvSpPr/>
              <p:nvPr/>
            </p:nvSpPr>
            <p:spPr>
              <a:xfrm>
                <a:off x="4876560" y="44769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773960" y="4399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8395200" y="4761000"/>
              <a:ext cx="322560" cy="398880"/>
              <a:chOff x="8395200" y="4761000"/>
              <a:chExt cx="322560" cy="398880"/>
            </a:xfrm>
          </p:grpSpPr>
          <p:sp>
            <p:nvSpPr>
              <p:cNvPr id="900" name=""/>
              <p:cNvSpPr/>
              <p:nvPr/>
            </p:nvSpPr>
            <p:spPr>
              <a:xfrm>
                <a:off x="8486280" y="4838760"/>
                <a:ext cx="18072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395200" y="4761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903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09680" y="2286000"/>
            <a:ext cx="40669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rting at A, dest.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up network address of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o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, E not directly att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table: next hop router to E is 223.1.1.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sends datagram to router 223.1.1.4 inside link-layer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 arrives at 223.1.1.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d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F67-0F1A-4069-9038-960BAAD02F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etting a datagram from source to dest.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4606920" y="3094200"/>
            <a:ext cx="4422600" cy="3154320"/>
            <a:chOff x="4606920" y="3094200"/>
            <a:chExt cx="4422600" cy="3154320"/>
          </a:xfrm>
        </p:grpSpPr>
        <p:sp>
          <p:nvSpPr>
            <p:cNvPr id="923" name=""/>
            <p:cNvSpPr/>
            <p:nvPr/>
          </p:nvSpPr>
          <p:spPr>
            <a:xfrm>
              <a:off x="4606920" y="3094200"/>
              <a:ext cx="1941480" cy="2049480"/>
            </a:xfrm>
            <a:custGeom>
              <a:avLst/>
              <a:gdLst/>
              <a:ahLst/>
              <a:rect l="l" t="t" r="r" b="b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122960" y="3381480"/>
              <a:ext cx="1906560" cy="1959120"/>
            </a:xfrm>
            <a:custGeom>
              <a:avLst/>
              <a:gdLst/>
              <a:ahLst/>
              <a:rect l="l" t="t" r="r" b="b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814720" y="4757760"/>
              <a:ext cx="2055960" cy="1490760"/>
            </a:xfrm>
            <a:custGeom>
              <a:avLst/>
              <a:gdLst/>
              <a:ahLst/>
              <a:rect l="l" t="t" r="r" b="b"/>
              <a:pathLst>
                <a:path w="1295" h="939">
                  <a:moveTo>
                    <a:pt x="600" y="30"/>
                  </a:moveTo>
                  <a:cubicBezTo>
                    <a:pt x="486" y="60"/>
                    <a:pt x="610" y="247"/>
                    <a:pt x="525" y="393"/>
                  </a:cubicBezTo>
                  <a:cubicBezTo>
                    <a:pt x="439" y="467"/>
                    <a:pt x="162" y="394"/>
                    <a:pt x="81" y="471"/>
                  </a:cubicBezTo>
                  <a:cubicBezTo>
                    <a:pt x="0" y="548"/>
                    <a:pt x="18" y="779"/>
                    <a:pt x="39" y="855"/>
                  </a:cubicBezTo>
                  <a:cubicBezTo>
                    <a:pt x="60" y="931"/>
                    <a:pt x="142" y="915"/>
                    <a:pt x="207" y="927"/>
                  </a:cubicBezTo>
                  <a:cubicBezTo>
                    <a:pt x="272" y="939"/>
                    <a:pt x="346" y="933"/>
                    <a:pt x="429" y="927"/>
                  </a:cubicBezTo>
                  <a:cubicBezTo>
                    <a:pt x="512" y="921"/>
                    <a:pt x="572" y="904"/>
                    <a:pt x="705" y="891"/>
                  </a:cubicBezTo>
                  <a:cubicBezTo>
                    <a:pt x="838" y="878"/>
                    <a:pt x="1159" y="921"/>
                    <a:pt x="1227" y="849"/>
                  </a:cubicBezTo>
                  <a:cubicBezTo>
                    <a:pt x="1295" y="777"/>
                    <a:pt x="1188" y="540"/>
                    <a:pt x="1113" y="459"/>
                  </a:cubicBezTo>
                  <a:cubicBezTo>
                    <a:pt x="1038" y="378"/>
                    <a:pt x="835" y="432"/>
                    <a:pt x="777" y="363"/>
                  </a:cubicBezTo>
                  <a:cubicBezTo>
                    <a:pt x="719" y="294"/>
                    <a:pt x="791" y="97"/>
                    <a:pt x="762" y="42"/>
                  </a:cubicBezTo>
                  <a:cubicBezTo>
                    <a:pt x="708" y="15"/>
                    <a:pt x="714" y="0"/>
                    <a:pt x="600" y="30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6" name="" descr=""/>
            <p:cNvPicPr/>
            <p:nvPr/>
          </p:nvPicPr>
          <p:blipFill>
            <a:blip r:embed="rId1"/>
            <a:stretch/>
          </p:blipFill>
          <p:spPr>
            <a:xfrm>
              <a:off x="4684680" y="31989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>
              <a:off x="5244840" y="3571920"/>
              <a:ext cx="277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35360" y="355788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5244840" y="4216680"/>
              <a:ext cx="2779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54560" y="484344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" descr=""/>
            <p:cNvPicPr/>
            <p:nvPr/>
          </p:nvPicPr>
          <p:blipFill>
            <a:blip r:embed="rId2"/>
            <a:stretch/>
          </p:blipFill>
          <p:spPr>
            <a:xfrm>
              <a:off x="4684680" y="386568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3"/>
            <a:stretch/>
          </p:blipFill>
          <p:spPr>
            <a:xfrm>
              <a:off x="4684680" y="447516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5535360" y="4415040"/>
              <a:ext cx="10350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8560" y="4380120"/>
              <a:ext cx="710640" cy="380160"/>
              <a:chOff x="6478560" y="4380120"/>
              <a:chExt cx="710640" cy="380160"/>
            </a:xfrm>
          </p:grpSpPr>
          <p:sp>
            <p:nvSpPr>
              <p:cNvPr id="935" name=""/>
              <p:cNvSpPr/>
              <p:nvPr/>
            </p:nvSpPr>
            <p:spPr>
              <a:xfrm>
                <a:off x="6484320" y="4549680"/>
                <a:ext cx="704880" cy="21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8432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89200" y="453204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84320" y="4532040"/>
                <a:ext cx="698760" cy="12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478560" y="4380120"/>
                <a:ext cx="704520" cy="24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"/>
              <p:cNvGrpSpPr/>
              <p:nvPr/>
            </p:nvGrpSpPr>
            <p:grpSpPr>
              <a:xfrm>
                <a:off x="6648120" y="4434120"/>
                <a:ext cx="349200" cy="143640"/>
                <a:chOff x="6648120" y="4434120"/>
                <a:chExt cx="349200" cy="143640"/>
              </a:xfrm>
            </p:grpSpPr>
            <p:sp>
              <p:nvSpPr>
                <p:cNvPr id="941" name=""/>
                <p:cNvSpPr/>
                <p:nvPr/>
              </p:nvSpPr>
              <p:spPr>
                <a:xfrm flipV="1">
                  <a:off x="6648120" y="44341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887520" y="45777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762960" y="443700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6648120" y="4431960"/>
                <a:ext cx="349200" cy="143640"/>
                <a:chOff x="6648120" y="4431960"/>
                <a:chExt cx="349200" cy="14364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6648120" y="4572720"/>
                  <a:ext cx="12456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887520" y="4431960"/>
                  <a:ext cx="109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6762960" y="4432320"/>
                  <a:ext cx="12960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8" name=""/>
            <p:cNvSpPr/>
            <p:nvPr/>
          </p:nvSpPr>
          <p:spPr>
            <a:xfrm>
              <a:off x="5206320" y="3246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90920" y="3967200"/>
              <a:ext cx="30960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220360" y="3875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91840" y="4827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82400" y="41562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83360" y="4424400"/>
              <a:ext cx="1015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58800" y="4146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07200" y="3729240"/>
              <a:ext cx="0" cy="12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6" name="" descr=""/>
            <p:cNvPicPr/>
            <p:nvPr/>
          </p:nvPicPr>
          <p:blipFill>
            <a:blip r:embed="rId4"/>
            <a:stretch/>
          </p:blipFill>
          <p:spPr>
            <a:xfrm>
              <a:off x="8285040" y="343692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8107200" y="373392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8" name="" descr=""/>
            <p:cNvPicPr/>
            <p:nvPr/>
          </p:nvPicPr>
          <p:blipFill>
            <a:blip r:embed="rId5"/>
            <a:stretch/>
          </p:blipFill>
          <p:spPr>
            <a:xfrm>
              <a:off x="8289720" y="4818240"/>
              <a:ext cx="58428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8107200" y="5005440"/>
              <a:ext cx="235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53200" y="4753080"/>
              <a:ext cx="17136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444440" y="46659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67600" y="3781440"/>
              <a:ext cx="24768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92160" y="36846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845040" y="4762800"/>
              <a:ext cx="0" cy="71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6188040" y="5481720"/>
              <a:ext cx="118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flipV="1">
              <a:off x="6184440" y="547380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flipV="1">
              <a:off x="7360560" y="5478120"/>
              <a:ext cx="3240" cy="24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8" name="" descr=""/>
            <p:cNvPicPr/>
            <p:nvPr/>
          </p:nvPicPr>
          <p:blipFill>
            <a:blip r:embed="rId6"/>
            <a:stretch/>
          </p:blipFill>
          <p:spPr>
            <a:xfrm>
              <a:off x="7146720" y="5637240"/>
              <a:ext cx="58428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9" name="" descr=""/>
            <p:cNvPicPr/>
            <p:nvPr/>
          </p:nvPicPr>
          <p:blipFill>
            <a:blip r:embed="rId7"/>
            <a:stretch/>
          </p:blipFill>
          <p:spPr>
            <a:xfrm>
              <a:off x="5889600" y="565164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7368480" y="53276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91920" y="53658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81680" y="4896000"/>
              <a:ext cx="12852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244560" y="481824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797360" y="3160800"/>
              <a:ext cx="343800" cy="398880"/>
              <a:chOff x="4797360" y="3160800"/>
              <a:chExt cx="343800" cy="398880"/>
            </a:xfrm>
          </p:grpSpPr>
          <p:sp>
            <p:nvSpPr>
              <p:cNvPr id="975" name=""/>
              <p:cNvSpPr/>
              <p:nvPr/>
            </p:nvSpPr>
            <p:spPr>
              <a:xfrm>
                <a:off x="4885920" y="32385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797360" y="31608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773960" y="4399200"/>
              <a:ext cx="346680" cy="398880"/>
              <a:chOff x="4773960" y="4399200"/>
              <a:chExt cx="346680" cy="398880"/>
            </a:xfrm>
          </p:grpSpPr>
          <p:sp>
            <p:nvSpPr>
              <p:cNvPr id="978" name=""/>
              <p:cNvSpPr/>
              <p:nvPr/>
            </p:nvSpPr>
            <p:spPr>
              <a:xfrm>
                <a:off x="4876560" y="4476960"/>
                <a:ext cx="18108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773960" y="43992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8395200" y="4761000"/>
              <a:ext cx="322560" cy="398880"/>
              <a:chOff x="8395200" y="4761000"/>
              <a:chExt cx="322560" cy="398880"/>
            </a:xfrm>
          </p:grpSpPr>
          <p:sp>
            <p:nvSpPr>
              <p:cNvPr id="981" name=""/>
              <p:cNvSpPr/>
              <p:nvPr/>
            </p:nvSpPr>
            <p:spPr>
              <a:xfrm>
                <a:off x="8486280" y="4838760"/>
                <a:ext cx="18072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95200" y="47610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3" name=""/>
          <p:cNvSpPr/>
          <p:nvPr/>
        </p:nvSpPr>
        <p:spPr>
          <a:xfrm>
            <a:off x="6848640" y="2905200"/>
            <a:ext cx="237960" cy="1476360"/>
          </a:xfrm>
          <a:custGeom>
            <a:avLst/>
            <a:gdLst/>
            <a:ahLst/>
            <a:rect l="l" t="t" r="r" b="b"/>
            <a:pathLst>
              <a:path w="150" h="720">
                <a:moveTo>
                  <a:pt x="126" y="0"/>
                </a:moveTo>
                <a:cubicBezTo>
                  <a:pt x="150" y="210"/>
                  <a:pt x="138" y="450"/>
                  <a:pt x="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24000" y="2286000"/>
            <a:ext cx="41526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riving at 223.1.4, destined for 223.1.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up network address of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o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am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as router’s interface 223.1.2.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, E directly atta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sends datagram to 223.1.2.2 inside link-layer frame via interface 223.1.2.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gram arrives at 223.1.2.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!!!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hooray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4768560" y="1249200"/>
            <a:ext cx="4098960" cy="1713240"/>
            <a:chOff x="4768560" y="1249200"/>
            <a:chExt cx="4098960" cy="1713240"/>
          </a:xfrm>
        </p:grpSpPr>
        <p:sp>
          <p:nvSpPr>
            <p:cNvPr id="995" name=""/>
            <p:cNvSpPr/>
            <p:nvPr/>
          </p:nvSpPr>
          <p:spPr>
            <a:xfrm>
              <a:off x="4768560" y="1534680"/>
              <a:ext cx="408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   router  Nhops 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10320" y="1935000"/>
              <a:ext cx="39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1         -          1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20040" y="2230200"/>
              <a:ext cx="39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2         -          1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29400" y="256356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3.1.3         -          1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67200" y="1914120"/>
              <a:ext cx="3390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9920" y="167616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7080" y="172368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782960" y="1249200"/>
              <a:ext cx="19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t.      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05800" y="1695240"/>
              <a:ext cx="0" cy="1181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26D-67FB-43AC-B344-A219CFE65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96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ra-AS and Inter-AS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066440" y="2351160"/>
            <a:ext cx="8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050840" y="1754280"/>
            <a:ext cx="6264000" cy="2487600"/>
            <a:chOff x="1050840" y="1754280"/>
            <a:chExt cx="6264000" cy="2487600"/>
          </a:xfrm>
        </p:grpSpPr>
        <p:sp>
          <p:nvSpPr>
            <p:cNvPr id="185" name=""/>
            <p:cNvSpPr/>
            <p:nvPr/>
          </p:nvSpPr>
          <p:spPr>
            <a:xfrm>
              <a:off x="5470200" y="2646720"/>
              <a:ext cx="1844640" cy="861840"/>
            </a:xfrm>
            <a:custGeom>
              <a:avLst/>
              <a:gdLst/>
              <a:ahLst/>
              <a:rect l="l" t="t" r="r" b="b"/>
              <a:pathLst>
                <a:path w="1162" h="543">
                  <a:moveTo>
                    <a:pt x="56" y="162"/>
                  </a:moveTo>
                  <a:cubicBezTo>
                    <a:pt x="115" y="100"/>
                    <a:pt x="221" y="28"/>
                    <a:pt x="368" y="14"/>
                  </a:cubicBezTo>
                  <a:cubicBezTo>
                    <a:pt x="515" y="0"/>
                    <a:pt x="811" y="42"/>
                    <a:pt x="940" y="79"/>
                  </a:cubicBezTo>
                  <a:cubicBezTo>
                    <a:pt x="1069" y="116"/>
                    <a:pt x="1126" y="177"/>
                    <a:pt x="1144" y="239"/>
                  </a:cubicBezTo>
                  <a:cubicBezTo>
                    <a:pt x="1162" y="301"/>
                    <a:pt x="1141" y="401"/>
                    <a:pt x="1048" y="451"/>
                  </a:cubicBezTo>
                  <a:cubicBezTo>
                    <a:pt x="955" y="501"/>
                    <a:pt x="746" y="543"/>
                    <a:pt x="586" y="541"/>
                  </a:cubicBezTo>
                  <a:cubicBezTo>
                    <a:pt x="426" y="539"/>
                    <a:pt x="176" y="502"/>
                    <a:pt x="88" y="439"/>
                  </a:cubicBezTo>
                  <a:cubicBezTo>
                    <a:pt x="0" y="376"/>
                    <a:pt x="63" y="220"/>
                    <a:pt x="56" y="16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50840" y="2630880"/>
              <a:ext cx="1901520" cy="715680"/>
            </a:xfrm>
            <a:custGeom>
              <a:avLst/>
              <a:gdLst/>
              <a:ahLst/>
              <a:rect l="l" t="t" r="r" b="b"/>
              <a:pathLst>
                <a:path w="1198" h="451">
                  <a:moveTo>
                    <a:pt x="88" y="181"/>
                  </a:moveTo>
                  <a:cubicBezTo>
                    <a:pt x="159" y="143"/>
                    <a:pt x="120" y="111"/>
                    <a:pt x="180" y="89"/>
                  </a:cubicBezTo>
                  <a:cubicBezTo>
                    <a:pt x="240" y="67"/>
                    <a:pt x="313" y="60"/>
                    <a:pt x="448" y="49"/>
                  </a:cubicBezTo>
                  <a:cubicBezTo>
                    <a:pt x="583" y="38"/>
                    <a:pt x="866" y="0"/>
                    <a:pt x="988" y="25"/>
                  </a:cubicBezTo>
                  <a:cubicBezTo>
                    <a:pt x="1110" y="50"/>
                    <a:pt x="1198" y="132"/>
                    <a:pt x="1181" y="197"/>
                  </a:cubicBezTo>
                  <a:cubicBezTo>
                    <a:pt x="1164" y="262"/>
                    <a:pt x="1034" y="375"/>
                    <a:pt x="889" y="413"/>
                  </a:cubicBezTo>
                  <a:cubicBezTo>
                    <a:pt x="744" y="451"/>
                    <a:pt x="449" y="438"/>
                    <a:pt x="307" y="425"/>
                  </a:cubicBezTo>
                  <a:cubicBezTo>
                    <a:pt x="165" y="412"/>
                    <a:pt x="72" y="378"/>
                    <a:pt x="36" y="337"/>
                  </a:cubicBezTo>
                  <a:cubicBezTo>
                    <a:pt x="0" y="296"/>
                    <a:pt x="77" y="213"/>
                    <a:pt x="88" y="18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39600" y="2841840"/>
              <a:ext cx="2832120" cy="22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6640" y="3159360"/>
              <a:ext cx="2513160" cy="1082520"/>
            </a:xfrm>
            <a:custGeom>
              <a:avLst/>
              <a:gdLst/>
              <a:ahLst/>
              <a:rect l="l" t="t" r="r" b="b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7480" y="30229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47480" y="30117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4280" y="30117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7480" y="30117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2800" y="29181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1040" y="2938680"/>
              <a:ext cx="223560" cy="19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36400" y="2841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81040" y="39848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81040" y="3973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77840" y="3973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81040" y="39736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76360" y="38800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363840" y="3794400"/>
              <a:ext cx="337680" cy="398880"/>
              <a:chOff x="3363840" y="3794400"/>
              <a:chExt cx="337680" cy="398880"/>
            </a:xfrm>
          </p:grpSpPr>
          <p:sp>
            <p:nvSpPr>
              <p:cNvPr id="202" name=""/>
              <p:cNvSpPr/>
              <p:nvPr/>
            </p:nvSpPr>
            <p:spPr>
              <a:xfrm>
                <a:off x="3413520" y="389088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363840" y="37944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005000" y="298620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85920" y="2543400"/>
              <a:ext cx="78084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95200" y="2016360"/>
              <a:ext cx="781200" cy="774720"/>
            </a:xfrm>
            <a:custGeom>
              <a:avLst/>
              <a:gdLst/>
              <a:ahLst/>
              <a:rect l="l" t="t" r="r" b="b"/>
              <a:pathLst>
                <a:path w="492" h="488">
                  <a:moveTo>
                    <a:pt x="84" y="486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04" y="488"/>
                  </a:lnTo>
                  <a:lnTo>
                    <a:pt x="84" y="4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38120" y="28134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38120" y="28022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4920" y="28022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8120" y="28022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3440" y="27086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71320" y="2729160"/>
              <a:ext cx="225720" cy="174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20920" y="2632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23800" y="335628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23800" y="33451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20960" y="33451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23800" y="33451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19120" y="32515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309840" y="3165840"/>
              <a:ext cx="324000" cy="398880"/>
              <a:chOff x="3309840" y="3165840"/>
              <a:chExt cx="324000" cy="398880"/>
            </a:xfrm>
          </p:grpSpPr>
          <p:sp>
            <p:nvSpPr>
              <p:cNvPr id="220" name=""/>
              <p:cNvSpPr/>
              <p:nvPr/>
            </p:nvSpPr>
            <p:spPr>
              <a:xfrm>
                <a:off x="3353400" y="32623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09840" y="31658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439960" y="2224440"/>
              <a:ext cx="781200" cy="79056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73560" y="3057840"/>
              <a:ext cx="488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88000" y="2937240"/>
              <a:ext cx="145800" cy="18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965560" y="2867040"/>
              <a:ext cx="18108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74960" y="3873600"/>
              <a:ext cx="419040" cy="130320"/>
            </a:xfrm>
            <a:custGeom>
              <a:avLst/>
              <a:gdLst/>
              <a:ahLst/>
              <a:rect l="l" t="t" r="r" b="b"/>
              <a:pathLst>
                <a:path w="264" h="82">
                  <a:moveTo>
                    <a:pt x="0" y="82"/>
                  </a:moveTo>
                  <a:lnTo>
                    <a:pt x="26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4520" y="3816720"/>
              <a:ext cx="241200" cy="187200"/>
            </a:xfrm>
            <a:custGeom>
              <a:avLst/>
              <a:gdLst/>
              <a:ahLst/>
              <a:rect l="l" t="t" r="r" b="b"/>
              <a:pathLst>
                <a:path w="152" h="118">
                  <a:moveTo>
                    <a:pt x="0" y="0"/>
                  </a:moveTo>
                  <a:lnTo>
                    <a:pt x="152" y="11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41440" y="3705480"/>
              <a:ext cx="895320" cy="130320"/>
            </a:xfrm>
            <a:custGeom>
              <a:avLst/>
              <a:gdLst/>
              <a:ahLst/>
              <a:rect l="l" t="t" r="r" b="b"/>
              <a:pathLst>
                <a:path w="564" h="82">
                  <a:moveTo>
                    <a:pt x="0" y="0"/>
                  </a:moveTo>
                  <a:lnTo>
                    <a:pt x="564" y="8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43160" y="3448440"/>
              <a:ext cx="120600" cy="14904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0" y="94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1680" y="2851560"/>
              <a:ext cx="399960" cy="180720"/>
            </a:xfrm>
            <a:custGeom>
              <a:avLst/>
              <a:gdLst/>
              <a:ahLst/>
              <a:rect l="l" t="t" r="r" b="b"/>
              <a:pathLst>
                <a:path w="252" h="114">
                  <a:moveTo>
                    <a:pt x="0" y="114"/>
                  </a:moveTo>
                  <a:lnTo>
                    <a:pt x="252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23960" y="2946600"/>
              <a:ext cx="704880" cy="409680"/>
            </a:xfrm>
            <a:custGeom>
              <a:avLst/>
              <a:gdLst/>
              <a:ahLst/>
              <a:rect l="l" t="t" r="r" b="b"/>
              <a:pathLst>
                <a:path w="444" h="258">
                  <a:moveTo>
                    <a:pt x="0" y="0"/>
                  </a:moveTo>
                  <a:lnTo>
                    <a:pt x="444" y="25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25640" y="3134160"/>
              <a:ext cx="1038240" cy="666720"/>
            </a:xfrm>
            <a:custGeom>
              <a:avLst/>
              <a:gdLst/>
              <a:ahLst/>
              <a:rect l="l" t="t" r="r" b="b"/>
              <a:pathLst>
                <a:path w="654" h="420">
                  <a:moveTo>
                    <a:pt x="0" y="420"/>
                  </a:moveTo>
                  <a:lnTo>
                    <a:pt x="65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36400" y="2048040"/>
              <a:ext cx="774720" cy="533520"/>
            </a:xfrm>
            <a:custGeom>
              <a:avLst/>
              <a:gdLst/>
              <a:ahLst/>
              <a:rect l="l" t="t" r="r" b="b"/>
              <a:pathLst>
                <a:path w="272" h="318">
                  <a:moveTo>
                    <a:pt x="0" y="0"/>
                  </a:moveTo>
                  <a:lnTo>
                    <a:pt x="272" y="318"/>
                  </a:lnTo>
                </a:path>
              </a:pathLst>
            </a:custGeom>
            <a:noFill/>
            <a:ln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73160" y="1959120"/>
              <a:ext cx="2603520" cy="222480"/>
            </a:xfrm>
            <a:custGeom>
              <a:avLst/>
              <a:gdLst/>
              <a:ahLst/>
              <a:rect l="l" t="t" r="r" b="b"/>
              <a:pathLst>
                <a:path w="1640" h="140">
                  <a:moveTo>
                    <a:pt x="0" y="0"/>
                  </a:moveTo>
                  <a:lnTo>
                    <a:pt x="1640" y="140"/>
                  </a:lnTo>
                </a:path>
              </a:pathLst>
            </a:custGeom>
            <a:noFill/>
            <a:ln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36880" y="2308320"/>
              <a:ext cx="1117440" cy="657360"/>
            </a:xfrm>
            <a:custGeom>
              <a:avLst/>
              <a:gdLst/>
              <a:ahLst/>
              <a:rect l="l" t="t" r="r" b="b"/>
              <a:pathLst>
                <a:path w="568" h="344">
                  <a:moveTo>
                    <a:pt x="0" y="344"/>
                  </a:moveTo>
                  <a:lnTo>
                    <a:pt x="568" y="0"/>
                  </a:lnTo>
                </a:path>
              </a:pathLst>
            </a:custGeom>
            <a:noFill/>
            <a:ln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8160" y="2619720"/>
              <a:ext cx="473040" cy="384120"/>
            </a:xfrm>
            <a:custGeom>
              <a:avLst/>
              <a:gdLst/>
              <a:ahLst/>
              <a:rect l="l" t="t" r="r" b="b"/>
              <a:pathLst>
                <a:path w="272" h="212">
                  <a:moveTo>
                    <a:pt x="0" y="0"/>
                  </a:moveTo>
                  <a:lnTo>
                    <a:pt x="272" y="212"/>
                  </a:lnTo>
                </a:path>
              </a:pathLst>
            </a:custGeom>
            <a:noFill/>
            <a:ln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76760" y="30322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76760" y="30211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3560" y="30211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76760" y="30211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1720" y="29275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09960" y="2948400"/>
              <a:ext cx="223920" cy="190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65680" y="28515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71720" y="29512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4280" y="38372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50160" y="31640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8160" y="36896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38160" y="36784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4960" y="36784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38160" y="36784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33480" y="35913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68480" y="3634200"/>
              <a:ext cx="225360" cy="152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3480" y="35053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38200" y="3803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8200" y="37929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35360" y="37929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8200" y="37929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33520" y="36990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34680" y="3610080"/>
              <a:ext cx="302760" cy="398880"/>
              <a:chOff x="4234680" y="3610080"/>
              <a:chExt cx="302760" cy="3988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67800" y="37069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234680" y="36100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076200" y="2333880"/>
              <a:ext cx="779400" cy="398880"/>
              <a:chOff x="3076200" y="2333880"/>
              <a:chExt cx="779400" cy="398880"/>
            </a:xfrm>
          </p:grpSpPr>
          <p:sp>
            <p:nvSpPr>
              <p:cNvPr id="263" name=""/>
              <p:cNvSpPr/>
              <p:nvPr/>
            </p:nvSpPr>
            <p:spPr>
              <a:xfrm>
                <a:off x="3084120" y="2513160"/>
                <a:ext cx="768240" cy="17928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52360" y="2498760"/>
                <a:ext cx="3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84120" y="2498760"/>
                <a:ext cx="762120" cy="108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76200" y="2368800"/>
                <a:ext cx="770040" cy="20952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79440" y="2498760"/>
                <a:ext cx="1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3157920" y="2333880"/>
                <a:ext cx="555480" cy="398880"/>
                <a:chOff x="3157920" y="2333880"/>
                <a:chExt cx="555480" cy="3988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238200" y="2430720"/>
                  <a:ext cx="420840" cy="2188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157920" y="2333880"/>
                  <a:ext cx="55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.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4001760" y="2718000"/>
              <a:ext cx="779400" cy="398880"/>
              <a:chOff x="4001760" y="2718000"/>
              <a:chExt cx="779400" cy="398880"/>
            </a:xfrm>
          </p:grpSpPr>
          <p:sp>
            <p:nvSpPr>
              <p:cNvPr id="272" name=""/>
              <p:cNvSpPr/>
              <p:nvPr/>
            </p:nvSpPr>
            <p:spPr>
              <a:xfrm>
                <a:off x="4009680" y="2897280"/>
                <a:ext cx="768240" cy="17928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77920" y="2882880"/>
                <a:ext cx="3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09680" y="2882880"/>
                <a:ext cx="762120" cy="108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01760" y="2752920"/>
                <a:ext cx="770040" cy="20952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05000" y="2882880"/>
                <a:ext cx="1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4094280" y="2718000"/>
                <a:ext cx="534240" cy="398880"/>
                <a:chOff x="4094280" y="2718000"/>
                <a:chExt cx="534240" cy="398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163760" y="2814840"/>
                  <a:ext cx="420840" cy="2188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094280" y="271800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.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"/>
            <p:cNvGrpSpPr/>
            <p:nvPr/>
          </p:nvGrpSpPr>
          <p:grpSpPr>
            <a:xfrm>
              <a:off x="2099880" y="1754280"/>
              <a:ext cx="779400" cy="398880"/>
              <a:chOff x="2099880" y="1754280"/>
              <a:chExt cx="779400" cy="398880"/>
            </a:xfrm>
          </p:grpSpPr>
          <p:sp>
            <p:nvSpPr>
              <p:cNvPr id="281" name=""/>
              <p:cNvSpPr/>
              <p:nvPr/>
            </p:nvSpPr>
            <p:spPr>
              <a:xfrm>
                <a:off x="2107800" y="1933560"/>
                <a:ext cx="768240" cy="17928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876040" y="1919160"/>
                <a:ext cx="3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07800" y="1919160"/>
                <a:ext cx="762120" cy="108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99880" y="1789200"/>
                <a:ext cx="770040" cy="20952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03120" y="1919160"/>
                <a:ext cx="1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2175840" y="1754280"/>
                <a:ext cx="567720" cy="398880"/>
                <a:chOff x="2175840" y="1754280"/>
                <a:chExt cx="567720" cy="398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2261880" y="1851120"/>
                  <a:ext cx="420840" cy="2188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75840" y="1754280"/>
                  <a:ext cx="56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.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" name=""/>
            <p:cNvGrpSpPr/>
            <p:nvPr/>
          </p:nvGrpSpPr>
          <p:grpSpPr>
            <a:xfrm>
              <a:off x="5430600" y="1970280"/>
              <a:ext cx="779400" cy="398880"/>
              <a:chOff x="5430600" y="1970280"/>
              <a:chExt cx="779400" cy="398880"/>
            </a:xfrm>
          </p:grpSpPr>
          <p:sp>
            <p:nvSpPr>
              <p:cNvPr id="290" name=""/>
              <p:cNvSpPr/>
              <p:nvPr/>
            </p:nvSpPr>
            <p:spPr>
              <a:xfrm>
                <a:off x="5438520" y="2149560"/>
                <a:ext cx="768240" cy="17928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06760" y="2135160"/>
                <a:ext cx="3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38520" y="2135160"/>
                <a:ext cx="762120" cy="1080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30600" y="2005200"/>
                <a:ext cx="770040" cy="209520"/>
              </a:xfrm>
              <a:prstGeom prst="ellipse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33840" y="2135160"/>
                <a:ext cx="1440" cy="10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5510880" y="1970280"/>
                <a:ext cx="558720" cy="398880"/>
                <a:chOff x="5510880" y="1970280"/>
                <a:chExt cx="558720" cy="398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592240" y="2067120"/>
                  <a:ext cx="420840" cy="21888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510880" y="1970280"/>
                  <a:ext cx="55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.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"/>
            <p:cNvGrpSpPr/>
            <p:nvPr/>
          </p:nvGrpSpPr>
          <p:grpSpPr>
            <a:xfrm>
              <a:off x="6124320" y="2670480"/>
              <a:ext cx="501480" cy="398880"/>
              <a:chOff x="6124320" y="2670480"/>
              <a:chExt cx="501480" cy="398880"/>
            </a:xfrm>
          </p:grpSpPr>
          <p:sp>
            <p:nvSpPr>
              <p:cNvPr id="299" name=""/>
              <p:cNvSpPr/>
              <p:nvPr/>
            </p:nvSpPr>
            <p:spPr>
              <a:xfrm>
                <a:off x="6129000" y="285156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129000" y="2840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625800" y="2840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129000" y="284040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124320" y="274680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262560" y="2767320"/>
                <a:ext cx="223560" cy="187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28360" y="26704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562440" y="3022920"/>
              <a:ext cx="501840" cy="398880"/>
              <a:chOff x="6562440" y="3022920"/>
              <a:chExt cx="501840" cy="398880"/>
            </a:xfrm>
          </p:grpSpPr>
          <p:sp>
            <p:nvSpPr>
              <p:cNvPr id="307" name=""/>
              <p:cNvSpPr/>
              <p:nvPr/>
            </p:nvSpPr>
            <p:spPr>
              <a:xfrm>
                <a:off x="6567120" y="3204000"/>
                <a:ext cx="49716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67120" y="31928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64280" y="31928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67120" y="3192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62440" y="3098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00680" y="3119760"/>
                <a:ext cx="225360" cy="1746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649920" y="30229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210440" y="2989440"/>
            <a:ext cx="668160" cy="529920"/>
          </a:xfrm>
          <a:prstGeom prst="rect">
            <a:avLst/>
          </a:prstGeom>
          <a:ln w="0">
            <a:noFill/>
          </a:ln>
        </p:spPr>
      </p:pic>
      <p:grpSp>
        <p:nvGrpSpPr>
          <p:cNvPr id="315" name=""/>
          <p:cNvGrpSpPr/>
          <p:nvPr/>
        </p:nvGrpSpPr>
        <p:grpSpPr>
          <a:xfrm>
            <a:off x="1336320" y="3389400"/>
            <a:ext cx="1103400" cy="834480"/>
            <a:chOff x="1336320" y="3389400"/>
            <a:chExt cx="1103400" cy="834480"/>
          </a:xfrm>
        </p:grpSpPr>
        <p:pic>
          <p:nvPicPr>
            <p:cNvPr id="316" name="" descr=""/>
            <p:cNvPicPr/>
            <p:nvPr/>
          </p:nvPicPr>
          <p:blipFill>
            <a:blip r:embed="rId2"/>
            <a:stretch/>
          </p:blipFill>
          <p:spPr>
            <a:xfrm>
              <a:off x="1771560" y="3693960"/>
              <a:ext cx="6681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336320" y="3389400"/>
              <a:ext cx="73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h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2409840" y="3714480"/>
            <a:ext cx="33336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7520" y="3228840"/>
            <a:ext cx="209520" cy="6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09840" y="3343320"/>
            <a:ext cx="1971720" cy="723960"/>
          </a:xfrm>
          <a:custGeom>
            <a:avLst/>
            <a:gdLst/>
            <a:ahLst/>
            <a:rect l="l" t="t" r="r" b="b"/>
            <a:pathLst>
              <a:path w="1242" h="456">
                <a:moveTo>
                  <a:pt x="0" y="372"/>
                </a:moveTo>
                <a:lnTo>
                  <a:pt x="270" y="192"/>
                </a:lnTo>
                <a:lnTo>
                  <a:pt x="630" y="456"/>
                </a:lnTo>
                <a:lnTo>
                  <a:pt x="1242" y="294"/>
                </a:lnTo>
                <a:lnTo>
                  <a:pt x="1242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27720" y="4141800"/>
            <a:ext cx="21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in A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1560" y="311940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08680" y="2214720"/>
            <a:ext cx="1440" cy="43020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271"/>
                </a:moveTo>
                <a:lnTo>
                  <a:pt x="1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110840" y="1360440"/>
            <a:ext cx="1280880" cy="1313640"/>
            <a:chOff x="4110840" y="1360440"/>
            <a:chExt cx="1280880" cy="1313640"/>
          </a:xfrm>
        </p:grpSpPr>
        <p:sp>
          <p:nvSpPr>
            <p:cNvPr id="325" name=""/>
            <p:cNvSpPr/>
            <p:nvPr/>
          </p:nvSpPr>
          <p:spPr>
            <a:xfrm>
              <a:off x="4162680" y="1428480"/>
              <a:ext cx="1200240" cy="119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10840" y="1360440"/>
              <a:ext cx="1280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Inter-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betwe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A and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362480" y="2233440"/>
            <a:ext cx="1562040" cy="909720"/>
          </a:xfrm>
          <a:custGeom>
            <a:avLst/>
            <a:gdLst/>
            <a:ahLst/>
            <a:rect l="l" t="t" r="r" b="b"/>
            <a:pathLst>
              <a:path w="984" h="573">
                <a:moveTo>
                  <a:pt x="0" y="573"/>
                </a:moveTo>
                <a:lnTo>
                  <a:pt x="984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08680" y="2644920"/>
            <a:ext cx="0" cy="3553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86360" y="2962440"/>
            <a:ext cx="914400" cy="28872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3254400"/>
            <a:ext cx="488880" cy="32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70720" y="3560760"/>
            <a:ext cx="245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ithin A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19160" y="5229360"/>
            <a:ext cx="7419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’ll examine specific inter-AS and intra-AS Internet routing protocols shor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FBB-F759-4F13-A2A6-323109D23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38360" y="184788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he Internet Network lay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24280" y="3443400"/>
            <a:ext cx="980640" cy="1213920"/>
            <a:chOff x="3824280" y="3443400"/>
            <a:chExt cx="980640" cy="1213920"/>
          </a:xfrm>
        </p:grpSpPr>
        <p:sp>
          <p:nvSpPr>
            <p:cNvPr id="338" name=""/>
            <p:cNvSpPr/>
            <p:nvPr/>
          </p:nvSpPr>
          <p:spPr>
            <a:xfrm>
              <a:off x="3881160" y="3443400"/>
              <a:ext cx="923760" cy="11714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38680" y="3485880"/>
              <a:ext cx="923760" cy="117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24280" y="374616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48120" y="361944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57480" y="370512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62160" y="379080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48120" y="438624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2800" y="446724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57480" y="4547880"/>
              <a:ext cx="69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80680" y="113328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813320" y="2666880"/>
            <a:ext cx="1910520" cy="898560"/>
            <a:chOff x="1813320" y="2666880"/>
            <a:chExt cx="1910520" cy="898560"/>
          </a:xfrm>
        </p:grpSpPr>
        <p:sp>
          <p:nvSpPr>
            <p:cNvPr id="351" name=""/>
            <p:cNvSpPr/>
            <p:nvPr/>
          </p:nvSpPr>
          <p:spPr>
            <a:xfrm>
              <a:off x="1914480" y="2666880"/>
              <a:ext cx="1809360" cy="819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47520" y="2733480"/>
              <a:ext cx="1809360" cy="819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13320" y="2741400"/>
              <a:ext cx="1877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outing protoco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th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IP, OSPF, BG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3143160" y="3657600"/>
            <a:ext cx="628920" cy="390600"/>
          </a:xfrm>
          <a:custGeom>
            <a:avLst/>
            <a:gdLst/>
            <a:ahLst/>
            <a:rect l="l" t="t" r="r" b="b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4989240" y="2600280"/>
            <a:ext cx="3030840" cy="1181160"/>
            <a:chOff x="4989240" y="2600280"/>
            <a:chExt cx="3030840" cy="1181160"/>
          </a:xfrm>
        </p:grpSpPr>
        <p:sp>
          <p:nvSpPr>
            <p:cNvPr id="356" name=""/>
            <p:cNvSpPr/>
            <p:nvPr/>
          </p:nvSpPr>
          <p:spPr>
            <a:xfrm>
              <a:off x="5086440" y="2600280"/>
              <a:ext cx="2933640" cy="1095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19840" y="266688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89240" y="2674800"/>
              <a:ext cx="2995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038560" y="3914640"/>
            <a:ext cx="2000160" cy="1132200"/>
            <a:chOff x="5038560" y="3914640"/>
            <a:chExt cx="2000160" cy="1132200"/>
          </a:xfrm>
        </p:grpSpPr>
        <p:sp>
          <p:nvSpPr>
            <p:cNvPr id="360" name=""/>
            <p:cNvSpPr/>
            <p:nvPr/>
          </p:nvSpPr>
          <p:spPr>
            <a:xfrm>
              <a:off x="5105160" y="3914640"/>
              <a:ext cx="1933560" cy="819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38560" y="3981240"/>
              <a:ext cx="1933560" cy="819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51160" y="3979440"/>
              <a:ext cx="1900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CMP protoc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rror repor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outer “signaling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0120" y="199404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15600" y="49658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58640" y="548964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9840" y="326556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634-6792-4A58-9EB9-86117CD57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Addressing: introdu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2-bit identifier for host, router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nection between host, router and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rout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ypically have 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multiple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may have multiple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sociated with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rfa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not host,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381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387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391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4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977720" y="1955880"/>
            <a:ext cx="1026720" cy="337320"/>
            <a:chOff x="4977720" y="1955880"/>
            <a:chExt cx="1026720" cy="337320"/>
          </a:xfrm>
        </p:grpSpPr>
        <p:sp>
          <p:nvSpPr>
            <p:cNvPr id="396" name=""/>
            <p:cNvSpPr/>
            <p:nvPr/>
          </p:nvSpPr>
          <p:spPr>
            <a:xfrm>
              <a:off x="5062680" y="2033640"/>
              <a:ext cx="8334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7720" y="19558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192440" y="2732040"/>
            <a:ext cx="1026720" cy="337320"/>
            <a:chOff x="7192440" y="2732040"/>
            <a:chExt cx="1026720" cy="337320"/>
          </a:xfrm>
        </p:grpSpPr>
        <p:sp>
          <p:nvSpPr>
            <p:cNvPr id="408" name=""/>
            <p:cNvSpPr/>
            <p:nvPr/>
          </p:nvSpPr>
          <p:spPr>
            <a:xfrm>
              <a:off x="7277040" y="281916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92440" y="2732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154280" y="1760400"/>
            <a:ext cx="1026720" cy="337320"/>
            <a:chOff x="7154280" y="1760400"/>
            <a:chExt cx="1026720" cy="337320"/>
          </a:xfrm>
        </p:grpSpPr>
        <p:sp>
          <p:nvSpPr>
            <p:cNvPr id="411" name=""/>
            <p:cNvSpPr/>
            <p:nvPr/>
          </p:nvSpPr>
          <p:spPr>
            <a:xfrm>
              <a:off x="7238880" y="184752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54280" y="17604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7154280" y="3984480"/>
            <a:ext cx="1026720" cy="337320"/>
            <a:chOff x="7154280" y="3984480"/>
            <a:chExt cx="1026720" cy="337320"/>
          </a:xfrm>
        </p:grpSpPr>
        <p:sp>
          <p:nvSpPr>
            <p:cNvPr id="420" name=""/>
            <p:cNvSpPr/>
            <p:nvPr/>
          </p:nvSpPr>
          <p:spPr>
            <a:xfrm>
              <a:off x="7238880" y="407160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154280" y="3984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006160" y="4013280"/>
            <a:ext cx="1026720" cy="337320"/>
            <a:chOff x="5006160" y="4013280"/>
            <a:chExt cx="1026720" cy="337320"/>
          </a:xfrm>
        </p:grpSpPr>
        <p:sp>
          <p:nvSpPr>
            <p:cNvPr id="423" name=""/>
            <p:cNvSpPr/>
            <p:nvPr/>
          </p:nvSpPr>
          <p:spPr>
            <a:xfrm>
              <a:off x="5090760" y="410040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06160" y="4013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006600" y="2874960"/>
            <a:ext cx="1139400" cy="337320"/>
            <a:chOff x="6006600" y="2874960"/>
            <a:chExt cx="1139400" cy="337320"/>
          </a:xfrm>
        </p:grpSpPr>
        <p:sp>
          <p:nvSpPr>
            <p:cNvPr id="426" name=""/>
            <p:cNvSpPr/>
            <p:nvPr/>
          </p:nvSpPr>
          <p:spPr>
            <a:xfrm>
              <a:off x="6091200" y="296208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06600" y="287496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162400" y="5597640"/>
            <a:ext cx="892440" cy="91800"/>
          </a:xfrm>
          <a:custGeom>
            <a:avLst/>
            <a:gdLst/>
            <a:ahLst/>
            <a:rect l="l" t="t" r="r" b="b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24680" y="5616720"/>
            <a:ext cx="892080" cy="7920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89840" y="561960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055000" y="562284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43D-4A04-467B-862D-701986E1FD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4378320" y="1160640"/>
            <a:ext cx="1941480" cy="204912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94360" y="1447920"/>
            <a:ext cx="1906920" cy="1958760"/>
          </a:xfrm>
          <a:custGeom>
            <a:avLst/>
            <a:gdLst/>
            <a:ahLst/>
            <a:rect l="l" t="t" r="r" b="b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578560" y="2881440"/>
            <a:ext cx="2041560" cy="1979640"/>
          </a:xfrm>
          <a:custGeom>
            <a:avLst/>
            <a:gdLst/>
            <a:ahLst/>
            <a:rect l="l" t="t" r="r" b="b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t (high order 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t (low order bit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What’s a network ?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IP address perspectiv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interfaces with same network part of 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physically reach each oth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withou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ening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451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461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62680" y="203364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92120" y="1941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5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24960" y="281952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216200" y="2732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839000" y="184788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63560" y="175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6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7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7400" y="395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48120" y="3828960"/>
            <a:ext cx="84780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11200" y="3994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96244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15960" y="288432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33640" y="505152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consisting of 3 IP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 IP addresses starting with 223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rst 24 bits are network add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60880" y="34322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705720" y="3695760"/>
            <a:ext cx="1713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D69-6B4F-4351-9846-F659ED67F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/>
            <a:ahLst/>
            <a:rect l="l" t="t" r="r" b="b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/>
            <a:ahLst/>
            <a:rect l="l" t="t" r="r" b="b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/>
            <a:ahLst/>
            <a:rect l="l" t="t" r="r" b="b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5265600">
            <a:off x="5310360" y="560880"/>
            <a:ext cx="1612800" cy="204948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7480" y="1314360"/>
            <a:ext cx="369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ow to find the network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ch each interface from router, h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“islands of isolated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389640" y="9507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 flipH="1">
            <a:off x="5225760" y="1576440"/>
            <a:ext cx="1500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780160" y="84600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5151600" y="97956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 flipH="1">
            <a:off x="5855760" y="1585800"/>
            <a:ext cx="3240" cy="7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87400" y="1941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22680" y="4564080"/>
            <a:ext cx="1539720" cy="1490760"/>
          </a:xfrm>
          <a:custGeom>
            <a:avLst/>
            <a:gdLst/>
            <a:ahLst/>
            <a:rect l="l" t="t" r="r" b="b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059360" y="4275000"/>
            <a:ext cx="710640" cy="380880"/>
            <a:chOff x="4059360" y="4275000"/>
            <a:chExt cx="710640" cy="380880"/>
          </a:xfrm>
        </p:grpSpPr>
        <p:sp>
          <p:nvSpPr>
            <p:cNvPr id="513" name=""/>
            <p:cNvSpPr/>
            <p:nvPr/>
          </p:nvSpPr>
          <p:spPr>
            <a:xfrm>
              <a:off x="4065120" y="4444920"/>
              <a:ext cx="704880" cy="210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5120" y="44269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70000" y="442692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65120" y="4426920"/>
              <a:ext cx="698760" cy="12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59360" y="4275000"/>
              <a:ext cx="704520" cy="245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228920" y="4329360"/>
              <a:ext cx="349200" cy="143640"/>
              <a:chOff x="4228920" y="4329360"/>
              <a:chExt cx="349200" cy="143640"/>
            </a:xfrm>
          </p:grpSpPr>
          <p:sp>
            <p:nvSpPr>
              <p:cNvPr id="519" name=""/>
              <p:cNvSpPr/>
              <p:nvPr/>
            </p:nvSpPr>
            <p:spPr>
              <a:xfrm flipV="1">
                <a:off x="4228920" y="432936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468320" y="447300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43760" y="433224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4228920" y="4326840"/>
              <a:ext cx="349200" cy="143640"/>
              <a:chOff x="4228920" y="4326840"/>
              <a:chExt cx="349200" cy="143640"/>
            </a:xfrm>
          </p:grpSpPr>
          <p:sp>
            <p:nvSpPr>
              <p:cNvPr id="523" name=""/>
              <p:cNvSpPr/>
              <p:nvPr/>
            </p:nvSpPr>
            <p:spPr>
              <a:xfrm>
                <a:off x="4228920" y="446760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468320" y="432684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4343760" y="432720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>
            <a:off x="4378320" y="4667400"/>
            <a:ext cx="0" cy="70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3858840" y="5371920"/>
            <a:ext cx="101916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4"/>
          <a:stretch/>
        </p:blipFill>
        <p:spPr>
          <a:xfrm>
            <a:off x="4413240" y="54752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3765600" y="5489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91960" y="46944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949360" y="4294080"/>
            <a:ext cx="2921760" cy="1779840"/>
            <a:chOff x="5949360" y="4294080"/>
            <a:chExt cx="2921760" cy="1779840"/>
          </a:xfrm>
        </p:grpSpPr>
        <p:sp>
          <p:nvSpPr>
            <p:cNvPr id="537" name=""/>
            <p:cNvSpPr/>
            <p:nvPr/>
          </p:nvSpPr>
          <p:spPr>
            <a:xfrm>
              <a:off x="6651360" y="4583160"/>
              <a:ext cx="1539720" cy="1490760"/>
            </a:xfrm>
            <a:custGeom>
              <a:avLst/>
              <a:gdLst/>
              <a:ahLst/>
              <a:rect l="l" t="t" r="r" b="b"/>
              <a:pathLst>
                <a:path w="970" h="939">
                  <a:moveTo>
                    <a:pt x="451" y="41"/>
                  </a:moveTo>
                  <a:cubicBezTo>
                    <a:pt x="415" y="47"/>
                    <a:pt x="452" y="358"/>
                    <a:pt x="388" y="431"/>
                  </a:cubicBezTo>
                  <a:cubicBezTo>
                    <a:pt x="324" y="504"/>
                    <a:pt x="128" y="419"/>
                    <a:pt x="64" y="479"/>
                  </a:cubicBezTo>
                  <a:cubicBezTo>
                    <a:pt x="0" y="539"/>
                    <a:pt x="1" y="718"/>
                    <a:pt x="7" y="791"/>
                  </a:cubicBezTo>
                  <a:cubicBezTo>
                    <a:pt x="13" y="864"/>
                    <a:pt x="31" y="901"/>
                    <a:pt x="100" y="920"/>
                  </a:cubicBezTo>
                  <a:cubicBezTo>
                    <a:pt x="169" y="939"/>
                    <a:pt x="329" y="908"/>
                    <a:pt x="421" y="905"/>
                  </a:cubicBezTo>
                  <a:cubicBezTo>
                    <a:pt x="513" y="902"/>
                    <a:pt x="572" y="913"/>
                    <a:pt x="652" y="905"/>
                  </a:cubicBezTo>
                  <a:cubicBezTo>
                    <a:pt x="732" y="897"/>
                    <a:pt x="860" y="929"/>
                    <a:pt x="904" y="857"/>
                  </a:cubicBezTo>
                  <a:cubicBezTo>
                    <a:pt x="948" y="785"/>
                    <a:pt x="970" y="542"/>
                    <a:pt x="916" y="473"/>
                  </a:cubicBezTo>
                  <a:cubicBezTo>
                    <a:pt x="862" y="404"/>
                    <a:pt x="645" y="511"/>
                    <a:pt x="580" y="443"/>
                  </a:cubicBezTo>
                  <a:cubicBezTo>
                    <a:pt x="515" y="375"/>
                    <a:pt x="534" y="130"/>
                    <a:pt x="526" y="65"/>
                  </a:cubicBezTo>
                  <a:cubicBezTo>
                    <a:pt x="518" y="0"/>
                    <a:pt x="542" y="57"/>
                    <a:pt x="529" y="53"/>
                  </a:cubicBezTo>
                  <a:cubicBezTo>
                    <a:pt x="520" y="26"/>
                    <a:pt x="487" y="35"/>
                    <a:pt x="451" y="4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7088040" y="4294080"/>
              <a:ext cx="710280" cy="380880"/>
              <a:chOff x="7088040" y="4294080"/>
              <a:chExt cx="710280" cy="380880"/>
            </a:xfrm>
          </p:grpSpPr>
          <p:sp>
            <p:nvSpPr>
              <p:cNvPr id="539" name=""/>
              <p:cNvSpPr/>
              <p:nvPr/>
            </p:nvSpPr>
            <p:spPr>
              <a:xfrm>
                <a:off x="7093800" y="4464000"/>
                <a:ext cx="704520" cy="210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093800" y="444600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98320" y="4446000"/>
                <a:ext cx="0" cy="13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093800" y="4446000"/>
                <a:ext cx="698400" cy="128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8040" y="4294080"/>
                <a:ext cx="704160" cy="24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7257600" y="4348440"/>
                <a:ext cx="348480" cy="143640"/>
                <a:chOff x="7257600" y="4348440"/>
                <a:chExt cx="348480" cy="143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7257600" y="4348440"/>
                  <a:ext cx="1242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7496640" y="4492080"/>
                  <a:ext cx="10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372080" y="4351320"/>
                  <a:ext cx="12924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7257600" y="4345920"/>
                <a:ext cx="348480" cy="143640"/>
                <a:chOff x="7257600" y="4345920"/>
                <a:chExt cx="348480" cy="14364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7257600" y="4486680"/>
                  <a:ext cx="1242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496640" y="4345920"/>
                  <a:ext cx="10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V="1">
                  <a:off x="7372080" y="4346280"/>
                  <a:ext cx="129240" cy="14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2" name=""/>
            <p:cNvSpPr/>
            <p:nvPr/>
          </p:nvSpPr>
          <p:spPr>
            <a:xfrm>
              <a:off x="7407000" y="4686480"/>
              <a:ext cx="0" cy="70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887880" y="5391000"/>
              <a:ext cx="10188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flipV="1">
              <a:off x="6899040" y="5406840"/>
              <a:ext cx="288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7894440" y="539280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6" name="" descr=""/>
            <p:cNvPicPr/>
            <p:nvPr/>
          </p:nvPicPr>
          <p:blipFill>
            <a:blip r:embed="rId6"/>
            <a:stretch/>
          </p:blipFill>
          <p:spPr>
            <a:xfrm>
              <a:off x="7441920" y="549432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7"/>
            <a:stretch/>
          </p:blipFill>
          <p:spPr>
            <a:xfrm>
              <a:off x="6794280" y="5508720"/>
              <a:ext cx="58392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844400" y="52801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949360" y="5275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48320" y="4786200"/>
              <a:ext cx="128160" cy="181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920280" y="47134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526000" y="2389320"/>
            <a:ext cx="711000" cy="380160"/>
            <a:chOff x="5526000" y="2389320"/>
            <a:chExt cx="711000" cy="380160"/>
          </a:xfrm>
        </p:grpSpPr>
        <p:sp>
          <p:nvSpPr>
            <p:cNvPr id="563" name=""/>
            <p:cNvSpPr/>
            <p:nvPr/>
          </p:nvSpPr>
          <p:spPr>
            <a:xfrm>
              <a:off x="5531760" y="2558880"/>
              <a:ext cx="705240" cy="210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31760" y="254124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37000" y="2541240"/>
              <a:ext cx="0" cy="1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31760" y="2541240"/>
              <a:ext cx="699120" cy="12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26000" y="2389320"/>
              <a:ext cx="704880" cy="245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695560" y="2443320"/>
              <a:ext cx="349200" cy="143640"/>
              <a:chOff x="5695560" y="2443320"/>
              <a:chExt cx="349200" cy="143640"/>
            </a:xfrm>
          </p:grpSpPr>
          <p:sp>
            <p:nvSpPr>
              <p:cNvPr id="569" name=""/>
              <p:cNvSpPr/>
              <p:nvPr/>
            </p:nvSpPr>
            <p:spPr>
              <a:xfrm flipV="1">
                <a:off x="5695560" y="244332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34960" y="258696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10400" y="244620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695560" y="2441160"/>
              <a:ext cx="349200" cy="143640"/>
              <a:chOff x="5695560" y="2441160"/>
              <a:chExt cx="349200" cy="143640"/>
            </a:xfrm>
          </p:grpSpPr>
          <p:sp>
            <p:nvSpPr>
              <p:cNvPr id="573" name=""/>
              <p:cNvSpPr/>
              <p:nvPr/>
            </p:nvSpPr>
            <p:spPr>
              <a:xfrm>
                <a:off x="5695560" y="2581920"/>
                <a:ext cx="124560" cy="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34960" y="2441160"/>
                <a:ext cx="109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5810400" y="2441520"/>
                <a:ext cx="129600" cy="14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053040" y="1343160"/>
            <a:ext cx="109800" cy="19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41200" y="1255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90120" y="5241960"/>
            <a:ext cx="209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conne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ystem consi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six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9545-0AD7-4F94-AC38-F4776CEC84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662120" y="4862520"/>
            <a:ext cx="4581360" cy="333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43040" y="4224240"/>
            <a:ext cx="4581720" cy="333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643040" y="3614760"/>
            <a:ext cx="4581720" cy="333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52760" y="3014640"/>
            <a:ext cx="4581360" cy="333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>
            <a:off x="1604880" y="3071880"/>
            <a:ext cx="4581720" cy="3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95160" y="306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740240" y="3036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076280" y="30654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57600" y="30718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852720" y="3071880"/>
            <a:ext cx="95040" cy="342720"/>
            <a:chOff x="3852720" y="3071880"/>
            <a:chExt cx="95040" cy="342720"/>
          </a:xfrm>
        </p:grpSpPr>
        <p:sp>
          <p:nvSpPr>
            <p:cNvPr id="600" name=""/>
            <p:cNvSpPr/>
            <p:nvPr/>
          </p:nvSpPr>
          <p:spPr>
            <a:xfrm>
              <a:off x="3900240" y="3071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52720" y="3138480"/>
              <a:ext cx="9504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4938840" y="3071880"/>
            <a:ext cx="95040" cy="342720"/>
            <a:chOff x="4938840" y="3071880"/>
            <a:chExt cx="95040" cy="342720"/>
          </a:xfrm>
        </p:grpSpPr>
        <p:sp>
          <p:nvSpPr>
            <p:cNvPr id="603" name=""/>
            <p:cNvSpPr/>
            <p:nvPr/>
          </p:nvSpPr>
          <p:spPr>
            <a:xfrm>
              <a:off x="4986360" y="30718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38840" y="3138480"/>
              <a:ext cx="95040" cy="1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590840" y="3627360"/>
            <a:ext cx="4604760" cy="397080"/>
            <a:chOff x="1590840" y="3627360"/>
            <a:chExt cx="4604760" cy="397080"/>
          </a:xfrm>
        </p:grpSpPr>
        <p:sp>
          <p:nvSpPr>
            <p:cNvPr id="606" name=""/>
            <p:cNvSpPr/>
            <p:nvPr/>
          </p:nvSpPr>
          <p:spPr>
            <a:xfrm>
              <a:off x="1614240" y="3662280"/>
              <a:ext cx="458136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90840" y="3656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09960" y="36622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2719080" y="3662280"/>
              <a:ext cx="95040" cy="342720"/>
              <a:chOff x="2719080" y="3662280"/>
              <a:chExt cx="95040" cy="342720"/>
            </a:xfrm>
          </p:grpSpPr>
          <p:sp>
            <p:nvSpPr>
              <p:cNvPr id="610" name=""/>
              <p:cNvSpPr/>
              <p:nvPr/>
            </p:nvSpPr>
            <p:spPr>
              <a:xfrm>
                <a:off x="2766600" y="36622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19080" y="372888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4947840" y="3662280"/>
              <a:ext cx="95040" cy="342720"/>
              <a:chOff x="4947840" y="3662280"/>
              <a:chExt cx="95040" cy="342720"/>
            </a:xfrm>
          </p:grpSpPr>
          <p:sp>
            <p:nvSpPr>
              <p:cNvPr id="613" name=""/>
              <p:cNvSpPr/>
              <p:nvPr/>
            </p:nvSpPr>
            <p:spPr>
              <a:xfrm>
                <a:off x="4995360" y="366228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947840" y="372888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2482920" y="362736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47600" y="365616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567440" y="4253040"/>
            <a:ext cx="4619160" cy="380880"/>
            <a:chOff x="1567440" y="4253040"/>
            <a:chExt cx="4619160" cy="380880"/>
          </a:xfrm>
        </p:grpSpPr>
        <p:sp>
          <p:nvSpPr>
            <p:cNvPr id="618" name=""/>
            <p:cNvSpPr/>
            <p:nvPr/>
          </p:nvSpPr>
          <p:spPr>
            <a:xfrm>
              <a:off x="1604880" y="4272120"/>
              <a:ext cx="458172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67440" y="4265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77000" y="42721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2710080" y="4272120"/>
              <a:ext cx="95040" cy="342720"/>
              <a:chOff x="2710080" y="4272120"/>
              <a:chExt cx="95040" cy="342720"/>
            </a:xfrm>
          </p:grpSpPr>
          <p:sp>
            <p:nvSpPr>
              <p:cNvPr id="622" name=""/>
              <p:cNvSpPr/>
              <p:nvPr/>
            </p:nvSpPr>
            <p:spPr>
              <a:xfrm>
                <a:off x="2757600" y="427212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10080" y="433872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53080" y="4253040"/>
              <a:ext cx="95040" cy="342720"/>
              <a:chOff x="3853080" y="4253040"/>
              <a:chExt cx="95040" cy="342720"/>
            </a:xfrm>
          </p:grpSpPr>
          <p:sp>
            <p:nvSpPr>
              <p:cNvPr id="625" name=""/>
              <p:cNvSpPr/>
              <p:nvPr/>
            </p:nvSpPr>
            <p:spPr>
              <a:xfrm>
                <a:off x="3900600" y="425304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853080" y="431964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2778480" y="42562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48080" y="425628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53400" y="4884840"/>
            <a:ext cx="4633200" cy="396720"/>
            <a:chOff x="1553400" y="4884840"/>
            <a:chExt cx="4633200" cy="396720"/>
          </a:xfrm>
        </p:grpSpPr>
        <p:sp>
          <p:nvSpPr>
            <p:cNvPr id="630" name=""/>
            <p:cNvSpPr/>
            <p:nvPr/>
          </p:nvSpPr>
          <p:spPr>
            <a:xfrm>
              <a:off x="1604880" y="4919760"/>
              <a:ext cx="458172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53400" y="491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2709720" y="4919760"/>
              <a:ext cx="95040" cy="342720"/>
              <a:chOff x="2709720" y="4919760"/>
              <a:chExt cx="95040" cy="342720"/>
            </a:xfrm>
          </p:grpSpPr>
          <p:sp>
            <p:nvSpPr>
              <p:cNvPr id="633" name=""/>
              <p:cNvSpPr/>
              <p:nvPr/>
            </p:nvSpPr>
            <p:spPr>
              <a:xfrm>
                <a:off x="2757240" y="49197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720" y="498636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3852720" y="4919760"/>
              <a:ext cx="95040" cy="342720"/>
              <a:chOff x="3852720" y="4919760"/>
              <a:chExt cx="95040" cy="342720"/>
            </a:xfrm>
          </p:grpSpPr>
          <p:sp>
            <p:nvSpPr>
              <p:cNvPr id="636" name=""/>
              <p:cNvSpPr/>
              <p:nvPr/>
            </p:nvSpPr>
            <p:spPr>
              <a:xfrm>
                <a:off x="3900240" y="49197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852720" y="498636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919760" y="4919760"/>
              <a:ext cx="95040" cy="342720"/>
              <a:chOff x="4919760" y="4919760"/>
              <a:chExt cx="95040" cy="342720"/>
            </a:xfrm>
          </p:grpSpPr>
          <p:sp>
            <p:nvSpPr>
              <p:cNvPr id="639" name=""/>
              <p:cNvSpPr/>
              <p:nvPr/>
            </p:nvSpPr>
            <p:spPr>
              <a:xfrm>
                <a:off x="4967280" y="4919760"/>
                <a:ext cx="0" cy="34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919760" y="4986360"/>
                <a:ext cx="95040" cy="1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2990520" y="4884840"/>
              <a:ext cx="20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ulticast 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116360" y="3013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21400" y="3603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38680" y="42228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31840" y="48798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63720" y="2560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523920" y="295596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.0.0.0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27.255.255.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523920" y="355608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28.0.0.0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91.255.255.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514560" y="415620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192.0.0.0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223.255.255.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43000" y="4794120"/>
            <a:ext cx="174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224.0.0.0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239.255.255.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391560" y="54990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4680" y="5691240"/>
            <a:ext cx="1743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585800" y="5681520"/>
            <a:ext cx="1743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53680" y="1276200"/>
            <a:ext cx="829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notion of “network”, let’s re-examine IP addre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"/>
          <p:cNvSpPr/>
          <p:nvPr/>
        </p:nvSpPr>
        <p:spPr>
          <a:xfrm>
            <a:off x="527040" y="18352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ass-full” addr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368-2A41-4565-9094-A849C680B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addressing: CID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5200" y="1328400"/>
            <a:ext cx="81072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ful addressing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efficient use of address space, address space exhaus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class B net allocated enough addresses for 65K hosts, even if only 2K hosts in that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ID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ssles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ter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ai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portion of address of arbitrary 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 format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.b.c.d/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er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# bits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rtion of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1433160" y="4641840"/>
            <a:ext cx="6105960" cy="1628280"/>
            <a:chOff x="1433160" y="4641840"/>
            <a:chExt cx="6105960" cy="1628280"/>
          </a:xfrm>
        </p:grpSpPr>
        <p:sp>
          <p:nvSpPr>
            <p:cNvPr id="659" name=""/>
            <p:cNvSpPr/>
            <p:nvPr/>
          </p:nvSpPr>
          <p:spPr>
            <a:xfrm>
              <a:off x="1433160" y="5218200"/>
              <a:ext cx="610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11001000  0001011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000100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00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85120" y="467856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392520" y="4641840"/>
              <a:ext cx="6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92480" y="4994280"/>
              <a:ext cx="16210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533600" y="4989600"/>
              <a:ext cx="1466640" cy="11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5735160" y="4997160"/>
              <a:ext cx="692280" cy="1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83560" y="4994280"/>
              <a:ext cx="59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09920" y="581040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00.23.16.0/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2EA4-D902-4E54-9FC1-B8CEC5FDA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addresses: how to get one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1200" y="168732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ts (host portion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namic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s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figuration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tocol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ally get address: “plug-and-play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broadcasts 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HCP disco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ms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HCP server responds with 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HCP of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ms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 requests IP address: 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HCP reque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ms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HCP server sends address: 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HCP 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ms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CA4-EF6C-4A47-BB59-20B0AD736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20T12:24:22Z</dcterms:modified>
  <cp:revision>136</cp:revision>
  <dc:subject/>
  <dc:title>Part I: Introduction</dc:title>
</cp:coreProperties>
</file>