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16C-32A0-4722-B7FF-5C806738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D31-0895-40CA-A631-C1F73CAA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A5F-5275-4D6E-AC47-133A9A7A1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E82-ABC3-4804-8C67-FAF4FBB9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777-6E83-461D-8C76-3D1E32C8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1D6-5581-4F1D-A893-44E67FB7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15C-6C09-468C-9E75-70374534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641-7039-4B63-ADA8-36A93D0F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D6F-667E-4ADB-BACE-C5625BEF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578-8CEC-4990-AEAE-C1464C06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477-8AF4-411A-8BA0-895D316C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FDC-9DBF-46E1-9DCF-EF752230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3440" y="6400800"/>
            <a:ext cx="778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work Lay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rose, Ross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ernet e reti di calcol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7BBE8BA5-10DA-4984-8975-BA57D7A74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P datagram forma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2897280" y="1512720"/>
            <a:ext cx="3951360" cy="4824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1880" y="1619280"/>
            <a:ext cx="3951360" cy="480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51120" y="168444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26480" y="17463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4480" y="2136600"/>
            <a:ext cx="39466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754520" y="1628280"/>
            <a:ext cx="0" cy="50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78960" y="1103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97400" y="1344600"/>
            <a:ext cx="14274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89280" y="1355760"/>
            <a:ext cx="1341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56600" y="4573440"/>
            <a:ext cx="222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variable lengt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cally a TC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UDP seg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20880" y="223056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6-bit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08360" y="363528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08360" y="411156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37200" y="2598840"/>
            <a:ext cx="13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08360" y="2570040"/>
            <a:ext cx="9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66000" y="324972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 source IP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6640" y="998640"/>
            <a:ext cx="22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 protocol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17920" y="154620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ader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by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040" y="2546280"/>
            <a:ext cx="20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aining h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ecremented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ro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00480" y="1324080"/>
            <a:ext cx="528480" cy="461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28920" y="1881360"/>
            <a:ext cx="904680" cy="147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67160" y="1927080"/>
            <a:ext cx="182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agmentatio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30440" y="119376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tal dat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 (by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8320" y="382284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per layer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deliver payloa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43040" y="2867040"/>
            <a:ext cx="1467000" cy="1123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124600" y="2381400"/>
            <a:ext cx="2038320" cy="19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505200" y="1514520"/>
            <a:ext cx="638280" cy="409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72680" y="157968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49480" y="156996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859200" y="1623600"/>
            <a:ext cx="0" cy="50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244680" y="1633680"/>
            <a:ext cx="0" cy="50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21880" y="209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e” of 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448000" y="1895040"/>
            <a:ext cx="1533600" cy="41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754520" y="2142720"/>
            <a:ext cx="0" cy="50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06920" y="222084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l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221440" y="2133720"/>
            <a:ext cx="0" cy="50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64280" y="208764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a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6486480" y="2276280"/>
            <a:ext cx="657360" cy="11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609800" y="2390760"/>
            <a:ext cx="2514600" cy="57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08360" y="264492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754520" y="2647440"/>
            <a:ext cx="0" cy="50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89280" y="31590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65680" y="256068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801960" y="2657160"/>
            <a:ext cx="0" cy="50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23960" y="2833560"/>
            <a:ext cx="552600" cy="90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61880" y="368784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 destination IP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08360" y="45594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36880" y="415440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tions (if an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1800" y="4127400"/>
            <a:ext cx="184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 timestamp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rd ro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ken, spec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st of rou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vis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190920" y="4343400"/>
            <a:ext cx="819000" cy="9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5BD-8D8D-4FA5-9643-D47E01C258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RIP: Link Failure and Recovery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19120" y="171936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o advertisement heard after 180 sec --&gt; neighbor/link declared d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s via neighbor invalid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advertisements sent to neighb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ighbors in turn send out new advertisements (if tables change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failure info quickly propagates to entire 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1A3-84B4-49EF-85FA-D1CB630887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RIP Table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processing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 routing tables managed by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application-lev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cess calle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oute-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daem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ertisements sent in UDP packets, periodically repe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174680" y="3516480"/>
            <a:ext cx="648972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5AD9-BBBF-4FFA-B93B-D693152506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RIP Table example (continued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81040" y="131760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: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iroflee.eurocom.f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485640" y="3997440"/>
            <a:ext cx="7772400" cy="22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attached class C networks (LA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 only knows routes to attached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 router used to “go u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 multicast address: 224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back interface (for debugg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7440" y="1874880"/>
            <a:ext cx="838188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stination           Gateway           Flags  Ref   Use   Interfa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-------------- -------------------- ----- ----- ------ --------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27.0.0.1            127.0.0.1             UH       0  26492  lo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2.168.2.           192.168.2.5           U        2     13  fa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3.55.114.          193.55.114.6          U        3  58503  le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2.168.3.           192.168.3.5           U        2     25  qaa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24.0.0.0            193.55.114.6          U        3      0  le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fault              193.55.114.129        UG       0 14345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5757-DACF-4A6A-B826-DAAE610DC1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OSPF (Open Shortest Path First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n”: publicly avai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s Link State algorith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S packet dissemin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 map at each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 computation using Dijkstra’s algorith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PF advertisement carries one entry per neighbor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ertisements disseminated t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nti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S (via flood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28D-E077-47B8-8B2C-F8871FEBDF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OSPF “advanced” features (not in RI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curit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l OSPF messages authenticated (to prevent malicious intrusion); TCP connections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 same-cos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allowed (only one path in RI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link, multiple cost metrics for differen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OS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(type of servic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g, satellite link cost set “low” for best effort; high for real ti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ated uni- an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ca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pport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cast OSPF (MOSPF) uses same topology data base as OSP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erarchic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SPF in large domai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F53F-2F42-4B5B-91EF-9C49FBDDD6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Hierarchical OSPF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084320" y="1341360"/>
            <a:ext cx="7315200" cy="473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E2B-5574-41AA-BC40-E284B6753D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Hierarchical OSPF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20560" y="1468080"/>
            <a:ext cx="8229600" cy="40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wo-level hierarch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ocal area, backb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-state advertisements only in are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s has detailed area topology; only know direction (shortest path) to nets in other are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rea border routers: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summarize” distances  to nets in own area, advertise to other Area Border rou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ackbone router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un OSPF routing limited to backb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oundary router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nect to other A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158-8708-4562-83DB-EEB02B144B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5440" y="498240"/>
            <a:ext cx="83012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GRP (Interior Gateway Routing Protocol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SCO proprietary; successor of RIP (mid 8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Vector, like R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ral cost metrics (delay, bandwidth, reliability, load et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s TCP to exchange routing upd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-free routing via Distributed Updating Alg. (DUAL) based o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iffused compu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76C-9AE9-4D70-8632-A4D0BC9148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-AS rout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7175520" cy="29494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3244680" y="2644920"/>
            <a:ext cx="2986200" cy="210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5433840" y="2936880"/>
            <a:ext cx="901800" cy="72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3257280" y="2793960"/>
            <a:ext cx="415800" cy="28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4431960" y="3156120"/>
            <a:ext cx="461880" cy="404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1E1-7575-4B33-91DA-EB3A5CC3EC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inter-AS routing: BG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GP (Border Gateway Protocol)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facto stand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ath Vec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toco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ilar to Distance Vector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Border Gateway broadcast to neighbors (peers)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ntire pa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I.e, sequence of ASs) to dest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Gateway X may se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ts path to dest. Z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(X,Z) = X,Y1,Y2,Y3,…,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1533-CDA8-4C94-8057-3BC7C045C7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 Fragmentation &amp; Reassembl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6120" y="130464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links have MTU (max.transfer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i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- largest possible link-level fram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erent link types, different MTU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rge IP datagram divided (“fragmented”) within 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datagram becomes several data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ssembled” only at final destin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 header bits used to identify, order related fragm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4597560" y="1628640"/>
            <a:ext cx="2436480" cy="22561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97560" y="4030560"/>
            <a:ext cx="1976400" cy="1987560"/>
          </a:xfrm>
          <a:custGeom>
            <a:avLst/>
            <a:gdLst/>
            <a:ahLst/>
            <a:rect l="l" t="t" r="r" b="b"/>
            <a:pathLst>
              <a:path w="873" h="940">
                <a:moveTo>
                  <a:pt x="2" y="405"/>
                </a:moveTo>
                <a:cubicBezTo>
                  <a:pt x="17" y="290"/>
                  <a:pt x="138" y="129"/>
                  <a:pt x="230" y="65"/>
                </a:cubicBezTo>
                <a:cubicBezTo>
                  <a:pt x="322" y="1"/>
                  <a:pt x="460" y="0"/>
                  <a:pt x="555" y="22"/>
                </a:cubicBezTo>
                <a:cubicBezTo>
                  <a:pt x="650" y="44"/>
                  <a:pt x="748" y="143"/>
                  <a:pt x="800" y="197"/>
                </a:cubicBezTo>
                <a:cubicBezTo>
                  <a:pt x="852" y="251"/>
                  <a:pt x="859" y="292"/>
                  <a:pt x="866" y="347"/>
                </a:cubicBezTo>
                <a:cubicBezTo>
                  <a:pt x="873" y="402"/>
                  <a:pt x="855" y="457"/>
                  <a:pt x="842" y="527"/>
                </a:cubicBezTo>
                <a:cubicBezTo>
                  <a:pt x="829" y="597"/>
                  <a:pt x="827" y="714"/>
                  <a:pt x="788" y="767"/>
                </a:cubicBezTo>
                <a:cubicBezTo>
                  <a:pt x="749" y="820"/>
                  <a:pt x="670" y="819"/>
                  <a:pt x="608" y="845"/>
                </a:cubicBezTo>
                <a:cubicBezTo>
                  <a:pt x="546" y="871"/>
                  <a:pt x="496" y="940"/>
                  <a:pt x="418" y="925"/>
                </a:cubicBezTo>
                <a:cubicBezTo>
                  <a:pt x="340" y="910"/>
                  <a:pt x="208" y="840"/>
                  <a:pt x="139" y="754"/>
                </a:cubicBezTo>
                <a:cubicBezTo>
                  <a:pt x="69" y="667"/>
                  <a:pt x="0" y="546"/>
                  <a:pt x="2" y="405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191120" y="2008080"/>
            <a:ext cx="648720" cy="1247400"/>
            <a:chOff x="4191120" y="2008080"/>
            <a:chExt cx="648720" cy="124740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4191120" y="2008080"/>
              <a:ext cx="563760" cy="4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 flipV="1">
              <a:off x="4741560" y="2340360"/>
              <a:ext cx="982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4191120" y="2809800"/>
              <a:ext cx="563760" cy="4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4741560" y="3147480"/>
              <a:ext cx="9828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360680" y="2468160"/>
              <a:ext cx="95760" cy="299880"/>
              <a:chOff x="4360680" y="2468160"/>
              <a:chExt cx="95760" cy="299880"/>
            </a:xfrm>
          </p:grpSpPr>
          <p:sp>
            <p:nvSpPr>
              <p:cNvPr id="102" name=""/>
              <p:cNvSpPr/>
              <p:nvPr/>
            </p:nvSpPr>
            <p:spPr>
              <a:xfrm>
                <a:off x="4360680" y="2468160"/>
                <a:ext cx="88200" cy="84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364280" y="2575800"/>
                <a:ext cx="88200" cy="84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368240" y="2683800"/>
                <a:ext cx="88200" cy="84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832280" y="2336760"/>
              <a:ext cx="0" cy="8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 flipV="1">
            <a:off x="4670280" y="2584080"/>
            <a:ext cx="1270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46640" y="1909800"/>
            <a:ext cx="6588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3000" y="2246400"/>
            <a:ext cx="1965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95720" y="2022480"/>
            <a:ext cx="180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1280" y="2670120"/>
            <a:ext cx="97164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548040" y="3162240"/>
            <a:ext cx="476280" cy="6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54560" y="2214720"/>
            <a:ext cx="75888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263920" y="1654200"/>
            <a:ext cx="47628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981760" y="1830240"/>
            <a:ext cx="27288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745160" y="1793880"/>
            <a:ext cx="678960" cy="313920"/>
            <a:chOff x="4745160" y="1793880"/>
            <a:chExt cx="678960" cy="313920"/>
          </a:xfrm>
        </p:grpSpPr>
        <p:sp>
          <p:nvSpPr>
            <p:cNvPr id="116" name=""/>
            <p:cNvSpPr/>
            <p:nvPr/>
          </p:nvSpPr>
          <p:spPr>
            <a:xfrm>
              <a:off x="4750560" y="1933920"/>
              <a:ext cx="67356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50560" y="191916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24120" y="191916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50560" y="1919160"/>
              <a:ext cx="66744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45160" y="1793880"/>
              <a:ext cx="67320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4907160" y="1838520"/>
              <a:ext cx="333360" cy="118440"/>
              <a:chOff x="4907160" y="1838520"/>
              <a:chExt cx="333360" cy="118440"/>
            </a:xfrm>
          </p:grpSpPr>
          <p:sp>
            <p:nvSpPr>
              <p:cNvPr id="122" name=""/>
              <p:cNvSpPr/>
              <p:nvPr/>
            </p:nvSpPr>
            <p:spPr>
              <a:xfrm flipV="1">
                <a:off x="4907160" y="183852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35760" y="195696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016600" y="1840680"/>
                <a:ext cx="12348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4907160" y="1836720"/>
              <a:ext cx="333360" cy="118440"/>
              <a:chOff x="4907160" y="1836720"/>
              <a:chExt cx="333360" cy="118440"/>
            </a:xfrm>
          </p:grpSpPr>
          <p:sp>
            <p:nvSpPr>
              <p:cNvPr id="126" name=""/>
              <p:cNvSpPr/>
              <p:nvPr/>
            </p:nvSpPr>
            <p:spPr>
              <a:xfrm>
                <a:off x="4907160" y="195300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35760" y="183672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5016600" y="1837080"/>
                <a:ext cx="12348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4762440" y="2451240"/>
            <a:ext cx="679320" cy="313920"/>
            <a:chOff x="4762440" y="2451240"/>
            <a:chExt cx="679320" cy="313920"/>
          </a:xfrm>
        </p:grpSpPr>
        <p:sp>
          <p:nvSpPr>
            <p:cNvPr id="130" name=""/>
            <p:cNvSpPr/>
            <p:nvPr/>
          </p:nvSpPr>
          <p:spPr>
            <a:xfrm>
              <a:off x="4767840" y="2591280"/>
              <a:ext cx="67392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67840" y="25765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41760" y="25765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67840" y="2576520"/>
              <a:ext cx="66780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62440" y="2451240"/>
              <a:ext cx="67356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4924440" y="2495880"/>
              <a:ext cx="333360" cy="118440"/>
              <a:chOff x="4924440" y="2495880"/>
              <a:chExt cx="333360" cy="118440"/>
            </a:xfrm>
          </p:grpSpPr>
          <p:sp>
            <p:nvSpPr>
              <p:cNvPr id="136" name=""/>
              <p:cNvSpPr/>
              <p:nvPr/>
            </p:nvSpPr>
            <p:spPr>
              <a:xfrm flipV="1">
                <a:off x="4924440" y="249588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153040" y="261432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34240" y="2498040"/>
                <a:ext cx="12384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924440" y="2494080"/>
              <a:ext cx="333360" cy="118440"/>
              <a:chOff x="4924440" y="2494080"/>
              <a:chExt cx="333360" cy="118440"/>
            </a:xfrm>
          </p:grpSpPr>
          <p:sp>
            <p:nvSpPr>
              <p:cNvPr id="140" name=""/>
              <p:cNvSpPr/>
              <p:nvPr/>
            </p:nvSpPr>
            <p:spPr>
              <a:xfrm>
                <a:off x="4924440" y="261036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53040" y="249408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5034240" y="2494440"/>
                <a:ext cx="12384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5732640" y="2001960"/>
            <a:ext cx="675720" cy="313920"/>
            <a:chOff x="5732640" y="2001960"/>
            <a:chExt cx="675720" cy="313920"/>
          </a:xfrm>
        </p:grpSpPr>
        <p:sp>
          <p:nvSpPr>
            <p:cNvPr id="144" name=""/>
            <p:cNvSpPr/>
            <p:nvPr/>
          </p:nvSpPr>
          <p:spPr>
            <a:xfrm>
              <a:off x="5738040" y="2142000"/>
              <a:ext cx="67032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38040" y="21272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08360" y="21272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38040" y="2127240"/>
              <a:ext cx="66420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32640" y="2001960"/>
              <a:ext cx="66996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893920" y="2046600"/>
              <a:ext cx="331920" cy="118440"/>
              <a:chOff x="5893920" y="2046600"/>
              <a:chExt cx="331920" cy="118440"/>
            </a:xfrm>
          </p:grpSpPr>
          <p:sp>
            <p:nvSpPr>
              <p:cNvPr id="150" name=""/>
              <p:cNvSpPr/>
              <p:nvPr/>
            </p:nvSpPr>
            <p:spPr>
              <a:xfrm flipV="1">
                <a:off x="5893920" y="2046600"/>
                <a:ext cx="118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121440" y="2165040"/>
                <a:ext cx="10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3000" y="2048760"/>
                <a:ext cx="12312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893920" y="2044800"/>
              <a:ext cx="331920" cy="118440"/>
              <a:chOff x="5893920" y="2044800"/>
              <a:chExt cx="331920" cy="118440"/>
            </a:xfrm>
          </p:grpSpPr>
          <p:sp>
            <p:nvSpPr>
              <p:cNvPr id="154" name=""/>
              <p:cNvSpPr/>
              <p:nvPr/>
            </p:nvSpPr>
            <p:spPr>
              <a:xfrm>
                <a:off x="5893920" y="2161080"/>
                <a:ext cx="118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121440" y="2044800"/>
                <a:ext cx="10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6003000" y="2045160"/>
                <a:ext cx="12312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5977080" y="2908440"/>
            <a:ext cx="678960" cy="313920"/>
            <a:chOff x="5977080" y="2908440"/>
            <a:chExt cx="678960" cy="313920"/>
          </a:xfrm>
        </p:grpSpPr>
        <p:sp>
          <p:nvSpPr>
            <p:cNvPr id="158" name=""/>
            <p:cNvSpPr/>
            <p:nvPr/>
          </p:nvSpPr>
          <p:spPr>
            <a:xfrm>
              <a:off x="5982480" y="3048480"/>
              <a:ext cx="67356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82480" y="30337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6040" y="30337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82480" y="3033720"/>
              <a:ext cx="66744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77080" y="2908440"/>
              <a:ext cx="67320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139080" y="2953080"/>
              <a:ext cx="333360" cy="118440"/>
              <a:chOff x="6139080" y="2953080"/>
              <a:chExt cx="333360" cy="118440"/>
            </a:xfrm>
          </p:grpSpPr>
          <p:sp>
            <p:nvSpPr>
              <p:cNvPr id="164" name=""/>
              <p:cNvSpPr/>
              <p:nvPr/>
            </p:nvSpPr>
            <p:spPr>
              <a:xfrm flipV="1">
                <a:off x="6139080" y="295308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367680" y="307152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248520" y="2955240"/>
                <a:ext cx="12348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139080" y="2951280"/>
              <a:ext cx="333360" cy="118440"/>
              <a:chOff x="6139080" y="2951280"/>
              <a:chExt cx="333360" cy="118440"/>
            </a:xfrm>
          </p:grpSpPr>
          <p:sp>
            <p:nvSpPr>
              <p:cNvPr id="168" name=""/>
              <p:cNvSpPr/>
              <p:nvPr/>
            </p:nvSpPr>
            <p:spPr>
              <a:xfrm>
                <a:off x="6139080" y="306756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67680" y="295128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6248520" y="2951640"/>
                <a:ext cx="12348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5745240" y="4900680"/>
            <a:ext cx="715680" cy="310680"/>
            <a:chOff x="5745240" y="4900680"/>
            <a:chExt cx="715680" cy="310680"/>
          </a:xfrm>
        </p:grpSpPr>
        <p:sp>
          <p:nvSpPr>
            <p:cNvPr id="172" name=""/>
            <p:cNvSpPr/>
            <p:nvPr/>
          </p:nvSpPr>
          <p:spPr>
            <a:xfrm>
              <a:off x="5751000" y="5039280"/>
              <a:ext cx="709920" cy="1720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51000" y="502488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60920" y="502488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51000" y="5024880"/>
              <a:ext cx="703440" cy="105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45240" y="4900680"/>
              <a:ext cx="709560" cy="200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5915880" y="4944960"/>
              <a:ext cx="351720" cy="117360"/>
              <a:chOff x="5915880" y="4944960"/>
              <a:chExt cx="351720" cy="11736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5915880" y="4944960"/>
                <a:ext cx="1252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157080" y="5062320"/>
                <a:ext cx="11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31440" y="4947120"/>
                <a:ext cx="130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5915880" y="4943160"/>
              <a:ext cx="351720" cy="117360"/>
              <a:chOff x="5915880" y="4943160"/>
              <a:chExt cx="351720" cy="117360"/>
            </a:xfrm>
          </p:grpSpPr>
          <p:sp>
            <p:nvSpPr>
              <p:cNvPr id="182" name=""/>
              <p:cNvSpPr/>
              <p:nvPr/>
            </p:nvSpPr>
            <p:spPr>
              <a:xfrm>
                <a:off x="5915880" y="5058360"/>
                <a:ext cx="1252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57080" y="4943160"/>
                <a:ext cx="11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031440" y="4943520"/>
                <a:ext cx="130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6738840" y="3889440"/>
            <a:ext cx="679320" cy="313920"/>
            <a:chOff x="6738840" y="3889440"/>
            <a:chExt cx="679320" cy="313920"/>
          </a:xfrm>
        </p:grpSpPr>
        <p:sp>
          <p:nvSpPr>
            <p:cNvPr id="186" name=""/>
            <p:cNvSpPr/>
            <p:nvPr/>
          </p:nvSpPr>
          <p:spPr>
            <a:xfrm>
              <a:off x="6744240" y="4029480"/>
              <a:ext cx="67392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44240" y="40147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18160" y="40147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44240" y="4014720"/>
              <a:ext cx="66780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38840" y="3889440"/>
              <a:ext cx="67356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6900840" y="3934080"/>
              <a:ext cx="333360" cy="118440"/>
              <a:chOff x="6900840" y="3934080"/>
              <a:chExt cx="333360" cy="118440"/>
            </a:xfrm>
          </p:grpSpPr>
          <p:sp>
            <p:nvSpPr>
              <p:cNvPr id="192" name=""/>
              <p:cNvSpPr/>
              <p:nvPr/>
            </p:nvSpPr>
            <p:spPr>
              <a:xfrm flipV="1">
                <a:off x="6900840" y="393408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129440" y="405252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10640" y="3936240"/>
                <a:ext cx="12384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900840" y="3932280"/>
              <a:ext cx="333360" cy="118440"/>
              <a:chOff x="6900840" y="3932280"/>
              <a:chExt cx="333360" cy="118440"/>
            </a:xfrm>
          </p:grpSpPr>
          <p:sp>
            <p:nvSpPr>
              <p:cNvPr id="196" name=""/>
              <p:cNvSpPr/>
              <p:nvPr/>
            </p:nvSpPr>
            <p:spPr>
              <a:xfrm>
                <a:off x="6900840" y="404856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129440" y="393228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7010640" y="3932640"/>
                <a:ext cx="12384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705200" y="4392720"/>
            <a:ext cx="563760" cy="446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249880" y="4721400"/>
            <a:ext cx="314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915080" y="5191200"/>
            <a:ext cx="563400" cy="446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flipV="1">
            <a:off x="5465880" y="5528880"/>
            <a:ext cx="982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084640" y="4849920"/>
            <a:ext cx="96480" cy="299160"/>
            <a:chOff x="5084640" y="4849920"/>
            <a:chExt cx="96480" cy="299160"/>
          </a:xfrm>
        </p:grpSpPr>
        <p:sp>
          <p:nvSpPr>
            <p:cNvPr id="204" name=""/>
            <p:cNvSpPr/>
            <p:nvPr/>
          </p:nvSpPr>
          <p:spPr>
            <a:xfrm>
              <a:off x="5084640" y="4849920"/>
              <a:ext cx="88920" cy="846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88240" y="4957560"/>
              <a:ext cx="88920" cy="83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92200" y="5065200"/>
              <a:ext cx="88920" cy="83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556240" y="4718160"/>
            <a:ext cx="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56240" y="5067360"/>
            <a:ext cx="1872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461280" y="4206960"/>
            <a:ext cx="636480" cy="87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013000" y="2755080"/>
            <a:ext cx="1009800" cy="573120"/>
            <a:chOff x="5013000" y="2755080"/>
            <a:chExt cx="1009800" cy="573120"/>
          </a:xfrm>
        </p:grpSpPr>
        <p:sp>
          <p:nvSpPr>
            <p:cNvPr id="211" name=""/>
            <p:cNvSpPr/>
            <p:nvPr/>
          </p:nvSpPr>
          <p:spPr>
            <a:xfrm rot="1432800">
              <a:off x="5003640" y="2955600"/>
              <a:ext cx="1028520" cy="171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432800">
              <a:off x="5011200" y="2919240"/>
              <a:ext cx="84744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310080" y="3094200"/>
            <a:ext cx="393480" cy="466560"/>
            <a:chOff x="6310080" y="3094200"/>
            <a:chExt cx="393480" cy="466560"/>
          </a:xfrm>
        </p:grpSpPr>
        <p:sp>
          <p:nvSpPr>
            <p:cNvPr id="214" name=""/>
            <p:cNvSpPr/>
            <p:nvPr/>
          </p:nvSpPr>
          <p:spPr>
            <a:xfrm rot="3346800">
              <a:off x="6454080" y="3332160"/>
              <a:ext cx="228600" cy="171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3346800">
              <a:off x="6323400" y="3165480"/>
              <a:ext cx="26352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622560" y="3201120"/>
            <a:ext cx="403560" cy="461880"/>
            <a:chOff x="6622560" y="3201120"/>
            <a:chExt cx="403560" cy="461880"/>
          </a:xfrm>
        </p:grpSpPr>
        <p:sp>
          <p:nvSpPr>
            <p:cNvPr id="217" name=""/>
            <p:cNvSpPr/>
            <p:nvPr/>
          </p:nvSpPr>
          <p:spPr>
            <a:xfrm rot="3214800">
              <a:off x="6774840" y="3434040"/>
              <a:ext cx="228600" cy="171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3214800">
              <a:off x="6637680" y="3272040"/>
              <a:ext cx="26352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969240" y="3324960"/>
            <a:ext cx="415440" cy="455400"/>
            <a:chOff x="6969240" y="3324960"/>
            <a:chExt cx="415440" cy="455400"/>
          </a:xfrm>
        </p:grpSpPr>
        <p:sp>
          <p:nvSpPr>
            <p:cNvPr id="220" name=""/>
            <p:cNvSpPr/>
            <p:nvPr/>
          </p:nvSpPr>
          <p:spPr>
            <a:xfrm rot="3051600">
              <a:off x="7131600" y="3551760"/>
              <a:ext cx="228600" cy="171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3051600">
              <a:off x="6986880" y="3395520"/>
              <a:ext cx="26352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006960" y="3276720"/>
            <a:ext cx="219240" cy="6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42000" y="3517920"/>
            <a:ext cx="1335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66000" y="3616200"/>
            <a:ext cx="1173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34280" y="3730680"/>
            <a:ext cx="1015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94480" y="2246400"/>
            <a:ext cx="257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mentatio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in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ne large dat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out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3 smaller data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609880" y="4350960"/>
            <a:ext cx="448920" cy="174960"/>
            <a:chOff x="5609880" y="4350960"/>
            <a:chExt cx="448920" cy="174960"/>
          </a:xfrm>
        </p:grpSpPr>
        <p:sp>
          <p:nvSpPr>
            <p:cNvPr id="228" name=""/>
            <p:cNvSpPr/>
            <p:nvPr/>
          </p:nvSpPr>
          <p:spPr>
            <a:xfrm rot="10826400">
              <a:off x="5610240" y="4351680"/>
              <a:ext cx="228600" cy="171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0826400">
              <a:off x="5794200" y="4353480"/>
              <a:ext cx="26352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12400" y="4544640"/>
            <a:ext cx="448920" cy="174960"/>
            <a:chOff x="5612400" y="4544640"/>
            <a:chExt cx="448920" cy="174960"/>
          </a:xfrm>
        </p:grpSpPr>
        <p:sp>
          <p:nvSpPr>
            <p:cNvPr id="231" name=""/>
            <p:cNvSpPr/>
            <p:nvPr/>
          </p:nvSpPr>
          <p:spPr>
            <a:xfrm rot="10826400">
              <a:off x="5612760" y="4545360"/>
              <a:ext cx="228600" cy="171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0826400">
              <a:off x="5796720" y="4547160"/>
              <a:ext cx="26352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615640" y="4738320"/>
            <a:ext cx="448920" cy="174960"/>
            <a:chOff x="5615640" y="4738320"/>
            <a:chExt cx="448920" cy="174960"/>
          </a:xfrm>
        </p:grpSpPr>
        <p:sp>
          <p:nvSpPr>
            <p:cNvPr id="234" name=""/>
            <p:cNvSpPr/>
            <p:nvPr/>
          </p:nvSpPr>
          <p:spPr>
            <a:xfrm rot="10826400">
              <a:off x="5616000" y="4739040"/>
              <a:ext cx="228600" cy="171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0826400">
              <a:off x="5799960" y="4740840"/>
              <a:ext cx="26352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 flipH="1">
            <a:off x="5360400" y="4443480"/>
            <a:ext cx="22968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350320" y="4618080"/>
            <a:ext cx="2300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353560" y="4824720"/>
            <a:ext cx="2300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281480" y="4188240"/>
            <a:ext cx="1030320" cy="174960"/>
            <a:chOff x="4281480" y="4188240"/>
            <a:chExt cx="1030320" cy="174960"/>
          </a:xfrm>
        </p:grpSpPr>
        <p:sp>
          <p:nvSpPr>
            <p:cNvPr id="240" name=""/>
            <p:cNvSpPr/>
            <p:nvPr/>
          </p:nvSpPr>
          <p:spPr>
            <a:xfrm rot="10792800">
              <a:off x="4281480" y="4188960"/>
              <a:ext cx="1029960" cy="1728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0792800">
              <a:off x="4462560" y="4188960"/>
              <a:ext cx="848880" cy="172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H="1">
            <a:off x="4026960" y="4265640"/>
            <a:ext cx="22968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59840" y="3843360"/>
            <a:ext cx="136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4FB-600D-4B2E-912B-EFBF905104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inter-AS routing: BG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7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uppos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ateway X send its path to peer gateway 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 may or may not select path offered by 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, policy (don’t route via competitors AS), loop prevention reas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W selects path advertised by X, the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(W,Z) = w, Path (X,Z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X can control incoming traffic by controling i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oute advertisements to pe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don’t want to route traffic to Z -&gt; don’t advertise any routes to 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323-1B5E-4E4B-810F-F3908E9C37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inter-AS routing: BG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 messages exchanged using TC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 messag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PE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pens TCP connection to peer and authenticates sen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dvertises new path (or withdraws ol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KEEPAL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eeps connection alive in absence of UPDATES; also ACKs OPEN requ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IFICA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ports errors in previous msg; also used to close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955A-510E-4D47-841D-8022A2F81C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Why different Intra- and Inter-AS routing ?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57280" y="1393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lic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-AS: admin wants control over how its traffic routed, who routes through its ne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ra-AS: single admin, so no policy decisions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ca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erarchical routing saves table size, reduced update traf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erformanc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ra-AS: can focus on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-AS: policy may dominate over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3C7-5EF1-4C70-8300-A906037A6A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outer Architecture Overview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126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key router functions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 routing algorithms/protocol (RIP, OSPF, BG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witchin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grams from incoming to outgoing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1486080" y="2900520"/>
            <a:ext cx="6399000" cy="352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F54-B9DC-452F-8A71-895A77C0D0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2076480" y="938160"/>
            <a:ext cx="5410080" cy="259092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44400" y="5047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put Port Function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94080" y="3668760"/>
            <a:ext cx="5456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centralized switching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n datagram dest., lookup output port using routing table in input port mem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al: complete input port processing at ‘line speed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uing: if datagrams arrive faster than forwarding rate into switch fabr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24120" y="3060720"/>
            <a:ext cx="232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360" y="3789360"/>
            <a:ext cx="195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963800" y="2661480"/>
            <a:ext cx="797040" cy="422280"/>
          </a:xfrm>
          <a:custGeom>
            <a:avLst/>
            <a:gdLst/>
            <a:ahLst/>
            <a:rect l="l" t="t" r="r" b="b"/>
            <a:pathLst>
              <a:path w="769" h="517">
                <a:moveTo>
                  <a:pt x="0" y="0"/>
                </a:moveTo>
                <a:cubicBezTo>
                  <a:pt x="71" y="62"/>
                  <a:pt x="351" y="347"/>
                  <a:pt x="428" y="375"/>
                </a:cubicBezTo>
                <a:cubicBezTo>
                  <a:pt x="505" y="403"/>
                  <a:pt x="404" y="145"/>
                  <a:pt x="461" y="169"/>
                </a:cubicBezTo>
                <a:cubicBezTo>
                  <a:pt x="518" y="192"/>
                  <a:pt x="705" y="444"/>
                  <a:pt x="769" y="5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338560" y="2674800"/>
            <a:ext cx="1407960" cy="1198800"/>
          </a:xfrm>
          <a:custGeom>
            <a:avLst/>
            <a:gdLst/>
            <a:ahLst/>
            <a:rect l="l" t="t" r="r" b="b"/>
            <a:pathLst>
              <a:path w="769" h="517">
                <a:moveTo>
                  <a:pt x="0" y="0"/>
                </a:moveTo>
                <a:cubicBezTo>
                  <a:pt x="71" y="62"/>
                  <a:pt x="351" y="347"/>
                  <a:pt x="428" y="375"/>
                </a:cubicBezTo>
                <a:cubicBezTo>
                  <a:pt x="505" y="403"/>
                  <a:pt x="404" y="145"/>
                  <a:pt x="461" y="169"/>
                </a:cubicBezTo>
                <a:cubicBezTo>
                  <a:pt x="518" y="192"/>
                  <a:pt x="705" y="444"/>
                  <a:pt x="769" y="5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222880" y="2872800"/>
            <a:ext cx="760320" cy="880920"/>
          </a:xfrm>
          <a:custGeom>
            <a:avLst/>
            <a:gdLst/>
            <a:ahLst/>
            <a:rect l="l" t="t" r="r" b="b"/>
            <a:pathLst>
              <a:path w="769" h="517">
                <a:moveTo>
                  <a:pt x="0" y="0"/>
                </a:moveTo>
                <a:cubicBezTo>
                  <a:pt x="71" y="62"/>
                  <a:pt x="351" y="347"/>
                  <a:pt x="428" y="375"/>
                </a:cubicBezTo>
                <a:cubicBezTo>
                  <a:pt x="505" y="403"/>
                  <a:pt x="404" y="145"/>
                  <a:pt x="461" y="169"/>
                </a:cubicBezTo>
                <a:cubicBezTo>
                  <a:pt x="518" y="192"/>
                  <a:pt x="705" y="444"/>
                  <a:pt x="769" y="5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A4F-504C-49DC-9571-7BF4D65A80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69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put Port Queu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31520" y="1126800"/>
            <a:ext cx="810108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bric slower that input ports combined -&gt; queueing may occur at input queu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ad-of-the-Line (HOL) block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ued datagram at front of queue prevents others in queue from moving forw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queueing delay and loss due to input buffer overflow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1106640" y="3762360"/>
            <a:ext cx="690084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A68-C3FA-48CF-84DA-6880E6D626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803160" y="1387440"/>
            <a:ext cx="7391520" cy="50198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hree types of switching fabric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F0B-F922-4C53-8B3F-243FE4B274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witching Via Mem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8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rst generation rout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3520" indent="-8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 copied by system’s (single) CP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3520" indent="-8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ed limited by memory bandwidth (2 bus crossings per datagra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352160" y="2754360"/>
            <a:ext cx="6400800" cy="2071800"/>
            <a:chOff x="1352160" y="2754360"/>
            <a:chExt cx="6400800" cy="2071800"/>
          </a:xfrm>
        </p:grpSpPr>
        <p:sp>
          <p:nvSpPr>
            <p:cNvPr id="471" name=""/>
            <p:cNvSpPr/>
            <p:nvPr/>
          </p:nvSpPr>
          <p:spPr>
            <a:xfrm>
              <a:off x="2495520" y="3454560"/>
              <a:ext cx="8380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71880" y="3454560"/>
              <a:ext cx="8384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14480" y="3149640"/>
              <a:ext cx="175284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90600" y="467352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952720" y="414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28880" y="414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29080" y="414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1352160" y="3683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609960" y="36068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81120" y="3835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76400" y="38354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76400" y="48261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400280" y="38354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00280" y="38354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33800" y="38354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33800" y="48261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153120" y="36828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153120" y="3683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81480" y="2830680"/>
              <a:ext cx="61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73320" y="284472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54520" y="27543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520680" y="4354560"/>
              <a:ext cx="114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stem B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38280" y="4898880"/>
            <a:ext cx="7848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87840" indent="-8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dern rou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7840" indent="-87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port processor performs lookup, copy into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7840" indent="-87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sco Catalyst 8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DE74-5D73-43CB-8A34-18968C7502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1190520" y="671400"/>
            <a:ext cx="7391160" cy="5184360"/>
            <a:chOff x="1190520" y="671400"/>
            <a:chExt cx="7391160" cy="5184360"/>
          </a:xfrm>
        </p:grpSpPr>
        <p:pic>
          <p:nvPicPr>
            <p:cNvPr id="495" name="" descr=""/>
            <p:cNvPicPr/>
            <p:nvPr/>
          </p:nvPicPr>
          <p:blipFill>
            <a:blip r:embed="rId1"/>
            <a:stretch/>
          </p:blipFill>
          <p:spPr>
            <a:xfrm>
              <a:off x="1190520" y="682200"/>
              <a:ext cx="7391160" cy="50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1234800" y="671400"/>
              <a:ext cx="3927600" cy="20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61920" y="3057120"/>
              <a:ext cx="5138640" cy="279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50880" y="798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witching Via Bu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96720" y="2499840"/>
            <a:ext cx="5608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gram from input port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output port memory via a shared b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us conten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witching speed limited by bus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Gbps bus, Cisco 1900: sufficient speed for access and enterprise routers (not regional or backbo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77A-1E63-4995-B056-72CAE0E1DE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Switching Via An Interconnection Network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come  bus bandwidth limi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yan networks, other interconnection nets initially developed to connect processors in multiproces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anced design: fragmenting datagram into fixed length cells, switch cells through the fabric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sco 12000: switches Gbps through the interconnection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9C4-9649-48C7-BA3A-46E6C398B0A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P Fragmentation and Reassembl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933560" y="1498680"/>
            <a:ext cx="4248000" cy="661680"/>
            <a:chOff x="1933560" y="1498680"/>
            <a:chExt cx="4248000" cy="661680"/>
          </a:xfrm>
        </p:grpSpPr>
        <p:sp>
          <p:nvSpPr>
            <p:cNvPr id="246" name=""/>
            <p:cNvSpPr/>
            <p:nvPr/>
          </p:nvSpPr>
          <p:spPr>
            <a:xfrm>
              <a:off x="2000160" y="150516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33560" y="155268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10040" y="149868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3320" y="1517760"/>
              <a:ext cx="79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97400" y="1517760"/>
              <a:ext cx="102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80600" y="1498680"/>
              <a:ext cx="87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14440" y="15526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14360" y="15526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43120" y="157176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24120" y="15526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76880" y="15526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67320" y="150516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6160" y="3251160"/>
            <a:ext cx="4248000" cy="661680"/>
            <a:chOff x="2486160" y="3251160"/>
            <a:chExt cx="4248000" cy="661680"/>
          </a:xfrm>
        </p:grpSpPr>
        <p:sp>
          <p:nvSpPr>
            <p:cNvPr id="259" name=""/>
            <p:cNvSpPr/>
            <p:nvPr/>
          </p:nvSpPr>
          <p:spPr>
            <a:xfrm>
              <a:off x="2552760" y="325764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86160" y="330516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62640" y="325116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65920" y="3270240"/>
              <a:ext cx="79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50000" y="3270240"/>
              <a:ext cx="102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29240" y="3251160"/>
              <a:ext cx="87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67040" y="330516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66960" y="330516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95720" y="332424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6720" y="330516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29480" y="330516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325764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486160" y="4051440"/>
            <a:ext cx="4248000" cy="661680"/>
            <a:chOff x="2486160" y="4051440"/>
            <a:chExt cx="4248000" cy="661680"/>
          </a:xfrm>
        </p:grpSpPr>
        <p:sp>
          <p:nvSpPr>
            <p:cNvPr id="272" name=""/>
            <p:cNvSpPr/>
            <p:nvPr/>
          </p:nvSpPr>
          <p:spPr>
            <a:xfrm>
              <a:off x="2552760" y="405792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86160" y="410544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62640" y="405144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46840" y="4070520"/>
              <a:ext cx="83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14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50000" y="4070520"/>
              <a:ext cx="102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29240" y="4051440"/>
              <a:ext cx="87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67040" y="410544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66960" y="410544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95720" y="412452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76720" y="410544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29480" y="410544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9920" y="405792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476440" y="4879800"/>
            <a:ext cx="4248000" cy="661680"/>
            <a:chOff x="2476440" y="4879800"/>
            <a:chExt cx="4248000" cy="661680"/>
          </a:xfrm>
        </p:grpSpPr>
        <p:sp>
          <p:nvSpPr>
            <p:cNvPr id="285" name=""/>
            <p:cNvSpPr/>
            <p:nvPr/>
          </p:nvSpPr>
          <p:spPr>
            <a:xfrm>
              <a:off x="2543040" y="488628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76440" y="493380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52920" y="487980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7120" y="4898880"/>
              <a:ext cx="83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29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040280" y="4898880"/>
              <a:ext cx="102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19520" y="4879800"/>
              <a:ext cx="87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10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57320" y="4933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57240" y="4933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86000" y="49528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67000" y="4933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19760" y="4933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0200" y="488628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048040" y="2257560"/>
            <a:ext cx="333360" cy="2162160"/>
          </a:xfrm>
          <a:custGeom>
            <a:avLst/>
            <a:gdLst/>
            <a:ahLst/>
            <a:rect l="l" t="t" r="r" b="b"/>
            <a:pathLst>
              <a:path w="210" h="1362">
                <a:moveTo>
                  <a:pt x="0" y="0"/>
                </a:moveTo>
                <a:lnTo>
                  <a:pt x="0" y="1362"/>
                </a:lnTo>
                <a:lnTo>
                  <a:pt x="210" y="858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48040" y="4390920"/>
            <a:ext cx="3618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7400" y="4400640"/>
            <a:ext cx="333360" cy="790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63080" y="2336760"/>
            <a:ext cx="33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ne large datagram be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everal smaller dat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11F-A61D-4C1B-97FB-C6A0657A55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Output Port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61960" y="4324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Buffe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quired when datagrams arrive from fabric faster than the transmission 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cheduling discipl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ooses among queued datagrams for trans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5943600" cy="29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9AA9-3251-410A-84EC-9F56351722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Output port queue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68440" y="463536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ffering when arrival rate via switch exceeeds ouput line spe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queueing (delay) and loss due to output port buffer overflow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811080" y="1563840"/>
            <a:ext cx="696600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BB82-FD39-437B-B539-EEB7843469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v6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11200" y="1401480"/>
            <a:ext cx="8205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itial motivation: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2-bit address space completely allocated by 2008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al motiv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er format helps speed processing/forwar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er changes to facilitate Q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“anycast” address: route to “best” of several replicated serv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Pv6 datagram form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xed-length 40 byte hea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fragmentation allow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1394-6E67-478B-800D-2583111A799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v6 Header (Cont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544680" y="3143160"/>
            <a:ext cx="4865400" cy="32799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610560" y="1359000"/>
            <a:ext cx="737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iorit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dentify priority among datagrams i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Flow Labe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entify datagrams in same “flow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ncept of“flow” not well defin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Next head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entify upper layer protocol for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4E4D-6FDC-4BAA-9449-BAAB4E209E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ther Changes from IPv4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Checksum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ved entirely to reduce processing time at each 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O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lowed, but outside of header, indicated by “Next Header” fie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ICMPv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ew version of ICM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 message types, e.g. “Packet Too Bi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cast group management fun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19C-214D-4970-B819-191D96D946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ransition From IPv4 To IPv6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all routers can be upgraded simultane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“flag day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will the network operatewith mixed IPv4 and IPv6 routers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proposed approach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ual Sta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ome routers with dual stack (v6, v4) can “translate” between form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unnel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Pv6 carried as payload n IPv4 datagram among IPv4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3B7-87A0-46F8-AF05-8E5815031BE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ual Stack Approac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614520" y="1539720"/>
            <a:ext cx="8135640" cy="381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E1D-BA5D-4F5B-A611-6E68DB96D6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26960" y="16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unnel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439560" y="1117440"/>
            <a:ext cx="6083640" cy="54500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4495320" y="234648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Pv6 inside IPv4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33440" y="2398680"/>
            <a:ext cx="2246400" cy="693720"/>
          </a:xfrm>
          <a:custGeom>
            <a:avLst/>
            <a:gdLst/>
            <a:ahLst/>
            <a:rect l="l" t="t" r="r" b="b"/>
            <a:pathLst>
              <a:path w="1415" h="437">
                <a:moveTo>
                  <a:pt x="0" y="415"/>
                </a:moveTo>
                <a:lnTo>
                  <a:pt x="0" y="0"/>
                </a:lnTo>
                <a:lnTo>
                  <a:pt x="1415" y="0"/>
                </a:lnTo>
                <a:lnTo>
                  <a:pt x="1415" y="43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528-A013-40C8-93D7-4240C3C1082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CMP: Internet Control Message Protoco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d by hosts, routers, gateways to communicate network-level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rror reporting: unreachable host, network, port, protoc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cho request/reply (used by pin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-layer “above” IP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CMP msgs carried in IP data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CMP message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ype, code plus first 8 bytes of IP datagram causing err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4585680" y="17604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0         echo reply (p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0         dest. network unreach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1         dest host unreach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2         dest protocol unreach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3         dest port unreach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6         dest network 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7         dest host 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0         source quench (con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- not u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  0         echo request (p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       0         route adverti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     0         router dis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     0         TTL exp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    0         bad IP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73E6-24C0-48A3-82F8-27852BBF5C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Routing in the Internet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lobal Internet consists of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Autonomous Systems (A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erconnected with each oth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ub 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small corpo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ltihomed 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large corporation (no transi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nsit 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provi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-level routing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ra-A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dministrator is responsible for cho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er-A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unique standa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7D61-3F4A-4496-A06E-CB99C6D47B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AS Hierarch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7175520" cy="29494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949680" y="1357200"/>
            <a:ext cx="62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ra-AS border (exterior gateway)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87640" y="1755720"/>
            <a:ext cx="1162080" cy="666720"/>
          </a:xfrm>
          <a:custGeom>
            <a:avLst/>
            <a:gdLst/>
            <a:ahLst/>
            <a:rect l="l" t="t" r="r" b="b"/>
            <a:pathLst>
              <a:path w="732" h="420">
                <a:moveTo>
                  <a:pt x="732" y="0"/>
                </a:moveTo>
                <a:cubicBezTo>
                  <a:pt x="732" y="0"/>
                  <a:pt x="398" y="282"/>
                  <a:pt x="325" y="305"/>
                </a:cubicBezTo>
                <a:cubicBezTo>
                  <a:pt x="252" y="328"/>
                  <a:pt x="347" y="118"/>
                  <a:pt x="293" y="137"/>
                </a:cubicBezTo>
                <a:cubicBezTo>
                  <a:pt x="239" y="156"/>
                  <a:pt x="61" y="361"/>
                  <a:pt x="0" y="4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92680" y="1801800"/>
            <a:ext cx="433080" cy="1209600"/>
          </a:xfrm>
          <a:custGeom>
            <a:avLst/>
            <a:gdLst/>
            <a:ahLst/>
            <a:rect l="l" t="t" r="r" b="b"/>
            <a:pathLst>
              <a:path w="273" h="762">
                <a:moveTo>
                  <a:pt x="273" y="0"/>
                </a:moveTo>
                <a:cubicBezTo>
                  <a:pt x="262" y="92"/>
                  <a:pt x="234" y="513"/>
                  <a:pt x="207" y="554"/>
                </a:cubicBezTo>
                <a:cubicBezTo>
                  <a:pt x="180" y="596"/>
                  <a:pt x="129" y="214"/>
                  <a:pt x="109" y="249"/>
                </a:cubicBezTo>
                <a:cubicBezTo>
                  <a:pt x="89" y="283"/>
                  <a:pt x="23" y="655"/>
                  <a:pt x="0" y="76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53080" y="1836720"/>
            <a:ext cx="420480" cy="1608120"/>
          </a:xfrm>
          <a:custGeom>
            <a:avLst/>
            <a:gdLst/>
            <a:ahLst/>
            <a:rect l="l" t="t" r="r" b="b"/>
            <a:pathLst>
              <a:path w="265" h="1013">
                <a:moveTo>
                  <a:pt x="0" y="0"/>
                </a:moveTo>
                <a:cubicBezTo>
                  <a:pt x="11" y="92"/>
                  <a:pt x="39" y="513"/>
                  <a:pt x="66" y="554"/>
                </a:cubicBezTo>
                <a:cubicBezTo>
                  <a:pt x="93" y="596"/>
                  <a:pt x="144" y="214"/>
                  <a:pt x="164" y="249"/>
                </a:cubicBezTo>
                <a:cubicBezTo>
                  <a:pt x="184" y="283"/>
                  <a:pt x="244" y="854"/>
                  <a:pt x="265" y="101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84880" y="1825560"/>
            <a:ext cx="1220760" cy="820800"/>
          </a:xfrm>
          <a:custGeom>
            <a:avLst/>
            <a:gdLst/>
            <a:ahLst/>
            <a:rect l="l" t="t" r="r" b="b"/>
            <a:pathLst>
              <a:path w="769" h="517">
                <a:moveTo>
                  <a:pt x="0" y="0"/>
                </a:moveTo>
                <a:cubicBezTo>
                  <a:pt x="71" y="62"/>
                  <a:pt x="351" y="347"/>
                  <a:pt x="428" y="375"/>
                </a:cubicBezTo>
                <a:cubicBezTo>
                  <a:pt x="505" y="403"/>
                  <a:pt x="404" y="145"/>
                  <a:pt x="461" y="169"/>
                </a:cubicBezTo>
                <a:cubicBezTo>
                  <a:pt x="518" y="192"/>
                  <a:pt x="705" y="444"/>
                  <a:pt x="769" y="5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0360" y="5591160"/>
            <a:ext cx="50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ra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-AS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erior (gateway)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492280" y="5048280"/>
            <a:ext cx="1279800" cy="598320"/>
          </a:xfrm>
          <a:custGeom>
            <a:avLst/>
            <a:gdLst/>
            <a:ahLst/>
            <a:rect l="l" t="t" r="r" b="b"/>
            <a:pathLst>
              <a:path w="769" h="517">
                <a:moveTo>
                  <a:pt x="0" y="0"/>
                </a:moveTo>
                <a:cubicBezTo>
                  <a:pt x="71" y="62"/>
                  <a:pt x="351" y="347"/>
                  <a:pt x="428" y="375"/>
                </a:cubicBezTo>
                <a:cubicBezTo>
                  <a:pt x="505" y="403"/>
                  <a:pt x="404" y="145"/>
                  <a:pt x="461" y="169"/>
                </a:cubicBezTo>
                <a:cubicBezTo>
                  <a:pt x="518" y="192"/>
                  <a:pt x="705" y="444"/>
                  <a:pt x="769" y="5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857240" y="4801320"/>
            <a:ext cx="1325520" cy="846360"/>
          </a:xfrm>
          <a:custGeom>
            <a:avLst/>
            <a:gdLst/>
            <a:ahLst/>
            <a:rect l="l" t="t" r="r" b="b"/>
            <a:pathLst>
              <a:path w="769" h="517">
                <a:moveTo>
                  <a:pt x="0" y="0"/>
                </a:moveTo>
                <a:cubicBezTo>
                  <a:pt x="71" y="62"/>
                  <a:pt x="351" y="347"/>
                  <a:pt x="428" y="375"/>
                </a:cubicBezTo>
                <a:cubicBezTo>
                  <a:pt x="505" y="403"/>
                  <a:pt x="404" y="145"/>
                  <a:pt x="461" y="169"/>
                </a:cubicBezTo>
                <a:cubicBezTo>
                  <a:pt x="518" y="192"/>
                  <a:pt x="705" y="444"/>
                  <a:pt x="769" y="5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292400" y="4110120"/>
            <a:ext cx="772920" cy="1504800"/>
          </a:xfrm>
          <a:custGeom>
            <a:avLst/>
            <a:gdLst/>
            <a:ahLst/>
            <a:rect l="l" t="t" r="r" b="b"/>
            <a:pathLst>
              <a:path w="769" h="517">
                <a:moveTo>
                  <a:pt x="0" y="0"/>
                </a:moveTo>
                <a:cubicBezTo>
                  <a:pt x="71" y="62"/>
                  <a:pt x="351" y="347"/>
                  <a:pt x="428" y="375"/>
                </a:cubicBezTo>
                <a:cubicBezTo>
                  <a:pt x="505" y="403"/>
                  <a:pt x="404" y="145"/>
                  <a:pt x="461" y="169"/>
                </a:cubicBezTo>
                <a:cubicBezTo>
                  <a:pt x="518" y="192"/>
                  <a:pt x="705" y="444"/>
                  <a:pt x="769" y="5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D320-7A51-4B6C-80A6-EF96A1E5E5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Intra-AS Routing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 known a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erior Gateway Protocols (IG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common IGP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I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Routing Information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OSP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Open Shortest Path Fir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GR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ior Gateway Routing Protocol (Cisco propr.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or EIGR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6B8-8B01-45B6-9C08-1B2A471B15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RIP ( Routing Information Protocol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vector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d in BSD-UNIX Distribution in 198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metric: # of hops (max = 15 hop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vectors: exchanged every 30 sec via Response Message (also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vertise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advertisement: route to up to 25 destination n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2E3-5708-4E47-863A-8629C4E432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305080" y="2211480"/>
            <a:ext cx="1278000" cy="1440"/>
          </a:xfrm>
          <a:custGeom>
            <a:avLst/>
            <a:gdLst/>
            <a:ahLst/>
            <a:rect l="l" t="t" r="r" b="b"/>
            <a:pathLst>
              <a:path w="805" h="1">
                <a:moveTo>
                  <a:pt x="0" y="0"/>
                </a:moveTo>
                <a:lnTo>
                  <a:pt x="805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2236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RIP (Routing Information Protocol) 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3649680"/>
            <a:ext cx="8229600" cy="20732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estination Network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 Next  Router      Num. of hops to d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…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06520" y="1974960"/>
            <a:ext cx="1095480" cy="434880"/>
          </a:xfrm>
          <a:custGeom>
            <a:avLst/>
            <a:gdLst/>
            <a:ahLst/>
            <a:rect l="l" t="t" r="r" b="b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440160" y="2028960"/>
            <a:ext cx="678960" cy="313920"/>
            <a:chOff x="3440160" y="2028960"/>
            <a:chExt cx="678960" cy="313920"/>
          </a:xfrm>
        </p:grpSpPr>
        <p:sp>
          <p:nvSpPr>
            <p:cNvPr id="326" name=""/>
            <p:cNvSpPr/>
            <p:nvPr/>
          </p:nvSpPr>
          <p:spPr>
            <a:xfrm>
              <a:off x="3445560" y="2169000"/>
              <a:ext cx="67356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45560" y="21542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19120" y="21542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45560" y="2154240"/>
              <a:ext cx="66744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40160" y="2028960"/>
              <a:ext cx="67320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3602160" y="2073600"/>
              <a:ext cx="333360" cy="118440"/>
              <a:chOff x="3602160" y="2073600"/>
              <a:chExt cx="333360" cy="11844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3602160" y="207360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830760" y="219204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711600" y="2075760"/>
                <a:ext cx="12348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3602160" y="2071800"/>
              <a:ext cx="333360" cy="118440"/>
              <a:chOff x="3602160" y="2071800"/>
              <a:chExt cx="333360" cy="118440"/>
            </a:xfrm>
          </p:grpSpPr>
          <p:sp>
            <p:nvSpPr>
              <p:cNvPr id="336" name=""/>
              <p:cNvSpPr/>
              <p:nvPr/>
            </p:nvSpPr>
            <p:spPr>
              <a:xfrm>
                <a:off x="3602160" y="218808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830760" y="207180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3711600" y="2072160"/>
                <a:ext cx="12348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9" name=""/>
          <p:cNvGrpSpPr/>
          <p:nvPr/>
        </p:nvGrpSpPr>
        <p:grpSpPr>
          <a:xfrm>
            <a:off x="1611360" y="2027160"/>
            <a:ext cx="678960" cy="313920"/>
            <a:chOff x="1611360" y="2027160"/>
            <a:chExt cx="678960" cy="313920"/>
          </a:xfrm>
        </p:grpSpPr>
        <p:sp>
          <p:nvSpPr>
            <p:cNvPr id="340" name=""/>
            <p:cNvSpPr/>
            <p:nvPr/>
          </p:nvSpPr>
          <p:spPr>
            <a:xfrm>
              <a:off x="1616760" y="2167200"/>
              <a:ext cx="67356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16760" y="21524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90320" y="21524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16760" y="2152440"/>
              <a:ext cx="66744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11360" y="2027160"/>
              <a:ext cx="67320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1773360" y="2071800"/>
              <a:ext cx="333360" cy="118440"/>
              <a:chOff x="1773360" y="2071800"/>
              <a:chExt cx="333360" cy="118440"/>
            </a:xfrm>
          </p:grpSpPr>
          <p:sp>
            <p:nvSpPr>
              <p:cNvPr id="346" name=""/>
              <p:cNvSpPr/>
              <p:nvPr/>
            </p:nvSpPr>
            <p:spPr>
              <a:xfrm flipV="1">
                <a:off x="1773360" y="207180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001960" y="219024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82800" y="2073960"/>
                <a:ext cx="12348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1773360" y="2070000"/>
              <a:ext cx="333360" cy="118440"/>
              <a:chOff x="1773360" y="2070000"/>
              <a:chExt cx="333360" cy="118440"/>
            </a:xfrm>
          </p:grpSpPr>
          <p:sp>
            <p:nvSpPr>
              <p:cNvPr id="350" name=""/>
              <p:cNvSpPr/>
              <p:nvPr/>
            </p:nvSpPr>
            <p:spPr>
              <a:xfrm>
                <a:off x="1773360" y="218628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001960" y="207000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1882800" y="2070360"/>
                <a:ext cx="12348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3427560" y="2825640"/>
            <a:ext cx="675720" cy="313920"/>
            <a:chOff x="3427560" y="2825640"/>
            <a:chExt cx="675720" cy="313920"/>
          </a:xfrm>
        </p:grpSpPr>
        <p:sp>
          <p:nvSpPr>
            <p:cNvPr id="354" name=""/>
            <p:cNvSpPr/>
            <p:nvPr/>
          </p:nvSpPr>
          <p:spPr>
            <a:xfrm>
              <a:off x="3432960" y="2965680"/>
              <a:ext cx="67032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32960" y="29509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03280" y="29509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32960" y="2950920"/>
              <a:ext cx="66420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27560" y="2825640"/>
              <a:ext cx="66996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3588840" y="2870280"/>
              <a:ext cx="331920" cy="118440"/>
              <a:chOff x="3588840" y="2870280"/>
              <a:chExt cx="331920" cy="118440"/>
            </a:xfrm>
          </p:grpSpPr>
          <p:sp>
            <p:nvSpPr>
              <p:cNvPr id="360" name=""/>
              <p:cNvSpPr/>
              <p:nvPr/>
            </p:nvSpPr>
            <p:spPr>
              <a:xfrm flipV="1">
                <a:off x="3588840" y="2870280"/>
                <a:ext cx="118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16360" y="2988720"/>
                <a:ext cx="10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97920" y="2872440"/>
                <a:ext cx="12312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588840" y="2868480"/>
              <a:ext cx="331920" cy="118440"/>
              <a:chOff x="3588840" y="2868480"/>
              <a:chExt cx="331920" cy="118440"/>
            </a:xfrm>
          </p:grpSpPr>
          <p:sp>
            <p:nvSpPr>
              <p:cNvPr id="364" name=""/>
              <p:cNvSpPr/>
              <p:nvPr/>
            </p:nvSpPr>
            <p:spPr>
              <a:xfrm>
                <a:off x="3588840" y="2984760"/>
                <a:ext cx="118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16360" y="2868480"/>
                <a:ext cx="10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697920" y="2868840"/>
                <a:ext cx="12312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7" name=""/>
          <p:cNvSpPr/>
          <p:nvPr/>
        </p:nvSpPr>
        <p:spPr>
          <a:xfrm>
            <a:off x="4151160" y="2211480"/>
            <a:ext cx="1278000" cy="1440"/>
          </a:xfrm>
          <a:custGeom>
            <a:avLst/>
            <a:gdLst/>
            <a:ahLst/>
            <a:rect l="l" t="t" r="r" b="b"/>
            <a:pathLst>
              <a:path w="805" h="1">
                <a:moveTo>
                  <a:pt x="0" y="0"/>
                </a:moveTo>
                <a:lnTo>
                  <a:pt x="805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286240" y="2028960"/>
            <a:ext cx="679320" cy="313920"/>
            <a:chOff x="5286240" y="2028960"/>
            <a:chExt cx="679320" cy="313920"/>
          </a:xfrm>
        </p:grpSpPr>
        <p:sp>
          <p:nvSpPr>
            <p:cNvPr id="369" name=""/>
            <p:cNvSpPr/>
            <p:nvPr/>
          </p:nvSpPr>
          <p:spPr>
            <a:xfrm>
              <a:off x="5291640" y="2169000"/>
              <a:ext cx="67392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1640" y="21542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65560" y="21542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91640" y="2154240"/>
              <a:ext cx="66780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286240" y="2028960"/>
              <a:ext cx="67356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5448240" y="2073600"/>
              <a:ext cx="333360" cy="118440"/>
              <a:chOff x="5448240" y="2073600"/>
              <a:chExt cx="333360" cy="118440"/>
            </a:xfrm>
          </p:grpSpPr>
          <p:sp>
            <p:nvSpPr>
              <p:cNvPr id="375" name=""/>
              <p:cNvSpPr/>
              <p:nvPr/>
            </p:nvSpPr>
            <p:spPr>
              <a:xfrm flipV="1">
                <a:off x="5448240" y="207360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76840" y="219204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558040" y="2075760"/>
                <a:ext cx="12384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448240" y="2071800"/>
              <a:ext cx="333360" cy="118440"/>
              <a:chOff x="5448240" y="2071800"/>
              <a:chExt cx="333360" cy="118440"/>
            </a:xfrm>
          </p:grpSpPr>
          <p:sp>
            <p:nvSpPr>
              <p:cNvPr id="379" name=""/>
              <p:cNvSpPr/>
              <p:nvPr/>
            </p:nvSpPr>
            <p:spPr>
              <a:xfrm>
                <a:off x="5448240" y="218808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676840" y="207180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558040" y="2072160"/>
                <a:ext cx="12384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" name=""/>
          <p:cNvSpPr/>
          <p:nvPr/>
        </p:nvSpPr>
        <p:spPr>
          <a:xfrm>
            <a:off x="353880" y="2224080"/>
            <a:ext cx="1278000" cy="1440"/>
          </a:xfrm>
          <a:custGeom>
            <a:avLst/>
            <a:gdLst/>
            <a:ahLst/>
            <a:rect l="l" t="t" r="r" b="b"/>
            <a:pathLst>
              <a:path w="805" h="1">
                <a:moveTo>
                  <a:pt x="0" y="0"/>
                </a:moveTo>
                <a:lnTo>
                  <a:pt x="805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73840" y="2200320"/>
            <a:ext cx="1278000" cy="1440"/>
          </a:xfrm>
          <a:custGeom>
            <a:avLst/>
            <a:gdLst/>
            <a:ahLst/>
            <a:rect l="l" t="t" r="r" b="b"/>
            <a:pathLst>
              <a:path w="805" h="1">
                <a:moveTo>
                  <a:pt x="0" y="0"/>
                </a:moveTo>
                <a:lnTo>
                  <a:pt x="805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7683480" y="2049480"/>
            <a:ext cx="676080" cy="313920"/>
            <a:chOff x="7683480" y="2049480"/>
            <a:chExt cx="676080" cy="313920"/>
          </a:xfrm>
        </p:grpSpPr>
        <p:sp>
          <p:nvSpPr>
            <p:cNvPr id="385" name=""/>
            <p:cNvSpPr/>
            <p:nvPr/>
          </p:nvSpPr>
          <p:spPr>
            <a:xfrm>
              <a:off x="7688880" y="2189520"/>
              <a:ext cx="67068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88880" y="217476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59560" y="217476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88880" y="2174760"/>
              <a:ext cx="66456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83480" y="2049480"/>
              <a:ext cx="67032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7844760" y="2094120"/>
              <a:ext cx="332280" cy="118440"/>
              <a:chOff x="7844760" y="2094120"/>
              <a:chExt cx="332280" cy="118440"/>
            </a:xfrm>
          </p:grpSpPr>
          <p:sp>
            <p:nvSpPr>
              <p:cNvPr id="391" name=""/>
              <p:cNvSpPr/>
              <p:nvPr/>
            </p:nvSpPr>
            <p:spPr>
              <a:xfrm flipV="1">
                <a:off x="7844760" y="2094120"/>
                <a:ext cx="1184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072640" y="2212560"/>
                <a:ext cx="10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953840" y="2096280"/>
                <a:ext cx="12312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844760" y="2092320"/>
              <a:ext cx="332280" cy="118440"/>
              <a:chOff x="7844760" y="2092320"/>
              <a:chExt cx="332280" cy="118440"/>
            </a:xfrm>
          </p:grpSpPr>
          <p:sp>
            <p:nvSpPr>
              <p:cNvPr id="395" name=""/>
              <p:cNvSpPr/>
              <p:nvPr/>
            </p:nvSpPr>
            <p:spPr>
              <a:xfrm>
                <a:off x="7844760" y="2208600"/>
                <a:ext cx="1184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072640" y="2092320"/>
                <a:ext cx="10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7953840" y="2092680"/>
                <a:ext cx="12312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 flipV="1">
            <a:off x="2128680" y="1611000"/>
            <a:ext cx="6224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963960" y="1645920"/>
            <a:ext cx="6224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799240" y="1680840"/>
            <a:ext cx="6220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8164440" y="1634760"/>
            <a:ext cx="6224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174160" y="2386080"/>
            <a:ext cx="6220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39840" y="2352600"/>
            <a:ext cx="129240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183800">
            <a:off x="2271240" y="2503440"/>
            <a:ext cx="1095480" cy="434880"/>
          </a:xfrm>
          <a:custGeom>
            <a:avLst/>
            <a:gdLst/>
            <a:ahLst/>
            <a:rect l="l" t="t" r="r" b="b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5680" y="1987560"/>
            <a:ext cx="1095120" cy="434880"/>
          </a:xfrm>
          <a:custGeom>
            <a:avLst/>
            <a:gdLst/>
            <a:ahLst/>
            <a:rect l="l" t="t" r="r" b="b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52960" y="1974960"/>
            <a:ext cx="1095480" cy="434880"/>
          </a:xfrm>
          <a:custGeom>
            <a:avLst/>
            <a:gdLst/>
            <a:ahLst/>
            <a:rect l="l" t="t" r="r" b="b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75280" y="1963800"/>
            <a:ext cx="1095480" cy="434880"/>
          </a:xfrm>
          <a:custGeom>
            <a:avLst/>
            <a:gdLst/>
            <a:ahLst/>
            <a:rect l="l" t="t" r="r" b="b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9010400">
            <a:off x="8048160" y="1398240"/>
            <a:ext cx="1095480" cy="434880"/>
          </a:xfrm>
          <a:custGeom>
            <a:avLst/>
            <a:gdLst/>
            <a:ahLst/>
            <a:rect l="l" t="t" r="r" b="b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5400" y="1935000"/>
            <a:ext cx="4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69400" y="19828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70840" y="198288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441280" y="144144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23320" y="22986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63280" y="3098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64720" y="23223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97840" y="23572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82920" y="5862600"/>
            <a:ext cx="21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ing table in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00720" y="194796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A1E-5BF7-44BC-8896-76D4AEE363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Eleonora Luppi</cp:lastModifiedBy>
  <dcterms:modified xsi:type="dcterms:W3CDTF">2004-05-25T12:32:48Z</dcterms:modified>
  <cp:revision>133</cp:revision>
  <dc:subject/>
  <dc:title>Part I: Introduction</dc:title>
</cp:coreProperties>
</file>