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CAMERA.WAV" ContentType="audio/x-wav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F2D5-362B-428E-A7C4-B35D61F99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8D42-B864-4258-9668-7E5D27585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0A24-F0FB-4859-A480-8B65DA628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D726-083D-4AE0-A6E3-A1F1F2F68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8180-51B3-456A-9455-6C1766A57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E06A-32C0-4A1F-9AA5-975D9740E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4CB0-470F-4491-894B-D78547D78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8E3E-6CC3-4F83-9A32-60C062020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B6C4-139F-4D73-B945-1864BE230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B1C3-BA6E-40FF-B7B7-CAA42F2C3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6960-E1E0-444C-A3EF-9E721CB22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A54D-7142-4879-A17F-0B3DB3D6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edit the title text forma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1440" y="6400800"/>
            <a:ext cx="7764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Kurose, Ross,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Internet e reti di calcolato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059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D26F6-320A-409C-9041-D99954C0C7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UDP: User Datagram Protocol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[RFC 768]</a:t>
            </a:r>
            <a:endParaRPr b="0" lang="en-US" sz="2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2840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 frills,” “bare bones” Internet transport protoco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est effort” service, UDP segments may b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s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livered out of order to ap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Comic Sans MS"/>
              </a:rPr>
              <a:t>connectionles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 handshaking between UDP sender, receiv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ach UDP segment handled independently of oth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52720" y="1781280"/>
            <a:ext cx="3809880" cy="38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Why is there a UDP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 connection establishment (which can add delay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mple: no connection state at sender, receiv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mall segment head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 congestion control: UDP can blast away as fast as desir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"/>
          <p:cNvSpPr/>
          <p:nvPr/>
        </p:nvSpPr>
        <p:spPr>
          <a:xfrm>
            <a:off x="4591080" y="1638360"/>
            <a:ext cx="4048200" cy="38386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AC97-5375-44C7-8CB3-ACE4189F2F1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rdt2.0: in action (no errors)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4200" y="1962000"/>
            <a:ext cx="5083200" cy="27115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857920" y="1509840"/>
            <a:ext cx="2020680" cy="40528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086840" y="5675400"/>
            <a:ext cx="18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ender F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916960" y="5675400"/>
            <a:ext cx="20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eceiver F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37960" y="3000240"/>
            <a:ext cx="981360" cy="99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296040" y="2809800"/>
            <a:ext cx="981000" cy="99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3120" y="2011320"/>
            <a:ext cx="85680" cy="85716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14600" y="2881440"/>
            <a:ext cx="3276720" cy="1552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800680" y="4410000"/>
            <a:ext cx="95400" cy="10954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19240" y="3038400"/>
            <a:ext cx="981000" cy="99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37960" y="3000240"/>
            <a:ext cx="981360" cy="990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74640" y="2886120"/>
            <a:ext cx="1852560" cy="3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2704680" y="4638240"/>
            <a:ext cx="3057480" cy="857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019240" y="3038400"/>
            <a:ext cx="981000" cy="990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33280" y="3005280"/>
            <a:ext cx="981000" cy="99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856800" y="4638600"/>
            <a:ext cx="1762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1299-765C-4680-8119-026CE2C3DD8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7" dur="1" fill="hold">
                                    <p:stCondLst>
                                      <p:cond evt="end">
                                        <p:tn val="84"/>
                                      </p:cond>
                                    </p:stCondLst>
                                  </p:cTn>
                                  <p:tgtEl>
                                    <p:spTgt spid="1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rdt2.0: in action (error scenario)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23920" y="1962000"/>
            <a:ext cx="5083200" cy="27115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857920" y="1509840"/>
            <a:ext cx="2020680" cy="40528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086840" y="5675400"/>
            <a:ext cx="18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ender F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916960" y="5675400"/>
            <a:ext cx="20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eceiver F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37960" y="3000240"/>
            <a:ext cx="981360" cy="99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96040" y="2809800"/>
            <a:ext cx="981000" cy="99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3120" y="2011320"/>
            <a:ext cx="85680" cy="85716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2514600" y="1585440"/>
            <a:ext cx="3228840" cy="1295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724360" y="1581120"/>
            <a:ext cx="105120" cy="7621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19240" y="3038400"/>
            <a:ext cx="981000" cy="99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37960" y="3000240"/>
            <a:ext cx="981360" cy="990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74640" y="2886120"/>
            <a:ext cx="1852560" cy="3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3381480" y="2362320"/>
            <a:ext cx="2342880" cy="723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019240" y="3038400"/>
            <a:ext cx="981000" cy="990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33280" y="3005280"/>
            <a:ext cx="981000" cy="99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856800" y="4638600"/>
            <a:ext cx="1762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86080" y="3114720"/>
            <a:ext cx="104760" cy="7999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343320" y="3929040"/>
            <a:ext cx="2486160" cy="495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838840" y="4400640"/>
            <a:ext cx="95400" cy="108576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2676600" y="4647960"/>
            <a:ext cx="3162240" cy="809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624D-21C5-4526-B164-A7A2D28EA77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7" dur="1" fill="hold">
                                    <p:stCondLst>
                                      <p:cond evt="end">
                                        <p:tn val="184"/>
                                      </p:cond>
                                    </p:stCondLst>
                                  </p:cTn>
                                  <p:tgtEl>
                                    <p:spTgt spid="1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rdt2.0 has a fatal flaw!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What happens if ACK/NAK corrupted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nder doesn’t know what happened at receiver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n’t just retransmit: possible duplica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What to do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nder ACKs/NAKs receiver’s ACK/NAK? What if sender ACK/NAK lost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transmit, but this might cause retransmission of correctly received pkt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495680" y="1599840"/>
            <a:ext cx="3810240" cy="25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Handling duplicates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nder adds </a:t>
            </a:r>
            <a:r>
              <a:rPr b="0" i="1" lang="en-US" sz="2000" spc="-1" strike="noStrike">
                <a:solidFill>
                  <a:srgbClr val="3333cc"/>
                </a:solidFill>
                <a:latin typeface="Comic Sans MS"/>
              </a:rPr>
              <a:t>sequence numb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o each pk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nder retransmits current pkt if ACK/NAK garbl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ceiver discards (doesn’t deliver up) duplicate pk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/>
          <p:nvPr/>
        </p:nvSpPr>
        <p:spPr>
          <a:xfrm>
            <a:off x="4974840" y="4818240"/>
            <a:ext cx="3304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nder sends one packet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n waits for receiv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96000" y="4686480"/>
            <a:ext cx="3466800" cy="1238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4967640" y="4522680"/>
            <a:ext cx="1793160" cy="398880"/>
            <a:chOff x="4967640" y="4522680"/>
            <a:chExt cx="1793160" cy="398880"/>
          </a:xfrm>
        </p:grpSpPr>
        <p:sp>
          <p:nvSpPr>
            <p:cNvPr id="172" name=""/>
            <p:cNvSpPr/>
            <p:nvPr/>
          </p:nvSpPr>
          <p:spPr>
            <a:xfrm>
              <a:off x="5038560" y="4590720"/>
              <a:ext cx="1648080" cy="27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967640" y="4522680"/>
              <a:ext cx="179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stop and wa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74D2-C9F7-43AC-9247-7D467C8312B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33360" y="237600"/>
            <a:ext cx="82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rdt2.1: sender, handles garbled ACK/NAK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99960" y="1271520"/>
            <a:ext cx="7944120" cy="5135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52B0-FB1F-4948-A33D-09A35F7116D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18680" y="228240"/>
            <a:ext cx="832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rdt2.1: receiver, handles garbled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ACK/NAKs</a:t>
            </a:r>
            <a:endParaRPr b="0" lang="en-US" sz="2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47760" y="1419120"/>
            <a:ext cx="8547120" cy="4476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F070-C6A9-4BF6-AFE0-4F598109E83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rdt2.1: discussion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Sende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q # added to pk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wo seq. #’s (0,1) will suffice.  Why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st check if received ACK/NAK corrupted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wice as many sta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ate must “remember” whether “current” pkt has 0 or 1 seq. #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Receive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st check if received packet is duplic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ate indicates whether 0 or 1 is expected pkt seq #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e: receiver can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know if its last ACK/NAK received OK at send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A752-A4E0-4995-B88E-1FA7F653D16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rdt2.2: a NAK-free protocol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19040" y="1581120"/>
            <a:ext cx="3867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me functionality as rdt2.1, using ACKs onl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stead of NAK, receiver sends ACK for last pkt received O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ceiver must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explicitl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nclude seq # of pkt being ACKed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uplicate ACK at sender results in same action as NAK: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retransmit current pk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335480" y="2033640"/>
            <a:ext cx="4467240" cy="38988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6994080" y="1370160"/>
            <a:ext cx="117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4895640" y="2600280"/>
            <a:ext cx="1228680" cy="196236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4905360" y="3152880"/>
            <a:ext cx="2571840" cy="140004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4914720" y="3524400"/>
            <a:ext cx="2971800" cy="101916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4914720" y="4400640"/>
            <a:ext cx="3181320" cy="15552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63080" y="4282920"/>
            <a:ext cx="27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ECF6-6F34-432F-9BD9-6D0FC04929A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rdt3.0: channels with errors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and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 los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New assumption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underlying channel can also lose packets (data or ACK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ecksum, seq. #, ACKs, retransmissions will be of help, but not enoug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Q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how to deal with loss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nder waits until certain data or ACK lost, then retransmi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uck: drawbacks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495320" y="1600200"/>
            <a:ext cx="4095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Approach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ender waits “reasonable” amount of time for ACK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transmits if no ACK received in this tim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pkt (or ACK) just delayed (not lost)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transmission will be  duplicate, but use of seq. #’s already handles th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ceiver must specify seq # of pkt being ACK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quires countdown tim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1BB6-D53A-43CC-BC38-1256559724C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rdt3.0 sender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800360" y="1000080"/>
            <a:ext cx="6134040" cy="524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1C1D-3740-434D-82E1-E40542BC89F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rdt3.0 in action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380880" y="1486080"/>
            <a:ext cx="8428320" cy="4389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2C1E-3FA3-40E0-8E2E-3A92A88C8EC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UDP: more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2840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ften used for streaming multimedia app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ss tolera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ate sensitiv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ther UDP uses (why?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liable transfer over UDP: add reliability at application lay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lication-specific error recover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"/>
          <p:cNvSpPr/>
          <p:nvPr/>
        </p:nvSpPr>
        <p:spPr>
          <a:xfrm>
            <a:off x="5343480" y="2000160"/>
            <a:ext cx="3324240" cy="32004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267160" y="2095560"/>
            <a:ext cx="3324240" cy="3200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276160" y="211788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ource port #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075080" y="2117880"/>
            <a:ext cx="136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st port #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257800" y="2495520"/>
            <a:ext cx="3328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48440" y="2895480"/>
            <a:ext cx="3324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6905520" y="2095560"/>
            <a:ext cx="0" cy="3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35000" y="166536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2 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62720" y="1862280"/>
            <a:ext cx="120024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5252760" y="1871640"/>
            <a:ext cx="11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14600" y="3951360"/>
            <a:ext cx="1521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mess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670360" y="5518080"/>
            <a:ext cx="270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DP segmen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6905520" y="2505240"/>
            <a:ext cx="0" cy="3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620320" y="250812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155360" y="249876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ecks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16120" y="2212920"/>
            <a:ext cx="1570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ngth,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ytes of U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gment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clu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981680" y="2543040"/>
            <a:ext cx="714240" cy="14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39C9-70C4-450C-884D-1EA6CB96909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rdt3.0 in action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657360" y="1523880"/>
            <a:ext cx="8218440" cy="425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C5BD-DFA0-476C-9187-0CEA9DD8989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Performance of rdt3.0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72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dt3.0 works, but performance stink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: 1 Gbps link, 15 ms e-e prop. delay, 1KB packet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868400" y="2722680"/>
            <a:ext cx="4744800" cy="722880"/>
            <a:chOff x="1868400" y="2722680"/>
            <a:chExt cx="4744800" cy="722880"/>
          </a:xfrm>
        </p:grpSpPr>
        <p:sp>
          <p:nvSpPr>
            <p:cNvPr id="202" name=""/>
            <p:cNvSpPr/>
            <p:nvPr/>
          </p:nvSpPr>
          <p:spPr>
            <a:xfrm>
              <a:off x="1868400" y="28562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000160" y="3003840"/>
              <a:ext cx="109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transm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953080" y="28753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416760" y="2722680"/>
              <a:ext cx="109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8kb/pk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346920" y="3046680"/>
              <a:ext cx="1604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0**9 b/se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937400" y="2884680"/>
              <a:ext cx="167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= 8 microse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438720" y="306720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914760" y="3494160"/>
            <a:ext cx="7652520" cy="731880"/>
            <a:chOff x="914760" y="3494160"/>
            <a:chExt cx="7652520" cy="731880"/>
          </a:xfrm>
        </p:grpSpPr>
        <p:sp>
          <p:nvSpPr>
            <p:cNvPr id="210" name=""/>
            <p:cNvSpPr/>
            <p:nvPr/>
          </p:nvSpPr>
          <p:spPr>
            <a:xfrm>
              <a:off x="914760" y="3684600"/>
              <a:ext cx="212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Utilization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= U =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315040" y="3656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2" name=""/>
            <p:cNvGrpSpPr/>
            <p:nvPr/>
          </p:nvGrpSpPr>
          <p:grpSpPr>
            <a:xfrm>
              <a:off x="5579640" y="3494160"/>
              <a:ext cx="1671120" cy="731880"/>
              <a:chOff x="5579640" y="3494160"/>
              <a:chExt cx="1671120" cy="731880"/>
            </a:xfrm>
          </p:grpSpPr>
          <p:sp>
            <p:nvSpPr>
              <p:cNvPr id="213" name=""/>
              <p:cNvSpPr/>
              <p:nvPr/>
            </p:nvSpPr>
            <p:spPr>
              <a:xfrm>
                <a:off x="5693040" y="3494160"/>
                <a:ext cx="1463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8 microse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579640" y="3827160"/>
                <a:ext cx="1671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30.016 mse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762880" y="3866760"/>
                <a:ext cx="137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6" name=""/>
            <p:cNvSpPr/>
            <p:nvPr/>
          </p:nvSpPr>
          <p:spPr>
            <a:xfrm>
              <a:off x="2845080" y="3503520"/>
              <a:ext cx="2663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fraction of ti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sender busy send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228440" y="3665520"/>
              <a:ext cx="1338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= 0.000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771480" y="4410000"/>
            <a:ext cx="8372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lvl="1" marL="423360" indent="-16272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KB pkt every 30 msec -&gt; 33kB/sec throughput over 1 Gbps 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23360" indent="-16272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twork protocol limits use of physical resource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1755-65E8-4A3F-8DB7-A6159D10732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Pipelined protocols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23800" y="1304640"/>
            <a:ext cx="7591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ipelining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ender allows multiple, “in-flight”, yet-to-be-acknowledged pk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ange of sequence numbers must be increas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uffering at sender and/or receiv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90040" y="5419800"/>
            <a:ext cx="8286840" cy="10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wo generic forms of pipelined protocols: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go-Back-N, selective repe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652760" y="2890800"/>
            <a:ext cx="6105240" cy="23702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1C29-83FF-489D-B80C-5A23B3B9BEC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UDP checksum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38280" y="2619360"/>
            <a:ext cx="3657600" cy="34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Sende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eat segment contents as sequence of 16-bit integ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ecksum: addition (1’s complement sum) of segment cont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nder puts checksum value into UDP checksum fiel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960" y="2552400"/>
            <a:ext cx="4057560" cy="32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Receive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pute checksum of received segm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eck if computed checksum equals checksum field valu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 - error detect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ES - no error detected.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But maybe errors nonethless?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More later …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"/>
          <p:cNvSpPr/>
          <p:nvPr/>
        </p:nvSpPr>
        <p:spPr>
          <a:xfrm>
            <a:off x="695160" y="1457280"/>
            <a:ext cx="792504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Goal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etect “errors” (e.g., flipped bits) in transmitted se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9035-6D59-4F09-89AB-587C558EA05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Principles of Reliable data transfer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333080"/>
            <a:ext cx="7658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mportant in app., transport, link lay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p-10 list of important networking topics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360" y="5619240"/>
            <a:ext cx="77821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aracteristics of unreliable channel will determine complexity of reliable data transfer protocol (rdt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19000" y="2114640"/>
            <a:ext cx="7623360" cy="33652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2B42-E48F-452F-96B8-EF74CD0FFB8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Reliable data transfer: getting started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562040" y="2652840"/>
            <a:ext cx="5969160" cy="23857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002240" y="3112920"/>
            <a:ext cx="87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175520" y="3122640"/>
            <a:ext cx="120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227160" y="1460520"/>
            <a:ext cx="3965400" cy="1415880"/>
            <a:chOff x="227160" y="1460520"/>
            <a:chExt cx="3965400" cy="1415880"/>
          </a:xfrm>
        </p:grpSpPr>
        <p:sp>
          <p:nvSpPr>
            <p:cNvPr id="77" name=""/>
            <p:cNvSpPr/>
            <p:nvPr/>
          </p:nvSpPr>
          <p:spPr>
            <a:xfrm>
              <a:off x="227160" y="1460520"/>
              <a:ext cx="3965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rdt_send():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alled from above, (e.g., by app.). Passed data to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deliver to receiver upper lay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380880" y="1476360"/>
              <a:ext cx="3762360" cy="1400040"/>
              <a:chOff x="380880" y="1476360"/>
              <a:chExt cx="3762360" cy="1400040"/>
            </a:xfrm>
          </p:grpSpPr>
          <p:sp>
            <p:nvSpPr>
              <p:cNvPr id="79" name=""/>
              <p:cNvSpPr/>
              <p:nvPr/>
            </p:nvSpPr>
            <p:spPr>
              <a:xfrm>
                <a:off x="1495440" y="2362320"/>
                <a:ext cx="276120" cy="514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80880" y="1476360"/>
                <a:ext cx="3762360" cy="88596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" name=""/>
          <p:cNvGrpSpPr/>
          <p:nvPr/>
        </p:nvGrpSpPr>
        <p:grpSpPr>
          <a:xfrm>
            <a:off x="276120" y="4381560"/>
            <a:ext cx="3762360" cy="1863000"/>
            <a:chOff x="276120" y="4381560"/>
            <a:chExt cx="3762360" cy="1863000"/>
          </a:xfrm>
        </p:grpSpPr>
        <p:sp>
          <p:nvSpPr>
            <p:cNvPr id="82" name=""/>
            <p:cNvSpPr/>
            <p:nvPr/>
          </p:nvSpPr>
          <p:spPr>
            <a:xfrm>
              <a:off x="369720" y="5327640"/>
              <a:ext cx="3403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udt_send():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alled by rdt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to transfer packet over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unreliable channel to recei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276120" y="4381560"/>
              <a:ext cx="3762360" cy="1857240"/>
              <a:chOff x="276120" y="4381560"/>
              <a:chExt cx="3762360" cy="1857240"/>
            </a:xfrm>
          </p:grpSpPr>
          <p:sp>
            <p:nvSpPr>
              <p:cNvPr id="84" name=""/>
              <p:cNvSpPr/>
              <p:nvPr/>
            </p:nvSpPr>
            <p:spPr>
              <a:xfrm flipV="1">
                <a:off x="1400040" y="4381560"/>
                <a:ext cx="362160" cy="9619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76120" y="5353200"/>
                <a:ext cx="3762360" cy="88560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6" name=""/>
          <p:cNvGrpSpPr/>
          <p:nvPr/>
        </p:nvGrpSpPr>
        <p:grpSpPr>
          <a:xfrm>
            <a:off x="4923000" y="4362480"/>
            <a:ext cx="3965400" cy="1647720"/>
            <a:chOff x="4923000" y="4362480"/>
            <a:chExt cx="3965400" cy="1647720"/>
          </a:xfrm>
        </p:grpSpPr>
        <p:sp>
          <p:nvSpPr>
            <p:cNvPr id="87" name=""/>
            <p:cNvSpPr/>
            <p:nvPr/>
          </p:nvSpPr>
          <p:spPr>
            <a:xfrm>
              <a:off x="4923000" y="5346720"/>
              <a:ext cx="3965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rdt_rcv():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alled when packet arrives on rcv-side of chann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5019840" y="4362480"/>
              <a:ext cx="3762360" cy="1647720"/>
              <a:chOff x="5019840" y="4362480"/>
              <a:chExt cx="3762360" cy="1647720"/>
            </a:xfrm>
          </p:grpSpPr>
          <p:sp>
            <p:nvSpPr>
              <p:cNvPr id="89" name=""/>
              <p:cNvSpPr/>
              <p:nvPr/>
            </p:nvSpPr>
            <p:spPr>
              <a:xfrm flipH="1" flipV="1">
                <a:off x="7295760" y="4362480"/>
                <a:ext cx="476280" cy="1000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019840" y="5381640"/>
                <a:ext cx="3762360" cy="62856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1" name=""/>
          <p:cNvGrpSpPr/>
          <p:nvPr/>
        </p:nvGrpSpPr>
        <p:grpSpPr>
          <a:xfrm>
            <a:off x="4981680" y="1469880"/>
            <a:ext cx="3762360" cy="1349640"/>
            <a:chOff x="4981680" y="1469880"/>
            <a:chExt cx="3762360" cy="1349640"/>
          </a:xfrm>
        </p:grpSpPr>
        <p:sp>
          <p:nvSpPr>
            <p:cNvPr id="92" name=""/>
            <p:cNvSpPr/>
            <p:nvPr/>
          </p:nvSpPr>
          <p:spPr>
            <a:xfrm>
              <a:off x="5103720" y="1469880"/>
              <a:ext cx="3299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deliver_data():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alled by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rdt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to deliver data to upp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4981680" y="1495440"/>
              <a:ext cx="3762360" cy="1324080"/>
              <a:chOff x="4981680" y="1495440"/>
              <a:chExt cx="3762360" cy="1324080"/>
            </a:xfrm>
          </p:grpSpPr>
          <p:sp>
            <p:nvSpPr>
              <p:cNvPr id="94" name=""/>
              <p:cNvSpPr/>
              <p:nvPr/>
            </p:nvSpPr>
            <p:spPr>
              <a:xfrm flipH="1">
                <a:off x="7238880" y="2133720"/>
                <a:ext cx="238320" cy="685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981680" y="1495440"/>
                <a:ext cx="3762360" cy="62856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FAAF-E74E-43BD-A6BE-7215C614086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Reliable data transfer: getting started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14080" y="1304640"/>
            <a:ext cx="72579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We’ll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rementally develop sender, receiver sides of reliable data transfer protocol (rdt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ider only unidirectional data transf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ut control info will flow on both directions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 finite state machines (FSM)  to specify sender, receiv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085560" y="4619520"/>
            <a:ext cx="895680" cy="942840"/>
            <a:chOff x="3085560" y="4619520"/>
            <a:chExt cx="895680" cy="942840"/>
          </a:xfrm>
        </p:grpSpPr>
        <p:sp>
          <p:nvSpPr>
            <p:cNvPr id="99" name=""/>
            <p:cNvSpPr/>
            <p:nvPr/>
          </p:nvSpPr>
          <p:spPr>
            <a:xfrm>
              <a:off x="3171600" y="4619520"/>
              <a:ext cx="809640" cy="87624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095640" y="4686120"/>
              <a:ext cx="809640" cy="876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085560" y="4827240"/>
              <a:ext cx="772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sta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3981600" y="4638600"/>
            <a:ext cx="3952800" cy="285840"/>
          </a:xfrm>
          <a:custGeom>
            <a:avLst/>
            <a:gdLst/>
            <a:ahLst/>
            <a:rect l="l" t="t" r="r" b="b"/>
            <a:pathLst>
              <a:path w="1446" h="180">
                <a:moveTo>
                  <a:pt x="0" y="180"/>
                </a:moveTo>
                <a:cubicBezTo>
                  <a:pt x="540" y="30"/>
                  <a:pt x="972" y="0"/>
                  <a:pt x="1446" y="16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7838280" y="4724280"/>
            <a:ext cx="895680" cy="942840"/>
            <a:chOff x="7838280" y="4724280"/>
            <a:chExt cx="895680" cy="942840"/>
          </a:xfrm>
        </p:grpSpPr>
        <p:sp>
          <p:nvSpPr>
            <p:cNvPr id="104" name=""/>
            <p:cNvSpPr/>
            <p:nvPr/>
          </p:nvSpPr>
          <p:spPr>
            <a:xfrm>
              <a:off x="7924320" y="4724280"/>
              <a:ext cx="809640" cy="87624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848360" y="4790880"/>
              <a:ext cx="809640" cy="876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838280" y="4932000"/>
              <a:ext cx="772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sta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4109040" y="4013280"/>
            <a:ext cx="335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event causing state tran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029120" y="4308480"/>
            <a:ext cx="36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actions taken on state tran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05440" y="4352760"/>
            <a:ext cx="33811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3840" y="4686480"/>
            <a:ext cx="277164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state: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when in this “state” next state uniquely determined by next ev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81480" y="5562720"/>
            <a:ext cx="95040" cy="581040"/>
          </a:xfrm>
          <a:custGeom>
            <a:avLst/>
            <a:gdLst/>
            <a:ahLst/>
            <a:rect l="l" t="t" r="r" b="b"/>
            <a:pathLst>
              <a:path w="60" h="366">
                <a:moveTo>
                  <a:pt x="48" y="366"/>
                </a:moveTo>
                <a:cubicBezTo>
                  <a:pt x="0" y="204"/>
                  <a:pt x="60" y="55"/>
                  <a:pt x="60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8524080" y="5600160"/>
            <a:ext cx="95400" cy="580680"/>
          </a:xfrm>
          <a:custGeom>
            <a:avLst/>
            <a:gdLst/>
            <a:ahLst/>
            <a:rect l="l" t="t" r="r" b="b"/>
            <a:pathLst>
              <a:path w="60" h="366">
                <a:moveTo>
                  <a:pt x="48" y="366"/>
                </a:moveTo>
                <a:cubicBezTo>
                  <a:pt x="0" y="204"/>
                  <a:pt x="60" y="55"/>
                  <a:pt x="60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05280" y="5305320"/>
            <a:ext cx="1571760" cy="752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581360" y="5108400"/>
            <a:ext cx="971280" cy="672840"/>
            <a:chOff x="4581360" y="5108400"/>
            <a:chExt cx="971280" cy="672840"/>
          </a:xfrm>
        </p:grpSpPr>
        <p:sp>
          <p:nvSpPr>
            <p:cNvPr id="115" name=""/>
            <p:cNvSpPr/>
            <p:nvPr/>
          </p:nvSpPr>
          <p:spPr>
            <a:xfrm>
              <a:off x="4654080" y="5108400"/>
              <a:ext cx="77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ev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602240" y="5412960"/>
              <a:ext cx="95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ac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581360" y="5457600"/>
              <a:ext cx="942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2CE0-FEDB-430D-AA0B-43A5CDAF745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Rdt1.0: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Comic Sans MS"/>
              </a:rPr>
              <a:t>reliable transfer over a reliable channel</a:t>
            </a:r>
            <a:endParaRPr b="0" lang="en-US" sz="24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42880" y="1428480"/>
            <a:ext cx="7896240" cy="30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derlying channel perfectly reli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 bit erro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 loss of packe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parate FSMs for sender, receive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nder sends data into underlying chann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ceiver read data from underlying chann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923760" y="4233960"/>
            <a:ext cx="6820200" cy="144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E92A-DFA3-4430-95B0-84B78D2258A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Rdt2.0: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channel with bit error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42840" y="1333440"/>
            <a:ext cx="789624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derlying channel may flip bits in pack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call: UDP checksum to detect bit erro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question: how to recover from error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Comic Sans MS"/>
              </a:rPr>
              <a:t>acknowledgements (ACKs)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receiver explicitly tells sender that pkt received O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Comic Sans MS"/>
              </a:rPr>
              <a:t>negative acknowledgements (NAKs)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receiver explicitly tells sender that pkt had erro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nder retransmits pkt on receipt of NA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uman scenarios using ACKs, NAKs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w mechanisms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dt2.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beyo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dt1.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rror detec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ceiver feedback: control msgs (ACK,NAK) rcvr-&gt;send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0F3F-FA7B-4863-BB5B-C02628CA024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rdt2.0: FSM specification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14200" y="1962000"/>
            <a:ext cx="5083200" cy="27115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857920" y="1509840"/>
            <a:ext cx="2020680" cy="40528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086840" y="5675400"/>
            <a:ext cx="18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ender F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916960" y="5675400"/>
            <a:ext cx="20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eceiver F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A76B-FE71-418F-9097-87DCC5CE6F9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9:08:27Z</dcterms:created>
  <dc:creator>Don Towsley</dc:creator>
  <dc:description/>
  <dc:language>en-US</dc:language>
  <cp:lastModifiedBy>Eleonora Luppi</cp:lastModifiedBy>
  <dcterms:modified xsi:type="dcterms:W3CDTF">2004-05-11T11:55:47Z</dcterms:modified>
  <cp:revision>85</cp:revision>
  <dc:subject/>
  <dc:title>Part I: Introduction</dc:title>
</cp:coreProperties>
</file>