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264-6E0B-462F-86EA-F2D90C23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A53-673F-4FB5-8F26-7ECCEDE4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78C2-F04F-42B0-BD82-957AE41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6652-5FA1-453B-992D-57C81DB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D8B-7B1D-4768-BBEF-5717F72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27A-4CC1-4613-BDCE-6B0EED3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B7B-A8E9-4632-BBE5-39F3CFF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A2E-6324-475B-B20E-C965BCAA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C0E-BB64-41DE-B906-1174A9EA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F4E-60CC-445F-AE60-9E6E26A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C19-902F-4C55-8319-D0E97D3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F19-8A59-4C63-978B-9D81F58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344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a-</a:t>
            </a:r>
            <a:fld id="{CC3369F9-6A6F-4F57-BC4E-C109D169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image" Target="../media/image2.wmf"/><Relationship Id="rId4" Type="http://schemas.openxmlformats.org/officeDocument/2006/relationships/image" Target="../media/image17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19.wmf"/><Relationship Id="rId14" Type="http://schemas.openxmlformats.org/officeDocument/2006/relationships/image" Target="../media/image20.wmf"/><Relationship Id="rId15" Type="http://schemas.openxmlformats.org/officeDocument/2006/relationships/image" Target="../media/image19.wmf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5320" y="1504800"/>
            <a:ext cx="30574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Flow Contr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cei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plicitly informs sender of (dynamically changing) amount of free buffer sp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Window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CP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nd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eeps the amount of transmitted, unACKed data less than most recently receiv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981000" y="1655640"/>
            <a:ext cx="287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’s buffers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ing too mu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62640" y="1274760"/>
            <a:ext cx="1886040" cy="459720"/>
            <a:chOff x="962640" y="1274760"/>
            <a:chExt cx="1886040" cy="459720"/>
          </a:xfrm>
        </p:grpSpPr>
        <p:sp>
          <p:nvSpPr>
            <p:cNvPr id="46" name=""/>
            <p:cNvSpPr/>
            <p:nvPr/>
          </p:nvSpPr>
          <p:spPr>
            <a:xfrm>
              <a:off x="1018800" y="1314360"/>
              <a:ext cx="180036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62640" y="127476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low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1480" y="60642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buff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7120" y="3262320"/>
            <a:ext cx="40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size 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CP Receiv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amount of spare room in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516-718B-4882-A0A3-57F77D536A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es/costs of congestion: scenario 2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0200" y="1339920"/>
            <a:ext cx="833436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:                   (goodpu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ect” retransmission only when los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ransmission of delayed (not lost) packet makes         larger (than perfect case) for sa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12960" y="1225440"/>
            <a:ext cx="1382400" cy="689400"/>
            <a:chOff x="1812960" y="1225440"/>
            <a:chExt cx="1382400" cy="689400"/>
          </a:xfrm>
        </p:grpSpPr>
        <p:grpSp>
          <p:nvGrpSpPr>
            <p:cNvPr id="123" name=""/>
            <p:cNvGrpSpPr/>
            <p:nvPr/>
          </p:nvGrpSpPr>
          <p:grpSpPr>
            <a:xfrm>
              <a:off x="1812960" y="1231560"/>
              <a:ext cx="573840" cy="683280"/>
              <a:chOff x="1812960" y="1231560"/>
              <a:chExt cx="573840" cy="683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812960" y="123156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08080" y="151596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466720" y="1225440"/>
              <a:ext cx="728640" cy="657720"/>
              <a:chOff x="2466720" y="1225440"/>
              <a:chExt cx="728640" cy="657720"/>
            </a:xfrm>
          </p:grpSpPr>
          <p:sp>
            <p:nvSpPr>
              <p:cNvPr id="127" name=""/>
              <p:cNvSpPr/>
              <p:nvPr/>
            </p:nvSpPr>
            <p:spPr>
              <a:xfrm>
                <a:off x="2466720" y="12254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61120" y="14842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78360" y="13190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50280" y="1657440"/>
            <a:ext cx="1382400" cy="689400"/>
            <a:chOff x="5750280" y="1657440"/>
            <a:chExt cx="1382400" cy="689400"/>
          </a:xfrm>
        </p:grpSpPr>
        <p:grpSp>
          <p:nvGrpSpPr>
            <p:cNvPr id="131" name=""/>
            <p:cNvGrpSpPr/>
            <p:nvPr/>
          </p:nvGrpSpPr>
          <p:grpSpPr>
            <a:xfrm>
              <a:off x="5750280" y="1657440"/>
              <a:ext cx="1382400" cy="689400"/>
              <a:chOff x="5750280" y="1657440"/>
              <a:chExt cx="1382400" cy="68940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750280" y="1663560"/>
                <a:ext cx="573840" cy="683280"/>
                <a:chOff x="5750280" y="1663560"/>
                <a:chExt cx="573840" cy="683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750280" y="166356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945400" y="194796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404040" y="1657440"/>
                <a:ext cx="728640" cy="657720"/>
                <a:chOff x="6404040" y="1657440"/>
                <a:chExt cx="728640" cy="657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404040" y="1657440"/>
                  <a:ext cx="375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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598440" y="191628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6103800" y="17035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&g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6064200" y="1778040"/>
              <a:ext cx="313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864480" y="2130480"/>
            <a:ext cx="573840" cy="683280"/>
            <a:chOff x="6864480" y="2130480"/>
            <a:chExt cx="573840" cy="683280"/>
          </a:xfrm>
        </p:grpSpPr>
        <p:grpSp>
          <p:nvGrpSpPr>
            <p:cNvPr id="141" name=""/>
            <p:cNvGrpSpPr/>
            <p:nvPr/>
          </p:nvGrpSpPr>
          <p:grpSpPr>
            <a:xfrm>
              <a:off x="6864480" y="2130480"/>
              <a:ext cx="573840" cy="683280"/>
              <a:chOff x="6864480" y="2130480"/>
              <a:chExt cx="573840" cy="683280"/>
            </a:xfrm>
          </p:grpSpPr>
          <p:sp>
            <p:nvSpPr>
              <p:cNvPr id="142" name=""/>
              <p:cNvSpPr/>
              <p:nvPr/>
            </p:nvSpPr>
            <p:spPr>
              <a:xfrm>
                <a:off x="6864480" y="213048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59600" y="2414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7178400" y="2244960"/>
              <a:ext cx="320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442040" y="2486160"/>
            <a:ext cx="728640" cy="657720"/>
            <a:chOff x="4442040" y="2486160"/>
            <a:chExt cx="728640" cy="657720"/>
          </a:xfrm>
        </p:grpSpPr>
        <p:sp>
          <p:nvSpPr>
            <p:cNvPr id="146" name=""/>
            <p:cNvSpPr/>
            <p:nvPr/>
          </p:nvSpPr>
          <p:spPr>
            <a:xfrm>
              <a:off x="4442040" y="248616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36440" y="2745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76160" y="3170160"/>
            <a:ext cx="7713720" cy="2352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5960" y="527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sts” of conges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work (retrans) for given “goodpu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needed retransmissions: link carries multiple copies of 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765-CD8E-4CFE-9158-98B94C74FB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es/costs of congestion: scenario 3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send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hop pa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out/retransm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7366320" y="1271520"/>
            <a:ext cx="573840" cy="683280"/>
            <a:chOff x="7366320" y="1271520"/>
            <a:chExt cx="573840" cy="683280"/>
          </a:xfrm>
        </p:grpSpPr>
        <p:sp>
          <p:nvSpPr>
            <p:cNvPr id="154" name=""/>
            <p:cNvSpPr/>
            <p:nvPr/>
          </p:nvSpPr>
          <p:spPr>
            <a:xfrm>
              <a:off x="7366320" y="1271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61440" y="15559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578480" y="1333440"/>
            <a:ext cx="3390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happens as      and     increas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9960" y="2398680"/>
            <a:ext cx="5643360" cy="373068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527800" y="1643040"/>
            <a:ext cx="573840" cy="683280"/>
            <a:chOff x="5527800" y="1643040"/>
            <a:chExt cx="573840" cy="683280"/>
          </a:xfrm>
        </p:grpSpPr>
        <p:grpSp>
          <p:nvGrpSpPr>
            <p:cNvPr id="159" name=""/>
            <p:cNvGrpSpPr/>
            <p:nvPr/>
          </p:nvGrpSpPr>
          <p:grpSpPr>
            <a:xfrm>
              <a:off x="5527800" y="1643040"/>
              <a:ext cx="573840" cy="683280"/>
              <a:chOff x="5527800" y="1643040"/>
              <a:chExt cx="573840" cy="683280"/>
            </a:xfrm>
          </p:grpSpPr>
          <p:sp>
            <p:nvSpPr>
              <p:cNvPr id="160" name=""/>
              <p:cNvSpPr/>
              <p:nvPr/>
            </p:nvSpPr>
            <p:spPr>
              <a:xfrm>
                <a:off x="5527800" y="164304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22920" y="19274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5829120" y="1800360"/>
              <a:ext cx="284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720-8623-4301-8182-5B86A18EA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es/costs of congestion: scenario 3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4120" y="45813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nother “cost” of conges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packet dropped, any upstream transmission capacity used for that packet was was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9960" y="1562040"/>
            <a:ext cx="4421160" cy="2819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213520" y="1477800"/>
            <a:ext cx="3519360" cy="23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A4D-EA3D-4176-98BE-C9E7AC5697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pproaches towards congestion contr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3960" y="2152440"/>
            <a:ext cx="37814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d-end congestion contr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explicit feedback from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estion inferred from end-system observed loss,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ach taken by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14760" y="2133720"/>
            <a:ext cx="38102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-assisted congestion contr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s provide feedback to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bit indicating congestion (SNA, DECbit, TCP/IP ECN, AT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icit rate sender should send 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42880" y="1380960"/>
            <a:ext cx="7477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wo broad approaches towards congestion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701-4988-476C-A415-53B88F4A9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se study: ATM ABR congestion contr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1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BR: available bit ra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stic service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ender’s path “underloaded”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hould use available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sender’s path congested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throttled to minimum guaranteed r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38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M (resource management) cel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t by sender, interspersed with data cel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ts in RM cell set by switches (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etwork-assisted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I bi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o increase in rate (mild conges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I bi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gestion indic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M cells returned to sender by receiver, with bits intac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8694-080A-4318-922C-AE6418C344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440" y="1519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se study: ATM ABR congestion contr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3876840"/>
            <a:ext cx="804852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byte ER (explicit rate) field in RM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ested switch may lower ER value in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’ send rate thus minimum supportable rate on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C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explicit Forward Congestion Indicatio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t in data cells: set to 1 in congested swi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data cell preceding RM cell has EFCI set, sender sets CI bit in returned RM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55640" y="1279440"/>
            <a:ext cx="594360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620D-4A24-496C-BCCE-423A64B7B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 Congestion Contr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2520" y="1400040"/>
            <a:ext cx="79153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end control (no network assist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ssion rate limited by congestion window size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over segme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71400" y="2841480"/>
            <a:ext cx="7328160" cy="147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85640" y="4591080"/>
            <a:ext cx="7915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segments, each with MSS bytes sent in one RT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098800" y="5143680"/>
            <a:ext cx="4435200" cy="809280"/>
            <a:chOff x="2098800" y="5143680"/>
            <a:chExt cx="4435200" cy="809280"/>
          </a:xfrm>
        </p:grpSpPr>
        <p:sp>
          <p:nvSpPr>
            <p:cNvPr id="183" name=""/>
            <p:cNvSpPr/>
            <p:nvPr/>
          </p:nvSpPr>
          <p:spPr>
            <a:xfrm>
              <a:off x="2098800" y="531324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hroughput =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33720" y="516096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 * MSS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08320" y="5513400"/>
              <a:ext cx="65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TT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92920" y="5351400"/>
              <a:ext cx="131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ytes/se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160" y="5524560"/>
              <a:ext cx="100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24000" y="5143680"/>
              <a:ext cx="4410000" cy="809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914480" y="3924360"/>
            <a:ext cx="119052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97200" y="3863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BD2-77D8-4F48-86A4-D3D07B31E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 congestion control: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“phas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low sta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variabl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eshol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fines threshold between two slow start phase, congestion control ph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386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bing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usable bandwidth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deall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ansmit as fast as possible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large as possible) without lo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til loss (conges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: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ecre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gwi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then begin probing (increasing) ag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435-2E9A-47E2-B7D0-E5594C440A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 Slowstar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2520" y="4524120"/>
            <a:ext cx="380988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onential increase (per RTT) in window size (not so slow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 event: timeout (Tahoe TCP) and/or or three duplicate ACKs (Reno TC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42960" y="2203560"/>
            <a:ext cx="38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: 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each segment ACK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&gt; thresh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2600" y="1790640"/>
            <a:ext cx="3924000" cy="2476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85720" y="1593720"/>
            <a:ext cx="3888000" cy="459720"/>
            <a:chOff x="585720" y="1593720"/>
            <a:chExt cx="3888000" cy="459720"/>
          </a:xfrm>
        </p:grpSpPr>
        <p:sp>
          <p:nvSpPr>
            <p:cNvPr id="199" name=""/>
            <p:cNvSpPr/>
            <p:nvPr/>
          </p:nvSpPr>
          <p:spPr>
            <a:xfrm>
              <a:off x="657360" y="1657080"/>
              <a:ext cx="28670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5720" y="1593720"/>
              <a:ext cx="38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Slowstart 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700600" y="194796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292720" y="1312920"/>
            <a:ext cx="485640" cy="38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723280" y="131292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408000">
            <a:off x="6704640" y="191412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282280" y="21517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950240" y="132228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236360" y="13320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5920" y="176220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10520" y="1800360"/>
            <a:ext cx="0" cy="384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514840" y="1933200"/>
            <a:ext cx="5040" cy="2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4560" y="249552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76840" y="235224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900920" y="5099040"/>
            <a:ext cx="665280" cy="368280"/>
            <a:chOff x="7900920" y="5099040"/>
            <a:chExt cx="665280" cy="368280"/>
          </a:xfrm>
        </p:grpSpPr>
        <p:sp>
          <p:nvSpPr>
            <p:cNvPr id="214" name=""/>
            <p:cNvSpPr/>
            <p:nvPr/>
          </p:nvSpPr>
          <p:spPr>
            <a:xfrm>
              <a:off x="7964280" y="51721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00920" y="50990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705640" y="272880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00600" y="281448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00600" y="3338280"/>
            <a:ext cx="252900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715000" y="346212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08000">
            <a:off x="6702840" y="27000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408000">
            <a:off x="6794280" y="37144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695920" y="3733920"/>
            <a:ext cx="2519280" cy="651960"/>
            <a:chOff x="5695920" y="3733920"/>
            <a:chExt cx="2519280" cy="651960"/>
          </a:xfrm>
        </p:grpSpPr>
        <p:sp>
          <p:nvSpPr>
            <p:cNvPr id="223" name=""/>
            <p:cNvSpPr/>
            <p:nvPr/>
          </p:nvSpPr>
          <p:spPr>
            <a:xfrm>
              <a:off x="5710320" y="37339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95920" y="38289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0320" y="3933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00600" y="40338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981760" y="4115160"/>
            <a:ext cx="2228400" cy="604440"/>
            <a:chOff x="5981760" y="4115160"/>
            <a:chExt cx="2228400" cy="604440"/>
          </a:xfrm>
        </p:grpSpPr>
        <p:sp>
          <p:nvSpPr>
            <p:cNvPr id="228" name=""/>
            <p:cNvSpPr/>
            <p:nvPr/>
          </p:nvSpPr>
          <p:spPr>
            <a:xfrm flipV="1">
              <a:off x="5994360" y="43930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981760" y="430488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994360" y="42076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985720" y="411516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6369-35F8-4AAE-940E-2FFAF88A9A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01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 Congestion Avoidan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52320" y="2127240"/>
            <a:ext cx="3973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slowstart is over       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 Congwin &gt; threshol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(loss event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w segments AC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 = Congwi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win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slow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1960" y="1847880"/>
            <a:ext cx="4067280" cy="3762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6440" y="1695600"/>
            <a:ext cx="313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61280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gestion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05360" y="2324160"/>
            <a:ext cx="3971880" cy="3284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14640" y="49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2280" y="5913360"/>
            <a:ext cx="360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: TCP Reno skips slowstart (fa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overy) after three duplicate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36C-4967-40C8-A538-802660793C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Round Trip Time and Timeou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33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to set TCP timeout valu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than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e: RTT will v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short: premature time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necessary retransmis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long: slow reaction to segment lo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00120" y="1352520"/>
            <a:ext cx="450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ow to estimate RT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ampleRTT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asured time from segment transmission until ACK recei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gnore retransmissions, cumulatively ACKed seg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vary, want estimated RTT “smoother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several recent measurements, not just curr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3AA-507B-4D04-BF7C-18EDC1ACC2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020000" y="5048280"/>
            <a:ext cx="19335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6160" y="7999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Fairnes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19360" y="1847520"/>
            <a:ext cx="38098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irness 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f N TCP sessions share same bottleneck link, each should get 1/N of link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5360" y="1476360"/>
            <a:ext cx="3457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 congestion avoidan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IM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dditive increase, multiplicative decre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 window by 1 per RT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rease window by factor of 2 on loss ev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600120" y="29520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I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18000" y="5213520"/>
            <a:ext cx="646200" cy="5331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26240" y="4991040"/>
            <a:ext cx="1198440" cy="3700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26240" y="4923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35600" y="46944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181560" y="4724280"/>
            <a:ext cx="497160" cy="118800"/>
            <a:chOff x="6181560" y="4724280"/>
            <a:chExt cx="497160" cy="118800"/>
          </a:xfrm>
        </p:grpSpPr>
        <p:grpSp>
          <p:nvGrpSpPr>
            <p:cNvPr id="250" name=""/>
            <p:cNvGrpSpPr/>
            <p:nvPr/>
          </p:nvGrpSpPr>
          <p:grpSpPr>
            <a:xfrm>
              <a:off x="6181560" y="4725720"/>
              <a:ext cx="497160" cy="117360"/>
              <a:chOff x="6181560" y="4725720"/>
              <a:chExt cx="497160" cy="11736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6181560" y="47257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480" y="48430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345000" y="472788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181560" y="4724280"/>
              <a:ext cx="497160" cy="117360"/>
              <a:chOff x="6181560" y="4724280"/>
              <a:chExt cx="497160" cy="117360"/>
            </a:xfrm>
          </p:grpSpPr>
          <p:sp>
            <p:nvSpPr>
              <p:cNvPr id="255" name=""/>
              <p:cNvSpPr/>
              <p:nvPr/>
            </p:nvSpPr>
            <p:spPr>
              <a:xfrm>
                <a:off x="6181560" y="483948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22480" y="47242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345000" y="4724640"/>
                <a:ext cx="18468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7693200" y="500076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2560" y="49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02560" y="494172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11920" y="4713120"/>
            <a:ext cx="1198800" cy="43056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470480" y="4222800"/>
            <a:ext cx="646200" cy="533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37712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86640" y="491976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77160" y="4857840"/>
            <a:ext cx="147600" cy="199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08200" y="3879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05360" y="5308560"/>
            <a:ext cx="131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039160" y="4771800"/>
            <a:ext cx="497160" cy="118800"/>
            <a:chOff x="8039160" y="4771800"/>
            <a:chExt cx="497160" cy="118800"/>
          </a:xfrm>
        </p:grpSpPr>
        <p:grpSp>
          <p:nvGrpSpPr>
            <p:cNvPr id="269" name=""/>
            <p:cNvGrpSpPr/>
            <p:nvPr/>
          </p:nvGrpSpPr>
          <p:grpSpPr>
            <a:xfrm>
              <a:off x="8039160" y="4773600"/>
              <a:ext cx="497160" cy="117000"/>
              <a:chOff x="8039160" y="4773600"/>
              <a:chExt cx="497160" cy="11700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8039160" y="477360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380080" y="48906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202600" y="47757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8039160" y="4771800"/>
              <a:ext cx="497160" cy="117000"/>
              <a:chOff x="8039160" y="4771800"/>
              <a:chExt cx="497160" cy="117000"/>
            </a:xfrm>
          </p:grpSpPr>
          <p:sp>
            <p:nvSpPr>
              <p:cNvPr id="274" name=""/>
              <p:cNvSpPr/>
              <p:nvPr/>
            </p:nvSpPr>
            <p:spPr>
              <a:xfrm>
                <a:off x="8039160" y="48866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80080" y="477180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8202600" y="4772160"/>
                <a:ext cx="18432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3963600" y="5432400"/>
            <a:ext cx="15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C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72120" y="4334040"/>
            <a:ext cx="3828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48640" y="491976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14880" y="5068800"/>
            <a:ext cx="3828960" cy="71928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F4B-474C-4789-808E-36D1C5DA6F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Why is TCP fair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competing sess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ve increase gives slope of 1, as throughout incr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icative decrease decreases throughput proportionall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23120" y="443700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23160" y="3989520"/>
            <a:ext cx="362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7A1-8DD4-44F5-B43D-07F14068B6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latency model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3800" y="1385640"/>
            <a:ext cx="426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long does it take to receive an object from a Web server after sending a request (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tenc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nection establish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transfer de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466880" y="12571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ation, assump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one link between client and server of rate 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: fixed congestion window, W seg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: MSS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 object size (bi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retransmissions (no loss, no corrup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868320" y="4308480"/>
            <a:ext cx="64008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Two cases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S/R &gt; RTT + S/R: ACK for first segment in window returns before window’s worth of data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S/R &lt; RTT + S/R: wait for ACK after sending window’s worth of data 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F03-C33F-4C6E-B417-863DA95C13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latency Model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95200" y="1481040"/>
            <a:ext cx="4105440" cy="35719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600440" y="1646280"/>
            <a:ext cx="4419720" cy="31827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02560" y="518004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se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atency = 2RTT + O/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00520" y="5141880"/>
            <a:ext cx="40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ase 2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atency = 2RTT + O/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(K-1)[S/R + RTT - WS/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21680" y="8334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= O/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C22-CDE9-4E27-A44C-B34A547423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2320" y="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CP Latency Modeling: Slow Start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19280" y="880920"/>
            <a:ext cx="7772400" cy="51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w suppose window grows according to slow start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ll show that the latency of one object of size O i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00280" y="1752480"/>
                <a:ext cx="53751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tenc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RT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O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1095480" y="2787480"/>
            <a:ext cx="62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the number of times TCP stalls at serv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1480" y="500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320920" y="3505320"/>
                <a:ext cx="1969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428400" y="4284720"/>
            <a:ext cx="62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where Q is the number of times the server would st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the object were of infinite siz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 K is the number of windows that cover the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634-054C-4308-AB32-8B9C42AE47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4720" y="0"/>
            <a:ext cx="7770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CP Latency Modeling: Slow Start (cont.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505240" y="990720"/>
          <a:ext cx="6248160" cy="53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5240" y="990720"/>
                    <a:ext cx="624816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420840" y="1146240"/>
            <a:ext cx="23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/S  = 15 se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= 4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min{K-1,Q}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 stalls P=2 ti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220-AE63-4E8E-86A1-2FDE0FBD81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TCP Latency Modeling: Slow Start (cont.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06200" y="4419720"/>
                <a:ext cx="43434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tency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tallTime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r>
                              <m:t xml:space="preserve">[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17360" y="3048120"/>
                <a:ext cx="46738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stall time after the 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h windo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04840" y="988920"/>
                <a:ext cx="5054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me from when server starts to send segm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until server receives acknowledgem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74680" y="2224080"/>
                <a:ext cx="3651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ime to transmit the kth window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29" name=""/>
          <p:cNvGraphicFramePr/>
          <p:nvPr/>
        </p:nvGraphicFramePr>
        <p:xfrm>
          <a:off x="4130640" y="1924200"/>
          <a:ext cx="521496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1924200"/>
                    <a:ext cx="521496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35B-5A72-4D90-8265-75010F8AC4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ransport: 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90400" y="1733040"/>
            <a:ext cx="42386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les behind transport layer servi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xing/demultiplex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iable data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ow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estion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tiation and implementation i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3040" y="2409480"/>
            <a:ext cx="3333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ex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ving the network “edge” (application transport lay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o the network “cor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1A6-BC29-469A-AAA1-07BC36C62F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hapter 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principles behind network layer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ing (path selectio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aling with sc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a router work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vanced topics: IPv6, multica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tiation and implementation in the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laye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ing principle: path sel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erarchical ro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net routing protocols reliable transf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a-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-dom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’s inside a rout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cast rou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8E6-5A70-4F61-A269-C4F5CF548D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 function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ort packet from sending to receiving hos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layer protocols in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st, ro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ree important func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path determinatio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 taken by packets from source to dest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Routing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switch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ve packets from router’s input to appropriate router outp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call setup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ome network architectures require router call setup along path before data flow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4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351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355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364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374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383" name="" descr=""/>
            <p:cNvPicPr/>
            <p:nvPr/>
          </p:nvPicPr>
          <p:blipFill>
            <a:blip r:embed="rId5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6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388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6278400" y="4503600"/>
            <a:ext cx="417600" cy="3319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5664240" y="449280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9"/>
          <a:stretch/>
        </p:blipFill>
        <p:spPr>
          <a:xfrm>
            <a:off x="7464600" y="3665520"/>
            <a:ext cx="203040" cy="2412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0"/>
          <a:stretch/>
        </p:blipFill>
        <p:spPr>
          <a:xfrm>
            <a:off x="6127920" y="3746520"/>
            <a:ext cx="203040" cy="23976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406" name="" descr=""/>
            <p:cNvPicPr/>
            <p:nvPr/>
          </p:nvPicPr>
          <p:blipFill>
            <a:blip r:embed="rId11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2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8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409" name="" descr=""/>
            <p:cNvPicPr/>
            <p:nvPr/>
          </p:nvPicPr>
          <p:blipFill>
            <a:blip r:embed="rId13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14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1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412" name="" descr=""/>
            <p:cNvPicPr/>
            <p:nvPr/>
          </p:nvPicPr>
          <p:blipFill>
            <a:blip r:embed="rId15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416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425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446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452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456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460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470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474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480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484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488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494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498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502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508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512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516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526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530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536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540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3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544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554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807160" y="1909800"/>
            <a:ext cx="2809800" cy="2974680"/>
            <a:chOff x="5807160" y="1909800"/>
            <a:chExt cx="2809800" cy="2974680"/>
          </a:xfrm>
        </p:grpSpPr>
        <p:grpSp>
          <p:nvGrpSpPr>
            <p:cNvPr id="559" name=""/>
            <p:cNvGrpSpPr/>
            <p:nvPr/>
          </p:nvGrpSpPr>
          <p:grpSpPr>
            <a:xfrm>
              <a:off x="5892840" y="3672000"/>
              <a:ext cx="814320" cy="703080"/>
              <a:chOff x="5892840" y="3672000"/>
              <a:chExt cx="814320" cy="703080"/>
            </a:xfrm>
          </p:grpSpPr>
          <p:sp>
            <p:nvSpPr>
              <p:cNvPr id="560" name=""/>
              <p:cNvSpPr/>
              <p:nvPr/>
            </p:nvSpPr>
            <p:spPr>
              <a:xfrm>
                <a:off x="6089760" y="4310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6329520" y="4142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69240" y="4023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69240" y="4011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66040" y="4011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069240" y="4011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064200" y="3918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6183360" y="3951000"/>
                <a:ext cx="247320" cy="87840"/>
                <a:chOff x="6183360" y="3951000"/>
                <a:chExt cx="247320" cy="87840"/>
              </a:xfrm>
            </p:grpSpPr>
            <p:sp>
              <p:nvSpPr>
                <p:cNvPr id="568" name=""/>
                <p:cNvSpPr/>
                <p:nvPr/>
              </p:nvSpPr>
              <p:spPr>
                <a:xfrm flipV="1">
                  <a:off x="6183360" y="3951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6352920" y="4038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264720" y="3953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6183360" y="3949560"/>
                <a:ext cx="247320" cy="89280"/>
                <a:chOff x="6183360" y="3949560"/>
                <a:chExt cx="247320" cy="892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6183360" y="4037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352920" y="394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 flipV="1">
                  <a:off x="6264720" y="3949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5986440" y="3829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43600" y="3862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38920" y="4167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48280" y="4015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38920" y="38674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92840" y="3672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764400" y="2652840"/>
              <a:ext cx="814320" cy="703080"/>
              <a:chOff x="6764400" y="2652840"/>
              <a:chExt cx="814320" cy="703080"/>
            </a:xfrm>
          </p:grpSpPr>
          <p:sp>
            <p:nvSpPr>
              <p:cNvPr id="582" name=""/>
              <p:cNvSpPr/>
              <p:nvPr/>
            </p:nvSpPr>
            <p:spPr>
              <a:xfrm>
                <a:off x="6961320" y="32911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7201080" y="31230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40800" y="30038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40800" y="2992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437600" y="29926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40800" y="29926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935760" y="28990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9" name=""/>
              <p:cNvGrpSpPr/>
              <p:nvPr/>
            </p:nvGrpSpPr>
            <p:grpSpPr>
              <a:xfrm>
                <a:off x="7054920" y="2931840"/>
                <a:ext cx="247320" cy="87840"/>
                <a:chOff x="7054920" y="2931840"/>
                <a:chExt cx="247320" cy="87840"/>
              </a:xfrm>
            </p:grpSpPr>
            <p:sp>
              <p:nvSpPr>
                <p:cNvPr id="590" name=""/>
                <p:cNvSpPr/>
                <p:nvPr/>
              </p:nvSpPr>
              <p:spPr>
                <a:xfrm flipV="1">
                  <a:off x="7054920" y="2931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24480" y="3019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136280" y="29340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7054920" y="2930400"/>
                <a:ext cx="247320" cy="89280"/>
                <a:chOff x="7054920" y="2930400"/>
                <a:chExt cx="247320" cy="8928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054920" y="30178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224480" y="29304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 flipV="1">
                  <a:off x="7136280" y="29304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7" name=""/>
              <p:cNvSpPr/>
              <p:nvPr/>
            </p:nvSpPr>
            <p:spPr>
              <a:xfrm>
                <a:off x="6858000" y="28101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15160" y="28436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10480" y="31482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19840" y="2995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10480" y="28483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764400" y="26528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6778800" y="1909800"/>
              <a:ext cx="814320" cy="703080"/>
              <a:chOff x="6778800" y="1909800"/>
              <a:chExt cx="814320" cy="703080"/>
            </a:xfrm>
          </p:grpSpPr>
          <p:sp>
            <p:nvSpPr>
              <p:cNvPr id="604" name=""/>
              <p:cNvSpPr/>
              <p:nvPr/>
            </p:nvSpPr>
            <p:spPr>
              <a:xfrm>
                <a:off x="6975720" y="25480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7215480" y="23799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955200" y="22608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955200" y="2249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452000" y="2249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5200" y="22496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50160" y="21560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7069320" y="2188800"/>
                <a:ext cx="247320" cy="87840"/>
                <a:chOff x="7069320" y="2188800"/>
                <a:chExt cx="247320" cy="87840"/>
              </a:xfrm>
            </p:grpSpPr>
            <p:sp>
              <p:nvSpPr>
                <p:cNvPr id="612" name=""/>
                <p:cNvSpPr/>
                <p:nvPr/>
              </p:nvSpPr>
              <p:spPr>
                <a:xfrm flipV="1">
                  <a:off x="7069320" y="21888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238880" y="22766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150680" y="21909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7069320" y="2187360"/>
                <a:ext cx="247320" cy="89280"/>
                <a:chOff x="7069320" y="2187360"/>
                <a:chExt cx="247320" cy="892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7069320" y="2274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238880" y="21873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7150680" y="21873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6872400" y="20671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29560" y="21006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24880" y="2405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34240" y="22528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24880" y="21052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778800" y="19098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7107120" y="3557520"/>
              <a:ext cx="814320" cy="703080"/>
              <a:chOff x="7107120" y="3557520"/>
              <a:chExt cx="814320" cy="703080"/>
            </a:xfrm>
          </p:grpSpPr>
          <p:sp>
            <p:nvSpPr>
              <p:cNvPr id="626" name=""/>
              <p:cNvSpPr/>
              <p:nvPr/>
            </p:nvSpPr>
            <p:spPr>
              <a:xfrm>
                <a:off x="7304040" y="41958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7543800" y="40276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283520" y="3908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283520" y="3897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780320" y="3897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83520" y="3897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278480" y="38037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7397640" y="3836520"/>
                <a:ext cx="247320" cy="87840"/>
                <a:chOff x="7397640" y="3836520"/>
                <a:chExt cx="247320" cy="8784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7397640" y="3836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567200" y="39243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7479000" y="38386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7397640" y="3835080"/>
                <a:ext cx="247320" cy="89280"/>
                <a:chOff x="7397640" y="3835080"/>
                <a:chExt cx="247320" cy="8928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7397640" y="39225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567200" y="383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V="1">
                  <a:off x="7479000" y="38350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>
                <a:off x="7200720" y="37148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57880" y="37483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53200" y="40528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62560" y="3900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53200" y="37530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7120" y="35575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7597800" y="2952720"/>
              <a:ext cx="814320" cy="703080"/>
              <a:chOff x="7597800" y="2952720"/>
              <a:chExt cx="814320" cy="703080"/>
            </a:xfrm>
          </p:grpSpPr>
          <p:sp>
            <p:nvSpPr>
              <p:cNvPr id="648" name=""/>
              <p:cNvSpPr/>
              <p:nvPr/>
            </p:nvSpPr>
            <p:spPr>
              <a:xfrm>
                <a:off x="7794720" y="35910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8034480" y="34228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774200" y="33037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774200" y="32925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271000" y="32925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74200" y="32925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769160" y="31989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7888320" y="3231720"/>
                <a:ext cx="247320" cy="87840"/>
                <a:chOff x="7888320" y="3231720"/>
                <a:chExt cx="247320" cy="87840"/>
              </a:xfrm>
            </p:grpSpPr>
            <p:sp>
              <p:nvSpPr>
                <p:cNvPr id="656" name=""/>
                <p:cNvSpPr/>
                <p:nvPr/>
              </p:nvSpPr>
              <p:spPr>
                <a:xfrm flipV="1">
                  <a:off x="7888320" y="323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057880" y="331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7969680" y="3233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7888320" y="3230280"/>
                <a:ext cx="247320" cy="89280"/>
                <a:chOff x="7888320" y="3230280"/>
                <a:chExt cx="247320" cy="89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7888320" y="3317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057880" y="32302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969680" y="3230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>
                <a:off x="7691400" y="31100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648560" y="31435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43880" y="34480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53240" y="32958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643880" y="31482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597800" y="29527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7802640" y="2100240"/>
              <a:ext cx="814320" cy="703080"/>
              <a:chOff x="7802640" y="2100240"/>
              <a:chExt cx="814320" cy="703080"/>
            </a:xfrm>
          </p:grpSpPr>
          <p:sp>
            <p:nvSpPr>
              <p:cNvPr id="670" name=""/>
              <p:cNvSpPr/>
              <p:nvPr/>
            </p:nvSpPr>
            <p:spPr>
              <a:xfrm>
                <a:off x="7999560" y="2738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239320" y="2570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79040" y="2451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979040" y="2440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75840" y="2440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979040" y="2440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974000" y="2346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"/>
              <p:cNvGrpSpPr/>
              <p:nvPr/>
            </p:nvGrpSpPr>
            <p:grpSpPr>
              <a:xfrm>
                <a:off x="8093160" y="2379240"/>
                <a:ext cx="247320" cy="87840"/>
                <a:chOff x="8093160" y="2379240"/>
                <a:chExt cx="247320" cy="87840"/>
              </a:xfrm>
            </p:grpSpPr>
            <p:sp>
              <p:nvSpPr>
                <p:cNvPr id="678" name=""/>
                <p:cNvSpPr/>
                <p:nvPr/>
              </p:nvSpPr>
              <p:spPr>
                <a:xfrm flipV="1">
                  <a:off x="8093160" y="2379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262720" y="2467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174520" y="2381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8093160" y="2377800"/>
                <a:ext cx="247320" cy="89280"/>
                <a:chOff x="8093160" y="2377800"/>
                <a:chExt cx="247320" cy="892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8093160" y="2465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262720" y="2377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8174520" y="2377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7896240" y="2257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853400" y="2291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848720" y="2595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58080" y="2443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848720" y="22957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802640" y="2100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649920" y="4181400"/>
              <a:ext cx="814320" cy="703080"/>
              <a:chOff x="6649920" y="4181400"/>
              <a:chExt cx="814320" cy="703080"/>
            </a:xfrm>
          </p:grpSpPr>
          <p:sp>
            <p:nvSpPr>
              <p:cNvPr id="692" name=""/>
              <p:cNvSpPr/>
              <p:nvPr/>
            </p:nvSpPr>
            <p:spPr>
              <a:xfrm>
                <a:off x="6846840" y="48196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7086600" y="46515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826320" y="45324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26320" y="4521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323120" y="45212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826320" y="45212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21280" y="44276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6940440" y="4460400"/>
                <a:ext cx="247320" cy="87840"/>
                <a:chOff x="6940440" y="4460400"/>
                <a:chExt cx="247320" cy="87840"/>
              </a:xfrm>
            </p:grpSpPr>
            <p:sp>
              <p:nvSpPr>
                <p:cNvPr id="700" name=""/>
                <p:cNvSpPr/>
                <p:nvPr/>
              </p:nvSpPr>
              <p:spPr>
                <a:xfrm flipV="1">
                  <a:off x="6940440" y="44604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110000" y="45482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021800" y="44625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6940440" y="4458960"/>
                <a:ext cx="247320" cy="89280"/>
                <a:chOff x="6940440" y="4458960"/>
                <a:chExt cx="247320" cy="892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6940440" y="45464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110000" y="4458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7021800" y="44589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6743520" y="43387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700680" y="43722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6000" y="46767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05360" y="45244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696000" y="43768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649920" y="41814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07160" y="2076480"/>
              <a:ext cx="814320" cy="703080"/>
              <a:chOff x="5807160" y="2076480"/>
              <a:chExt cx="814320" cy="703080"/>
            </a:xfrm>
          </p:grpSpPr>
          <p:sp>
            <p:nvSpPr>
              <p:cNvPr id="714" name=""/>
              <p:cNvSpPr/>
              <p:nvPr/>
            </p:nvSpPr>
            <p:spPr>
              <a:xfrm>
                <a:off x="6004080" y="271476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243840" y="254664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983560" y="24274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83560" y="2416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480360" y="2416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983560" y="24163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978520" y="232272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6097680" y="2355480"/>
                <a:ext cx="247320" cy="87840"/>
                <a:chOff x="6097680" y="2355480"/>
                <a:chExt cx="247320" cy="87840"/>
              </a:xfrm>
            </p:grpSpPr>
            <p:sp>
              <p:nvSpPr>
                <p:cNvPr id="722" name=""/>
                <p:cNvSpPr/>
                <p:nvPr/>
              </p:nvSpPr>
              <p:spPr>
                <a:xfrm flipV="1">
                  <a:off x="6097680" y="23554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267240" y="24433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179040" y="235764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6097680" y="2354040"/>
                <a:ext cx="247320" cy="89280"/>
                <a:chOff x="6097680" y="2354040"/>
                <a:chExt cx="247320" cy="892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6097680" y="2441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267240" y="2354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6179040" y="235404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5900760" y="223380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57920" y="226728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853240" y="2571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2600" y="24195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53240" y="227196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807160" y="207648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4692600" y="1538280"/>
            <a:ext cx="3767040" cy="3936600"/>
            <a:chOff x="4692600" y="1538280"/>
            <a:chExt cx="3767040" cy="3936600"/>
          </a:xfrm>
        </p:grpSpPr>
        <p:grpSp>
          <p:nvGrpSpPr>
            <p:cNvPr id="736" name=""/>
            <p:cNvGrpSpPr/>
            <p:nvPr/>
          </p:nvGrpSpPr>
          <p:grpSpPr>
            <a:xfrm>
              <a:off x="4692600" y="1538280"/>
              <a:ext cx="814320" cy="1022040"/>
              <a:chOff x="4692600" y="1538280"/>
              <a:chExt cx="814320" cy="1022040"/>
            </a:xfrm>
          </p:grpSpPr>
          <p:sp>
            <p:nvSpPr>
              <p:cNvPr id="737" name=""/>
              <p:cNvSpPr/>
              <p:nvPr/>
            </p:nvSpPr>
            <p:spPr>
              <a:xfrm>
                <a:off x="4791240" y="153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757760" y="156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762440" y="188136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92600" y="15526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757760" y="189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767120" y="204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767120" y="218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767120" y="173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7645320" y="4452840"/>
              <a:ext cx="814320" cy="1022040"/>
              <a:chOff x="7645320" y="4452840"/>
              <a:chExt cx="814320" cy="1022040"/>
            </a:xfrm>
          </p:grpSpPr>
          <p:sp>
            <p:nvSpPr>
              <p:cNvPr id="746" name=""/>
              <p:cNvSpPr/>
              <p:nvPr/>
            </p:nvSpPr>
            <p:spPr>
              <a:xfrm>
                <a:off x="7743960" y="445284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10480" y="447660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15160" y="479592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645320" y="44672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710480" y="48099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719840" y="4962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19840" y="50958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719840" y="464796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CD4-AF3D-4B97-A827-8C6157BE8A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1960" y="275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Connection Managemen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1600" y="1390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sender, receiver establish “connection” before exchanging data seg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lize TCP variab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. #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, flow control info (e.g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lien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nection initi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 clientSocket = new   Socket("hostname","port number")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er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ntacted by cli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5040" y="1342800"/>
            <a:ext cx="39812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Three way handsha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end system sends TCP SYN control segment to ser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es initial seq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ver end system receives SYN, replies with SYNACK control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0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s received SY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es buff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es server-&gt; receiver initial seq.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6A1-C761-4B62-9D27-53E20D34F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Network service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85560" y="164772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a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service mod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“channel” transporting packets from sender to receiv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anteed bandwidth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rvation of inter-packet timing (no jitter)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ss-free deliver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order deliver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estion feedback to sender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5594400" y="302256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80320" y="350820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08680" y="394668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cc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272280" y="35323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01400" y="2189160"/>
            <a:ext cx="2797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straction provid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network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6165800">
            <a:off x="14400" y="45406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ice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690-E7C5-4474-94C2-A199A32B30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23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Virtual circu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47280" y="3495240"/>
            <a:ext cx="76201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ll setup, teardown for each call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ata can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packet carries VC identifier (not destination host I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outer on source-dest path s maintain “state” for each passing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ort-layer connection only involved two end syst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, router resources (bandwidth, buffers) may b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locate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V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get circuit-like perf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875880" y="1504800"/>
            <a:ext cx="774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-to-dest path behaves much like telephone circuit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-w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actions along source-to-dest pa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"/>
          <p:cNvSpPr/>
          <p:nvPr/>
        </p:nvSpPr>
        <p:spPr>
          <a:xfrm>
            <a:off x="666720" y="1457280"/>
            <a:ext cx="7677360" cy="168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767-941A-40E9-A0AB-D6B82D975C5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Virtual circuits: signaling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90040" y="1685520"/>
            <a:ext cx="653436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setup, maintain  teardown V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ATM, frame-relay, X.2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used in today’s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3371760" y="4782960"/>
            <a:ext cx="2847960" cy="148140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40040" y="531180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010040" y="5076720"/>
            <a:ext cx="542880" cy="29556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516480" y="5251320"/>
            <a:ext cx="501480" cy="233280"/>
            <a:chOff x="3516480" y="5251320"/>
            <a:chExt cx="501480" cy="233280"/>
          </a:xfrm>
        </p:grpSpPr>
        <p:sp>
          <p:nvSpPr>
            <p:cNvPr id="772" name=""/>
            <p:cNvSpPr/>
            <p:nvPr/>
          </p:nvSpPr>
          <p:spPr>
            <a:xfrm>
              <a:off x="3520440" y="535536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20440" y="5344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017960" y="53445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20440" y="53445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16480" y="52513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636000" y="5284080"/>
              <a:ext cx="246240" cy="88560"/>
              <a:chOff x="3636000" y="5284080"/>
              <a:chExt cx="246240" cy="88560"/>
            </a:xfrm>
          </p:grpSpPr>
          <p:sp>
            <p:nvSpPr>
              <p:cNvPr id="778" name=""/>
              <p:cNvSpPr/>
              <p:nvPr/>
            </p:nvSpPr>
            <p:spPr>
              <a:xfrm flipV="1">
                <a:off x="3636000" y="5284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804840" y="5372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717000" y="52862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3636000" y="5283000"/>
              <a:ext cx="246240" cy="88560"/>
              <a:chOff x="3636000" y="5283000"/>
              <a:chExt cx="246240" cy="88560"/>
            </a:xfrm>
          </p:grpSpPr>
          <p:sp>
            <p:nvSpPr>
              <p:cNvPr id="782" name=""/>
              <p:cNvSpPr/>
              <p:nvPr/>
            </p:nvSpPr>
            <p:spPr>
              <a:xfrm>
                <a:off x="3636000" y="5369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804840" y="5283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3717000" y="52830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"/>
          <p:cNvGrpSpPr/>
          <p:nvPr/>
        </p:nvGrpSpPr>
        <p:grpSpPr>
          <a:xfrm>
            <a:off x="3868560" y="5889600"/>
            <a:ext cx="501840" cy="232920"/>
            <a:chOff x="3868560" y="5889600"/>
            <a:chExt cx="501840" cy="232920"/>
          </a:xfrm>
        </p:grpSpPr>
        <p:sp>
          <p:nvSpPr>
            <p:cNvPr id="786" name=""/>
            <p:cNvSpPr/>
            <p:nvPr/>
          </p:nvSpPr>
          <p:spPr>
            <a:xfrm>
              <a:off x="3872520" y="599364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72520" y="598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70400" y="59824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72520" y="598248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868560" y="58896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3988080" y="5922360"/>
              <a:ext cx="246240" cy="88200"/>
              <a:chOff x="3988080" y="5922360"/>
              <a:chExt cx="246240" cy="88200"/>
            </a:xfrm>
          </p:grpSpPr>
          <p:sp>
            <p:nvSpPr>
              <p:cNvPr id="792" name=""/>
              <p:cNvSpPr/>
              <p:nvPr/>
            </p:nvSpPr>
            <p:spPr>
              <a:xfrm flipV="1">
                <a:off x="3988080" y="59223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156920" y="6010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069080" y="59245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3988080" y="5921640"/>
              <a:ext cx="246240" cy="88200"/>
              <a:chOff x="3988080" y="5921640"/>
              <a:chExt cx="246240" cy="88200"/>
            </a:xfrm>
          </p:grpSpPr>
          <p:sp>
            <p:nvSpPr>
              <p:cNvPr id="796" name=""/>
              <p:cNvSpPr/>
              <p:nvPr/>
            </p:nvSpPr>
            <p:spPr>
              <a:xfrm>
                <a:off x="3988080" y="60080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4156920" y="5921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4069080" y="5921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4543560" y="4946760"/>
            <a:ext cx="501480" cy="232920"/>
            <a:chOff x="4543560" y="4946760"/>
            <a:chExt cx="501480" cy="232920"/>
          </a:xfrm>
        </p:grpSpPr>
        <p:sp>
          <p:nvSpPr>
            <p:cNvPr id="800" name=""/>
            <p:cNvSpPr/>
            <p:nvPr/>
          </p:nvSpPr>
          <p:spPr>
            <a:xfrm>
              <a:off x="4547520" y="50508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47520" y="5039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45040" y="50396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47520" y="50396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43560" y="49467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4663080" y="4979520"/>
              <a:ext cx="246240" cy="88200"/>
              <a:chOff x="4663080" y="4979520"/>
              <a:chExt cx="246240" cy="88200"/>
            </a:xfrm>
          </p:grpSpPr>
          <p:sp>
            <p:nvSpPr>
              <p:cNvPr id="806" name=""/>
              <p:cNvSpPr/>
              <p:nvPr/>
            </p:nvSpPr>
            <p:spPr>
              <a:xfrm flipV="1">
                <a:off x="4663080" y="49795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31920" y="5067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744080" y="49816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4663080" y="4978800"/>
              <a:ext cx="246240" cy="88200"/>
              <a:chOff x="4663080" y="4978800"/>
              <a:chExt cx="246240" cy="88200"/>
            </a:xfrm>
          </p:grpSpPr>
          <p:sp>
            <p:nvSpPr>
              <p:cNvPr id="810" name=""/>
              <p:cNvSpPr/>
              <p:nvPr/>
            </p:nvSpPr>
            <p:spPr>
              <a:xfrm>
                <a:off x="4663080" y="5065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831920" y="4978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4744080" y="4978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4465800" y="5611680"/>
            <a:ext cx="500040" cy="233280"/>
            <a:chOff x="4465800" y="5611680"/>
            <a:chExt cx="500040" cy="233280"/>
          </a:xfrm>
        </p:grpSpPr>
        <p:sp>
          <p:nvSpPr>
            <p:cNvPr id="814" name=""/>
            <p:cNvSpPr/>
            <p:nvPr/>
          </p:nvSpPr>
          <p:spPr>
            <a:xfrm>
              <a:off x="4469760" y="5715720"/>
              <a:ext cx="49572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469760" y="5704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965840" y="570492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69760" y="57049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65800" y="561168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584960" y="5644440"/>
              <a:ext cx="245520" cy="88560"/>
              <a:chOff x="4584960" y="5644440"/>
              <a:chExt cx="245520" cy="88560"/>
            </a:xfrm>
          </p:grpSpPr>
          <p:sp>
            <p:nvSpPr>
              <p:cNvPr id="820" name=""/>
              <p:cNvSpPr/>
              <p:nvPr/>
            </p:nvSpPr>
            <p:spPr>
              <a:xfrm flipV="1">
                <a:off x="4584960" y="56444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753440" y="57330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0" y="564660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584960" y="5643360"/>
              <a:ext cx="245520" cy="88560"/>
              <a:chOff x="4584960" y="5643360"/>
              <a:chExt cx="245520" cy="88560"/>
            </a:xfrm>
          </p:grpSpPr>
          <p:sp>
            <p:nvSpPr>
              <p:cNvPr id="824" name=""/>
              <p:cNvSpPr/>
              <p:nvPr/>
            </p:nvSpPr>
            <p:spPr>
              <a:xfrm>
                <a:off x="4584960" y="57301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53440" y="56433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4665600" y="5643360"/>
                <a:ext cx="9108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5100480" y="5908680"/>
            <a:ext cx="501840" cy="232920"/>
            <a:chOff x="5100480" y="5908680"/>
            <a:chExt cx="501840" cy="232920"/>
          </a:xfrm>
        </p:grpSpPr>
        <p:sp>
          <p:nvSpPr>
            <p:cNvPr id="828" name=""/>
            <p:cNvSpPr/>
            <p:nvPr/>
          </p:nvSpPr>
          <p:spPr>
            <a:xfrm>
              <a:off x="5104440" y="601272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04440" y="600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02320" y="6001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04440" y="600156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00480" y="590868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5220000" y="5941440"/>
              <a:ext cx="246240" cy="88200"/>
              <a:chOff x="5220000" y="5941440"/>
              <a:chExt cx="246240" cy="8820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5220000" y="5941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388840" y="60296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301000" y="5943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5220000" y="5940720"/>
              <a:ext cx="246240" cy="88200"/>
              <a:chOff x="5220000" y="5940720"/>
              <a:chExt cx="246240" cy="88200"/>
            </a:xfrm>
          </p:grpSpPr>
          <p:sp>
            <p:nvSpPr>
              <p:cNvPr id="838" name=""/>
              <p:cNvSpPr/>
              <p:nvPr/>
            </p:nvSpPr>
            <p:spPr>
              <a:xfrm>
                <a:off x="5220000" y="60271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388840" y="5940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5301000" y="5940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545080" y="5253120"/>
            <a:ext cx="501840" cy="232920"/>
            <a:chOff x="5545080" y="5253120"/>
            <a:chExt cx="501840" cy="232920"/>
          </a:xfrm>
        </p:grpSpPr>
        <p:sp>
          <p:nvSpPr>
            <p:cNvPr id="842" name=""/>
            <p:cNvSpPr/>
            <p:nvPr/>
          </p:nvSpPr>
          <p:spPr>
            <a:xfrm>
              <a:off x="5549040" y="535716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549040" y="5346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46920" y="53460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49040" y="534600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45080" y="525312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664600" y="5285880"/>
              <a:ext cx="246240" cy="88200"/>
              <a:chOff x="5664600" y="5285880"/>
              <a:chExt cx="246240" cy="88200"/>
            </a:xfrm>
          </p:grpSpPr>
          <p:sp>
            <p:nvSpPr>
              <p:cNvPr id="848" name=""/>
              <p:cNvSpPr/>
              <p:nvPr/>
            </p:nvSpPr>
            <p:spPr>
              <a:xfrm flipV="1">
                <a:off x="5664600" y="52858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33440" y="53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745600" y="52880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5664600" y="5285160"/>
              <a:ext cx="246240" cy="88200"/>
              <a:chOff x="5664600" y="5285160"/>
              <a:chExt cx="246240" cy="88200"/>
            </a:xfrm>
          </p:grpSpPr>
          <p:sp>
            <p:nvSpPr>
              <p:cNvPr id="852" name=""/>
              <p:cNvSpPr/>
              <p:nvPr/>
            </p:nvSpPr>
            <p:spPr>
              <a:xfrm>
                <a:off x="5664600" y="5371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33440" y="52851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5745600" y="52851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498600" y="3446640"/>
            <a:ext cx="1566360" cy="1989000"/>
            <a:chOff x="498600" y="3446640"/>
            <a:chExt cx="1566360" cy="1989000"/>
          </a:xfrm>
        </p:grpSpPr>
        <p:pic>
          <p:nvPicPr>
            <p:cNvPr id="856" name="" descr=""/>
            <p:cNvPicPr/>
            <p:nvPr/>
          </p:nvPicPr>
          <p:blipFill>
            <a:blip r:embed="rId1"/>
            <a:stretch/>
          </p:blipFill>
          <p:spPr>
            <a:xfrm>
              <a:off x="1093680" y="3446640"/>
              <a:ext cx="528120" cy="41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7" name=""/>
            <p:cNvGrpSpPr/>
            <p:nvPr/>
          </p:nvGrpSpPr>
          <p:grpSpPr>
            <a:xfrm>
              <a:off x="498600" y="3789000"/>
              <a:ext cx="1566360" cy="1646640"/>
              <a:chOff x="498600" y="3789000"/>
              <a:chExt cx="1566360" cy="1646640"/>
            </a:xfrm>
          </p:grpSpPr>
          <p:sp>
            <p:nvSpPr>
              <p:cNvPr id="858" name=""/>
              <p:cNvSpPr/>
              <p:nvPr/>
            </p:nvSpPr>
            <p:spPr>
              <a:xfrm>
                <a:off x="688320" y="3789000"/>
                <a:ext cx="1300320" cy="15192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880" y="3835440"/>
                <a:ext cx="1328040" cy="156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32880" y="4460400"/>
                <a:ext cx="1319040" cy="335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98600" y="381708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23880" y="448776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41880" y="478656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41880" y="504756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41880" y="417096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5051520" y="50706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986280" y="5462640"/>
            <a:ext cx="480960" cy="23796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33800" y="5438880"/>
            <a:ext cx="62892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600880" y="54928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365720" y="6026040"/>
            <a:ext cx="736560" cy="7488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28960" y="54864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7280280" y="3618000"/>
            <a:ext cx="1566360" cy="1989360"/>
            <a:chOff x="7280280" y="3618000"/>
            <a:chExt cx="1566360" cy="1989360"/>
          </a:xfrm>
        </p:grpSpPr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7875360" y="36180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4" name=""/>
            <p:cNvGrpSpPr/>
            <p:nvPr/>
          </p:nvGrpSpPr>
          <p:grpSpPr>
            <a:xfrm>
              <a:off x="7280280" y="3960720"/>
              <a:ext cx="1566360" cy="1646640"/>
              <a:chOff x="7280280" y="3960720"/>
              <a:chExt cx="1566360" cy="1646640"/>
            </a:xfrm>
          </p:grpSpPr>
          <p:sp>
            <p:nvSpPr>
              <p:cNvPr id="875" name=""/>
              <p:cNvSpPr/>
              <p:nvPr/>
            </p:nvSpPr>
            <p:spPr>
              <a:xfrm>
                <a:off x="7470000" y="396072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405560" y="400716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414560" y="46321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280280" y="398880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405560" y="465984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423560" y="49586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23560" y="52196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423560" y="434268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3" name=""/>
          <p:cNvSpPr/>
          <p:nvPr/>
        </p:nvSpPr>
        <p:spPr>
          <a:xfrm flipH="1">
            <a:off x="6022440" y="5406480"/>
            <a:ext cx="140364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57680" y="465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Initiate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5000760"/>
            <a:ext cx="5305320" cy="861840"/>
          </a:xfrm>
          <a:custGeom>
            <a:avLst/>
            <a:gdLst/>
            <a:ahLst/>
            <a:rect l="l" t="t" r="r" b="b"/>
            <a:pathLst>
              <a:path w="3342" h="543">
                <a:moveTo>
                  <a:pt x="0" y="0"/>
                </a:moveTo>
                <a:lnTo>
                  <a:pt x="3" y="234"/>
                </a:lnTo>
                <a:lnTo>
                  <a:pt x="939" y="234"/>
                </a:lnTo>
                <a:lnTo>
                  <a:pt x="1617" y="543"/>
                </a:lnTo>
                <a:lnTo>
                  <a:pt x="1818" y="543"/>
                </a:lnTo>
                <a:lnTo>
                  <a:pt x="2364" y="300"/>
                </a:lnTo>
                <a:lnTo>
                  <a:pt x="3342" y="306"/>
                </a:lnTo>
                <a:lnTo>
                  <a:pt x="3336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609520" y="4718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incoming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02840" y="43848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. Accept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162160" y="4648320"/>
            <a:ext cx="5057640" cy="1123920"/>
          </a:xfrm>
          <a:custGeom>
            <a:avLst/>
            <a:gdLst/>
            <a:ahLst/>
            <a:rect l="l" t="t" r="r" b="b"/>
            <a:pathLst>
              <a:path w="3186" h="708">
                <a:moveTo>
                  <a:pt x="0" y="12"/>
                </a:moveTo>
                <a:lnTo>
                  <a:pt x="0" y="381"/>
                </a:lnTo>
                <a:lnTo>
                  <a:pt x="882" y="384"/>
                </a:lnTo>
                <a:lnTo>
                  <a:pt x="1551" y="708"/>
                </a:lnTo>
                <a:lnTo>
                  <a:pt x="1742" y="708"/>
                </a:lnTo>
                <a:lnTo>
                  <a:pt x="2273" y="476"/>
                </a:lnTo>
                <a:lnTo>
                  <a:pt x="3186" y="470"/>
                </a:lnTo>
                <a:lnTo>
                  <a:pt x="31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881360" y="43657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. Call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17720" y="4060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5. Data flow beg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14200" y="40132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6. Recei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28760" y="4324320"/>
            <a:ext cx="4896000" cy="1343160"/>
          </a:xfrm>
          <a:custGeom>
            <a:avLst/>
            <a:gdLst/>
            <a:ahLst/>
            <a:rect l="l" t="t" r="r" b="b"/>
            <a:pathLst>
              <a:path w="3084" h="846">
                <a:moveTo>
                  <a:pt x="0" y="18"/>
                </a:moveTo>
                <a:lnTo>
                  <a:pt x="0" y="531"/>
                </a:lnTo>
                <a:lnTo>
                  <a:pt x="846" y="534"/>
                </a:lnTo>
                <a:lnTo>
                  <a:pt x="1485" y="846"/>
                </a:lnTo>
                <a:lnTo>
                  <a:pt x="1698" y="843"/>
                </a:lnTo>
                <a:lnTo>
                  <a:pt x="2238" y="633"/>
                </a:lnTo>
                <a:lnTo>
                  <a:pt x="3084" y="633"/>
                </a:lnTo>
                <a:lnTo>
                  <a:pt x="3081" y="0"/>
                </a:lnTo>
              </a:path>
            </a:pathLst>
          </a:custGeom>
          <a:noFill/>
          <a:ln w="572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514680" y="5241960"/>
            <a:ext cx="2530440" cy="600120"/>
            <a:chOff x="3514680" y="5241960"/>
            <a:chExt cx="2530440" cy="600120"/>
          </a:xfrm>
        </p:grpSpPr>
        <p:grpSp>
          <p:nvGrpSpPr>
            <p:cNvPr id="894" name=""/>
            <p:cNvGrpSpPr/>
            <p:nvPr/>
          </p:nvGrpSpPr>
          <p:grpSpPr>
            <a:xfrm>
              <a:off x="3514680" y="5241960"/>
              <a:ext cx="501840" cy="233280"/>
              <a:chOff x="3514680" y="5241960"/>
              <a:chExt cx="501840" cy="233280"/>
            </a:xfrm>
          </p:grpSpPr>
          <p:sp>
            <p:nvSpPr>
              <p:cNvPr id="895" name=""/>
              <p:cNvSpPr/>
              <p:nvPr/>
            </p:nvSpPr>
            <p:spPr>
              <a:xfrm>
                <a:off x="3519720" y="5346720"/>
                <a:ext cx="49680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197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0165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19720" y="5335560"/>
                <a:ext cx="49212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514680" y="5241960"/>
                <a:ext cx="49716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3633840" y="5274720"/>
                <a:ext cx="247320" cy="87840"/>
                <a:chOff x="3633840" y="5274720"/>
                <a:chExt cx="247320" cy="87840"/>
              </a:xfrm>
            </p:grpSpPr>
            <p:sp>
              <p:nvSpPr>
                <p:cNvPr id="901" name=""/>
                <p:cNvSpPr/>
                <p:nvPr/>
              </p:nvSpPr>
              <p:spPr>
                <a:xfrm flipV="1">
                  <a:off x="3633840" y="5274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803400" y="5362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715200" y="5276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3633840" y="5273280"/>
                <a:ext cx="247320" cy="89280"/>
                <a:chOff x="3633840" y="5273280"/>
                <a:chExt cx="247320" cy="892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3633840" y="5360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803400" y="52732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3715200" y="5273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8" name=""/>
            <p:cNvGrpSpPr/>
            <p:nvPr/>
          </p:nvGrpSpPr>
          <p:grpSpPr>
            <a:xfrm>
              <a:off x="4457880" y="5608800"/>
              <a:ext cx="501480" cy="233280"/>
              <a:chOff x="4457880" y="5608800"/>
              <a:chExt cx="501480" cy="233280"/>
            </a:xfrm>
          </p:grpSpPr>
          <p:sp>
            <p:nvSpPr>
              <p:cNvPr id="909" name=""/>
              <p:cNvSpPr/>
              <p:nvPr/>
            </p:nvSpPr>
            <p:spPr>
              <a:xfrm>
                <a:off x="4462560" y="571356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62560" y="5702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959360" y="570240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462560" y="570240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457880" y="560880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4" name=""/>
              <p:cNvGrpSpPr/>
              <p:nvPr/>
            </p:nvGrpSpPr>
            <p:grpSpPr>
              <a:xfrm>
                <a:off x="4576680" y="5641560"/>
                <a:ext cx="246600" cy="87840"/>
                <a:chOff x="4576680" y="5641560"/>
                <a:chExt cx="246600" cy="87840"/>
              </a:xfrm>
            </p:grpSpPr>
            <p:sp>
              <p:nvSpPr>
                <p:cNvPr id="915" name=""/>
                <p:cNvSpPr/>
                <p:nvPr/>
              </p:nvSpPr>
              <p:spPr>
                <a:xfrm flipV="1">
                  <a:off x="4576680" y="5641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4745880" y="5729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4657680" y="56437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8" name=""/>
              <p:cNvGrpSpPr/>
              <p:nvPr/>
            </p:nvGrpSpPr>
            <p:grpSpPr>
              <a:xfrm>
                <a:off x="4576680" y="5640120"/>
                <a:ext cx="246600" cy="89280"/>
                <a:chOff x="4576680" y="5640120"/>
                <a:chExt cx="246600" cy="8928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4576680" y="5727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745880" y="564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V="1">
                  <a:off x="4657680" y="56401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2" name=""/>
            <p:cNvGrpSpPr/>
            <p:nvPr/>
          </p:nvGrpSpPr>
          <p:grpSpPr>
            <a:xfrm>
              <a:off x="5543640" y="5241960"/>
              <a:ext cx="501480" cy="233280"/>
              <a:chOff x="5543640" y="5241960"/>
              <a:chExt cx="501480" cy="233280"/>
            </a:xfrm>
          </p:grpSpPr>
          <p:sp>
            <p:nvSpPr>
              <p:cNvPr id="923" name=""/>
              <p:cNvSpPr/>
              <p:nvPr/>
            </p:nvSpPr>
            <p:spPr>
              <a:xfrm>
                <a:off x="5548320" y="534672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5483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045120" y="53355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548320" y="533556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543640" y="524196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5662440" y="5274720"/>
                <a:ext cx="246600" cy="87840"/>
                <a:chOff x="5662440" y="5274720"/>
                <a:chExt cx="246600" cy="87840"/>
              </a:xfrm>
            </p:grpSpPr>
            <p:sp>
              <p:nvSpPr>
                <p:cNvPr id="929" name=""/>
                <p:cNvSpPr/>
                <p:nvPr/>
              </p:nvSpPr>
              <p:spPr>
                <a:xfrm flipV="1">
                  <a:off x="5662440" y="527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831640" y="53625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743440" y="527688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2" name=""/>
              <p:cNvGrpSpPr/>
              <p:nvPr/>
            </p:nvGrpSpPr>
            <p:grpSpPr>
              <a:xfrm>
                <a:off x="5662440" y="5273280"/>
                <a:ext cx="246600" cy="89280"/>
                <a:chOff x="5662440" y="5273280"/>
                <a:chExt cx="246600" cy="89280"/>
              </a:xfrm>
            </p:grpSpPr>
            <p:sp>
              <p:nvSpPr>
                <p:cNvPr id="933" name=""/>
                <p:cNvSpPr/>
                <p:nvPr/>
              </p:nvSpPr>
              <p:spPr>
                <a:xfrm>
                  <a:off x="5662440" y="5360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5831640" y="5273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V="1">
                  <a:off x="5743440" y="527328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5B0-58E6-4FBA-82BD-E3FCAA1814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atagram network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 Internet model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1040" y="1333440"/>
            <a:ext cx="77817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call setup at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: no state about end-to-end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network-level concept of “connection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s typically routed using destination host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ets between same source-dest pair may take different pa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3352680" y="5078520"/>
            <a:ext cx="2847960" cy="148104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920960" y="5607000"/>
            <a:ext cx="15778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90960" y="537228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497400" y="5546880"/>
            <a:ext cx="501480" cy="232920"/>
            <a:chOff x="3497400" y="5546880"/>
            <a:chExt cx="501480" cy="232920"/>
          </a:xfrm>
        </p:grpSpPr>
        <p:sp>
          <p:nvSpPr>
            <p:cNvPr id="942" name=""/>
            <p:cNvSpPr/>
            <p:nvPr/>
          </p:nvSpPr>
          <p:spPr>
            <a:xfrm>
              <a:off x="3501360" y="56509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01360" y="5639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98880" y="5639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01360" y="56397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497400" y="5546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616920" y="5579640"/>
              <a:ext cx="246240" cy="88200"/>
              <a:chOff x="3616920" y="5579640"/>
              <a:chExt cx="246240" cy="88200"/>
            </a:xfrm>
          </p:grpSpPr>
          <p:sp>
            <p:nvSpPr>
              <p:cNvPr id="948" name=""/>
              <p:cNvSpPr/>
              <p:nvPr/>
            </p:nvSpPr>
            <p:spPr>
              <a:xfrm flipV="1">
                <a:off x="3616920" y="5579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785760" y="5667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7920" y="5581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3616920" y="5578920"/>
              <a:ext cx="246240" cy="88200"/>
              <a:chOff x="3616920" y="5578920"/>
              <a:chExt cx="246240" cy="88200"/>
            </a:xfrm>
          </p:grpSpPr>
          <p:sp>
            <p:nvSpPr>
              <p:cNvPr id="952" name=""/>
              <p:cNvSpPr/>
              <p:nvPr/>
            </p:nvSpPr>
            <p:spPr>
              <a:xfrm>
                <a:off x="3616920" y="5665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85760" y="5578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3697920" y="5578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3849840" y="6184800"/>
            <a:ext cx="501480" cy="233280"/>
            <a:chOff x="3849840" y="6184800"/>
            <a:chExt cx="501480" cy="233280"/>
          </a:xfrm>
        </p:grpSpPr>
        <p:sp>
          <p:nvSpPr>
            <p:cNvPr id="956" name=""/>
            <p:cNvSpPr/>
            <p:nvPr/>
          </p:nvSpPr>
          <p:spPr>
            <a:xfrm>
              <a:off x="3853800" y="628884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53800" y="6278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51320" y="627804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853800" y="62780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849840" y="61848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1" name=""/>
            <p:cNvGrpSpPr/>
            <p:nvPr/>
          </p:nvGrpSpPr>
          <p:grpSpPr>
            <a:xfrm>
              <a:off x="3969360" y="6217560"/>
              <a:ext cx="246240" cy="88560"/>
              <a:chOff x="3969360" y="6217560"/>
              <a:chExt cx="246240" cy="88560"/>
            </a:xfrm>
          </p:grpSpPr>
          <p:sp>
            <p:nvSpPr>
              <p:cNvPr id="962" name=""/>
              <p:cNvSpPr/>
              <p:nvPr/>
            </p:nvSpPr>
            <p:spPr>
              <a:xfrm flipV="1">
                <a:off x="3969360" y="6217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138200" y="6306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050360" y="621972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3969360" y="6216480"/>
              <a:ext cx="246240" cy="88560"/>
              <a:chOff x="3969360" y="6216480"/>
              <a:chExt cx="246240" cy="88560"/>
            </a:xfrm>
          </p:grpSpPr>
          <p:sp>
            <p:nvSpPr>
              <p:cNvPr id="966" name=""/>
              <p:cNvSpPr/>
              <p:nvPr/>
            </p:nvSpPr>
            <p:spPr>
              <a:xfrm>
                <a:off x="3969360" y="6303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138200" y="62164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4050360" y="621648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4524480" y="5241960"/>
            <a:ext cx="501480" cy="232920"/>
            <a:chOff x="4524480" y="5241960"/>
            <a:chExt cx="501480" cy="232920"/>
          </a:xfrm>
        </p:grpSpPr>
        <p:sp>
          <p:nvSpPr>
            <p:cNvPr id="970" name=""/>
            <p:cNvSpPr/>
            <p:nvPr/>
          </p:nvSpPr>
          <p:spPr>
            <a:xfrm>
              <a:off x="4528440" y="534600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528440" y="5334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25960" y="53348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28440" y="533484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24480" y="524196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4644000" y="5274720"/>
              <a:ext cx="246240" cy="88200"/>
              <a:chOff x="4644000" y="5274720"/>
              <a:chExt cx="246240" cy="8820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644000" y="52747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812840" y="5362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725000" y="52768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4644000" y="5274000"/>
              <a:ext cx="246240" cy="88200"/>
              <a:chOff x="4644000" y="5274000"/>
              <a:chExt cx="246240" cy="88200"/>
            </a:xfrm>
          </p:grpSpPr>
          <p:sp>
            <p:nvSpPr>
              <p:cNvPr id="980" name=""/>
              <p:cNvSpPr/>
              <p:nvPr/>
            </p:nvSpPr>
            <p:spPr>
              <a:xfrm>
                <a:off x="4644000" y="5360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812840" y="52740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4725000" y="5274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4446720" y="5907240"/>
            <a:ext cx="500040" cy="232920"/>
            <a:chOff x="4446720" y="5907240"/>
            <a:chExt cx="500040" cy="232920"/>
          </a:xfrm>
        </p:grpSpPr>
        <p:sp>
          <p:nvSpPr>
            <p:cNvPr id="984" name=""/>
            <p:cNvSpPr/>
            <p:nvPr/>
          </p:nvSpPr>
          <p:spPr>
            <a:xfrm>
              <a:off x="4450680" y="601128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450680" y="6000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946760" y="60001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50680" y="600012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46720" y="590724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9" name=""/>
            <p:cNvGrpSpPr/>
            <p:nvPr/>
          </p:nvGrpSpPr>
          <p:grpSpPr>
            <a:xfrm>
              <a:off x="4565880" y="5940000"/>
              <a:ext cx="245520" cy="88200"/>
              <a:chOff x="4565880" y="5940000"/>
              <a:chExt cx="245520" cy="88200"/>
            </a:xfrm>
          </p:grpSpPr>
          <p:sp>
            <p:nvSpPr>
              <p:cNvPr id="990" name=""/>
              <p:cNvSpPr/>
              <p:nvPr/>
            </p:nvSpPr>
            <p:spPr>
              <a:xfrm flipV="1">
                <a:off x="4565880" y="594000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734360" y="602820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6520" y="59421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4565880" y="5939280"/>
              <a:ext cx="245520" cy="88200"/>
              <a:chOff x="4565880" y="5939280"/>
              <a:chExt cx="245520" cy="88200"/>
            </a:xfrm>
          </p:grpSpPr>
          <p:sp>
            <p:nvSpPr>
              <p:cNvPr id="994" name=""/>
              <p:cNvSpPr/>
              <p:nvPr/>
            </p:nvSpPr>
            <p:spPr>
              <a:xfrm>
                <a:off x="4565880" y="6025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734360" y="59392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4646520" y="593928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7" name=""/>
          <p:cNvGrpSpPr/>
          <p:nvPr/>
        </p:nvGrpSpPr>
        <p:grpSpPr>
          <a:xfrm>
            <a:off x="5081760" y="6203880"/>
            <a:ext cx="501480" cy="232920"/>
            <a:chOff x="5081760" y="6203880"/>
            <a:chExt cx="501480" cy="232920"/>
          </a:xfrm>
        </p:grpSpPr>
        <p:sp>
          <p:nvSpPr>
            <p:cNvPr id="998" name=""/>
            <p:cNvSpPr/>
            <p:nvPr/>
          </p:nvSpPr>
          <p:spPr>
            <a:xfrm>
              <a:off x="5085720" y="630792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85720" y="6296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83240" y="6296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85720" y="62967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760" y="6203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201280" y="6236640"/>
              <a:ext cx="246240" cy="88200"/>
              <a:chOff x="5201280" y="6236640"/>
              <a:chExt cx="246240" cy="88200"/>
            </a:xfrm>
          </p:grpSpPr>
          <p:sp>
            <p:nvSpPr>
              <p:cNvPr id="1004" name=""/>
              <p:cNvSpPr/>
              <p:nvPr/>
            </p:nvSpPr>
            <p:spPr>
              <a:xfrm flipV="1">
                <a:off x="5201280" y="6236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70120" y="6324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82280" y="6238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201280" y="6235920"/>
              <a:ext cx="246240" cy="88200"/>
              <a:chOff x="5201280" y="6235920"/>
              <a:chExt cx="246240" cy="88200"/>
            </a:xfrm>
          </p:grpSpPr>
          <p:sp>
            <p:nvSpPr>
              <p:cNvPr id="1008" name=""/>
              <p:cNvSpPr/>
              <p:nvPr/>
            </p:nvSpPr>
            <p:spPr>
              <a:xfrm>
                <a:off x="5201280" y="6322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370120" y="6235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5282280" y="62359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5526000" y="5548320"/>
            <a:ext cx="501840" cy="232920"/>
            <a:chOff x="5526000" y="5548320"/>
            <a:chExt cx="501840" cy="232920"/>
          </a:xfrm>
        </p:grpSpPr>
        <p:sp>
          <p:nvSpPr>
            <p:cNvPr id="1012" name=""/>
            <p:cNvSpPr/>
            <p:nvPr/>
          </p:nvSpPr>
          <p:spPr>
            <a:xfrm>
              <a:off x="5529960" y="5652360"/>
              <a:ext cx="4975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29960" y="5641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27840" y="56412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529960" y="5641200"/>
              <a:ext cx="4932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26000" y="554832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5645520" y="5581080"/>
              <a:ext cx="246240" cy="88200"/>
              <a:chOff x="5645520" y="5581080"/>
              <a:chExt cx="246240" cy="88200"/>
            </a:xfrm>
          </p:grpSpPr>
          <p:sp>
            <p:nvSpPr>
              <p:cNvPr id="1018" name=""/>
              <p:cNvSpPr/>
              <p:nvPr/>
            </p:nvSpPr>
            <p:spPr>
              <a:xfrm flipV="1">
                <a:off x="5645520" y="55810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14360" y="56692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26520" y="55832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5645520" y="5580360"/>
              <a:ext cx="246240" cy="88200"/>
              <a:chOff x="5645520" y="5580360"/>
              <a:chExt cx="246240" cy="88200"/>
            </a:xfrm>
          </p:grpSpPr>
          <p:sp>
            <p:nvSpPr>
              <p:cNvPr id="1022" name=""/>
              <p:cNvSpPr/>
              <p:nvPr/>
            </p:nvSpPr>
            <p:spPr>
              <a:xfrm>
                <a:off x="5645520" y="56667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814360" y="5580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5726520" y="55803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479520" y="3741840"/>
            <a:ext cx="1566360" cy="1989360"/>
            <a:chOff x="479520" y="3741840"/>
            <a:chExt cx="1566360" cy="1989360"/>
          </a:xfrm>
        </p:grpSpPr>
        <p:pic>
          <p:nvPicPr>
            <p:cNvPr id="1026" name="" descr=""/>
            <p:cNvPicPr/>
            <p:nvPr/>
          </p:nvPicPr>
          <p:blipFill>
            <a:blip r:embed="rId1"/>
            <a:stretch/>
          </p:blipFill>
          <p:spPr>
            <a:xfrm>
              <a:off x="1074600" y="374184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"/>
            <p:cNvGrpSpPr/>
            <p:nvPr/>
          </p:nvGrpSpPr>
          <p:grpSpPr>
            <a:xfrm>
              <a:off x="479520" y="4084560"/>
              <a:ext cx="1566360" cy="1646640"/>
              <a:chOff x="479520" y="4084560"/>
              <a:chExt cx="1566360" cy="1646640"/>
            </a:xfrm>
          </p:grpSpPr>
          <p:sp>
            <p:nvSpPr>
              <p:cNvPr id="1028" name=""/>
              <p:cNvSpPr/>
              <p:nvPr/>
            </p:nvSpPr>
            <p:spPr>
              <a:xfrm>
                <a:off x="669240" y="408456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4800" y="413100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13800" y="475596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79520" y="411264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04800" y="478368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22800" y="508248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22800" y="534348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00" y="446652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6" name=""/>
          <p:cNvSpPr/>
          <p:nvPr/>
        </p:nvSpPr>
        <p:spPr>
          <a:xfrm>
            <a:off x="5032440" y="53658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967200" y="5757840"/>
            <a:ext cx="480960" cy="23832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915080" y="5734080"/>
            <a:ext cx="62856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81800" y="57880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346640" y="6321600"/>
            <a:ext cx="736560" cy="7452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9880" y="57816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7261200" y="3913200"/>
            <a:ext cx="1566360" cy="1989360"/>
            <a:chOff x="7261200" y="3913200"/>
            <a:chExt cx="1566360" cy="1989360"/>
          </a:xfrm>
        </p:grpSpPr>
        <p:pic>
          <p:nvPicPr>
            <p:cNvPr id="1043" name="" descr=""/>
            <p:cNvPicPr/>
            <p:nvPr/>
          </p:nvPicPr>
          <p:blipFill>
            <a:blip r:embed="rId2"/>
            <a:stretch/>
          </p:blipFill>
          <p:spPr>
            <a:xfrm>
              <a:off x="7856280" y="39132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4" name=""/>
            <p:cNvGrpSpPr/>
            <p:nvPr/>
          </p:nvGrpSpPr>
          <p:grpSpPr>
            <a:xfrm>
              <a:off x="7261200" y="4255920"/>
              <a:ext cx="1566360" cy="1646640"/>
              <a:chOff x="7261200" y="4255920"/>
              <a:chExt cx="1566360" cy="1646640"/>
            </a:xfrm>
          </p:grpSpPr>
          <p:sp>
            <p:nvSpPr>
              <p:cNvPr id="1045" name=""/>
              <p:cNvSpPr/>
              <p:nvPr/>
            </p:nvSpPr>
            <p:spPr>
              <a:xfrm>
                <a:off x="7450920" y="4255920"/>
                <a:ext cx="1300320" cy="1519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386480" y="4302360"/>
                <a:ext cx="1328040" cy="156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395480" y="49273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261200" y="4284000"/>
                <a:ext cx="156636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networ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lin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physic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386480" y="4955040"/>
                <a:ext cx="13280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04480" y="52538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04480" y="5514840"/>
                <a:ext cx="13287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04480" y="4637880"/>
                <a:ext cx="132876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 flipH="1">
            <a:off x="6004080" y="5701680"/>
            <a:ext cx="140328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94040" y="49467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Se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28600" y="5013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Receiv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028960" y="4915080"/>
            <a:ext cx="304560" cy="657000"/>
          </a:xfrm>
          <a:custGeom>
            <a:avLst/>
            <a:gdLst/>
            <a:ahLst/>
            <a:rect l="l" t="t" r="r" b="b"/>
            <a:pathLst>
              <a:path w="192" h="414">
                <a:moveTo>
                  <a:pt x="0" y="0"/>
                </a:moveTo>
                <a:lnTo>
                  <a:pt x="0" y="414"/>
                </a:lnTo>
                <a:lnTo>
                  <a:pt x="192" y="4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662880" y="5357880"/>
            <a:ext cx="609480" cy="295200"/>
          </a:xfrm>
          <a:custGeom>
            <a:avLst/>
            <a:gdLst/>
            <a:ahLst/>
            <a:rect l="l" t="t" r="r" b="b"/>
            <a:pathLst>
              <a:path w="384" h="186">
                <a:moveTo>
                  <a:pt x="0" y="186"/>
                </a:moveTo>
                <a:lnTo>
                  <a:pt x="384" y="186"/>
                </a:lnTo>
                <a:lnTo>
                  <a:pt x="3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386080" y="5353200"/>
            <a:ext cx="361440" cy="261360"/>
            <a:chOff x="2386080" y="5353200"/>
            <a:chExt cx="361440" cy="261360"/>
          </a:xfrm>
        </p:grpSpPr>
        <p:sp>
          <p:nvSpPr>
            <p:cNvPr id="1059" name=""/>
            <p:cNvSpPr/>
            <p:nvPr/>
          </p:nvSpPr>
          <p:spPr>
            <a:xfrm>
              <a:off x="2409480" y="535320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386080" y="537696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47720" y="55008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3176640" y="5357880"/>
            <a:ext cx="361440" cy="261360"/>
            <a:chOff x="3176640" y="5357880"/>
            <a:chExt cx="361440" cy="261360"/>
          </a:xfrm>
        </p:grpSpPr>
        <p:sp>
          <p:nvSpPr>
            <p:cNvPr id="1063" name=""/>
            <p:cNvSpPr/>
            <p:nvPr/>
          </p:nvSpPr>
          <p:spPr>
            <a:xfrm>
              <a:off x="3200040" y="535788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76640" y="538164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338280" y="550548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48280" y="5248440"/>
            <a:ext cx="361440" cy="261360"/>
            <a:chOff x="5048280" y="5248440"/>
            <a:chExt cx="361440" cy="261360"/>
          </a:xfrm>
        </p:grpSpPr>
        <p:sp>
          <p:nvSpPr>
            <p:cNvPr id="1067" name=""/>
            <p:cNvSpPr/>
            <p:nvPr/>
          </p:nvSpPr>
          <p:spPr>
            <a:xfrm>
              <a:off x="5071680" y="524844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48280" y="527220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209920" y="539604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0" name=""/>
          <p:cNvGrpSpPr/>
          <p:nvPr/>
        </p:nvGrpSpPr>
        <p:grpSpPr>
          <a:xfrm>
            <a:off x="4524480" y="6186600"/>
            <a:ext cx="361440" cy="261360"/>
            <a:chOff x="4524480" y="6186600"/>
            <a:chExt cx="361440" cy="261360"/>
          </a:xfrm>
        </p:grpSpPr>
        <p:sp>
          <p:nvSpPr>
            <p:cNvPr id="1071" name=""/>
            <p:cNvSpPr/>
            <p:nvPr/>
          </p:nvSpPr>
          <p:spPr>
            <a:xfrm>
              <a:off x="4547880" y="618660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524480" y="621036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86120" y="63342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105440" y="5710320"/>
            <a:ext cx="361440" cy="261360"/>
            <a:chOff x="4105440" y="5710320"/>
            <a:chExt cx="361440" cy="261360"/>
          </a:xfrm>
        </p:grpSpPr>
        <p:sp>
          <p:nvSpPr>
            <p:cNvPr id="1075" name=""/>
            <p:cNvSpPr/>
            <p:nvPr/>
          </p:nvSpPr>
          <p:spPr>
            <a:xfrm>
              <a:off x="4128840" y="5710320"/>
              <a:ext cx="161640" cy="237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05440" y="5734080"/>
              <a:ext cx="161640" cy="237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267080" y="585792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6458040" y="5433840"/>
            <a:ext cx="361440" cy="262080"/>
            <a:chOff x="6458040" y="5433840"/>
            <a:chExt cx="361440" cy="262080"/>
          </a:xfrm>
        </p:grpSpPr>
        <p:sp>
          <p:nvSpPr>
            <p:cNvPr id="1079" name=""/>
            <p:cNvSpPr/>
            <p:nvPr/>
          </p:nvSpPr>
          <p:spPr>
            <a:xfrm>
              <a:off x="6481440" y="5433840"/>
              <a:ext cx="161640" cy="238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58040" y="5457960"/>
              <a:ext cx="161640" cy="237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19680" y="5581800"/>
              <a:ext cx="1998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E7D-4C2F-45CA-8009-CF97F55845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Network layer service models: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9680" y="2324160"/>
            <a:ext cx="842940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14440" y="305748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61960" y="3676680"/>
            <a:ext cx="8429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" y="4305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1680" y="488628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47840" y="5457960"/>
            <a:ext cx="77817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F5C-8C8A-4ABE-B2EE-566DDBC28C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24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 or VC network: why?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42880" y="147636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exchange among comp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stic” service, no strict timing req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rt” end systems (compu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dapt, perform control, error recove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 inside network, complexity at “edg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y link typ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fferent characterist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form service difficu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05040" y="15523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olved from telephon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uman conversatio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ict timing, reliability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for guaranteed ser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mb” end syste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eph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lexity insid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B9C-3C91-4CEC-806A-ED7EF6F005A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85640" y="307620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abstraction for routing algorithm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nodes are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 edges are physical li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cost: delay, $ cost, or congestion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"/>
          <p:cNvSpPr/>
          <p:nvPr/>
        </p:nvSpPr>
        <p:spPr>
          <a:xfrm>
            <a:off x="558720" y="1789200"/>
            <a:ext cx="371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 “good”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equence of routers) thr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from source to 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71680" y="1571760"/>
            <a:ext cx="3695400" cy="12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681480" y="1332000"/>
            <a:ext cx="2590200" cy="459720"/>
            <a:chOff x="681480" y="1332000"/>
            <a:chExt cx="2590200" cy="459720"/>
          </a:xfrm>
        </p:grpSpPr>
        <p:sp>
          <p:nvSpPr>
            <p:cNvPr id="1106" name=""/>
            <p:cNvSpPr/>
            <p:nvPr/>
          </p:nvSpPr>
          <p:spPr>
            <a:xfrm>
              <a:off x="780840" y="1390680"/>
              <a:ext cx="23526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81480" y="133200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outing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5019840" y="1700280"/>
            <a:ext cx="3571560" cy="2236680"/>
            <a:chOff x="5019840" y="1700280"/>
            <a:chExt cx="3571560" cy="2236680"/>
          </a:xfrm>
        </p:grpSpPr>
        <p:sp>
          <p:nvSpPr>
            <p:cNvPr id="1109" name=""/>
            <p:cNvSpPr/>
            <p:nvPr/>
          </p:nvSpPr>
          <p:spPr>
            <a:xfrm>
              <a:off x="5019840" y="1700280"/>
              <a:ext cx="3571560" cy="2236680"/>
            </a:xfrm>
            <a:custGeom>
              <a:avLst/>
              <a:gdLst/>
              <a:ahLst/>
              <a:rect l="l" t="t" r="r" b="b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553000" y="2571840"/>
              <a:ext cx="54252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0080" y="29559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14008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637240" y="29448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140080" y="294480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35400" y="285120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892840" y="357012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8928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89640" y="35589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892840" y="355896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887800" y="34653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86360" y="24750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863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83160" y="2463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886360" y="2463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81680" y="23698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970680" y="2468520"/>
              <a:ext cx="4950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97068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466040" y="24573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970680" y="2457360"/>
              <a:ext cx="4899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75360" y="2368440"/>
              <a:ext cx="4950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86520" y="356544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9865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83320" y="3554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86520" y="355428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81840" y="346068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883280" y="30240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88328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380440" y="30128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83280" y="30128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878600" y="2919240"/>
              <a:ext cx="49644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234200" y="2614680"/>
              <a:ext cx="1080" cy="82836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134040" y="2624040"/>
              <a:ext cx="108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95760" y="2600280"/>
              <a:ext cx="799920" cy="952560"/>
            </a:xfrm>
            <a:custGeom>
              <a:avLst/>
              <a:gdLst/>
              <a:ahLst/>
              <a:rect l="l" t="t" r="r" b="b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486560" y="3152520"/>
              <a:ext cx="580680" cy="42876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405480" y="3600360"/>
              <a:ext cx="580680" cy="144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67320" y="3085920"/>
              <a:ext cx="437760" cy="41904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95760" y="2504880"/>
              <a:ext cx="58068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67480" y="2500200"/>
              <a:ext cx="628200" cy="423720"/>
            </a:xfrm>
            <a:custGeom>
              <a:avLst/>
              <a:gdLst/>
              <a:ahLst/>
              <a:rect l="l" t="t" r="r" b="b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76600" y="1819080"/>
              <a:ext cx="1761840" cy="1024200"/>
            </a:xfrm>
            <a:custGeom>
              <a:avLst/>
              <a:gdLst/>
              <a:ahLst/>
              <a:rect l="l" t="t" r="r" b="b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5208480" y="2774880"/>
              <a:ext cx="343800" cy="398880"/>
              <a:chOff x="5208480" y="2774880"/>
              <a:chExt cx="343800" cy="398880"/>
            </a:xfrm>
          </p:grpSpPr>
          <p:sp>
            <p:nvSpPr>
              <p:cNvPr id="1151" name=""/>
              <p:cNvSpPr/>
              <p:nvPr/>
            </p:nvSpPr>
            <p:spPr>
              <a:xfrm>
                <a:off x="5261400" y="2871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08480" y="277488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7075800" y="3384360"/>
              <a:ext cx="322560" cy="398880"/>
              <a:chOff x="7075800" y="3384360"/>
              <a:chExt cx="322560" cy="398880"/>
            </a:xfrm>
          </p:grpSpPr>
          <p:sp>
            <p:nvSpPr>
              <p:cNvPr id="1154" name=""/>
              <p:cNvSpPr/>
              <p:nvPr/>
            </p:nvSpPr>
            <p:spPr>
              <a:xfrm>
                <a:off x="7118640" y="348120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075800" y="3384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973480" y="3379680"/>
              <a:ext cx="366480" cy="398880"/>
              <a:chOff x="5973480" y="3379680"/>
              <a:chExt cx="366480" cy="398880"/>
            </a:xfrm>
          </p:grpSpPr>
          <p:sp>
            <p:nvSpPr>
              <p:cNvPr id="1157" name=""/>
              <p:cNvSpPr/>
              <p:nvPr/>
            </p:nvSpPr>
            <p:spPr>
              <a:xfrm>
                <a:off x="6037560" y="34761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73480" y="33796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7056720" y="2289240"/>
              <a:ext cx="342360" cy="398880"/>
              <a:chOff x="7056720" y="2289240"/>
              <a:chExt cx="342360" cy="398880"/>
            </a:xfrm>
          </p:grpSpPr>
          <p:sp>
            <p:nvSpPr>
              <p:cNvPr id="1160" name=""/>
              <p:cNvSpPr/>
              <p:nvPr/>
            </p:nvSpPr>
            <p:spPr>
              <a:xfrm>
                <a:off x="710928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056720" y="22892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969520" y="2289240"/>
              <a:ext cx="346680" cy="398880"/>
              <a:chOff x="5969520" y="2289240"/>
              <a:chExt cx="346680" cy="398880"/>
            </a:xfrm>
          </p:grpSpPr>
          <p:sp>
            <p:nvSpPr>
              <p:cNvPr id="1163" name=""/>
              <p:cNvSpPr/>
              <p:nvPr/>
            </p:nvSpPr>
            <p:spPr>
              <a:xfrm>
                <a:off x="6023520" y="2385720"/>
                <a:ext cx="22500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969520" y="22892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7989480" y="2841480"/>
              <a:ext cx="313200" cy="398880"/>
              <a:chOff x="7989480" y="2841480"/>
              <a:chExt cx="313200" cy="398880"/>
            </a:xfrm>
          </p:grpSpPr>
          <p:sp>
            <p:nvSpPr>
              <p:cNvPr id="1166" name=""/>
              <p:cNvSpPr/>
              <p:nvPr/>
            </p:nvSpPr>
            <p:spPr>
              <a:xfrm>
                <a:off x="8028720" y="293832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989480" y="284148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5544360" y="249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96960" y="2841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05760" y="317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706440" y="29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606000" y="35510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177320" y="2870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749360" y="3289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06520" y="24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539760" y="2198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82480" y="177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” pa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means minimum cost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def’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81B-5907-4303-B6C1-9E2649BC63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ing Algorithm classifica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0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lobal or decentralized inform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Globa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routers have complete topology, link cost inf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state”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ecentralize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r knows physically-connected neighbors, link costs to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erative process of computation, exchange of info with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ance vector” algorith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83840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tic or dynamic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tati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change slowly over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ynamic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s change more quick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iodic upd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response to link cost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4BD-2701-478F-8941-DC4A9469F4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ink-State Routing Algorith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jkstra’s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 topology, link costs known to all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omplished via “link state broadcast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nodes have same inf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s least cost paths from one node (‘source”) to all other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uting 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at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erative: after k iterations, know least cost path to k dest.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(i,j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ink cost from node i to j. cost infinite if not direct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(v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urrent value of cost of path from source to dest.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(v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edecessor node along path from source to v, that is next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t of nodes whose least cost path definitively kn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1FC-111F-483C-B908-4B9F08F995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sktra’s Algorithm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1133640" y="1459080"/>
            <a:ext cx="611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itializ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N = {A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for all nodes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  if v adjacent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    then D(v) = c(A,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    else D(v) = inf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 find w not in N such that D(w) is a minim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 add w to 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update D(v) for all v adjacent to w and not in 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   D(v) = min( D(v), D(w) + c(w,v)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/* new cost to v is either old cost to v or kn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  shortest path cost to w plus cost from w to v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til all nodes in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00120" y="3543480"/>
            <a:ext cx="799920" cy="2885760"/>
          </a:xfrm>
          <a:custGeom>
            <a:avLst/>
            <a:gdLst/>
            <a:ahLst/>
            <a:rect l="l" t="t" r="r" b="b"/>
            <a:pathLst>
              <a:path w="504" h="1818">
                <a:moveTo>
                  <a:pt x="504" y="1596"/>
                </a:moveTo>
                <a:cubicBezTo>
                  <a:pt x="444" y="1728"/>
                  <a:pt x="240" y="1818"/>
                  <a:pt x="120" y="1602"/>
                </a:cubicBezTo>
                <a:cubicBezTo>
                  <a:pt x="0" y="1386"/>
                  <a:pt x="48" y="444"/>
                  <a:pt x="90" y="192"/>
                </a:cubicBezTo>
                <a:cubicBezTo>
                  <a:pt x="162" y="0"/>
                  <a:pt x="294" y="84"/>
                  <a:pt x="396" y="14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EC6-5CF4-43F9-8B59-45E826BAF5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Connection Management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losing a connec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 closes socket: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entSocket.close(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nd system sends TCP FIN control segment to serve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s FIN, replies with ACK. Closes connection, sends FI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311720" y="1731960"/>
            <a:ext cx="4264560" cy="4187880"/>
            <a:chOff x="4311720" y="1731960"/>
            <a:chExt cx="4264560" cy="4187880"/>
          </a:xfrm>
        </p:grpSpPr>
        <p:sp>
          <p:nvSpPr>
            <p:cNvPr id="60" name=""/>
            <p:cNvSpPr/>
            <p:nvPr/>
          </p:nvSpPr>
          <p:spPr>
            <a:xfrm>
              <a:off x="5391000" y="240048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4978440" y="173196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466240" y="1731960"/>
              <a:ext cx="69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706200">
              <a:off x="6482520" y="244152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7635960" y="174132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937200" y="1751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400720" y="4438800"/>
              <a:ext cx="253368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29360" y="4295880"/>
              <a:ext cx="0" cy="134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171880"/>
              <a:ext cx="0" cy="340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362560" y="313380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20673000">
              <a:off x="5241960" y="322848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706200">
              <a:off x="6367680" y="444312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410080" y="354348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673000">
              <a:off x="5289480" y="3638160"/>
              <a:ext cx="273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81640" y="2324160"/>
              <a:ext cx="0" cy="334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7960" y="220356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8360" y="333684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11720" y="555156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4600" y="427680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38640" y="5657760"/>
              <a:ext cx="19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4376520" y="4803120"/>
              <a:ext cx="131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imed wa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1CD-0E3A-45E4-AA94-00C6A4B1AC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241200" y="1506600"/>
            <a:ext cx="70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055160" y="1515960"/>
            <a:ext cx="121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B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414160" y="1496880"/>
            <a:ext cx="125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B),p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665880" y="1501920"/>
            <a:ext cx="1287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C),p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942080" y="1496880"/>
            <a:ext cx="128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D),p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267240" y="1501920"/>
            <a:ext cx="125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E),p(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547400" y="1515960"/>
            <a:ext cx="12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(F),p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,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61800" y="1857240"/>
            <a:ext cx="850608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9120" y="2162160"/>
            <a:ext cx="8296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8200" y="2457360"/>
            <a:ext cx="826776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47560" y="2766960"/>
            <a:ext cx="825372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57280" y="3071880"/>
            <a:ext cx="826776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71680" y="3386160"/>
            <a:ext cx="8262720" cy="4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2657520" y="3995640"/>
            <a:ext cx="3571920" cy="2236680"/>
            <a:chOff x="2657520" y="3995640"/>
            <a:chExt cx="3571920" cy="2236680"/>
          </a:xfrm>
        </p:grpSpPr>
        <p:sp>
          <p:nvSpPr>
            <p:cNvPr id="1203" name=""/>
            <p:cNvSpPr/>
            <p:nvPr/>
          </p:nvSpPr>
          <p:spPr>
            <a:xfrm>
              <a:off x="2657520" y="3995640"/>
              <a:ext cx="3571920" cy="2236680"/>
            </a:xfrm>
            <a:custGeom>
              <a:avLst/>
              <a:gdLst/>
              <a:ahLst/>
              <a:rect l="l" t="t" r="r" b="b"/>
              <a:pathLst>
                <a:path w="2250" h="1409">
                  <a:moveTo>
                    <a:pt x="0" y="624"/>
                  </a:moveTo>
                  <a:cubicBezTo>
                    <a:pt x="5" y="506"/>
                    <a:pt x="131" y="419"/>
                    <a:pt x="219" y="321"/>
                  </a:cubicBezTo>
                  <a:cubicBezTo>
                    <a:pt x="307" y="223"/>
                    <a:pt x="307" y="70"/>
                    <a:pt x="529" y="35"/>
                  </a:cubicBezTo>
                  <a:cubicBezTo>
                    <a:pt x="751" y="0"/>
                    <a:pt x="1311" y="36"/>
                    <a:pt x="1551" y="111"/>
                  </a:cubicBezTo>
                  <a:cubicBezTo>
                    <a:pt x="1791" y="186"/>
                    <a:pt x="1860" y="351"/>
                    <a:pt x="1968" y="483"/>
                  </a:cubicBezTo>
                  <a:cubicBezTo>
                    <a:pt x="2076" y="615"/>
                    <a:pt x="2250" y="767"/>
                    <a:pt x="2199" y="906"/>
                  </a:cubicBezTo>
                  <a:cubicBezTo>
                    <a:pt x="2148" y="1045"/>
                    <a:pt x="1860" y="1234"/>
                    <a:pt x="1659" y="1314"/>
                  </a:cubicBezTo>
                  <a:cubicBezTo>
                    <a:pt x="1458" y="1394"/>
                    <a:pt x="1192" y="1379"/>
                    <a:pt x="993" y="1386"/>
                  </a:cubicBezTo>
                  <a:cubicBezTo>
                    <a:pt x="794" y="1393"/>
                    <a:pt x="613" y="1409"/>
                    <a:pt x="465" y="1356"/>
                  </a:cubicBezTo>
                  <a:cubicBezTo>
                    <a:pt x="317" y="1303"/>
                    <a:pt x="180" y="1190"/>
                    <a:pt x="102" y="1068"/>
                  </a:cubicBezTo>
                  <a:cubicBezTo>
                    <a:pt x="24" y="946"/>
                    <a:pt x="21" y="716"/>
                    <a:pt x="0" y="6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191040" y="4867200"/>
              <a:ext cx="54288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78120" y="525132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7812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75280" y="524016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78120" y="52401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73440" y="51465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30880" y="5865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308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27680" y="585432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30880" y="5854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525840" y="576072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24400" y="477036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244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021200" y="47592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524400" y="4759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19720" y="46652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08720" y="476388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0872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04080" y="475272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08720" y="4752720"/>
              <a:ext cx="4903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13400" y="466380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624560" y="58608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245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21360" y="58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624560" y="58496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619880" y="57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21320" y="5319360"/>
              <a:ext cx="4971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2132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18480" y="530820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21320" y="530820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16640" y="521460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872240" y="4910040"/>
              <a:ext cx="1440" cy="82836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72080" y="4919400"/>
              <a:ext cx="144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33800" y="4895640"/>
              <a:ext cx="800280" cy="952560"/>
            </a:xfrm>
            <a:custGeom>
              <a:avLst/>
              <a:gdLst/>
              <a:ahLst/>
              <a:rect l="l" t="t" r="r" b="b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24600" y="5447880"/>
              <a:ext cx="581040" cy="428760"/>
            </a:xfrm>
            <a:custGeom>
              <a:avLst/>
              <a:gdLst/>
              <a:ahLst/>
              <a:rect l="l" t="t" r="r" b="b"/>
              <a:pathLst>
                <a:path w="366" h="270">
                  <a:moveTo>
                    <a:pt x="0" y="270"/>
                  </a:moveTo>
                  <a:lnTo>
                    <a:pt x="3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43520" y="5895720"/>
              <a:ext cx="581040" cy="144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05360" y="5381280"/>
              <a:ext cx="438120" cy="41904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33800" y="480024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05520" y="4795560"/>
              <a:ext cx="628560" cy="423720"/>
            </a:xfrm>
            <a:custGeom>
              <a:avLst/>
              <a:gdLst/>
              <a:ahLst/>
              <a:rect l="l" t="t" r="r" b="b"/>
              <a:pathLst>
                <a:path w="396" h="267">
                  <a:moveTo>
                    <a:pt x="396" y="26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014640" y="4114440"/>
              <a:ext cx="1762200" cy="1024200"/>
            </a:xfrm>
            <a:custGeom>
              <a:avLst/>
              <a:gdLst/>
              <a:ahLst/>
              <a:rect l="l" t="t" r="r" b="b"/>
              <a:pathLst>
                <a:path w="1110" h="645">
                  <a:moveTo>
                    <a:pt x="1110" y="342"/>
                  </a:moveTo>
                  <a:cubicBezTo>
                    <a:pt x="1104" y="0"/>
                    <a:pt x="21" y="63"/>
                    <a:pt x="0" y="64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2846880" y="5070240"/>
              <a:ext cx="343800" cy="398880"/>
              <a:chOff x="2846880" y="5070240"/>
              <a:chExt cx="343800" cy="398880"/>
            </a:xfrm>
          </p:grpSpPr>
          <p:sp>
            <p:nvSpPr>
              <p:cNvPr id="1245" name=""/>
              <p:cNvSpPr/>
              <p:nvPr/>
            </p:nvSpPr>
            <p:spPr>
              <a:xfrm>
                <a:off x="2899440" y="51667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846880" y="50702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4713840" y="5679720"/>
              <a:ext cx="322560" cy="398880"/>
              <a:chOff x="4713840" y="5679720"/>
              <a:chExt cx="322560" cy="398880"/>
            </a:xfrm>
          </p:grpSpPr>
          <p:sp>
            <p:nvSpPr>
              <p:cNvPr id="1248" name=""/>
              <p:cNvSpPr/>
              <p:nvPr/>
            </p:nvSpPr>
            <p:spPr>
              <a:xfrm>
                <a:off x="4756680" y="577656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13840" y="567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3611520" y="5675040"/>
              <a:ext cx="366480" cy="398880"/>
              <a:chOff x="3611520" y="5675040"/>
              <a:chExt cx="366480" cy="398880"/>
            </a:xfrm>
          </p:grpSpPr>
          <p:sp>
            <p:nvSpPr>
              <p:cNvPr id="1251" name=""/>
              <p:cNvSpPr/>
              <p:nvPr/>
            </p:nvSpPr>
            <p:spPr>
              <a:xfrm>
                <a:off x="3675600" y="577152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611520" y="567504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4694760" y="4584600"/>
              <a:ext cx="342360" cy="398880"/>
              <a:chOff x="4694760" y="4584600"/>
              <a:chExt cx="342360" cy="398880"/>
            </a:xfrm>
          </p:grpSpPr>
          <p:sp>
            <p:nvSpPr>
              <p:cNvPr id="1254" name=""/>
              <p:cNvSpPr/>
              <p:nvPr/>
            </p:nvSpPr>
            <p:spPr>
              <a:xfrm>
                <a:off x="474768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694760" y="458460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6" name=""/>
            <p:cNvGrpSpPr/>
            <p:nvPr/>
          </p:nvGrpSpPr>
          <p:grpSpPr>
            <a:xfrm>
              <a:off x="3607560" y="4584600"/>
              <a:ext cx="346680" cy="398880"/>
              <a:chOff x="3607560" y="4584600"/>
              <a:chExt cx="346680" cy="398880"/>
            </a:xfrm>
          </p:grpSpPr>
          <p:sp>
            <p:nvSpPr>
              <p:cNvPr id="1257" name=""/>
              <p:cNvSpPr/>
              <p:nvPr/>
            </p:nvSpPr>
            <p:spPr>
              <a:xfrm>
                <a:off x="3661560" y="468108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607560" y="458460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5627520" y="5136840"/>
              <a:ext cx="313200" cy="398880"/>
              <a:chOff x="5627520" y="5136840"/>
              <a:chExt cx="313200" cy="398880"/>
            </a:xfrm>
          </p:grpSpPr>
          <p:sp>
            <p:nvSpPr>
              <p:cNvPr id="1260" name=""/>
              <p:cNvSpPr/>
              <p:nvPr/>
            </p:nvSpPr>
            <p:spPr>
              <a:xfrm>
                <a:off x="5666760" y="52336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627520" y="513684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2" name=""/>
            <p:cNvSpPr/>
            <p:nvPr/>
          </p:nvSpPr>
          <p:spPr>
            <a:xfrm>
              <a:off x="3182760" y="4789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5000" y="5136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43800" y="5474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44840" y="5284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44040" y="58464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815360" y="5165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87760" y="5584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44920" y="4732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178160" y="44938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20880" y="407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3095640" y="5362560"/>
            <a:ext cx="447840" cy="447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038480" y="5896080"/>
            <a:ext cx="581040" cy="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V="1">
            <a:off x="3191040" y="4905360"/>
            <a:ext cx="495000" cy="25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857840" y="4905000"/>
            <a:ext cx="0" cy="84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124600" y="5438520"/>
            <a:ext cx="609480" cy="447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71360" y="20289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71360" y="230508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62000" y="263844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71360" y="2943360"/>
            <a:ext cx="514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1080" y="3247920"/>
            <a:ext cx="514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7C29-A21E-4F07-BD10-A7A5FA5065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4" dur="1" fill="hold"/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jkstra’s algorithm, discuss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gorithm complexity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n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teration: need to check all nodes, w, not in 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*(n+1)/2 comparisons: O(n**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re efficient implementations possible: O(nlog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scillations possib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link cost = amount of carried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"/>
          <p:cNvSpPr/>
          <p:nvPr/>
        </p:nvSpPr>
        <p:spPr>
          <a:xfrm>
            <a:off x="446040" y="4272120"/>
            <a:ext cx="1971720" cy="1355400"/>
          </a:xfrm>
          <a:custGeom>
            <a:avLst/>
            <a:gdLst/>
            <a:ahLst/>
            <a:rect l="l" t="t" r="r" b="b"/>
            <a:pathLst>
              <a:path w="1242" h="854">
                <a:moveTo>
                  <a:pt x="1" y="381"/>
                </a:moveTo>
                <a:cubicBezTo>
                  <a:pt x="0" y="296"/>
                  <a:pt x="88" y="222"/>
                  <a:pt x="169" y="162"/>
                </a:cubicBezTo>
                <a:cubicBezTo>
                  <a:pt x="250" y="102"/>
                  <a:pt x="378" y="40"/>
                  <a:pt x="487" y="18"/>
                </a:cubicBezTo>
                <a:cubicBezTo>
                  <a:pt x="616" y="6"/>
                  <a:pt x="685" y="0"/>
                  <a:pt x="823" y="30"/>
                </a:cubicBezTo>
                <a:cubicBezTo>
                  <a:pt x="961" y="60"/>
                  <a:pt x="1121" y="165"/>
                  <a:pt x="1183" y="261"/>
                </a:cubicBezTo>
                <a:cubicBezTo>
                  <a:pt x="1242" y="357"/>
                  <a:pt x="1219" y="523"/>
                  <a:pt x="1177" y="609"/>
                </a:cubicBezTo>
                <a:cubicBezTo>
                  <a:pt x="1135" y="695"/>
                  <a:pt x="1049" y="742"/>
                  <a:pt x="928" y="780"/>
                </a:cubicBezTo>
                <a:cubicBezTo>
                  <a:pt x="807" y="818"/>
                  <a:pt x="573" y="854"/>
                  <a:pt x="448" y="837"/>
                </a:cubicBezTo>
                <a:cubicBezTo>
                  <a:pt x="323" y="820"/>
                  <a:pt x="252" y="751"/>
                  <a:pt x="178" y="675"/>
                </a:cubicBezTo>
                <a:cubicBezTo>
                  <a:pt x="104" y="599"/>
                  <a:pt x="2" y="466"/>
                  <a:pt x="1" y="38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47800" y="461016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1154160" y="4299120"/>
            <a:ext cx="501480" cy="398880"/>
            <a:chOff x="1154160" y="4299120"/>
            <a:chExt cx="501480" cy="398880"/>
          </a:xfrm>
        </p:grpSpPr>
        <p:sp>
          <p:nvSpPr>
            <p:cNvPr id="1287" name=""/>
            <p:cNvSpPr/>
            <p:nvPr/>
          </p:nvSpPr>
          <p:spPr>
            <a:xfrm>
              <a:off x="1158840" y="447984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158840" y="4468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55640" y="44686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158840" y="4468680"/>
              <a:ext cx="492120" cy="7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54160" y="43750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2" name=""/>
            <p:cNvGrpSpPr/>
            <p:nvPr/>
          </p:nvGrpSpPr>
          <p:grpSpPr>
            <a:xfrm>
              <a:off x="1227240" y="4299120"/>
              <a:ext cx="343800" cy="398880"/>
              <a:chOff x="1227240" y="4299120"/>
              <a:chExt cx="343800" cy="398880"/>
            </a:xfrm>
          </p:grpSpPr>
          <p:sp>
            <p:nvSpPr>
              <p:cNvPr id="1293" name=""/>
              <p:cNvSpPr/>
              <p:nvPr/>
            </p:nvSpPr>
            <p:spPr>
              <a:xfrm>
                <a:off x="1279800" y="439560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227240" y="42991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06520" y="4703760"/>
            <a:ext cx="501480" cy="398880"/>
            <a:chOff x="506520" y="4703760"/>
            <a:chExt cx="501480" cy="398880"/>
          </a:xfrm>
        </p:grpSpPr>
        <p:sp>
          <p:nvSpPr>
            <p:cNvPr id="1296" name=""/>
            <p:cNvSpPr/>
            <p:nvPr/>
          </p:nvSpPr>
          <p:spPr>
            <a:xfrm>
              <a:off x="511200" y="489420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88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08000" y="48830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11200" y="488304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6520" y="47894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592200" y="4703760"/>
              <a:ext cx="366480" cy="398880"/>
              <a:chOff x="592200" y="4703760"/>
              <a:chExt cx="366480" cy="398880"/>
            </a:xfrm>
          </p:grpSpPr>
          <p:sp>
            <p:nvSpPr>
              <p:cNvPr id="1302" name=""/>
              <p:cNvSpPr/>
              <p:nvPr/>
            </p:nvSpPr>
            <p:spPr>
              <a:xfrm>
                <a:off x="656280" y="480024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2200" y="47037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4" name=""/>
          <p:cNvGrpSpPr/>
          <p:nvPr/>
        </p:nvGrpSpPr>
        <p:grpSpPr>
          <a:xfrm>
            <a:off x="1141560" y="5165640"/>
            <a:ext cx="500040" cy="398880"/>
            <a:chOff x="1141560" y="5165640"/>
            <a:chExt cx="500040" cy="398880"/>
          </a:xfrm>
        </p:grpSpPr>
        <p:grpSp>
          <p:nvGrpSpPr>
            <p:cNvPr id="1305" name=""/>
            <p:cNvGrpSpPr/>
            <p:nvPr/>
          </p:nvGrpSpPr>
          <p:grpSpPr>
            <a:xfrm>
              <a:off x="1141560" y="5245200"/>
              <a:ext cx="500040" cy="228600"/>
              <a:chOff x="1141560" y="5245200"/>
              <a:chExt cx="500040" cy="228600"/>
            </a:xfrm>
          </p:grpSpPr>
          <p:sp>
            <p:nvSpPr>
              <p:cNvPr id="1306" name=""/>
              <p:cNvSpPr/>
              <p:nvPr/>
            </p:nvSpPr>
            <p:spPr>
              <a:xfrm>
                <a:off x="1141560" y="5345280"/>
                <a:ext cx="49536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141560" y="5334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636920" y="53341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41560" y="5334120"/>
                <a:ext cx="49068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46600" y="5245200"/>
                <a:ext cx="4950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1227600" y="5165640"/>
              <a:ext cx="342360" cy="398880"/>
              <a:chOff x="1227600" y="5165640"/>
              <a:chExt cx="342360" cy="398880"/>
            </a:xfrm>
          </p:grpSpPr>
          <p:sp>
            <p:nvSpPr>
              <p:cNvPr id="1312" name=""/>
              <p:cNvSpPr/>
              <p:nvPr/>
            </p:nvSpPr>
            <p:spPr>
              <a:xfrm>
                <a:off x="1280520" y="5262480"/>
                <a:ext cx="22536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27600" y="51656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"/>
          <p:cNvGrpSpPr/>
          <p:nvPr/>
        </p:nvGrpSpPr>
        <p:grpSpPr>
          <a:xfrm>
            <a:off x="1795320" y="4718160"/>
            <a:ext cx="501840" cy="398880"/>
            <a:chOff x="1795320" y="4718160"/>
            <a:chExt cx="501840" cy="398880"/>
          </a:xfrm>
        </p:grpSpPr>
        <p:sp>
          <p:nvSpPr>
            <p:cNvPr id="1315" name=""/>
            <p:cNvSpPr/>
            <p:nvPr/>
          </p:nvSpPr>
          <p:spPr>
            <a:xfrm>
              <a:off x="1800360" y="4903560"/>
              <a:ext cx="496800" cy="1281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800360" y="4892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297160" y="489240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800360" y="4892400"/>
              <a:ext cx="4921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95320" y="4798800"/>
              <a:ext cx="4971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1883160" y="4718160"/>
              <a:ext cx="346680" cy="398880"/>
              <a:chOff x="1883160" y="4718160"/>
              <a:chExt cx="346680" cy="398880"/>
            </a:xfrm>
          </p:grpSpPr>
          <p:sp>
            <p:nvSpPr>
              <p:cNvPr id="1321" name=""/>
              <p:cNvSpPr/>
              <p:nvPr/>
            </p:nvSpPr>
            <p:spPr>
              <a:xfrm>
                <a:off x="1937160" y="481464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883160" y="47181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3" name=""/>
          <p:cNvSpPr/>
          <p:nvPr/>
        </p:nvSpPr>
        <p:spPr>
          <a:xfrm>
            <a:off x="83412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532880" y="461016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H="1" flipV="1">
            <a:off x="1547640" y="5023800"/>
            <a:ext cx="31464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909720" y="5014800"/>
            <a:ext cx="32364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629360" y="4470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669680" y="5018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98120" y="50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0960" y="5481360"/>
            <a:ext cx="0" cy="39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136160" y="5694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561600" y="5014800"/>
            <a:ext cx="4680" cy="33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87720" y="5308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081160" y="5047920"/>
            <a:ext cx="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921320" y="5413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flipV="1">
            <a:off x="1451880" y="498096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H="1">
            <a:off x="999360" y="499104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083960" y="48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426680" y="480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2685960" y="4319640"/>
            <a:ext cx="1944720" cy="1355760"/>
            <a:chOff x="2685960" y="4319640"/>
            <a:chExt cx="1944720" cy="1355760"/>
          </a:xfrm>
        </p:grpSpPr>
        <p:sp>
          <p:nvSpPr>
            <p:cNvPr id="1341" name=""/>
            <p:cNvSpPr/>
            <p:nvPr/>
          </p:nvSpPr>
          <p:spPr>
            <a:xfrm>
              <a:off x="2685960" y="4319640"/>
              <a:ext cx="1944720" cy="1355760"/>
            </a:xfrm>
            <a:custGeom>
              <a:avLst/>
              <a:gdLst/>
              <a:ahLst/>
              <a:rect l="l" t="t" r="r" b="b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85920" y="4658040"/>
              <a:ext cx="390600" cy="20952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3392280" y="4346640"/>
              <a:ext cx="501480" cy="398880"/>
              <a:chOff x="3392280" y="4346640"/>
              <a:chExt cx="501480" cy="398880"/>
            </a:xfrm>
          </p:grpSpPr>
          <p:sp>
            <p:nvSpPr>
              <p:cNvPr id="1344" name=""/>
              <p:cNvSpPr/>
              <p:nvPr/>
            </p:nvSpPr>
            <p:spPr>
              <a:xfrm>
                <a:off x="3396960" y="452736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396960" y="45162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893760" y="45162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396960" y="4516200"/>
                <a:ext cx="49212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392280" y="44226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9" name=""/>
              <p:cNvGrpSpPr/>
              <p:nvPr/>
            </p:nvGrpSpPr>
            <p:grpSpPr>
              <a:xfrm>
                <a:off x="3465360" y="4346640"/>
                <a:ext cx="343800" cy="398880"/>
                <a:chOff x="3465360" y="4346640"/>
                <a:chExt cx="343800" cy="3988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517920" y="444312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465360" y="434664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52" name=""/>
            <p:cNvGrpSpPr/>
            <p:nvPr/>
          </p:nvGrpSpPr>
          <p:grpSpPr>
            <a:xfrm>
              <a:off x="2744640" y="4751640"/>
              <a:ext cx="501480" cy="398880"/>
              <a:chOff x="2744640" y="4751640"/>
              <a:chExt cx="501480" cy="398880"/>
            </a:xfrm>
          </p:grpSpPr>
          <p:sp>
            <p:nvSpPr>
              <p:cNvPr id="1353" name=""/>
              <p:cNvSpPr/>
              <p:nvPr/>
            </p:nvSpPr>
            <p:spPr>
              <a:xfrm>
                <a:off x="2749320" y="49420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749320" y="4930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246120" y="4930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749320" y="49309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744640" y="4837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8" name=""/>
              <p:cNvGrpSpPr/>
              <p:nvPr/>
            </p:nvGrpSpPr>
            <p:grpSpPr>
              <a:xfrm>
                <a:off x="2830320" y="4751640"/>
                <a:ext cx="366480" cy="398880"/>
                <a:chOff x="2830320" y="4751640"/>
                <a:chExt cx="366480" cy="39888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2894400" y="484812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830320" y="47516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1" name=""/>
            <p:cNvGrpSpPr/>
            <p:nvPr/>
          </p:nvGrpSpPr>
          <p:grpSpPr>
            <a:xfrm>
              <a:off x="3379680" y="5213520"/>
              <a:ext cx="500040" cy="398880"/>
              <a:chOff x="3379680" y="5213520"/>
              <a:chExt cx="500040" cy="39888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379680" y="5292720"/>
                <a:ext cx="500040" cy="227880"/>
                <a:chOff x="3379680" y="5292720"/>
                <a:chExt cx="500040" cy="22788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379680" y="5392440"/>
                  <a:ext cx="49536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379680" y="53812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75040" y="538128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379680" y="5381280"/>
                  <a:ext cx="49068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384720" y="5292720"/>
                  <a:ext cx="4950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465720" y="5213520"/>
                <a:ext cx="342360" cy="398880"/>
                <a:chOff x="3465720" y="5213520"/>
                <a:chExt cx="342360" cy="3988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518640" y="531000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465720" y="521352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1" name=""/>
            <p:cNvGrpSpPr/>
            <p:nvPr/>
          </p:nvGrpSpPr>
          <p:grpSpPr>
            <a:xfrm>
              <a:off x="4033800" y="4765680"/>
              <a:ext cx="501480" cy="398880"/>
              <a:chOff x="4033800" y="4765680"/>
              <a:chExt cx="501480" cy="398880"/>
            </a:xfrm>
          </p:grpSpPr>
          <p:sp>
            <p:nvSpPr>
              <p:cNvPr id="1372" name=""/>
              <p:cNvSpPr/>
              <p:nvPr/>
            </p:nvSpPr>
            <p:spPr>
              <a:xfrm>
                <a:off x="4038480" y="4951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38480" y="4940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535280" y="4940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038480" y="4940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033800" y="4846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7" name=""/>
              <p:cNvGrpSpPr/>
              <p:nvPr/>
            </p:nvGrpSpPr>
            <p:grpSpPr>
              <a:xfrm>
                <a:off x="4121280" y="4765680"/>
                <a:ext cx="346680" cy="398880"/>
                <a:chOff x="4121280" y="4765680"/>
                <a:chExt cx="346680" cy="3988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4175280" y="4862520"/>
                  <a:ext cx="2250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4121280" y="476568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0" name=""/>
            <p:cNvSpPr/>
            <p:nvPr/>
          </p:nvSpPr>
          <p:spPr>
            <a:xfrm>
              <a:off x="2820600" y="4484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771720" y="4658040"/>
              <a:ext cx="338400" cy="2044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 flipV="1">
              <a:off x="3785400" y="5071680"/>
              <a:ext cx="31428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3147840" y="5062680"/>
              <a:ext cx="324000" cy="2476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96720" y="4518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08160" y="50659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036600" y="5089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3690720" y="5028480"/>
              <a:ext cx="31464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3238560" y="5038920"/>
              <a:ext cx="304560" cy="2188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240360" y="48610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664440" y="4851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4838760" y="432900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38720" y="466740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545080" y="4356000"/>
            <a:ext cx="501480" cy="398880"/>
            <a:chOff x="5545080" y="4356000"/>
            <a:chExt cx="501480" cy="398880"/>
          </a:xfrm>
        </p:grpSpPr>
        <p:sp>
          <p:nvSpPr>
            <p:cNvPr id="1394" name=""/>
            <p:cNvSpPr/>
            <p:nvPr/>
          </p:nvSpPr>
          <p:spPr>
            <a:xfrm>
              <a:off x="5549760" y="4536720"/>
              <a:ext cx="49680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49760" y="4525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046560" y="452556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49760" y="4525560"/>
              <a:ext cx="492120" cy="78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545080" y="44319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5618160" y="4356000"/>
              <a:ext cx="343800" cy="398880"/>
              <a:chOff x="5618160" y="4356000"/>
              <a:chExt cx="343800" cy="398880"/>
            </a:xfrm>
          </p:grpSpPr>
          <p:sp>
            <p:nvSpPr>
              <p:cNvPr id="1400" name=""/>
              <p:cNvSpPr/>
              <p:nvPr/>
            </p:nvSpPr>
            <p:spPr>
              <a:xfrm>
                <a:off x="5670720" y="44524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618160" y="43560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2" name=""/>
          <p:cNvGrpSpPr/>
          <p:nvPr/>
        </p:nvGrpSpPr>
        <p:grpSpPr>
          <a:xfrm>
            <a:off x="4897440" y="4761000"/>
            <a:ext cx="501480" cy="398880"/>
            <a:chOff x="4897440" y="4761000"/>
            <a:chExt cx="501480" cy="398880"/>
          </a:xfrm>
        </p:grpSpPr>
        <p:sp>
          <p:nvSpPr>
            <p:cNvPr id="1403" name=""/>
            <p:cNvSpPr/>
            <p:nvPr/>
          </p:nvSpPr>
          <p:spPr>
            <a:xfrm>
              <a:off x="4902120" y="49514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02120" y="4940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98920" y="494028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02120" y="49402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897440" y="484668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4983120" y="4761000"/>
              <a:ext cx="366480" cy="398880"/>
              <a:chOff x="4983120" y="4761000"/>
              <a:chExt cx="366480" cy="398880"/>
            </a:xfrm>
          </p:grpSpPr>
          <p:sp>
            <p:nvSpPr>
              <p:cNvPr id="1409" name=""/>
              <p:cNvSpPr/>
              <p:nvPr/>
            </p:nvSpPr>
            <p:spPr>
              <a:xfrm>
                <a:off x="5047200" y="48574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983120" y="47610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1" name=""/>
          <p:cNvGrpSpPr/>
          <p:nvPr/>
        </p:nvGrpSpPr>
        <p:grpSpPr>
          <a:xfrm>
            <a:off x="5532480" y="5222880"/>
            <a:ext cx="500040" cy="398880"/>
            <a:chOff x="5532480" y="5222880"/>
            <a:chExt cx="500040" cy="398880"/>
          </a:xfrm>
        </p:grpSpPr>
        <p:grpSp>
          <p:nvGrpSpPr>
            <p:cNvPr id="1412" name=""/>
            <p:cNvGrpSpPr/>
            <p:nvPr/>
          </p:nvGrpSpPr>
          <p:grpSpPr>
            <a:xfrm>
              <a:off x="5532480" y="5302080"/>
              <a:ext cx="500040" cy="227880"/>
              <a:chOff x="5532480" y="5302080"/>
              <a:chExt cx="500040" cy="227880"/>
            </a:xfrm>
          </p:grpSpPr>
          <p:sp>
            <p:nvSpPr>
              <p:cNvPr id="1413" name=""/>
              <p:cNvSpPr/>
              <p:nvPr/>
            </p:nvSpPr>
            <p:spPr>
              <a:xfrm>
                <a:off x="5532480" y="5401800"/>
                <a:ext cx="495360" cy="128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532480" y="539064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027840" y="5390640"/>
                <a:ext cx="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532480" y="5390640"/>
                <a:ext cx="49068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537520" y="5302080"/>
                <a:ext cx="4950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5618520" y="5222880"/>
              <a:ext cx="342360" cy="398880"/>
              <a:chOff x="5618520" y="5222880"/>
              <a:chExt cx="342360" cy="398880"/>
            </a:xfrm>
          </p:grpSpPr>
          <p:sp>
            <p:nvSpPr>
              <p:cNvPr id="1419" name=""/>
              <p:cNvSpPr/>
              <p:nvPr/>
            </p:nvSpPr>
            <p:spPr>
              <a:xfrm>
                <a:off x="5671440" y="531936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18520" y="52228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1" name=""/>
          <p:cNvGrpSpPr/>
          <p:nvPr/>
        </p:nvGrpSpPr>
        <p:grpSpPr>
          <a:xfrm>
            <a:off x="6186600" y="4775040"/>
            <a:ext cx="501480" cy="398880"/>
            <a:chOff x="6186600" y="4775040"/>
            <a:chExt cx="501480" cy="398880"/>
          </a:xfrm>
        </p:grpSpPr>
        <p:sp>
          <p:nvSpPr>
            <p:cNvPr id="1422" name=""/>
            <p:cNvSpPr/>
            <p:nvPr/>
          </p:nvSpPr>
          <p:spPr>
            <a:xfrm>
              <a:off x="6191280" y="4960800"/>
              <a:ext cx="49644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91280" y="49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88080" y="4949640"/>
              <a:ext cx="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91280" y="4949640"/>
              <a:ext cx="49176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186600" y="485604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6274080" y="4775040"/>
              <a:ext cx="346680" cy="398880"/>
              <a:chOff x="6274080" y="4775040"/>
              <a:chExt cx="346680" cy="398880"/>
            </a:xfrm>
          </p:grpSpPr>
          <p:sp>
            <p:nvSpPr>
              <p:cNvPr id="1428" name=""/>
              <p:cNvSpPr/>
              <p:nvPr/>
            </p:nvSpPr>
            <p:spPr>
              <a:xfrm>
                <a:off x="6328080" y="4871880"/>
                <a:ext cx="22500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274080" y="47750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0" name=""/>
          <p:cNvSpPr/>
          <p:nvPr/>
        </p:nvSpPr>
        <p:spPr>
          <a:xfrm>
            <a:off x="5103360" y="449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5923800" y="4667400"/>
            <a:ext cx="338040" cy="2044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 flipV="1">
            <a:off x="5938200" y="50810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300640" y="507204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021000" y="45277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931360" y="511344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188320" y="509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H="1" flipV="1">
            <a:off x="5842800" y="50378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H="1">
            <a:off x="5390280" y="5048280"/>
            <a:ext cx="304920" cy="2188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22400" y="487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17960" y="486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1" name=""/>
          <p:cNvGrpSpPr/>
          <p:nvPr/>
        </p:nvGrpSpPr>
        <p:grpSpPr>
          <a:xfrm>
            <a:off x="6934320" y="4348080"/>
            <a:ext cx="1944720" cy="1355760"/>
            <a:chOff x="6934320" y="4348080"/>
            <a:chExt cx="1944720" cy="1355760"/>
          </a:xfrm>
        </p:grpSpPr>
        <p:sp>
          <p:nvSpPr>
            <p:cNvPr id="1442" name=""/>
            <p:cNvSpPr/>
            <p:nvPr/>
          </p:nvSpPr>
          <p:spPr>
            <a:xfrm>
              <a:off x="6934320" y="4348080"/>
              <a:ext cx="1944720" cy="1355760"/>
            </a:xfrm>
            <a:custGeom>
              <a:avLst/>
              <a:gdLst/>
              <a:ahLst/>
              <a:rect l="l" t="t" r="r" b="b"/>
              <a:pathLst>
                <a:path w="1225" h="854">
                  <a:moveTo>
                    <a:pt x="0" y="387"/>
                  </a:moveTo>
                  <a:cubicBezTo>
                    <a:pt x="0" y="243"/>
                    <a:pt x="87" y="223"/>
                    <a:pt x="168" y="162"/>
                  </a:cubicBezTo>
                  <a:cubicBezTo>
                    <a:pt x="249" y="101"/>
                    <a:pt x="377" y="40"/>
                    <a:pt x="486" y="18"/>
                  </a:cubicBezTo>
                  <a:cubicBezTo>
                    <a:pt x="615" y="6"/>
                    <a:pt x="684" y="0"/>
                    <a:pt x="822" y="30"/>
                  </a:cubicBezTo>
                  <a:cubicBezTo>
                    <a:pt x="960" y="60"/>
                    <a:pt x="1099" y="169"/>
                    <a:pt x="1152" y="267"/>
                  </a:cubicBezTo>
                  <a:cubicBezTo>
                    <a:pt x="1213" y="351"/>
                    <a:pt x="1225" y="452"/>
                    <a:pt x="1188" y="537"/>
                  </a:cubicBezTo>
                  <a:cubicBezTo>
                    <a:pt x="1151" y="622"/>
                    <a:pt x="1050" y="730"/>
                    <a:pt x="927" y="780"/>
                  </a:cubicBezTo>
                  <a:cubicBezTo>
                    <a:pt x="804" y="830"/>
                    <a:pt x="572" y="854"/>
                    <a:pt x="447" y="837"/>
                  </a:cubicBezTo>
                  <a:cubicBezTo>
                    <a:pt x="322" y="820"/>
                    <a:pt x="251" y="750"/>
                    <a:pt x="177" y="675"/>
                  </a:cubicBezTo>
                  <a:cubicBezTo>
                    <a:pt x="103" y="600"/>
                    <a:pt x="0" y="531"/>
                    <a:pt x="0" y="387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334280" y="4686480"/>
              <a:ext cx="390600" cy="20952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4" name=""/>
            <p:cNvGrpSpPr/>
            <p:nvPr/>
          </p:nvGrpSpPr>
          <p:grpSpPr>
            <a:xfrm>
              <a:off x="7640640" y="4375080"/>
              <a:ext cx="501480" cy="398880"/>
              <a:chOff x="7640640" y="4375080"/>
              <a:chExt cx="501480" cy="398880"/>
            </a:xfrm>
          </p:grpSpPr>
          <p:sp>
            <p:nvSpPr>
              <p:cNvPr id="1445" name=""/>
              <p:cNvSpPr/>
              <p:nvPr/>
            </p:nvSpPr>
            <p:spPr>
              <a:xfrm>
                <a:off x="7645320" y="4555800"/>
                <a:ext cx="496800" cy="1288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45320" y="4544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142120" y="45446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45320" y="4544640"/>
                <a:ext cx="492120" cy="78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40640" y="44510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0" name=""/>
              <p:cNvGrpSpPr/>
              <p:nvPr/>
            </p:nvGrpSpPr>
            <p:grpSpPr>
              <a:xfrm>
                <a:off x="7713720" y="4375080"/>
                <a:ext cx="343800" cy="398880"/>
                <a:chOff x="7713720" y="4375080"/>
                <a:chExt cx="343800" cy="39888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7766280" y="447156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713720" y="4375080"/>
                  <a:ext cx="343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3" name=""/>
            <p:cNvGrpSpPr/>
            <p:nvPr/>
          </p:nvGrpSpPr>
          <p:grpSpPr>
            <a:xfrm>
              <a:off x="6993000" y="4780080"/>
              <a:ext cx="501480" cy="398880"/>
              <a:chOff x="6993000" y="4780080"/>
              <a:chExt cx="501480" cy="398880"/>
            </a:xfrm>
          </p:grpSpPr>
          <p:sp>
            <p:nvSpPr>
              <p:cNvPr id="1454" name=""/>
              <p:cNvSpPr/>
              <p:nvPr/>
            </p:nvSpPr>
            <p:spPr>
              <a:xfrm>
                <a:off x="6997680" y="4970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97680" y="4959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494480" y="49593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997680" y="4959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993000" y="486576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7078680" y="4780080"/>
                <a:ext cx="366480" cy="398880"/>
                <a:chOff x="7078680" y="4780080"/>
                <a:chExt cx="366480" cy="39888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7142760" y="4876560"/>
                  <a:ext cx="22572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078680" y="478008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2" name=""/>
            <p:cNvGrpSpPr/>
            <p:nvPr/>
          </p:nvGrpSpPr>
          <p:grpSpPr>
            <a:xfrm>
              <a:off x="7628040" y="5241960"/>
              <a:ext cx="500040" cy="398880"/>
              <a:chOff x="7628040" y="5241960"/>
              <a:chExt cx="500040" cy="398880"/>
            </a:xfrm>
          </p:grpSpPr>
          <p:grpSp>
            <p:nvGrpSpPr>
              <p:cNvPr id="1463" name=""/>
              <p:cNvGrpSpPr/>
              <p:nvPr/>
            </p:nvGrpSpPr>
            <p:grpSpPr>
              <a:xfrm>
                <a:off x="7628040" y="5321160"/>
                <a:ext cx="500040" cy="227880"/>
                <a:chOff x="7628040" y="5321160"/>
                <a:chExt cx="500040" cy="22788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7628040" y="5420880"/>
                  <a:ext cx="495360" cy="1281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628040" y="540972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8123400" y="5409720"/>
                  <a:ext cx="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628040" y="5409720"/>
                  <a:ext cx="490680" cy="7740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600" bIns="30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633080" y="5321160"/>
                  <a:ext cx="495000" cy="15048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7714080" y="5241960"/>
                <a:ext cx="342360" cy="398880"/>
                <a:chOff x="7714080" y="5241960"/>
                <a:chExt cx="342360" cy="39888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7767000" y="533844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714080" y="5241960"/>
                  <a:ext cx="342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2" name=""/>
            <p:cNvGrpSpPr/>
            <p:nvPr/>
          </p:nvGrpSpPr>
          <p:grpSpPr>
            <a:xfrm>
              <a:off x="8282160" y="4794120"/>
              <a:ext cx="501480" cy="398880"/>
              <a:chOff x="8282160" y="4794120"/>
              <a:chExt cx="501480" cy="398880"/>
            </a:xfrm>
          </p:grpSpPr>
          <p:sp>
            <p:nvSpPr>
              <p:cNvPr id="1473" name=""/>
              <p:cNvSpPr/>
              <p:nvPr/>
            </p:nvSpPr>
            <p:spPr>
              <a:xfrm>
                <a:off x="8286840" y="49798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286840" y="4968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783640" y="49687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286840" y="49687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282160" y="48751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8369640" y="4794120"/>
                <a:ext cx="346680" cy="398880"/>
                <a:chOff x="8369640" y="4794120"/>
                <a:chExt cx="346680" cy="39888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8423640" y="4890960"/>
                  <a:ext cx="225000" cy="2095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8369640" y="4794120"/>
                  <a:ext cx="34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1" name=""/>
            <p:cNvSpPr/>
            <p:nvPr/>
          </p:nvSpPr>
          <p:spPr>
            <a:xfrm>
              <a:off x="7068960" y="45133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8020080" y="4686480"/>
              <a:ext cx="338400" cy="2044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 flipV="1">
              <a:off x="8033760" y="5100120"/>
              <a:ext cx="31428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7396200" y="5091120"/>
              <a:ext cx="324000" cy="2476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245080" y="4546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156520" y="50943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284960" y="51181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 flipV="1">
              <a:off x="7939080" y="5056920"/>
              <a:ext cx="314640" cy="2286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7486920" y="5067360"/>
              <a:ext cx="304560" cy="21888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88720" y="488952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+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912800" y="4880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919440" y="5961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it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845800" y="579924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865400" y="58086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855840" y="578952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363852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2971800" y="50814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4305240" y="508644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513864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580068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646272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7248600" y="511020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7900920" y="555768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8553600" y="511956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188-EB89-4F03-8035-CCDFA4ABD5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 Algorith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61600" y="1361880"/>
            <a:ext cx="3305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s until no nodes exchange inf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elf-terminat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no “signal” to st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ynchrono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des need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change info/iterate in lock ste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communicate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directly-attached neighbo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191120" y="1571760"/>
            <a:ext cx="450504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ance Table data struc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has its ow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w for each possible dest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umn for each directly-attached neighbor to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: in node X, for dest. Y via neighbor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4288320" y="4535640"/>
            <a:ext cx="4285080" cy="1365120"/>
            <a:chOff x="4288320" y="4535640"/>
            <a:chExt cx="4285080" cy="1365120"/>
          </a:xfrm>
        </p:grpSpPr>
        <p:grpSp>
          <p:nvGrpSpPr>
            <p:cNvPr id="1509" name=""/>
            <p:cNvGrpSpPr/>
            <p:nvPr/>
          </p:nvGrpSpPr>
          <p:grpSpPr>
            <a:xfrm>
              <a:off x="4288320" y="4792680"/>
              <a:ext cx="1163880" cy="650160"/>
              <a:chOff x="4288320" y="4792680"/>
              <a:chExt cx="1163880" cy="650160"/>
            </a:xfrm>
          </p:grpSpPr>
          <p:sp>
            <p:nvSpPr>
              <p:cNvPr id="1510" name=""/>
              <p:cNvSpPr/>
              <p:nvPr/>
            </p:nvSpPr>
            <p:spPr>
              <a:xfrm>
                <a:off x="4288320" y="4983120"/>
                <a:ext cx="116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Y,Z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491360" y="4792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5800680" y="4535640"/>
              <a:ext cx="242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stanc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fro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vi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Z as next h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769720" y="5354640"/>
              <a:ext cx="28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X,Z) + min  {D  (Y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575120" y="5227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147080" y="5532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78840" y="47451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69480" y="5392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4257720" y="4438800"/>
            <a:ext cx="4438440" cy="159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4F8-E182-4E06-B45B-087323DEF8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: examp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971640" y="1542960"/>
            <a:ext cx="2789280" cy="1842840"/>
            <a:chOff x="971640" y="1542960"/>
            <a:chExt cx="2789280" cy="1842840"/>
          </a:xfrm>
        </p:grpSpPr>
        <p:sp>
          <p:nvSpPr>
            <p:cNvPr id="1521" name=""/>
            <p:cNvSpPr/>
            <p:nvPr/>
          </p:nvSpPr>
          <p:spPr>
            <a:xfrm>
              <a:off x="971640" y="1542960"/>
              <a:ext cx="2789280" cy="1825560"/>
            </a:xfrm>
            <a:custGeom>
              <a:avLst/>
              <a:gdLst/>
              <a:ahLst/>
              <a:rect l="l" t="t" r="r" b="b"/>
              <a:pathLst>
                <a:path w="1757" h="1150">
                  <a:moveTo>
                    <a:pt x="108" y="402"/>
                  </a:moveTo>
                  <a:cubicBezTo>
                    <a:pt x="161" y="324"/>
                    <a:pt x="275" y="278"/>
                    <a:pt x="390" y="216"/>
                  </a:cubicBezTo>
                  <a:cubicBezTo>
                    <a:pt x="505" y="154"/>
                    <a:pt x="642" y="54"/>
                    <a:pt x="801" y="27"/>
                  </a:cubicBezTo>
                  <a:cubicBezTo>
                    <a:pt x="960" y="0"/>
                    <a:pt x="1208" y="35"/>
                    <a:pt x="1341" y="54"/>
                  </a:cubicBezTo>
                  <a:cubicBezTo>
                    <a:pt x="1474" y="73"/>
                    <a:pt x="1548" y="68"/>
                    <a:pt x="1602" y="141"/>
                  </a:cubicBezTo>
                  <a:cubicBezTo>
                    <a:pt x="1656" y="214"/>
                    <a:pt x="1658" y="339"/>
                    <a:pt x="1665" y="489"/>
                  </a:cubicBezTo>
                  <a:cubicBezTo>
                    <a:pt x="1672" y="639"/>
                    <a:pt x="1757" y="938"/>
                    <a:pt x="1644" y="1044"/>
                  </a:cubicBezTo>
                  <a:cubicBezTo>
                    <a:pt x="1531" y="1150"/>
                    <a:pt x="1168" y="1121"/>
                    <a:pt x="984" y="1125"/>
                  </a:cubicBezTo>
                  <a:cubicBezTo>
                    <a:pt x="800" y="1129"/>
                    <a:pt x="692" y="1141"/>
                    <a:pt x="540" y="1068"/>
                  </a:cubicBezTo>
                  <a:cubicBezTo>
                    <a:pt x="388" y="995"/>
                    <a:pt x="144" y="795"/>
                    <a:pt x="72" y="684"/>
                  </a:cubicBezTo>
                  <a:cubicBezTo>
                    <a:pt x="0" y="573"/>
                    <a:pt x="55" y="480"/>
                    <a:pt x="108" y="40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533600" y="2038320"/>
              <a:ext cx="542880" cy="295200"/>
            </a:xfrm>
            <a:custGeom>
              <a:avLst/>
              <a:gdLst/>
              <a:ahLst/>
              <a:rect l="l" t="t" r="r" b="b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121040" y="242244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21040" y="241128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17840" y="2411280"/>
              <a:ext cx="14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121040" y="241128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116000" y="2317680"/>
              <a:ext cx="4971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866960" y="194148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866960" y="1930320"/>
              <a:ext cx="1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63760" y="1930320"/>
              <a:ext cx="180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866960" y="193032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862280" y="1836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51280" y="1935000"/>
              <a:ext cx="49536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51280" y="19238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446640" y="192384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51280" y="1923840"/>
              <a:ext cx="49068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55960" y="1834920"/>
              <a:ext cx="49536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214800" y="2081160"/>
              <a:ext cx="74520" cy="861840"/>
            </a:xfrm>
            <a:custGeom>
              <a:avLst/>
              <a:gdLst/>
              <a:ahLst/>
              <a:rect l="l" t="t" r="r" b="b"/>
              <a:pathLst>
                <a:path w="1" h="522">
                  <a:moveTo>
                    <a:pt x="0" y="0"/>
                  </a:moveTo>
                  <a:lnTo>
                    <a:pt x="0" y="5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14640" y="2090520"/>
              <a:ext cx="1800" cy="852480"/>
            </a:xfrm>
            <a:custGeom>
              <a:avLst/>
              <a:gdLst/>
              <a:ahLst/>
              <a:rect l="l" t="t" r="r" b="b"/>
              <a:pathLst>
                <a:path w="1" h="537">
                  <a:moveTo>
                    <a:pt x="0" y="0"/>
                  </a:moveTo>
                  <a:lnTo>
                    <a:pt x="0" y="5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386080" y="306684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47920" y="2552400"/>
              <a:ext cx="438120" cy="419400"/>
            </a:xfrm>
            <a:custGeom>
              <a:avLst/>
              <a:gdLst/>
              <a:ahLst/>
              <a:rect l="l" t="t" r="r" b="b"/>
              <a:pathLst>
                <a:path w="276" h="264">
                  <a:moveTo>
                    <a:pt x="276" y="264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376720" y="1971360"/>
              <a:ext cx="581040" cy="1800"/>
            </a:xfrm>
            <a:custGeom>
              <a:avLst/>
              <a:gdLst/>
              <a:ahLst/>
              <a:rect l="l" t="t" r="r" b="b"/>
              <a:pathLst>
                <a:path w="366" h="1">
                  <a:moveTo>
                    <a:pt x="36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"/>
            <p:cNvGrpSpPr/>
            <p:nvPr/>
          </p:nvGrpSpPr>
          <p:grpSpPr>
            <a:xfrm>
              <a:off x="1189440" y="2241360"/>
              <a:ext cx="343800" cy="398880"/>
              <a:chOff x="1189440" y="2241360"/>
              <a:chExt cx="343800" cy="398880"/>
            </a:xfrm>
          </p:grpSpPr>
          <p:sp>
            <p:nvSpPr>
              <p:cNvPr id="1544" name=""/>
              <p:cNvSpPr/>
              <p:nvPr/>
            </p:nvSpPr>
            <p:spPr>
              <a:xfrm>
                <a:off x="1242000" y="2338200"/>
                <a:ext cx="225720" cy="209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189440" y="224136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1876680" y="2832120"/>
              <a:ext cx="501480" cy="398880"/>
              <a:chOff x="1876680" y="2832120"/>
              <a:chExt cx="501480" cy="398880"/>
            </a:xfrm>
          </p:grpSpPr>
          <p:sp>
            <p:nvSpPr>
              <p:cNvPr id="1547" name=""/>
              <p:cNvSpPr/>
              <p:nvPr/>
            </p:nvSpPr>
            <p:spPr>
              <a:xfrm>
                <a:off x="1881360" y="3013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8813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378160" y="30020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881360" y="3002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876680" y="29080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2" name=""/>
              <p:cNvGrpSpPr/>
              <p:nvPr/>
            </p:nvGrpSpPr>
            <p:grpSpPr>
              <a:xfrm>
                <a:off x="1971000" y="2832120"/>
                <a:ext cx="322560" cy="398880"/>
                <a:chOff x="1971000" y="2832120"/>
                <a:chExt cx="322560" cy="39888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2013840" y="2928600"/>
                  <a:ext cx="22500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1971000" y="283212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5" name=""/>
            <p:cNvGrpSpPr/>
            <p:nvPr/>
          </p:nvGrpSpPr>
          <p:grpSpPr>
            <a:xfrm>
              <a:off x="2973600" y="2865240"/>
              <a:ext cx="501480" cy="398880"/>
              <a:chOff x="2973600" y="2865240"/>
              <a:chExt cx="501480" cy="398880"/>
            </a:xfrm>
          </p:grpSpPr>
          <p:sp>
            <p:nvSpPr>
              <p:cNvPr id="1556" name=""/>
              <p:cNvSpPr/>
              <p:nvPr/>
            </p:nvSpPr>
            <p:spPr>
              <a:xfrm>
                <a:off x="2978280" y="305568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9782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475080" y="304452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978280" y="304452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973600" y="29509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"/>
              <p:cNvGrpSpPr/>
              <p:nvPr/>
            </p:nvGrpSpPr>
            <p:grpSpPr>
              <a:xfrm>
                <a:off x="3059280" y="2865240"/>
                <a:ext cx="366480" cy="398880"/>
                <a:chOff x="3059280" y="2865240"/>
                <a:chExt cx="366480" cy="39888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3123360" y="296172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3059280" y="2865240"/>
                  <a:ext cx="366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4" name=""/>
            <p:cNvGrpSpPr/>
            <p:nvPr/>
          </p:nvGrpSpPr>
          <p:grpSpPr>
            <a:xfrm>
              <a:off x="3037320" y="1755720"/>
              <a:ext cx="342360" cy="398880"/>
              <a:chOff x="3037320" y="1755720"/>
              <a:chExt cx="342360" cy="398880"/>
            </a:xfrm>
          </p:grpSpPr>
          <p:sp>
            <p:nvSpPr>
              <p:cNvPr id="1565" name=""/>
              <p:cNvSpPr/>
              <p:nvPr/>
            </p:nvSpPr>
            <p:spPr>
              <a:xfrm>
                <a:off x="3090240" y="185220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037320" y="17557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1950120" y="1755720"/>
              <a:ext cx="346680" cy="398880"/>
              <a:chOff x="1950120" y="1755720"/>
              <a:chExt cx="346680" cy="398880"/>
            </a:xfrm>
          </p:grpSpPr>
          <p:sp>
            <p:nvSpPr>
              <p:cNvPr id="1568" name=""/>
              <p:cNvSpPr/>
              <p:nvPr/>
            </p:nvSpPr>
            <p:spPr>
              <a:xfrm>
                <a:off x="2004120" y="1852200"/>
                <a:ext cx="22536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950120" y="175572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1525320" y="1960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077920" y="23079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86720" y="2646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587320" y="3017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520000" y="1665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34960" y="2298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489640" y="1589040"/>
            <a:ext cx="3001680" cy="3687840"/>
            <a:chOff x="5489640" y="1589040"/>
            <a:chExt cx="3001680" cy="3687840"/>
          </a:xfrm>
        </p:grpSpPr>
        <p:sp>
          <p:nvSpPr>
            <p:cNvPr id="1577" name=""/>
            <p:cNvSpPr/>
            <p:nvPr/>
          </p:nvSpPr>
          <p:spPr>
            <a:xfrm>
              <a:off x="5565960" y="185904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508800" y="186840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96680" y="187812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882200" y="188748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771880" y="240984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38600" y="206712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86480" y="261936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858080" y="33721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877160" y="409572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877160" y="482940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78360" y="1741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16040" y="158904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6233000">
              <a:off x="5038560" y="38379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589320" y="3525840"/>
            <a:ext cx="4303440" cy="1008360"/>
            <a:chOff x="589320" y="3525840"/>
            <a:chExt cx="4303440" cy="1008360"/>
          </a:xfrm>
        </p:grpSpPr>
        <p:grpSp>
          <p:nvGrpSpPr>
            <p:cNvPr id="1591" name=""/>
            <p:cNvGrpSpPr/>
            <p:nvPr/>
          </p:nvGrpSpPr>
          <p:grpSpPr>
            <a:xfrm>
              <a:off x="589320" y="3525840"/>
              <a:ext cx="1213920" cy="659880"/>
              <a:chOff x="589320" y="3525840"/>
              <a:chExt cx="1213920" cy="659880"/>
            </a:xfrm>
          </p:grpSpPr>
          <p:sp>
            <p:nvSpPr>
              <p:cNvPr id="1592" name=""/>
              <p:cNvSpPr/>
              <p:nvPr/>
            </p:nvSpPr>
            <p:spPr>
              <a:xfrm>
                <a:off x="589320" y="372600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86240" y="352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045160" y="375444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880080" y="361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422880" y="393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745280" y="3792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74528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39040" y="413532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606240" y="4392720"/>
            <a:ext cx="4281120" cy="1008000"/>
            <a:chOff x="606240" y="4392720"/>
            <a:chExt cx="4281120" cy="1008000"/>
          </a:xfrm>
        </p:grpSpPr>
        <p:grpSp>
          <p:nvGrpSpPr>
            <p:cNvPr id="1601" name=""/>
            <p:cNvGrpSpPr/>
            <p:nvPr/>
          </p:nvGrpSpPr>
          <p:grpSpPr>
            <a:xfrm>
              <a:off x="606240" y="4392720"/>
              <a:ext cx="1197360" cy="659520"/>
              <a:chOff x="606240" y="4392720"/>
              <a:chExt cx="1197360" cy="659520"/>
            </a:xfrm>
          </p:grpSpPr>
          <p:sp>
            <p:nvSpPr>
              <p:cNvPr id="1602" name=""/>
              <p:cNvSpPr/>
              <p:nvPr/>
            </p:nvSpPr>
            <p:spPr>
              <a:xfrm>
                <a:off x="606240" y="4592520"/>
                <a:ext cx="119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A,D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5600" y="43927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>
              <a:off x="2054880" y="4620960"/>
              <a:ext cx="283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D) + min  {D  (A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89440" y="4484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432240" y="4798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754640" y="46591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754640" y="4992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048400" y="50018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+3  =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623520" y="5278320"/>
            <a:ext cx="4258800" cy="1008360"/>
            <a:chOff x="623520" y="5278320"/>
            <a:chExt cx="4258800" cy="1008360"/>
          </a:xfrm>
        </p:grpSpPr>
        <p:grpSp>
          <p:nvGrpSpPr>
            <p:cNvPr id="1611" name=""/>
            <p:cNvGrpSpPr/>
            <p:nvPr/>
          </p:nvGrpSpPr>
          <p:grpSpPr>
            <a:xfrm>
              <a:off x="623520" y="5278320"/>
              <a:ext cx="1180440" cy="659880"/>
              <a:chOff x="623520" y="5278320"/>
              <a:chExt cx="1180440" cy="659880"/>
            </a:xfrm>
          </p:grpSpPr>
          <p:sp>
            <p:nvSpPr>
              <p:cNvPr id="1612" name=""/>
              <p:cNvSpPr/>
              <p:nvPr/>
            </p:nvSpPr>
            <p:spPr>
              <a:xfrm>
                <a:off x="623520" y="54784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 (A,B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05320" y="527832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2064960" y="5506920"/>
              <a:ext cx="281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(E,B) + min  {D  (A,w)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99160" y="5370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441960" y="5684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764360" y="55450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764360" y="5878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57760" y="588780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+6  = 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3088800" y="51274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o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31720" y="6070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oo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717-DE3B-4277-A9E6-3381D97AD0D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Distance table gives routing tabl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623" name="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1624" name="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6233000">
              <a:off x="438120" y="37522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7" name="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16233000">
            <a:off x="4295880" y="3790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C4C-3529-41B6-AD36-898FE4E3CF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 Routing: overview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erative, asynchronous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local iteration caused by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cal link cost chan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ssage from neighbor: its least cost path change from neighb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stribute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node notifies neighbors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en its least cost path to any destination chan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ighbors then notify their neighbors if necessa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1649" name="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for (change in local link cost of msg from neighb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/>
              <a:ahLst/>
              <a:rect l="l" t="t" r="r" b="b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3" name="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E99-C2A1-4094-80C3-82D8077E3B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stance Vector: link cost chang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55" name=""/>
          <p:cNvSpPr/>
          <p:nvPr/>
        </p:nvSpPr>
        <p:spPr>
          <a:xfrm>
            <a:off x="961920" y="1514520"/>
            <a:ext cx="38102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nk cost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od news travels f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d news travels slow - “count to infinity”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754600" y="1708200"/>
            <a:ext cx="2184480" cy="1314360"/>
            <a:chOff x="5754600" y="1708200"/>
            <a:chExt cx="2184480" cy="1314360"/>
          </a:xfrm>
        </p:grpSpPr>
        <p:sp>
          <p:nvSpPr>
            <p:cNvPr id="1657" name=""/>
            <p:cNvSpPr/>
            <p:nvPr/>
          </p:nvSpPr>
          <p:spPr>
            <a:xfrm>
              <a:off x="5754600" y="1809720"/>
              <a:ext cx="2184480" cy="1212840"/>
            </a:xfrm>
            <a:custGeom>
              <a:avLst/>
              <a:gdLst/>
              <a:ahLst/>
              <a:rect l="l" t="t" r="r" b="b"/>
              <a:pathLst>
                <a:path w="1376" h="764">
                  <a:moveTo>
                    <a:pt x="113" y="348"/>
                  </a:moveTo>
                  <a:cubicBezTo>
                    <a:pt x="166" y="270"/>
                    <a:pt x="296" y="218"/>
                    <a:pt x="395" y="162"/>
                  </a:cubicBezTo>
                  <a:cubicBezTo>
                    <a:pt x="494" y="106"/>
                    <a:pt x="583" y="0"/>
                    <a:pt x="710" y="9"/>
                  </a:cubicBezTo>
                  <a:cubicBezTo>
                    <a:pt x="837" y="18"/>
                    <a:pt x="1051" y="136"/>
                    <a:pt x="1160" y="219"/>
                  </a:cubicBezTo>
                  <a:cubicBezTo>
                    <a:pt x="1269" y="302"/>
                    <a:pt x="1376" y="426"/>
                    <a:pt x="1367" y="510"/>
                  </a:cubicBezTo>
                  <a:cubicBezTo>
                    <a:pt x="1358" y="594"/>
                    <a:pt x="1234" y="688"/>
                    <a:pt x="1103" y="726"/>
                  </a:cubicBezTo>
                  <a:cubicBezTo>
                    <a:pt x="972" y="764"/>
                    <a:pt x="749" y="754"/>
                    <a:pt x="578" y="738"/>
                  </a:cubicBezTo>
                  <a:cubicBezTo>
                    <a:pt x="407" y="722"/>
                    <a:pt x="154" y="695"/>
                    <a:pt x="77" y="630"/>
                  </a:cubicBezTo>
                  <a:cubicBezTo>
                    <a:pt x="0" y="565"/>
                    <a:pt x="60" y="426"/>
                    <a:pt x="113" y="348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324480" y="2229120"/>
              <a:ext cx="352440" cy="285480"/>
            </a:xfrm>
            <a:custGeom>
              <a:avLst/>
              <a:gdLst/>
              <a:ahLst/>
              <a:rect l="l" t="t" r="r" b="b"/>
              <a:pathLst>
                <a:path w="222" h="180">
                  <a:moveTo>
                    <a:pt x="0" y="180"/>
                  </a:moveTo>
                  <a:lnTo>
                    <a:pt x="2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911920" y="2603520"/>
              <a:ext cx="496800" cy="128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911920" y="259236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408720" y="2592360"/>
              <a:ext cx="14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911920" y="2592360"/>
              <a:ext cx="492120" cy="77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907240" y="249876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67440" y="2229120"/>
              <a:ext cx="343080" cy="299880"/>
            </a:xfrm>
            <a:custGeom>
              <a:avLst/>
              <a:gdLst/>
              <a:ahLst/>
              <a:rect l="l" t="t" r="r" b="b"/>
              <a:pathLst>
                <a:path w="216" h="189">
                  <a:moveTo>
                    <a:pt x="0" y="0"/>
                  </a:moveTo>
                  <a:lnTo>
                    <a:pt x="216" y="1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415200" y="2648160"/>
              <a:ext cx="857160" cy="4680"/>
            </a:xfrm>
            <a:custGeom>
              <a:avLst/>
              <a:gdLst/>
              <a:ahLst/>
              <a:rect l="l" t="t" r="r" b="b"/>
              <a:pathLst>
                <a:path w="540" h="3">
                  <a:moveTo>
                    <a:pt x="540" y="3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5986440" y="2422800"/>
              <a:ext cx="330120" cy="398880"/>
              <a:chOff x="5986440" y="2422800"/>
              <a:chExt cx="330120" cy="398880"/>
            </a:xfrm>
          </p:grpSpPr>
          <p:sp>
            <p:nvSpPr>
              <p:cNvPr id="1667" name=""/>
              <p:cNvSpPr/>
              <p:nvPr/>
            </p:nvSpPr>
            <p:spPr>
              <a:xfrm>
                <a:off x="6032880" y="2519280"/>
                <a:ext cx="225720" cy="209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986440" y="2422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9" name=""/>
            <p:cNvGrpSpPr/>
            <p:nvPr/>
          </p:nvGrpSpPr>
          <p:grpSpPr>
            <a:xfrm>
              <a:off x="7248600" y="2441520"/>
              <a:ext cx="501480" cy="398880"/>
              <a:chOff x="7248600" y="2441520"/>
              <a:chExt cx="501480" cy="398880"/>
            </a:xfrm>
          </p:grpSpPr>
          <p:sp>
            <p:nvSpPr>
              <p:cNvPr id="1670" name=""/>
              <p:cNvSpPr/>
              <p:nvPr/>
            </p:nvSpPr>
            <p:spPr>
              <a:xfrm>
                <a:off x="7253280" y="26226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253280" y="26114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080" y="261144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253280" y="26114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248600" y="25174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5" name=""/>
              <p:cNvGrpSpPr/>
              <p:nvPr/>
            </p:nvGrpSpPr>
            <p:grpSpPr>
              <a:xfrm>
                <a:off x="7341480" y="2441520"/>
                <a:ext cx="326880" cy="398880"/>
                <a:chOff x="7341480" y="2441520"/>
                <a:chExt cx="326880" cy="39888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7385760" y="253800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7341480" y="244152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8" name=""/>
            <p:cNvSpPr/>
            <p:nvPr/>
          </p:nvSpPr>
          <p:spPr>
            <a:xfrm>
              <a:off x="7082280" y="21081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244920" y="21034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631920" y="263232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1" name=""/>
            <p:cNvGrpSpPr/>
            <p:nvPr/>
          </p:nvGrpSpPr>
          <p:grpSpPr>
            <a:xfrm>
              <a:off x="6581880" y="1927440"/>
              <a:ext cx="501480" cy="398880"/>
              <a:chOff x="6581880" y="1927440"/>
              <a:chExt cx="501480" cy="398880"/>
            </a:xfrm>
          </p:grpSpPr>
          <p:sp>
            <p:nvSpPr>
              <p:cNvPr id="1682" name=""/>
              <p:cNvSpPr/>
              <p:nvPr/>
            </p:nvSpPr>
            <p:spPr>
              <a:xfrm>
                <a:off x="6586560" y="21085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586560" y="209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083360" y="2097360"/>
                <a:ext cx="0" cy="7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586560" y="20973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581880" y="2003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7" name=""/>
              <p:cNvGrpSpPr/>
              <p:nvPr/>
            </p:nvGrpSpPr>
            <p:grpSpPr>
              <a:xfrm>
                <a:off x="6674760" y="1927440"/>
                <a:ext cx="325440" cy="398880"/>
                <a:chOff x="6674760" y="1927440"/>
                <a:chExt cx="325440" cy="39888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6719040" y="2023920"/>
                  <a:ext cx="225360" cy="2091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6674760" y="1927440"/>
                  <a:ext cx="325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0" name=""/>
            <p:cNvSpPr/>
            <p:nvPr/>
          </p:nvSpPr>
          <p:spPr>
            <a:xfrm>
              <a:off x="6017400" y="1708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flipV="1">
              <a:off x="6267600" y="2019240"/>
              <a:ext cx="209520" cy="36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2" name="" descr=""/>
          <p:cNvPicPr/>
          <p:nvPr/>
        </p:nvPicPr>
        <p:blipFill>
          <a:blip r:embed="rId1"/>
          <a:stretch/>
        </p:blipFill>
        <p:spPr>
          <a:xfrm>
            <a:off x="614520" y="3254400"/>
            <a:ext cx="7292880" cy="3017880"/>
          </a:xfrm>
          <a:prstGeom prst="rect">
            <a:avLst/>
          </a:prstGeom>
          <a:ln w="0">
            <a:noFill/>
          </a:ln>
        </p:spPr>
      </p:pic>
      <p:sp>
        <p:nvSpPr>
          <p:cNvPr id="1693" name=""/>
          <p:cNvSpPr/>
          <p:nvPr/>
        </p:nvSpPr>
        <p:spPr>
          <a:xfrm>
            <a:off x="7512120" y="343692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contin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F79-84D7-45D2-8111-2BDCD05527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ison of LS and DV algorithm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essage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n nodes, E links, O(nE) msgs sent eac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hange between neighbors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ed of Converg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(n**2) algorithm requires O(nE) ms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oscil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convergence time v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be routing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nt-to-infinity probl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obustnes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at happens if router malfunction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L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 can advertise incorrect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 computes only its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w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a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V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 node can advertise incorrect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pa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s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node’s table used by other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rror propagate thru networ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a-AS and Inter-AS rout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0B2-672B-45A6-929A-ACDABB6A98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400" y="51408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TCP Connection Management (cont.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42520" y="1695600"/>
            <a:ext cx="37623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3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ceives FIN, replies with AC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15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ers “timed wait” - will respond with ACK to received FI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tep 4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receives ACK.  Connection clos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 small modification, can handly simultaneous FI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391000" y="2400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78440" y="17319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66240" y="17319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706200">
            <a:off x="6482520" y="244152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35960" y="174132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3720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00720" y="443880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29360" y="4295880"/>
            <a:ext cx="0" cy="1342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2171880"/>
            <a:ext cx="0" cy="340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362560" y="313380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673000">
            <a:off x="5241960" y="322848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706200">
            <a:off x="6367680" y="44431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10080" y="3543480"/>
            <a:ext cx="2495520" cy="752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0673000">
            <a:off x="5289480" y="3638160"/>
            <a:ext cx="27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81640" y="2324160"/>
            <a:ext cx="0" cy="334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84880" y="22035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56640" y="33274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1720" y="55515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4600" y="42768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38640" y="565776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76520" y="48031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d 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74280" y="4808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080-EB49-43B2-B966-C3375F6B5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Connection Management (cont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82600"/>
            <a:ext cx="4848120" cy="2605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32200" y="3551400"/>
            <a:ext cx="4702320" cy="2793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91040" y="3808440"/>
            <a:ext cx="134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17680" y="27226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fe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9ED-3031-4215-8FC7-1334FD5239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inciples of Congestion Contr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9360">
            <a:solidFill>
              <a:srgbClr val="00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ges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lly: “too many sources sending too much data too fast for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handl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from flow contro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ifest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 packets (buffer overflow at rou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 delays (queueing in router buff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op-10 problem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303-4772-41B1-BE98-89E5DB0222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es/costs of congestion: scenario 1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7680" y="1447560"/>
            <a:ext cx="315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senders, two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outer, infinite buff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39000" y="4172040"/>
            <a:ext cx="2790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delays when conges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achievable through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14600" y="1547640"/>
            <a:ext cx="5365800" cy="2129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4200" y="4210200"/>
            <a:ext cx="5883480" cy="214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FFC-7B9A-4C3A-AFC1-ECD1D6D5A1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uses/costs of congestion: scenario 2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95440"/>
            <a:ext cx="6391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router,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uff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retransmission of lost pa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5240" y="2881440"/>
            <a:ext cx="787104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827-7E80-4741-9428-005E9FD029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13T13:08:39Z</dcterms:modified>
  <cp:revision>124</cp:revision>
  <dc:subject/>
  <dc:title>Part I: Introduction</dc:title>
</cp:coreProperties>
</file>