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F30-DBE1-4D8D-BD6A-76FD0B56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DE3-8051-437C-9A1E-CB306999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38D-7AC1-4C47-8F17-179DF422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C9F-CE52-40D5-BF88-049682A4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984-6138-4622-9A26-4C5AED77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6FE-A592-4414-99CC-3DCF48B0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DE3-FF9C-4206-9AA6-95F9E701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3A1-6385-448B-813B-AF0F077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0C5-E587-4D68-96E3-4172FC33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D7C-8611-4336-9458-60DCA17E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C18-2755-4768-8DEC-B95572C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A48-B465-432D-BDD8-8B6E457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1E04-749F-4CC8-A1DE-44C40511C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4.wmf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roduc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G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context, overview, “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fe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cc99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Internet as 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th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co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net, physical 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layers, service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BD1-F290-4F74-B54A-3166C82E5D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less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transfer between end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as befor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D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 User Datagram Protocol [RFC 768]: Internet’s connectionless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reliable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low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TCP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 (WWW), FTP (file transfer), Telnet (remote login), SMTP (emai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pp’s using UDP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media, teleconferencing, Internet teleph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90E9-1E7A-4FB1-90E9-BDDB252968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Cor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h of interconnected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fundamental qu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is data transferred through ne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rcuit 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dicated circuit per call: telephon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-switc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sent thru net in discrete “chun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769080" y="21938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889520" y="20509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257800" y="35020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5006880" y="2185920"/>
            <a:ext cx="733680" cy="319320"/>
            <a:chOff x="5006880" y="2185920"/>
            <a:chExt cx="733680" cy="319320"/>
          </a:xfrm>
        </p:grpSpPr>
        <p:pic>
          <p:nvPicPr>
            <p:cNvPr id="1291" name="" descr=""/>
            <p:cNvPicPr/>
            <p:nvPr/>
          </p:nvPicPr>
          <p:blipFill>
            <a:blip r:embed="rId1"/>
            <a:stretch/>
          </p:blipFill>
          <p:spPr>
            <a:xfrm>
              <a:off x="5006880" y="218592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2"/>
            <a:stretch/>
          </p:blipFill>
          <p:spPr>
            <a:xfrm>
              <a:off x="5460840" y="230400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 flipV="1">
              <a:off x="5413320" y="24274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5006880" y="2781360"/>
            <a:ext cx="733680" cy="318960"/>
            <a:chOff x="5006880" y="2781360"/>
            <a:chExt cx="733680" cy="318960"/>
          </a:xfrm>
        </p:grpSpPr>
        <p:pic>
          <p:nvPicPr>
            <p:cNvPr id="1295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13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6" name="" descr=""/>
            <p:cNvPicPr/>
            <p:nvPr/>
          </p:nvPicPr>
          <p:blipFill>
            <a:blip r:embed="rId4"/>
            <a:stretch/>
          </p:blipFill>
          <p:spPr>
            <a:xfrm>
              <a:off x="5460840" y="289944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 flipV="1">
              <a:off x="5413320" y="30229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383080" y="2568600"/>
            <a:ext cx="69480" cy="214200"/>
            <a:chOff x="5383080" y="2568600"/>
            <a:chExt cx="69480" cy="214200"/>
          </a:xfrm>
        </p:grpSpPr>
        <p:sp>
          <p:nvSpPr>
            <p:cNvPr id="1299" name=""/>
            <p:cNvSpPr/>
            <p:nvPr/>
          </p:nvSpPr>
          <p:spPr>
            <a:xfrm>
              <a:off x="5383080" y="2568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385600" y="2645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388480" y="27226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5853240" y="3071880"/>
            <a:ext cx="209520" cy="394920"/>
            <a:chOff x="5853240" y="3071880"/>
            <a:chExt cx="209520" cy="394920"/>
          </a:xfrm>
        </p:grpSpPr>
        <p:sp>
          <p:nvSpPr>
            <p:cNvPr id="1303" name=""/>
            <p:cNvSpPr/>
            <p:nvPr/>
          </p:nvSpPr>
          <p:spPr>
            <a:xfrm>
              <a:off x="5853240" y="33757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59440" y="30744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854320" y="31604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853240" y="30718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62760" y="30780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986800" y="33757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871240" y="32004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883840" y="32533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6089760" y="3226320"/>
            <a:ext cx="233280" cy="80280"/>
            <a:chOff x="6089760" y="3226320"/>
            <a:chExt cx="233280" cy="80280"/>
          </a:xfrm>
        </p:grpSpPr>
        <p:sp>
          <p:nvSpPr>
            <p:cNvPr id="1312" name=""/>
            <p:cNvSpPr/>
            <p:nvPr/>
          </p:nvSpPr>
          <p:spPr>
            <a:xfrm rot="16200000">
              <a:off x="6085440" y="323676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16200000">
              <a:off x="6169320" y="323388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16200000">
              <a:off x="6253200" y="3230640"/>
              <a:ext cx="7416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5989680" y="29797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92920" y="29764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88280" y="297504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89440" y="24400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5702400" y="27255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6229440" y="28116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6348240" y="3049560"/>
            <a:ext cx="209880" cy="394920"/>
            <a:chOff x="6348240" y="3049560"/>
            <a:chExt cx="209880" cy="394920"/>
          </a:xfrm>
        </p:grpSpPr>
        <p:sp>
          <p:nvSpPr>
            <p:cNvPr id="1322" name=""/>
            <p:cNvSpPr/>
            <p:nvPr/>
          </p:nvSpPr>
          <p:spPr>
            <a:xfrm>
              <a:off x="6348240" y="335340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54440" y="305208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49320" y="313812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348240" y="304956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58120" y="30556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6482160" y="33534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366240" y="317808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378840" y="323100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5391000" y="3668760"/>
            <a:ext cx="479160" cy="925200"/>
            <a:chOff x="5391000" y="3668760"/>
            <a:chExt cx="479160" cy="925200"/>
          </a:xfrm>
        </p:grpSpPr>
        <p:pic>
          <p:nvPicPr>
            <p:cNvPr id="1331" name="" descr=""/>
            <p:cNvPicPr/>
            <p:nvPr/>
          </p:nvPicPr>
          <p:blipFill>
            <a:blip r:embed="rId5"/>
            <a:stretch/>
          </p:blipFill>
          <p:spPr>
            <a:xfrm>
              <a:off x="5391000" y="36687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2" name=""/>
            <p:cNvSpPr/>
            <p:nvPr/>
          </p:nvSpPr>
          <p:spPr>
            <a:xfrm flipV="1">
              <a:off x="5797800" y="39153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3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34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 flipV="1">
              <a:off x="5797800" y="45136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5" name=""/>
            <p:cNvGrpSpPr/>
            <p:nvPr/>
          </p:nvGrpSpPr>
          <p:grpSpPr>
            <a:xfrm>
              <a:off x="5516280" y="4010040"/>
              <a:ext cx="70560" cy="222480"/>
              <a:chOff x="5516280" y="4010040"/>
              <a:chExt cx="70560" cy="222480"/>
            </a:xfrm>
          </p:grpSpPr>
          <p:sp>
            <p:nvSpPr>
              <p:cNvPr id="1336" name=""/>
              <p:cNvSpPr/>
              <p:nvPr/>
            </p:nvSpPr>
            <p:spPr>
              <a:xfrm>
                <a:off x="5516280" y="40100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518800" y="40899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521680" y="41702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>
              <a:off x="5864760" y="39124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0" name="" descr=""/>
          <p:cNvPicPr/>
          <p:nvPr/>
        </p:nvPicPr>
        <p:blipFill>
          <a:blip r:embed="rId7"/>
          <a:stretch/>
        </p:blipFill>
        <p:spPr>
          <a:xfrm>
            <a:off x="6259680" y="467820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8"/>
          <a:stretch/>
        </p:blipFill>
        <p:spPr>
          <a:xfrm>
            <a:off x="5645160" y="46674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342" name=""/>
          <p:cNvSpPr/>
          <p:nvPr/>
        </p:nvSpPr>
        <p:spPr>
          <a:xfrm rot="16200000">
            <a:off x="6061680" y="47710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rot="16200000">
            <a:off x="6146640" y="47685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rot="16200000">
            <a:off x="6224400" y="47732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513480" y="462420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89600" y="46134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5891040" y="46195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5870520" y="42451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472080" y="4290840"/>
            <a:ext cx="303480" cy="38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7267680" y="4287960"/>
            <a:ext cx="27936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9"/>
          <a:stretch/>
        </p:blipFill>
        <p:spPr>
          <a:xfrm>
            <a:off x="7445520" y="38401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352" name="" descr=""/>
          <p:cNvPicPr/>
          <p:nvPr/>
        </p:nvPicPr>
        <p:blipFill>
          <a:blip r:embed="rId10"/>
          <a:stretch/>
        </p:blipFill>
        <p:spPr>
          <a:xfrm>
            <a:off x="6108840" y="392112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353" name=""/>
          <p:cNvSpPr/>
          <p:nvPr/>
        </p:nvSpPr>
        <p:spPr>
          <a:xfrm>
            <a:off x="6189840" y="369576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6456240" y="5118120"/>
            <a:ext cx="406080" cy="426960"/>
            <a:chOff x="6456240" y="5118120"/>
            <a:chExt cx="406080" cy="426960"/>
          </a:xfrm>
        </p:grpSpPr>
        <p:pic>
          <p:nvPicPr>
            <p:cNvPr id="1355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181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6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00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7" name=""/>
          <p:cNvGrpSpPr/>
          <p:nvPr/>
        </p:nvGrpSpPr>
        <p:grpSpPr>
          <a:xfrm>
            <a:off x="7234200" y="5149800"/>
            <a:ext cx="406080" cy="426960"/>
            <a:chOff x="7234200" y="5149800"/>
            <a:chExt cx="406080" cy="426960"/>
          </a:xfrm>
        </p:grpSpPr>
        <p:pic>
          <p:nvPicPr>
            <p:cNvPr id="1358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498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9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17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0" name=""/>
          <p:cNvGrpSpPr/>
          <p:nvPr/>
        </p:nvGrpSpPr>
        <p:grpSpPr>
          <a:xfrm>
            <a:off x="6819840" y="4865760"/>
            <a:ext cx="379440" cy="376200"/>
            <a:chOff x="6819840" y="4865760"/>
            <a:chExt cx="379440" cy="376200"/>
          </a:xfrm>
        </p:grpSpPr>
        <p:pic>
          <p:nvPicPr>
            <p:cNvPr id="1361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657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2" name=""/>
            <p:cNvSpPr/>
            <p:nvPr/>
          </p:nvSpPr>
          <p:spPr>
            <a:xfrm>
              <a:off x="6930000" y="49978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12620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7846920" y="4192560"/>
            <a:ext cx="208080" cy="409680"/>
            <a:chOff x="7846920" y="4192560"/>
            <a:chExt cx="208080" cy="409680"/>
          </a:xfrm>
        </p:grpSpPr>
        <p:sp>
          <p:nvSpPr>
            <p:cNvPr id="1365" name=""/>
            <p:cNvSpPr/>
            <p:nvPr/>
          </p:nvSpPr>
          <p:spPr>
            <a:xfrm>
              <a:off x="7846920" y="4507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952040" y="41950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848000" y="42843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846920" y="41925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055000" y="41990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7979760" y="45075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864560" y="43257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877160" y="438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7834320" y="4637160"/>
            <a:ext cx="208080" cy="409680"/>
            <a:chOff x="7834320" y="4637160"/>
            <a:chExt cx="208080" cy="409680"/>
          </a:xfrm>
        </p:grpSpPr>
        <p:sp>
          <p:nvSpPr>
            <p:cNvPr id="1374" name=""/>
            <p:cNvSpPr/>
            <p:nvPr/>
          </p:nvSpPr>
          <p:spPr>
            <a:xfrm>
              <a:off x="7834320" y="4952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939440" y="46396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835400" y="47289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834320" y="46371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042400" y="46436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7967160" y="49521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851960" y="47703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64560" y="48250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 flipV="1">
            <a:off x="7765920" y="42606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763040" y="487044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759800" y="43941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6483240" y="2490840"/>
            <a:ext cx="459000" cy="20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418520" y="2475000"/>
            <a:ext cx="485640" cy="207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7937640" y="2811600"/>
            <a:ext cx="241200" cy="680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167600" y="258768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192800" y="3235320"/>
            <a:ext cx="535320" cy="36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7652880" y="3700440"/>
            <a:ext cx="266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7426440" y="2779560"/>
            <a:ext cx="560160" cy="384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7435440" y="2219400"/>
            <a:ext cx="351000" cy="255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 flipH="1">
            <a:off x="8153280" y="2395440"/>
            <a:ext cx="201600" cy="176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7221600" y="4043520"/>
            <a:ext cx="671400" cy="387360"/>
            <a:chOff x="7221600" y="4043520"/>
            <a:chExt cx="671400" cy="387360"/>
          </a:xfrm>
        </p:grpSpPr>
        <p:sp>
          <p:nvSpPr>
            <p:cNvPr id="1395" name=""/>
            <p:cNvSpPr/>
            <p:nvPr/>
          </p:nvSpPr>
          <p:spPr>
            <a:xfrm>
              <a:off x="7221600" y="40435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7296120" y="4130640"/>
              <a:ext cx="501120" cy="232920"/>
              <a:chOff x="7296120" y="4130640"/>
              <a:chExt cx="501120" cy="232920"/>
            </a:xfrm>
          </p:grpSpPr>
          <p:sp>
            <p:nvSpPr>
              <p:cNvPr id="1397" name=""/>
              <p:cNvSpPr/>
              <p:nvPr/>
            </p:nvSpPr>
            <p:spPr>
              <a:xfrm>
                <a:off x="7300080" y="42346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30008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797240" y="42235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300080" y="42235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296120" y="41306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2" name=""/>
              <p:cNvGrpSpPr/>
              <p:nvPr/>
            </p:nvGrpSpPr>
            <p:grpSpPr>
              <a:xfrm>
                <a:off x="7415640" y="4163400"/>
                <a:ext cx="245880" cy="88200"/>
                <a:chOff x="7415640" y="4163400"/>
                <a:chExt cx="245880" cy="88200"/>
              </a:xfrm>
            </p:grpSpPr>
            <p:sp>
              <p:nvSpPr>
                <p:cNvPr id="1403" name=""/>
                <p:cNvSpPr/>
                <p:nvPr/>
              </p:nvSpPr>
              <p:spPr>
                <a:xfrm flipV="1">
                  <a:off x="7415640" y="41634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584120" y="4251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496640" y="41655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6" name=""/>
              <p:cNvGrpSpPr/>
              <p:nvPr/>
            </p:nvGrpSpPr>
            <p:grpSpPr>
              <a:xfrm>
                <a:off x="7415640" y="4162680"/>
                <a:ext cx="245880" cy="88200"/>
                <a:chOff x="7415640" y="4162680"/>
                <a:chExt cx="245880" cy="8820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7415640" y="4249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584120" y="41626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7496640" y="41626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0" name=""/>
          <p:cNvGrpSpPr/>
          <p:nvPr/>
        </p:nvGrpSpPr>
        <p:grpSpPr>
          <a:xfrm>
            <a:off x="7574040" y="3386160"/>
            <a:ext cx="671400" cy="387360"/>
            <a:chOff x="7574040" y="3386160"/>
            <a:chExt cx="671400" cy="387360"/>
          </a:xfrm>
        </p:grpSpPr>
        <p:sp>
          <p:nvSpPr>
            <p:cNvPr id="1411" name=""/>
            <p:cNvSpPr/>
            <p:nvPr/>
          </p:nvSpPr>
          <p:spPr>
            <a:xfrm>
              <a:off x="7574040" y="33861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2" name=""/>
            <p:cNvGrpSpPr/>
            <p:nvPr/>
          </p:nvGrpSpPr>
          <p:grpSpPr>
            <a:xfrm>
              <a:off x="7648560" y="3473280"/>
              <a:ext cx="501120" cy="232920"/>
              <a:chOff x="7648560" y="3473280"/>
              <a:chExt cx="501120" cy="232920"/>
            </a:xfrm>
          </p:grpSpPr>
          <p:sp>
            <p:nvSpPr>
              <p:cNvPr id="1413" name=""/>
              <p:cNvSpPr/>
              <p:nvPr/>
            </p:nvSpPr>
            <p:spPr>
              <a:xfrm>
                <a:off x="7652520" y="35773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65252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149680" y="3566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652520" y="35661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648560" y="34732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7768080" y="3506040"/>
                <a:ext cx="245880" cy="88200"/>
                <a:chOff x="7768080" y="3506040"/>
                <a:chExt cx="245880" cy="88200"/>
              </a:xfrm>
            </p:grpSpPr>
            <p:sp>
              <p:nvSpPr>
                <p:cNvPr id="1419" name=""/>
                <p:cNvSpPr/>
                <p:nvPr/>
              </p:nvSpPr>
              <p:spPr>
                <a:xfrm flipV="1">
                  <a:off x="7768080" y="35060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936560" y="3594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849080" y="3508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7768080" y="3505320"/>
                <a:ext cx="245880" cy="88200"/>
                <a:chOff x="7768080" y="3505320"/>
                <a:chExt cx="245880" cy="8820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7768080" y="35917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936560" y="3505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7849080" y="3505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6" name=""/>
          <p:cNvGrpSpPr/>
          <p:nvPr/>
        </p:nvGrpSpPr>
        <p:grpSpPr>
          <a:xfrm>
            <a:off x="6926400" y="2938320"/>
            <a:ext cx="671400" cy="387360"/>
            <a:chOff x="6926400" y="2938320"/>
            <a:chExt cx="671400" cy="387360"/>
          </a:xfrm>
        </p:grpSpPr>
        <p:sp>
          <p:nvSpPr>
            <p:cNvPr id="1427" name=""/>
            <p:cNvSpPr/>
            <p:nvPr/>
          </p:nvSpPr>
          <p:spPr>
            <a:xfrm>
              <a:off x="6926400" y="29383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7000920" y="3025440"/>
              <a:ext cx="501120" cy="232920"/>
              <a:chOff x="7000920" y="3025440"/>
              <a:chExt cx="501120" cy="232920"/>
            </a:xfrm>
          </p:grpSpPr>
          <p:sp>
            <p:nvSpPr>
              <p:cNvPr id="1429" name=""/>
              <p:cNvSpPr/>
              <p:nvPr/>
            </p:nvSpPr>
            <p:spPr>
              <a:xfrm>
                <a:off x="7004880" y="31294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0488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502040" y="31183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04880" y="31183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00920" y="30254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4" name=""/>
              <p:cNvGrpSpPr/>
              <p:nvPr/>
            </p:nvGrpSpPr>
            <p:grpSpPr>
              <a:xfrm>
                <a:off x="7120440" y="3058200"/>
                <a:ext cx="245880" cy="88200"/>
                <a:chOff x="7120440" y="3058200"/>
                <a:chExt cx="245880" cy="88200"/>
              </a:xfrm>
            </p:grpSpPr>
            <p:sp>
              <p:nvSpPr>
                <p:cNvPr id="1435" name=""/>
                <p:cNvSpPr/>
                <p:nvPr/>
              </p:nvSpPr>
              <p:spPr>
                <a:xfrm flipV="1">
                  <a:off x="7120440" y="30582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288920" y="314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201440" y="3060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7120440" y="3057480"/>
                <a:ext cx="245880" cy="88200"/>
                <a:chOff x="7120440" y="3057480"/>
                <a:chExt cx="245880" cy="8820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7120440" y="31438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288920" y="3057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V="1">
                  <a:off x="7201440" y="30574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42" name=""/>
          <p:cNvGrpSpPr/>
          <p:nvPr/>
        </p:nvGrpSpPr>
        <p:grpSpPr>
          <a:xfrm>
            <a:off x="7745400" y="2462040"/>
            <a:ext cx="671400" cy="387360"/>
            <a:chOff x="7745400" y="2462040"/>
            <a:chExt cx="671400" cy="387360"/>
          </a:xfrm>
        </p:grpSpPr>
        <p:sp>
          <p:nvSpPr>
            <p:cNvPr id="1443" name=""/>
            <p:cNvSpPr/>
            <p:nvPr/>
          </p:nvSpPr>
          <p:spPr>
            <a:xfrm>
              <a:off x="7745400" y="246204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7819920" y="2549160"/>
              <a:ext cx="501120" cy="232920"/>
              <a:chOff x="7819920" y="2549160"/>
              <a:chExt cx="501120" cy="232920"/>
            </a:xfrm>
          </p:grpSpPr>
          <p:sp>
            <p:nvSpPr>
              <p:cNvPr id="1445" name=""/>
              <p:cNvSpPr/>
              <p:nvPr/>
            </p:nvSpPr>
            <p:spPr>
              <a:xfrm>
                <a:off x="7823880" y="26532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82388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321040" y="26420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823880" y="264204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819920" y="254916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7939440" y="2581920"/>
                <a:ext cx="245880" cy="88200"/>
                <a:chOff x="7939440" y="2581920"/>
                <a:chExt cx="245880" cy="88200"/>
              </a:xfrm>
            </p:grpSpPr>
            <p:sp>
              <p:nvSpPr>
                <p:cNvPr id="1451" name=""/>
                <p:cNvSpPr/>
                <p:nvPr/>
              </p:nvSpPr>
              <p:spPr>
                <a:xfrm flipV="1">
                  <a:off x="7939440" y="2581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8107920" y="267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8020440" y="2584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939440" y="2581200"/>
                <a:ext cx="245880" cy="88200"/>
                <a:chOff x="7939440" y="2581200"/>
                <a:chExt cx="245880" cy="8820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939440" y="266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8107920" y="258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V="1">
                  <a:off x="8020440" y="25812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8" name=""/>
          <p:cNvGrpSpPr/>
          <p:nvPr/>
        </p:nvGrpSpPr>
        <p:grpSpPr>
          <a:xfrm>
            <a:off x="6840360" y="2262240"/>
            <a:ext cx="671760" cy="387360"/>
            <a:chOff x="6840360" y="2262240"/>
            <a:chExt cx="671760" cy="387360"/>
          </a:xfrm>
        </p:grpSpPr>
        <p:sp>
          <p:nvSpPr>
            <p:cNvPr id="1459" name=""/>
            <p:cNvSpPr/>
            <p:nvPr/>
          </p:nvSpPr>
          <p:spPr>
            <a:xfrm>
              <a:off x="6840360" y="226224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0" name=""/>
            <p:cNvGrpSpPr/>
            <p:nvPr/>
          </p:nvGrpSpPr>
          <p:grpSpPr>
            <a:xfrm>
              <a:off x="6915240" y="2349360"/>
              <a:ext cx="501480" cy="232920"/>
              <a:chOff x="6915240" y="2349360"/>
              <a:chExt cx="501480" cy="232920"/>
            </a:xfrm>
          </p:grpSpPr>
          <p:sp>
            <p:nvSpPr>
              <p:cNvPr id="1461" name=""/>
              <p:cNvSpPr/>
              <p:nvPr/>
            </p:nvSpPr>
            <p:spPr>
              <a:xfrm>
                <a:off x="6919200" y="24534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91920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416720" y="24422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919200" y="244224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915240" y="23493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6" name=""/>
              <p:cNvGrpSpPr/>
              <p:nvPr/>
            </p:nvGrpSpPr>
            <p:grpSpPr>
              <a:xfrm>
                <a:off x="7034760" y="2382120"/>
                <a:ext cx="246240" cy="88200"/>
                <a:chOff x="7034760" y="2382120"/>
                <a:chExt cx="246240" cy="88200"/>
              </a:xfrm>
            </p:grpSpPr>
            <p:sp>
              <p:nvSpPr>
                <p:cNvPr id="1467" name=""/>
                <p:cNvSpPr/>
                <p:nvPr/>
              </p:nvSpPr>
              <p:spPr>
                <a:xfrm flipV="1">
                  <a:off x="7034760" y="2382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203600" y="247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115760" y="23842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0" name=""/>
              <p:cNvGrpSpPr/>
              <p:nvPr/>
            </p:nvGrpSpPr>
            <p:grpSpPr>
              <a:xfrm>
                <a:off x="7034760" y="2381400"/>
                <a:ext cx="246240" cy="88200"/>
                <a:chOff x="7034760" y="2381400"/>
                <a:chExt cx="246240" cy="88200"/>
              </a:xfrm>
            </p:grpSpPr>
            <p:sp>
              <p:nvSpPr>
                <p:cNvPr id="1471" name=""/>
                <p:cNvSpPr/>
                <p:nvPr/>
              </p:nvSpPr>
              <p:spPr>
                <a:xfrm>
                  <a:off x="7034760" y="2467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203600" y="2381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V="1">
                  <a:off x="7115760" y="2381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74" name=""/>
          <p:cNvGrpSpPr/>
          <p:nvPr/>
        </p:nvGrpSpPr>
        <p:grpSpPr>
          <a:xfrm>
            <a:off x="5897520" y="2471760"/>
            <a:ext cx="671400" cy="387360"/>
            <a:chOff x="5897520" y="2471760"/>
            <a:chExt cx="671400" cy="387360"/>
          </a:xfrm>
        </p:grpSpPr>
        <p:sp>
          <p:nvSpPr>
            <p:cNvPr id="1475" name=""/>
            <p:cNvSpPr/>
            <p:nvPr/>
          </p:nvSpPr>
          <p:spPr>
            <a:xfrm>
              <a:off x="5897520" y="247176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5972040" y="2558880"/>
              <a:ext cx="501120" cy="232920"/>
              <a:chOff x="5972040" y="2558880"/>
              <a:chExt cx="501120" cy="232920"/>
            </a:xfrm>
          </p:grpSpPr>
          <p:sp>
            <p:nvSpPr>
              <p:cNvPr id="1477" name=""/>
              <p:cNvSpPr/>
              <p:nvPr/>
            </p:nvSpPr>
            <p:spPr>
              <a:xfrm>
                <a:off x="5976000" y="266292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97600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473160" y="26517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976000" y="265176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972040" y="255888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6091560" y="2591640"/>
                <a:ext cx="245880" cy="88200"/>
                <a:chOff x="6091560" y="2591640"/>
                <a:chExt cx="245880" cy="88200"/>
              </a:xfrm>
            </p:grpSpPr>
            <p:sp>
              <p:nvSpPr>
                <p:cNvPr id="1483" name=""/>
                <p:cNvSpPr/>
                <p:nvPr/>
              </p:nvSpPr>
              <p:spPr>
                <a:xfrm flipV="1">
                  <a:off x="6091560" y="2591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6260040" y="2679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6172560" y="25938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6091560" y="2590920"/>
                <a:ext cx="245880" cy="88200"/>
                <a:chOff x="6091560" y="2590920"/>
                <a:chExt cx="245880" cy="88200"/>
              </a:xfrm>
            </p:grpSpPr>
            <p:sp>
              <p:nvSpPr>
                <p:cNvPr id="1487" name=""/>
                <p:cNvSpPr/>
                <p:nvPr/>
              </p:nvSpPr>
              <p:spPr>
                <a:xfrm>
                  <a:off x="6091560" y="2677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6260040" y="2590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6172560" y="25909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0" name=""/>
          <p:cNvGrpSpPr/>
          <p:nvPr/>
        </p:nvGrpSpPr>
        <p:grpSpPr>
          <a:xfrm>
            <a:off x="5878440" y="4129200"/>
            <a:ext cx="671760" cy="387360"/>
            <a:chOff x="5878440" y="4129200"/>
            <a:chExt cx="671760" cy="387360"/>
          </a:xfrm>
        </p:grpSpPr>
        <p:sp>
          <p:nvSpPr>
            <p:cNvPr id="1491" name=""/>
            <p:cNvSpPr/>
            <p:nvPr/>
          </p:nvSpPr>
          <p:spPr>
            <a:xfrm>
              <a:off x="5878440" y="4129200"/>
              <a:ext cx="67176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"/>
            <p:cNvGrpSpPr/>
            <p:nvPr/>
          </p:nvGrpSpPr>
          <p:grpSpPr>
            <a:xfrm>
              <a:off x="5953320" y="4216320"/>
              <a:ext cx="501480" cy="232920"/>
              <a:chOff x="5953320" y="4216320"/>
              <a:chExt cx="501480" cy="232920"/>
            </a:xfrm>
          </p:grpSpPr>
          <p:sp>
            <p:nvSpPr>
              <p:cNvPr id="1493" name=""/>
              <p:cNvSpPr/>
              <p:nvPr/>
            </p:nvSpPr>
            <p:spPr>
              <a:xfrm>
                <a:off x="5957280" y="4320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95728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454800" y="430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957280" y="4309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53320" y="4216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8" name=""/>
              <p:cNvGrpSpPr/>
              <p:nvPr/>
            </p:nvGrpSpPr>
            <p:grpSpPr>
              <a:xfrm>
                <a:off x="6072840" y="4249080"/>
                <a:ext cx="246240" cy="88200"/>
                <a:chOff x="6072840" y="4249080"/>
                <a:chExt cx="246240" cy="88200"/>
              </a:xfrm>
            </p:grpSpPr>
            <p:sp>
              <p:nvSpPr>
                <p:cNvPr id="1499" name=""/>
                <p:cNvSpPr/>
                <p:nvPr/>
              </p:nvSpPr>
              <p:spPr>
                <a:xfrm flipV="1">
                  <a:off x="6072840" y="424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241680" y="4337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153840" y="425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6072840" y="4248360"/>
                <a:ext cx="246240" cy="88200"/>
                <a:chOff x="6072840" y="4248360"/>
                <a:chExt cx="246240" cy="8820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6072840" y="4334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241680" y="424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V="1">
                  <a:off x="6153840" y="4248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06" name=""/>
          <p:cNvGrpSpPr/>
          <p:nvPr/>
        </p:nvGrpSpPr>
        <p:grpSpPr>
          <a:xfrm>
            <a:off x="6688080" y="4471920"/>
            <a:ext cx="671400" cy="387360"/>
            <a:chOff x="6688080" y="4471920"/>
            <a:chExt cx="671400" cy="387360"/>
          </a:xfrm>
        </p:grpSpPr>
        <p:sp>
          <p:nvSpPr>
            <p:cNvPr id="1507" name=""/>
            <p:cNvSpPr/>
            <p:nvPr/>
          </p:nvSpPr>
          <p:spPr>
            <a:xfrm>
              <a:off x="6688080" y="4471920"/>
              <a:ext cx="671400" cy="387360"/>
            </a:xfrm>
            <a:custGeom>
              <a:avLst/>
              <a:gdLst/>
              <a:ahLst/>
              <a:rect l="l" t="t" r="r" b="b"/>
              <a:pathLst>
                <a:path w="423" h="244">
                  <a:moveTo>
                    <a:pt x="183" y="11"/>
                  </a:moveTo>
                  <a:cubicBezTo>
                    <a:pt x="135" y="16"/>
                    <a:pt x="73" y="17"/>
                    <a:pt x="43" y="43"/>
                  </a:cubicBezTo>
                  <a:cubicBezTo>
                    <a:pt x="13" y="69"/>
                    <a:pt x="0" y="137"/>
                    <a:pt x="3" y="169"/>
                  </a:cubicBezTo>
                  <a:cubicBezTo>
                    <a:pt x="6" y="201"/>
                    <a:pt x="16" y="222"/>
                    <a:pt x="63" y="233"/>
                  </a:cubicBezTo>
                  <a:cubicBezTo>
                    <a:pt x="110" y="244"/>
                    <a:pt x="230" y="244"/>
                    <a:pt x="287" y="237"/>
                  </a:cubicBezTo>
                  <a:cubicBezTo>
                    <a:pt x="344" y="230"/>
                    <a:pt x="383" y="214"/>
                    <a:pt x="403" y="189"/>
                  </a:cubicBezTo>
                  <a:cubicBezTo>
                    <a:pt x="423" y="164"/>
                    <a:pt x="419" y="116"/>
                    <a:pt x="407" y="87"/>
                  </a:cubicBezTo>
                  <a:cubicBezTo>
                    <a:pt x="395" y="58"/>
                    <a:pt x="366" y="26"/>
                    <a:pt x="329" y="13"/>
                  </a:cubicBezTo>
                  <a:cubicBezTo>
                    <a:pt x="292" y="0"/>
                    <a:pt x="232" y="7"/>
                    <a:pt x="183" y="11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6762600" y="4559040"/>
              <a:ext cx="501120" cy="232920"/>
              <a:chOff x="6762600" y="4559040"/>
              <a:chExt cx="501120" cy="232920"/>
            </a:xfrm>
          </p:grpSpPr>
          <p:sp>
            <p:nvSpPr>
              <p:cNvPr id="1509" name=""/>
              <p:cNvSpPr/>
              <p:nvPr/>
            </p:nvSpPr>
            <p:spPr>
              <a:xfrm>
                <a:off x="6766560" y="46630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76656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63720" y="4651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766560" y="46519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62600" y="45590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4" name=""/>
              <p:cNvGrpSpPr/>
              <p:nvPr/>
            </p:nvGrpSpPr>
            <p:grpSpPr>
              <a:xfrm>
                <a:off x="6882120" y="4591800"/>
                <a:ext cx="245880" cy="88200"/>
                <a:chOff x="6882120" y="4591800"/>
                <a:chExt cx="245880" cy="88200"/>
              </a:xfrm>
            </p:grpSpPr>
            <p:sp>
              <p:nvSpPr>
                <p:cNvPr id="1515" name=""/>
                <p:cNvSpPr/>
                <p:nvPr/>
              </p:nvSpPr>
              <p:spPr>
                <a:xfrm flipV="1">
                  <a:off x="6882120" y="4591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050600" y="468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963120" y="4593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"/>
              <p:cNvGrpSpPr/>
              <p:nvPr/>
            </p:nvGrpSpPr>
            <p:grpSpPr>
              <a:xfrm>
                <a:off x="6882120" y="4591080"/>
                <a:ext cx="245880" cy="88200"/>
                <a:chOff x="6882120" y="4591080"/>
                <a:chExt cx="245880" cy="8820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6882120" y="4677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050600" y="4591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V="1">
                  <a:off x="6963120" y="45910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2" name=""/>
          <p:cNvSpPr/>
          <p:nvPr/>
        </p:nvSpPr>
        <p:spPr>
          <a:xfrm flipV="1">
            <a:off x="6210360" y="44593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B25-36A6-4D93-AE9D-C91B9C2067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d-end resources reserved for “cal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bandwidth,  switch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dicated resources: no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-like (guaranteed)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setup requ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"/>
          <p:cNvSpPr/>
          <p:nvPr/>
        </p:nvSpPr>
        <p:spPr>
          <a:xfrm>
            <a:off x="6711840" y="1717560"/>
            <a:ext cx="2046240" cy="20494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575240" y="1542960"/>
            <a:ext cx="2122560" cy="194328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994280" y="3317760"/>
            <a:ext cx="3382920" cy="271476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4708440" y="1708200"/>
            <a:ext cx="834840" cy="390600"/>
            <a:chOff x="4708440" y="1708200"/>
            <a:chExt cx="834840" cy="390600"/>
          </a:xfrm>
        </p:grpSpPr>
        <p:pic>
          <p:nvPicPr>
            <p:cNvPr id="1529" name="" descr=""/>
            <p:cNvPicPr/>
            <p:nvPr/>
          </p:nvPicPr>
          <p:blipFill>
            <a:blip r:embed="rId1"/>
            <a:stretch/>
          </p:blipFill>
          <p:spPr>
            <a:xfrm>
              <a:off x="4708440" y="170820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0" name="" descr=""/>
            <p:cNvPicPr/>
            <p:nvPr/>
          </p:nvPicPr>
          <p:blipFill>
            <a:blip r:embed="rId2"/>
            <a:stretch/>
          </p:blipFill>
          <p:spPr>
            <a:xfrm>
              <a:off x="5225040" y="185292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1" name=""/>
            <p:cNvSpPr/>
            <p:nvPr/>
          </p:nvSpPr>
          <p:spPr>
            <a:xfrm flipV="1">
              <a:off x="5171040" y="200412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4708440" y="2436840"/>
            <a:ext cx="834840" cy="390600"/>
            <a:chOff x="4708440" y="2436840"/>
            <a:chExt cx="834840" cy="390600"/>
          </a:xfrm>
        </p:grpSpPr>
        <p:pic>
          <p:nvPicPr>
            <p:cNvPr id="1533" name="" descr=""/>
            <p:cNvPicPr/>
            <p:nvPr/>
          </p:nvPicPr>
          <p:blipFill>
            <a:blip r:embed="rId3"/>
            <a:stretch/>
          </p:blipFill>
          <p:spPr>
            <a:xfrm>
              <a:off x="4708440" y="2436840"/>
              <a:ext cx="47376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5225040" y="2581560"/>
              <a:ext cx="31824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5" name=""/>
            <p:cNvSpPr/>
            <p:nvPr/>
          </p:nvSpPr>
          <p:spPr>
            <a:xfrm flipV="1">
              <a:off x="5171040" y="2732760"/>
              <a:ext cx="1299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5137200" y="2176560"/>
            <a:ext cx="78840" cy="261360"/>
            <a:chOff x="5137200" y="2176560"/>
            <a:chExt cx="78840" cy="261360"/>
          </a:xfrm>
        </p:grpSpPr>
        <p:sp>
          <p:nvSpPr>
            <p:cNvPr id="1537" name=""/>
            <p:cNvSpPr/>
            <p:nvPr/>
          </p:nvSpPr>
          <p:spPr>
            <a:xfrm>
              <a:off x="5137200" y="2176560"/>
              <a:ext cx="72720" cy="738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140080" y="227052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143320" y="2364480"/>
              <a:ext cx="72720" cy="73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5670720" y="2792520"/>
            <a:ext cx="237960" cy="482040"/>
            <a:chOff x="5670720" y="2792520"/>
            <a:chExt cx="237960" cy="482040"/>
          </a:xfrm>
        </p:grpSpPr>
        <p:sp>
          <p:nvSpPr>
            <p:cNvPr id="1541" name=""/>
            <p:cNvSpPr/>
            <p:nvPr/>
          </p:nvSpPr>
          <p:spPr>
            <a:xfrm>
              <a:off x="5670720" y="31633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791320" y="2795400"/>
              <a:ext cx="109440" cy="3704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72160" y="2900520"/>
              <a:ext cx="150840" cy="3708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670720" y="2792520"/>
              <a:ext cx="237960" cy="111240"/>
            </a:xfrm>
            <a:prstGeom prst="parallelogram">
              <a:avLst>
                <a:gd name="adj" fmla="val 8240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08680" y="2800080"/>
              <a:ext cx="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823000" y="3163320"/>
              <a:ext cx="8568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691240" y="2949480"/>
              <a:ext cx="100080" cy="213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05640" y="3013920"/>
              <a:ext cx="7596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5940360" y="2980080"/>
            <a:ext cx="265320" cy="99720"/>
            <a:chOff x="5940360" y="2980080"/>
            <a:chExt cx="265320" cy="99720"/>
          </a:xfrm>
        </p:grpSpPr>
        <p:sp>
          <p:nvSpPr>
            <p:cNvPr id="1550" name=""/>
            <p:cNvSpPr/>
            <p:nvPr/>
          </p:nvSpPr>
          <p:spPr>
            <a:xfrm rot="16200000">
              <a:off x="5931720" y="2996280"/>
              <a:ext cx="9180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6200000">
              <a:off x="6027120" y="299268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6200000">
              <a:off x="6122520" y="2988720"/>
              <a:ext cx="9180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5826240" y="2679840"/>
            <a:ext cx="563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829480" y="2674800"/>
            <a:ext cx="2880" cy="11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92880" y="2673360"/>
            <a:ext cx="14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484960" y="2019240"/>
            <a:ext cx="328320" cy="3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5499000" y="2368440"/>
            <a:ext cx="314280" cy="40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6099120" y="2473200"/>
            <a:ext cx="18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6234120" y="2763720"/>
            <a:ext cx="237960" cy="483840"/>
            <a:chOff x="6234120" y="2763720"/>
            <a:chExt cx="237960" cy="483840"/>
          </a:xfrm>
        </p:grpSpPr>
        <p:sp>
          <p:nvSpPr>
            <p:cNvPr id="1560" name=""/>
            <p:cNvSpPr/>
            <p:nvPr/>
          </p:nvSpPr>
          <p:spPr>
            <a:xfrm>
              <a:off x="6234120" y="31359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354720" y="276660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35560" y="287208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34120" y="276372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72080" y="277128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6386400" y="313596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54640" y="292140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69040" y="298584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5145120" y="3521160"/>
            <a:ext cx="546120" cy="1132920"/>
            <a:chOff x="5145120" y="3521160"/>
            <a:chExt cx="546120" cy="1132920"/>
          </a:xfrm>
        </p:grpSpPr>
        <p:pic>
          <p:nvPicPr>
            <p:cNvPr id="1569" name="" descr=""/>
            <p:cNvPicPr/>
            <p:nvPr/>
          </p:nvPicPr>
          <p:blipFill>
            <a:blip r:embed="rId5"/>
            <a:stretch/>
          </p:blipFill>
          <p:spPr>
            <a:xfrm>
              <a:off x="5145120" y="352116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0" name=""/>
            <p:cNvSpPr/>
            <p:nvPr/>
          </p:nvSpPr>
          <p:spPr>
            <a:xfrm flipV="1">
              <a:off x="5608440" y="3823200"/>
              <a:ext cx="8280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1" name="" descr=""/>
            <p:cNvPicPr/>
            <p:nvPr/>
          </p:nvPicPr>
          <p:blipFill>
            <a:blip r:embed="rId6"/>
            <a:stretch/>
          </p:blipFill>
          <p:spPr>
            <a:xfrm>
              <a:off x="5145120" y="4249080"/>
              <a:ext cx="474480" cy="4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"/>
            <p:cNvSpPr/>
            <p:nvPr/>
          </p:nvSpPr>
          <p:spPr>
            <a:xfrm flipV="1">
              <a:off x="5608440" y="4555800"/>
              <a:ext cx="82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5288040" y="3939120"/>
              <a:ext cx="81000" cy="272160"/>
              <a:chOff x="5288040" y="3939120"/>
              <a:chExt cx="81000" cy="272160"/>
            </a:xfrm>
          </p:grpSpPr>
          <p:sp>
            <p:nvSpPr>
              <p:cNvPr id="1574" name=""/>
              <p:cNvSpPr/>
              <p:nvPr/>
            </p:nvSpPr>
            <p:spPr>
              <a:xfrm>
                <a:off x="5288040" y="3939120"/>
                <a:ext cx="74520" cy="766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291280" y="403704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294520" y="4134960"/>
                <a:ext cx="74520" cy="763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7" name=""/>
            <p:cNvSpPr/>
            <p:nvPr/>
          </p:nvSpPr>
          <p:spPr>
            <a:xfrm>
              <a:off x="5684760" y="3819600"/>
              <a:ext cx="0" cy="73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8" name="" descr=""/>
          <p:cNvPicPr/>
          <p:nvPr/>
        </p:nvPicPr>
        <p:blipFill>
          <a:blip r:embed="rId7"/>
          <a:stretch/>
        </p:blipFill>
        <p:spPr>
          <a:xfrm>
            <a:off x="6132600" y="4756320"/>
            <a:ext cx="476280" cy="406080"/>
          </a:xfrm>
          <a:prstGeom prst="rect">
            <a:avLst/>
          </a:prstGeom>
          <a:ln w="0">
            <a:noFill/>
          </a:ln>
        </p:spPr>
      </p:pic>
      <p:pic>
        <p:nvPicPr>
          <p:cNvPr id="1579" name="" descr=""/>
          <p:cNvPicPr/>
          <p:nvPr/>
        </p:nvPicPr>
        <p:blipFill>
          <a:blip r:embed="rId8"/>
          <a:stretch/>
        </p:blipFill>
        <p:spPr>
          <a:xfrm>
            <a:off x="5433840" y="4743360"/>
            <a:ext cx="473400" cy="403200"/>
          </a:xfrm>
          <a:prstGeom prst="rect">
            <a:avLst/>
          </a:prstGeom>
          <a:ln w="0">
            <a:noFill/>
          </a:ln>
        </p:spPr>
      </p:pic>
      <p:sp>
        <p:nvSpPr>
          <p:cNvPr id="1580" name=""/>
          <p:cNvSpPr/>
          <p:nvPr/>
        </p:nvSpPr>
        <p:spPr>
          <a:xfrm rot="16200000">
            <a:off x="5906160" y="487260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rot="16200000">
            <a:off x="6002280" y="4870440"/>
            <a:ext cx="7776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rot="16200000">
            <a:off x="6090120" y="4875840"/>
            <a:ext cx="76320" cy="745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6421320" y="4690800"/>
            <a:ext cx="32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711760" y="4676760"/>
            <a:ext cx="0" cy="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5715000" y="4684680"/>
            <a:ext cx="71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5691240" y="4225680"/>
            <a:ext cx="1062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375240" y="4282920"/>
            <a:ext cx="34452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7280280" y="4278240"/>
            <a:ext cx="317520" cy="48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9" name="" descr=""/>
          <p:cNvPicPr/>
          <p:nvPr/>
        </p:nvPicPr>
        <p:blipFill>
          <a:blip r:embed="rId9"/>
          <a:stretch/>
        </p:blipFill>
        <p:spPr>
          <a:xfrm>
            <a:off x="7481880" y="3732120"/>
            <a:ext cx="231840" cy="293760"/>
          </a:xfrm>
          <a:prstGeom prst="rect">
            <a:avLst/>
          </a:prstGeom>
          <a:ln w="0">
            <a:noFill/>
          </a:ln>
        </p:spPr>
      </p:pic>
      <p:pic>
        <p:nvPicPr>
          <p:cNvPr id="1590" name="" descr=""/>
          <p:cNvPicPr/>
          <p:nvPr/>
        </p:nvPicPr>
        <p:blipFill>
          <a:blip r:embed="rId10"/>
          <a:stretch/>
        </p:blipFill>
        <p:spPr>
          <a:xfrm>
            <a:off x="5961240" y="3830760"/>
            <a:ext cx="231480" cy="293400"/>
          </a:xfrm>
          <a:prstGeom prst="rect">
            <a:avLst/>
          </a:prstGeom>
          <a:ln w="0">
            <a:noFill/>
          </a:ln>
        </p:spPr>
      </p:pic>
      <p:sp>
        <p:nvSpPr>
          <p:cNvPr id="1591" name=""/>
          <p:cNvSpPr/>
          <p:nvPr/>
        </p:nvSpPr>
        <p:spPr>
          <a:xfrm>
            <a:off x="6053040" y="3554280"/>
            <a:ext cx="1540080" cy="3733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2" name=""/>
          <p:cNvGrpSpPr/>
          <p:nvPr/>
        </p:nvGrpSpPr>
        <p:grpSpPr>
          <a:xfrm>
            <a:off x="6356520" y="5294160"/>
            <a:ext cx="462960" cy="522000"/>
            <a:chOff x="6356520" y="5294160"/>
            <a:chExt cx="462960" cy="522000"/>
          </a:xfrm>
        </p:grpSpPr>
        <p:pic>
          <p:nvPicPr>
            <p:cNvPr id="1593" name="" descr=""/>
            <p:cNvPicPr/>
            <p:nvPr/>
          </p:nvPicPr>
          <p:blipFill>
            <a:blip r:embed="rId11"/>
            <a:stretch/>
          </p:blipFill>
          <p:spPr>
            <a:xfrm>
              <a:off x="6356520" y="5294160"/>
              <a:ext cx="43128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4" name="" descr=""/>
            <p:cNvPicPr/>
            <p:nvPr/>
          </p:nvPicPr>
          <p:blipFill>
            <a:blip r:embed="rId12"/>
            <a:stretch/>
          </p:blipFill>
          <p:spPr>
            <a:xfrm>
              <a:off x="6424560" y="5430960"/>
              <a:ext cx="394920" cy="385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5" name=""/>
          <p:cNvGrpSpPr/>
          <p:nvPr/>
        </p:nvGrpSpPr>
        <p:grpSpPr>
          <a:xfrm>
            <a:off x="7242120" y="5334120"/>
            <a:ext cx="461520" cy="521640"/>
            <a:chOff x="7242120" y="5334120"/>
            <a:chExt cx="461520" cy="521640"/>
          </a:xfrm>
        </p:grpSpPr>
        <p:pic>
          <p:nvPicPr>
            <p:cNvPr id="1596" name="" descr=""/>
            <p:cNvPicPr/>
            <p:nvPr/>
          </p:nvPicPr>
          <p:blipFill>
            <a:blip r:embed="rId13"/>
            <a:stretch/>
          </p:blipFill>
          <p:spPr>
            <a:xfrm>
              <a:off x="7242120" y="5334120"/>
              <a:ext cx="42984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7" name="" descr=""/>
            <p:cNvPicPr/>
            <p:nvPr/>
          </p:nvPicPr>
          <p:blipFill>
            <a:blip r:embed="rId14"/>
            <a:stretch/>
          </p:blipFill>
          <p:spPr>
            <a:xfrm>
              <a:off x="7310160" y="5470920"/>
              <a:ext cx="393480" cy="384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8" name=""/>
          <p:cNvGrpSpPr/>
          <p:nvPr/>
        </p:nvGrpSpPr>
        <p:grpSpPr>
          <a:xfrm>
            <a:off x="6770520" y="4986360"/>
            <a:ext cx="432000" cy="460080"/>
            <a:chOff x="6770520" y="4986360"/>
            <a:chExt cx="432000" cy="460080"/>
          </a:xfrm>
        </p:grpSpPr>
        <p:pic>
          <p:nvPicPr>
            <p:cNvPr id="1599" name="" descr=""/>
            <p:cNvPicPr/>
            <p:nvPr/>
          </p:nvPicPr>
          <p:blipFill>
            <a:blip r:embed="rId15"/>
            <a:stretch/>
          </p:blipFill>
          <p:spPr>
            <a:xfrm>
              <a:off x="6770520" y="4986360"/>
              <a:ext cx="43200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0" name=""/>
            <p:cNvSpPr/>
            <p:nvPr/>
          </p:nvSpPr>
          <p:spPr>
            <a:xfrm>
              <a:off x="6896160" y="5148000"/>
              <a:ext cx="304560" cy="298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7118280" y="48672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7939080" y="4162320"/>
            <a:ext cx="236520" cy="501480"/>
            <a:chOff x="7939080" y="4162320"/>
            <a:chExt cx="236520" cy="501480"/>
          </a:xfrm>
        </p:grpSpPr>
        <p:sp>
          <p:nvSpPr>
            <p:cNvPr id="1603" name=""/>
            <p:cNvSpPr/>
            <p:nvPr/>
          </p:nvSpPr>
          <p:spPr>
            <a:xfrm>
              <a:off x="7939080" y="454788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058600" y="4165560"/>
              <a:ext cx="108720" cy="3852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940160" y="4274640"/>
              <a:ext cx="149760" cy="385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939080" y="4162320"/>
              <a:ext cx="236520" cy="115920"/>
            </a:xfrm>
            <a:prstGeom prst="parallelogram">
              <a:avLst>
                <a:gd name="adj" fmla="val 7860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75600" y="4170240"/>
              <a:ext cx="0" cy="37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8090280" y="4547880"/>
              <a:ext cx="84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959240" y="4325760"/>
              <a:ext cx="99360" cy="22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973640" y="4392720"/>
              <a:ext cx="75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7924680" y="4707000"/>
            <a:ext cx="236520" cy="499680"/>
            <a:chOff x="7924680" y="4707000"/>
            <a:chExt cx="236520" cy="499680"/>
          </a:xfrm>
        </p:grpSpPr>
        <p:sp>
          <p:nvSpPr>
            <p:cNvPr id="1612" name=""/>
            <p:cNvSpPr/>
            <p:nvPr/>
          </p:nvSpPr>
          <p:spPr>
            <a:xfrm>
              <a:off x="7924680" y="509112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044200" y="4710240"/>
              <a:ext cx="108720" cy="3837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925760" y="4818960"/>
              <a:ext cx="149760" cy="384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924680" y="4707000"/>
              <a:ext cx="236520" cy="115560"/>
            </a:xfrm>
            <a:prstGeom prst="parallelogram">
              <a:avLst>
                <a:gd name="adj" fmla="val 7884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161200" y="4714920"/>
              <a:ext cx="0" cy="37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8075880" y="5091120"/>
              <a:ext cx="84960" cy="11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944840" y="4869720"/>
              <a:ext cx="99360" cy="221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959240" y="4936680"/>
              <a:ext cx="75240" cy="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 flipV="1">
            <a:off x="7846920" y="424620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842240" y="4991040"/>
            <a:ext cx="11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839000" y="440856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V="1">
            <a:off x="6388200" y="2081160"/>
            <a:ext cx="52056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451640" y="2062080"/>
            <a:ext cx="55260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8042400" y="2473200"/>
            <a:ext cx="27288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165800" y="219852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194600" y="2990880"/>
            <a:ext cx="60804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7718400" y="3560760"/>
            <a:ext cx="30312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7459200" y="2433600"/>
            <a:ext cx="63828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7470360" y="1749600"/>
            <a:ext cx="398520" cy="31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>
            <a:off x="8286480" y="1963800"/>
            <a:ext cx="23004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2" name=""/>
          <p:cNvGrpSpPr/>
          <p:nvPr/>
        </p:nvGrpSpPr>
        <p:grpSpPr>
          <a:xfrm>
            <a:off x="5797440" y="2198520"/>
            <a:ext cx="569880" cy="285480"/>
            <a:chOff x="5797440" y="2198520"/>
            <a:chExt cx="569880" cy="285480"/>
          </a:xfrm>
        </p:grpSpPr>
        <p:sp>
          <p:nvSpPr>
            <p:cNvPr id="1633" name=""/>
            <p:cNvSpPr/>
            <p:nvPr/>
          </p:nvSpPr>
          <p:spPr>
            <a:xfrm>
              <a:off x="5801760" y="23259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0176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367320" y="23126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801760" y="23126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97440" y="21985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5933160" y="2239200"/>
              <a:ext cx="279720" cy="107640"/>
              <a:chOff x="5933160" y="2239200"/>
              <a:chExt cx="279720" cy="107640"/>
            </a:xfrm>
          </p:grpSpPr>
          <p:sp>
            <p:nvSpPr>
              <p:cNvPr id="1639" name=""/>
              <p:cNvSpPr/>
              <p:nvPr/>
            </p:nvSpPr>
            <p:spPr>
              <a:xfrm flipV="1">
                <a:off x="5933160" y="22392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125040" y="23468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024960" y="22413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2" name=""/>
            <p:cNvGrpSpPr/>
            <p:nvPr/>
          </p:nvGrpSpPr>
          <p:grpSpPr>
            <a:xfrm>
              <a:off x="5933160" y="2237400"/>
              <a:ext cx="279720" cy="107640"/>
              <a:chOff x="5933160" y="2237400"/>
              <a:chExt cx="279720" cy="107640"/>
            </a:xfrm>
          </p:grpSpPr>
          <p:sp>
            <p:nvSpPr>
              <p:cNvPr id="1643" name=""/>
              <p:cNvSpPr/>
              <p:nvPr/>
            </p:nvSpPr>
            <p:spPr>
              <a:xfrm>
                <a:off x="5933160" y="23428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125040" y="22374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V="1">
                <a:off x="6024960" y="22374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6" name=""/>
          <p:cNvGrpSpPr/>
          <p:nvPr/>
        </p:nvGrpSpPr>
        <p:grpSpPr>
          <a:xfrm>
            <a:off x="6880320" y="1919160"/>
            <a:ext cx="571320" cy="285480"/>
            <a:chOff x="6880320" y="1919160"/>
            <a:chExt cx="571320" cy="285480"/>
          </a:xfrm>
        </p:grpSpPr>
        <p:sp>
          <p:nvSpPr>
            <p:cNvPr id="1647" name=""/>
            <p:cNvSpPr/>
            <p:nvPr/>
          </p:nvSpPr>
          <p:spPr>
            <a:xfrm>
              <a:off x="6884640" y="2046600"/>
              <a:ext cx="56664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884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451640" y="203328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84640" y="2033280"/>
              <a:ext cx="56160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880320" y="1919160"/>
              <a:ext cx="56628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7016400" y="1959840"/>
              <a:ext cx="280440" cy="107640"/>
              <a:chOff x="7016400" y="1959840"/>
              <a:chExt cx="280440" cy="107640"/>
            </a:xfrm>
          </p:grpSpPr>
          <p:sp>
            <p:nvSpPr>
              <p:cNvPr id="1653" name=""/>
              <p:cNvSpPr/>
              <p:nvPr/>
            </p:nvSpPr>
            <p:spPr>
              <a:xfrm flipV="1">
                <a:off x="7016400" y="195984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208640" y="206748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108560" y="196200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6" name=""/>
            <p:cNvGrpSpPr/>
            <p:nvPr/>
          </p:nvGrpSpPr>
          <p:grpSpPr>
            <a:xfrm>
              <a:off x="7016400" y="1958040"/>
              <a:ext cx="280440" cy="107640"/>
              <a:chOff x="7016400" y="1958040"/>
              <a:chExt cx="280440" cy="107640"/>
            </a:xfrm>
          </p:grpSpPr>
          <p:sp>
            <p:nvSpPr>
              <p:cNvPr id="1657" name=""/>
              <p:cNvSpPr/>
              <p:nvPr/>
            </p:nvSpPr>
            <p:spPr>
              <a:xfrm>
                <a:off x="7016400" y="2063520"/>
                <a:ext cx="100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208640" y="1958040"/>
                <a:ext cx="88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flipV="1">
                <a:off x="7108560" y="1958040"/>
                <a:ext cx="10404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0" name=""/>
          <p:cNvGrpSpPr/>
          <p:nvPr/>
        </p:nvGrpSpPr>
        <p:grpSpPr>
          <a:xfrm>
            <a:off x="6900840" y="2724120"/>
            <a:ext cx="569880" cy="285480"/>
            <a:chOff x="6900840" y="2724120"/>
            <a:chExt cx="569880" cy="285480"/>
          </a:xfrm>
        </p:grpSpPr>
        <p:sp>
          <p:nvSpPr>
            <p:cNvPr id="1661" name=""/>
            <p:cNvSpPr/>
            <p:nvPr/>
          </p:nvSpPr>
          <p:spPr>
            <a:xfrm>
              <a:off x="6905160" y="2851560"/>
              <a:ext cx="565200" cy="158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90516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470720" y="2838240"/>
              <a:ext cx="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05160" y="2838240"/>
              <a:ext cx="560160" cy="9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900840" y="2724120"/>
              <a:ext cx="564840" cy="184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7036560" y="2764800"/>
              <a:ext cx="279720" cy="107640"/>
              <a:chOff x="7036560" y="2764800"/>
              <a:chExt cx="279720" cy="107640"/>
            </a:xfrm>
          </p:grpSpPr>
          <p:sp>
            <p:nvSpPr>
              <p:cNvPr id="1667" name=""/>
              <p:cNvSpPr/>
              <p:nvPr/>
            </p:nvSpPr>
            <p:spPr>
              <a:xfrm flipV="1">
                <a:off x="7036560" y="27648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228440" y="28724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128360" y="276696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7036560" y="2763000"/>
              <a:ext cx="279720" cy="107640"/>
              <a:chOff x="7036560" y="2763000"/>
              <a:chExt cx="279720" cy="107640"/>
            </a:xfrm>
          </p:grpSpPr>
          <p:sp>
            <p:nvSpPr>
              <p:cNvPr id="1671" name=""/>
              <p:cNvSpPr/>
              <p:nvPr/>
            </p:nvSpPr>
            <p:spPr>
              <a:xfrm>
                <a:off x="7036560" y="2868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228440" y="27630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128360" y="2763000"/>
                <a:ext cx="103680" cy="10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4" name=""/>
          <p:cNvGrpSpPr/>
          <p:nvPr/>
        </p:nvGrpSpPr>
        <p:grpSpPr>
          <a:xfrm>
            <a:off x="8004240" y="2174760"/>
            <a:ext cx="568440" cy="284040"/>
            <a:chOff x="8004240" y="2174760"/>
            <a:chExt cx="568440" cy="284040"/>
          </a:xfrm>
        </p:grpSpPr>
        <p:sp>
          <p:nvSpPr>
            <p:cNvPr id="1675" name=""/>
            <p:cNvSpPr/>
            <p:nvPr/>
          </p:nvSpPr>
          <p:spPr>
            <a:xfrm>
              <a:off x="8008560" y="2301480"/>
              <a:ext cx="56376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00856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572680" y="22881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008560" y="2288160"/>
              <a:ext cx="55872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8004240" y="2174760"/>
              <a:ext cx="56340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0" name=""/>
            <p:cNvGrpSpPr/>
            <p:nvPr/>
          </p:nvGrpSpPr>
          <p:grpSpPr>
            <a:xfrm>
              <a:off x="8139600" y="2215080"/>
              <a:ext cx="278640" cy="107280"/>
              <a:chOff x="8139600" y="2215080"/>
              <a:chExt cx="278640" cy="107280"/>
            </a:xfrm>
          </p:grpSpPr>
          <p:sp>
            <p:nvSpPr>
              <p:cNvPr id="1681" name=""/>
              <p:cNvSpPr/>
              <p:nvPr/>
            </p:nvSpPr>
            <p:spPr>
              <a:xfrm flipV="1">
                <a:off x="8139600" y="221508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30760" y="232236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8231400" y="22172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8139600" y="2213640"/>
              <a:ext cx="278640" cy="107280"/>
              <a:chOff x="8139600" y="2213640"/>
              <a:chExt cx="278640" cy="107280"/>
            </a:xfrm>
          </p:grpSpPr>
          <p:sp>
            <p:nvSpPr>
              <p:cNvPr id="1685" name=""/>
              <p:cNvSpPr/>
              <p:nvPr/>
            </p:nvSpPr>
            <p:spPr>
              <a:xfrm>
                <a:off x="8139600" y="231876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8330760" y="22136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8231400" y="2213640"/>
                <a:ext cx="10332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8" name=""/>
          <p:cNvGrpSpPr/>
          <p:nvPr/>
        </p:nvGrpSpPr>
        <p:grpSpPr>
          <a:xfrm>
            <a:off x="7783560" y="3271680"/>
            <a:ext cx="569880" cy="284040"/>
            <a:chOff x="7783560" y="3271680"/>
            <a:chExt cx="569880" cy="284040"/>
          </a:xfrm>
        </p:grpSpPr>
        <p:sp>
          <p:nvSpPr>
            <p:cNvPr id="1689" name=""/>
            <p:cNvSpPr/>
            <p:nvPr/>
          </p:nvSpPr>
          <p:spPr>
            <a:xfrm>
              <a:off x="7787880" y="339840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78788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53440" y="338508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87880" y="338508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783560" y="327168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4" name=""/>
            <p:cNvGrpSpPr/>
            <p:nvPr/>
          </p:nvGrpSpPr>
          <p:grpSpPr>
            <a:xfrm>
              <a:off x="7919280" y="3312000"/>
              <a:ext cx="279720" cy="107280"/>
              <a:chOff x="7919280" y="3312000"/>
              <a:chExt cx="279720" cy="107280"/>
            </a:xfrm>
          </p:grpSpPr>
          <p:sp>
            <p:nvSpPr>
              <p:cNvPr id="1695" name=""/>
              <p:cNvSpPr/>
              <p:nvPr/>
            </p:nvSpPr>
            <p:spPr>
              <a:xfrm flipV="1">
                <a:off x="7919280" y="33120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111160" y="34192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11080" y="33141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919280" y="3310560"/>
              <a:ext cx="279720" cy="107280"/>
              <a:chOff x="7919280" y="3310560"/>
              <a:chExt cx="279720" cy="107280"/>
            </a:xfrm>
          </p:grpSpPr>
          <p:sp>
            <p:nvSpPr>
              <p:cNvPr id="1699" name=""/>
              <p:cNvSpPr/>
              <p:nvPr/>
            </p:nvSpPr>
            <p:spPr>
              <a:xfrm>
                <a:off x="7919280" y="34156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111160" y="33105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8011080" y="331056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2" name=""/>
          <p:cNvGrpSpPr/>
          <p:nvPr/>
        </p:nvGrpSpPr>
        <p:grpSpPr>
          <a:xfrm>
            <a:off x="7404120" y="3986280"/>
            <a:ext cx="569880" cy="286920"/>
            <a:chOff x="7404120" y="3986280"/>
            <a:chExt cx="569880" cy="286920"/>
          </a:xfrm>
        </p:grpSpPr>
        <p:sp>
          <p:nvSpPr>
            <p:cNvPr id="1703" name=""/>
            <p:cNvSpPr/>
            <p:nvPr/>
          </p:nvSpPr>
          <p:spPr>
            <a:xfrm>
              <a:off x="7408440" y="4114440"/>
              <a:ext cx="565200" cy="158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0844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74000" y="410076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08440" y="4100760"/>
              <a:ext cx="560160" cy="9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404120" y="3986280"/>
              <a:ext cx="564840" cy="1854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7539840" y="4026960"/>
              <a:ext cx="279720" cy="108360"/>
              <a:chOff x="7539840" y="4026960"/>
              <a:chExt cx="279720" cy="108360"/>
            </a:xfrm>
          </p:grpSpPr>
          <p:sp>
            <p:nvSpPr>
              <p:cNvPr id="1709" name=""/>
              <p:cNvSpPr/>
              <p:nvPr/>
            </p:nvSpPr>
            <p:spPr>
              <a:xfrm flipV="1">
                <a:off x="7539840" y="40269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731720" y="413532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631640" y="402912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7539840" y="4025160"/>
              <a:ext cx="279720" cy="108360"/>
              <a:chOff x="7539840" y="4025160"/>
              <a:chExt cx="279720" cy="108360"/>
            </a:xfrm>
          </p:grpSpPr>
          <p:sp>
            <p:nvSpPr>
              <p:cNvPr id="1713" name=""/>
              <p:cNvSpPr/>
              <p:nvPr/>
            </p:nvSpPr>
            <p:spPr>
              <a:xfrm>
                <a:off x="7539840" y="41313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731720" y="40251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7631640" y="4025160"/>
                <a:ext cx="1036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6" name=""/>
          <p:cNvGrpSpPr/>
          <p:nvPr/>
        </p:nvGrpSpPr>
        <p:grpSpPr>
          <a:xfrm>
            <a:off x="6710400" y="4584600"/>
            <a:ext cx="569880" cy="284040"/>
            <a:chOff x="6710400" y="4584600"/>
            <a:chExt cx="569880" cy="284040"/>
          </a:xfrm>
        </p:grpSpPr>
        <p:sp>
          <p:nvSpPr>
            <p:cNvPr id="1717" name=""/>
            <p:cNvSpPr/>
            <p:nvPr/>
          </p:nvSpPr>
          <p:spPr>
            <a:xfrm>
              <a:off x="6714720" y="471132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71472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280280" y="469800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714720" y="469800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710400" y="458460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2" name=""/>
            <p:cNvGrpSpPr/>
            <p:nvPr/>
          </p:nvGrpSpPr>
          <p:grpSpPr>
            <a:xfrm>
              <a:off x="6846120" y="4624920"/>
              <a:ext cx="279720" cy="107280"/>
              <a:chOff x="6846120" y="4624920"/>
              <a:chExt cx="279720" cy="107280"/>
            </a:xfrm>
          </p:grpSpPr>
          <p:sp>
            <p:nvSpPr>
              <p:cNvPr id="1723" name=""/>
              <p:cNvSpPr/>
              <p:nvPr/>
            </p:nvSpPr>
            <p:spPr>
              <a:xfrm flipV="1">
                <a:off x="6846120" y="462492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038000" y="473220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937920" y="46270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6846120" y="4623480"/>
              <a:ext cx="279720" cy="107280"/>
              <a:chOff x="6846120" y="4623480"/>
              <a:chExt cx="279720" cy="107280"/>
            </a:xfrm>
          </p:grpSpPr>
          <p:sp>
            <p:nvSpPr>
              <p:cNvPr id="1727" name=""/>
              <p:cNvSpPr/>
              <p:nvPr/>
            </p:nvSpPr>
            <p:spPr>
              <a:xfrm>
                <a:off x="6846120" y="472860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038000" y="462348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6937920" y="462348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0" name=""/>
          <p:cNvGrpSpPr/>
          <p:nvPr/>
        </p:nvGrpSpPr>
        <p:grpSpPr>
          <a:xfrm>
            <a:off x="5797440" y="4124160"/>
            <a:ext cx="569880" cy="284040"/>
            <a:chOff x="5797440" y="4124160"/>
            <a:chExt cx="569880" cy="284040"/>
          </a:xfrm>
        </p:grpSpPr>
        <p:sp>
          <p:nvSpPr>
            <p:cNvPr id="1731" name=""/>
            <p:cNvSpPr/>
            <p:nvPr/>
          </p:nvSpPr>
          <p:spPr>
            <a:xfrm>
              <a:off x="5801760" y="4250880"/>
              <a:ext cx="565200" cy="1573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80176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367320" y="4237560"/>
              <a:ext cx="0" cy="9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801760" y="4237560"/>
              <a:ext cx="560160" cy="96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797440" y="4124160"/>
              <a:ext cx="564840" cy="183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6" name=""/>
            <p:cNvGrpSpPr/>
            <p:nvPr/>
          </p:nvGrpSpPr>
          <p:grpSpPr>
            <a:xfrm>
              <a:off x="5933160" y="4164480"/>
              <a:ext cx="279720" cy="107280"/>
              <a:chOff x="5933160" y="4164480"/>
              <a:chExt cx="279720" cy="107280"/>
            </a:xfrm>
          </p:grpSpPr>
          <p:sp>
            <p:nvSpPr>
              <p:cNvPr id="1737" name=""/>
              <p:cNvSpPr/>
              <p:nvPr/>
            </p:nvSpPr>
            <p:spPr>
              <a:xfrm flipV="1">
                <a:off x="5933160" y="416448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125040" y="427176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24960" y="41666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5933160" y="4163040"/>
              <a:ext cx="279720" cy="107280"/>
              <a:chOff x="5933160" y="4163040"/>
              <a:chExt cx="279720" cy="107280"/>
            </a:xfrm>
          </p:grpSpPr>
          <p:sp>
            <p:nvSpPr>
              <p:cNvPr id="1741" name=""/>
              <p:cNvSpPr/>
              <p:nvPr/>
            </p:nvSpPr>
            <p:spPr>
              <a:xfrm>
                <a:off x="5933160" y="4268160"/>
                <a:ext cx="99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125040" y="4163040"/>
                <a:ext cx="87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6024960" y="4163040"/>
                <a:ext cx="10368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4" name=""/>
          <p:cNvSpPr/>
          <p:nvPr/>
        </p:nvSpPr>
        <p:spPr>
          <a:xfrm>
            <a:off x="5124600" y="1933560"/>
            <a:ext cx="3038400" cy="3114720"/>
          </a:xfrm>
          <a:custGeom>
            <a:avLst/>
            <a:gdLst/>
            <a:ahLst/>
            <a:rect l="l" t="t" r="r" b="b"/>
            <a:pathLst>
              <a:path w="1914" h="1962">
                <a:moveTo>
                  <a:pt x="0" y="0"/>
                </a:moveTo>
                <a:lnTo>
                  <a:pt x="258" y="12"/>
                </a:lnTo>
                <a:lnTo>
                  <a:pt x="426" y="198"/>
                </a:lnTo>
                <a:lnTo>
                  <a:pt x="768" y="204"/>
                </a:lnTo>
                <a:lnTo>
                  <a:pt x="1086" y="48"/>
                </a:lnTo>
                <a:lnTo>
                  <a:pt x="1326" y="48"/>
                </a:lnTo>
                <a:lnTo>
                  <a:pt x="1326" y="588"/>
                </a:lnTo>
                <a:lnTo>
                  <a:pt x="1890" y="990"/>
                </a:lnTo>
                <a:lnTo>
                  <a:pt x="1662" y="1320"/>
                </a:lnTo>
                <a:lnTo>
                  <a:pt x="1662" y="1944"/>
                </a:lnTo>
                <a:lnTo>
                  <a:pt x="1914" y="1962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991120" y="2152800"/>
            <a:ext cx="1924200" cy="2990880"/>
          </a:xfrm>
          <a:custGeom>
            <a:avLst/>
            <a:gdLst/>
            <a:ahLst/>
            <a:rect l="l" t="t" r="r" b="b"/>
            <a:pathLst>
              <a:path w="1212" h="1884">
                <a:moveTo>
                  <a:pt x="0" y="702"/>
                </a:moveTo>
                <a:lnTo>
                  <a:pt x="0" y="228"/>
                </a:lnTo>
                <a:lnTo>
                  <a:pt x="156" y="228"/>
                </a:lnTo>
                <a:lnTo>
                  <a:pt x="612" y="0"/>
                </a:lnTo>
                <a:lnTo>
                  <a:pt x="714" y="0"/>
                </a:lnTo>
                <a:lnTo>
                  <a:pt x="714" y="558"/>
                </a:lnTo>
                <a:lnTo>
                  <a:pt x="1212" y="912"/>
                </a:lnTo>
                <a:lnTo>
                  <a:pt x="720" y="1668"/>
                </a:lnTo>
                <a:lnTo>
                  <a:pt x="720" y="1884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080040" y="4416480"/>
            <a:ext cx="1800" cy="2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852-3B4D-486B-8E9B-90C8665A2D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Circui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resources (e.g., bandwidth)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vided into “piec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allocated to ca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piec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not used by owning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no shar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ing link bandwidth into “piec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cy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div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9" name="" descr=""/>
          <p:cNvPicPr/>
          <p:nvPr/>
        </p:nvPicPr>
        <p:blipFill>
          <a:blip r:embed="rId1"/>
          <a:stretch/>
        </p:blipFill>
        <p:spPr>
          <a:xfrm>
            <a:off x="4462560" y="1814400"/>
            <a:ext cx="406692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226-BD33-437A-B1D9-6F6FA11810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end-end data stream divided int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A, B packet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twork resourc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acket uses full link bandwid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s us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s need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2" name=""/>
          <p:cNvSpPr/>
          <p:nvPr/>
        </p:nvSpPr>
        <p:spPr>
          <a:xfrm>
            <a:off x="5029200" y="1371600"/>
            <a:ext cx="3886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source conten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esource demand can exceed amoun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: packets queue, wait for link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: packets move one hop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over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turn at nex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533520" y="4419720"/>
            <a:ext cx="4038480" cy="2209680"/>
            <a:chOff x="533520" y="4419720"/>
            <a:chExt cx="4038480" cy="2209680"/>
          </a:xfrm>
        </p:grpSpPr>
        <p:sp>
          <p:nvSpPr>
            <p:cNvPr id="1754" name=""/>
            <p:cNvSpPr/>
            <p:nvPr/>
          </p:nvSpPr>
          <p:spPr>
            <a:xfrm>
              <a:off x="533520" y="4876920"/>
              <a:ext cx="403848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ndwidth division into “pieces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esource reser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219320" y="4419720"/>
              <a:ext cx="2361960" cy="22096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76520" y="4648320"/>
              <a:ext cx="152388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31B-D10E-4460-A743-2BF339DA8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38080" y="4876560"/>
            <a:ext cx="7467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-switching versus circuit switching: human restaurant ana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 human analogi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9" name="" descr=""/>
          <p:cNvPicPr/>
          <p:nvPr/>
        </p:nvPicPr>
        <p:blipFill>
          <a:blip r:embed="rId1"/>
          <a:stretch/>
        </p:blipFill>
        <p:spPr>
          <a:xfrm>
            <a:off x="1203480" y="2470320"/>
            <a:ext cx="645840" cy="533160"/>
          </a:xfrm>
          <a:prstGeom prst="rect">
            <a:avLst/>
          </a:prstGeom>
          <a:ln w="0">
            <a:noFill/>
          </a:ln>
        </p:spPr>
      </p:pic>
      <p:sp>
        <p:nvSpPr>
          <p:cNvPr id="1760" name=""/>
          <p:cNvSpPr/>
          <p:nvPr/>
        </p:nvSpPr>
        <p:spPr>
          <a:xfrm>
            <a:off x="353844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2320920" y="233352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320920" y="226548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330280" y="203688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2676600" y="2066760"/>
            <a:ext cx="497160" cy="118800"/>
            <a:chOff x="2676600" y="2066760"/>
            <a:chExt cx="497160" cy="118800"/>
          </a:xfrm>
        </p:grpSpPr>
        <p:grpSp>
          <p:nvGrpSpPr>
            <p:cNvPr id="1765" name=""/>
            <p:cNvGrpSpPr/>
            <p:nvPr/>
          </p:nvGrpSpPr>
          <p:grpSpPr>
            <a:xfrm>
              <a:off x="2676600" y="2068200"/>
              <a:ext cx="497160" cy="117360"/>
              <a:chOff x="2676600" y="2068200"/>
              <a:chExt cx="497160" cy="117360"/>
            </a:xfrm>
          </p:grpSpPr>
          <p:sp>
            <p:nvSpPr>
              <p:cNvPr id="1766" name=""/>
              <p:cNvSpPr/>
              <p:nvPr/>
            </p:nvSpPr>
            <p:spPr>
              <a:xfrm flipV="1">
                <a:off x="2676600" y="20682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017520" y="21855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840040" y="207036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2676600" y="2066760"/>
              <a:ext cx="497160" cy="117360"/>
              <a:chOff x="2676600" y="2066760"/>
              <a:chExt cx="497160" cy="117360"/>
            </a:xfrm>
          </p:grpSpPr>
          <p:sp>
            <p:nvSpPr>
              <p:cNvPr id="1770" name=""/>
              <p:cNvSpPr/>
              <p:nvPr/>
            </p:nvSpPr>
            <p:spPr>
              <a:xfrm>
                <a:off x="2676600" y="218196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017520" y="20667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2840040" y="206712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3" name=""/>
          <p:cNvSpPr/>
          <p:nvPr/>
        </p:nvSpPr>
        <p:spPr>
          <a:xfrm>
            <a:off x="5416560" y="235260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425920" y="2332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425920" y="229392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435640" y="206532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2"/>
          <a:stretch/>
        </p:blipFill>
        <p:spPr>
          <a:xfrm>
            <a:off x="7004160" y="1546200"/>
            <a:ext cx="645840" cy="533520"/>
          </a:xfrm>
          <a:prstGeom prst="rect">
            <a:avLst/>
          </a:prstGeom>
          <a:ln w="0">
            <a:noFill/>
          </a:ln>
        </p:spPr>
      </p:pic>
      <p:pic>
        <p:nvPicPr>
          <p:cNvPr id="1778" name="" descr=""/>
          <p:cNvPicPr/>
          <p:nvPr/>
        </p:nvPicPr>
        <p:blipFill>
          <a:blip r:embed="rId3"/>
          <a:stretch/>
        </p:blipFill>
        <p:spPr>
          <a:xfrm>
            <a:off x="965160" y="156528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1590840" y="197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V="1">
            <a:off x="1895400" y="2957400"/>
            <a:ext cx="1954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514680" y="2390760"/>
            <a:ext cx="1933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flipV="1">
            <a:off x="5619600" y="2724120"/>
            <a:ext cx="142920" cy="65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V="1">
            <a:off x="6591240" y="1952280"/>
            <a:ext cx="50472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095560" y="1962000"/>
            <a:ext cx="0" cy="1000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104920" y="2395440"/>
            <a:ext cx="200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54816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7101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871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0338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1958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56732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00544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3" name=""/>
          <p:cNvGrpSpPr/>
          <p:nvPr/>
        </p:nvGrpSpPr>
        <p:grpSpPr>
          <a:xfrm>
            <a:off x="2857680" y="2262240"/>
            <a:ext cx="633240" cy="199800"/>
            <a:chOff x="2857680" y="2262240"/>
            <a:chExt cx="633240" cy="199800"/>
          </a:xfrm>
        </p:grpSpPr>
        <p:sp>
          <p:nvSpPr>
            <p:cNvPr id="1794" name=""/>
            <p:cNvSpPr/>
            <p:nvPr/>
          </p:nvSpPr>
          <p:spPr>
            <a:xfrm>
              <a:off x="2857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01932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81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4332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8" name="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305080" y="2266920"/>
            <a:ext cx="2430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flipV="1">
            <a:off x="1971720" y="2543040"/>
            <a:ext cx="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92904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27840" y="158904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887760" y="26082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602040" y="1465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638360" y="131292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744000" y="2427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033960" y="3046320"/>
            <a:ext cx="10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5 M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5467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5629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791320" y="2205000"/>
            <a:ext cx="147600" cy="20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5711400" y="2268720"/>
            <a:ext cx="640800" cy="510480"/>
            <a:chOff x="5711400" y="2268720"/>
            <a:chExt cx="640800" cy="510480"/>
          </a:xfrm>
        </p:grpSpPr>
        <p:sp>
          <p:nvSpPr>
            <p:cNvPr id="1813" name=""/>
            <p:cNvSpPr/>
            <p:nvPr/>
          </p:nvSpPr>
          <p:spPr>
            <a:xfrm rot="19637400">
              <a:off x="5753520" y="255528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rot="19637400">
              <a:off x="5889600" y="246780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rot="19637400">
              <a:off x="6026040" y="238032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19637400">
              <a:off x="6162120" y="2292840"/>
              <a:ext cx="147600" cy="19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7" name=""/>
          <p:cNvGrpSpPr/>
          <p:nvPr/>
        </p:nvGrpSpPr>
        <p:grpSpPr>
          <a:xfrm>
            <a:off x="3680640" y="3341520"/>
            <a:ext cx="3104280" cy="1471680"/>
            <a:chOff x="3680640" y="3341520"/>
            <a:chExt cx="3104280" cy="1471680"/>
          </a:xfrm>
        </p:grpSpPr>
        <p:pic>
          <p:nvPicPr>
            <p:cNvPr id="1818" name="" descr=""/>
            <p:cNvPicPr/>
            <p:nvPr/>
          </p:nvPicPr>
          <p:blipFill>
            <a:blip r:embed="rId4"/>
            <a:stretch/>
          </p:blipFill>
          <p:spPr>
            <a:xfrm>
              <a:off x="5765760" y="427968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9" name=""/>
            <p:cNvGrpSpPr/>
            <p:nvPr/>
          </p:nvGrpSpPr>
          <p:grpSpPr>
            <a:xfrm>
              <a:off x="4921200" y="3341520"/>
              <a:ext cx="1207440" cy="666720"/>
              <a:chOff x="4921200" y="3341520"/>
              <a:chExt cx="1207440" cy="666720"/>
            </a:xfrm>
          </p:grpSpPr>
          <p:sp>
            <p:nvSpPr>
              <p:cNvPr id="1820" name=""/>
              <p:cNvSpPr/>
              <p:nvPr/>
            </p:nvSpPr>
            <p:spPr>
              <a:xfrm>
                <a:off x="4921200" y="3638160"/>
                <a:ext cx="1198080" cy="37008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921200" y="36082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21200" y="3570120"/>
                <a:ext cx="1198080" cy="263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30200" y="3341520"/>
                <a:ext cx="1198440" cy="430200"/>
              </a:xfrm>
              <a:prstGeom prst="ellips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4" name=""/>
              <p:cNvGrpSpPr/>
              <p:nvPr/>
            </p:nvGrpSpPr>
            <p:grpSpPr>
              <a:xfrm>
                <a:off x="5276520" y="3371400"/>
                <a:ext cx="496800" cy="118800"/>
                <a:chOff x="5276520" y="3371400"/>
                <a:chExt cx="496800" cy="118800"/>
              </a:xfrm>
            </p:grpSpPr>
            <p:grpSp>
              <p:nvGrpSpPr>
                <p:cNvPr id="1825" name=""/>
                <p:cNvGrpSpPr/>
                <p:nvPr/>
              </p:nvGrpSpPr>
              <p:grpSpPr>
                <a:xfrm>
                  <a:off x="5276520" y="3372840"/>
                  <a:ext cx="496800" cy="117360"/>
                  <a:chOff x="5276520" y="3372840"/>
                  <a:chExt cx="496800" cy="117360"/>
                </a:xfrm>
              </p:grpSpPr>
              <p:sp>
                <p:nvSpPr>
                  <p:cNvPr id="1826" name=""/>
                  <p:cNvSpPr/>
                  <p:nvPr/>
                </p:nvSpPr>
                <p:spPr>
                  <a:xfrm flipV="1">
                    <a:off x="5276520" y="337284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5617080" y="34902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5439960" y="337500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9" name=""/>
                <p:cNvGrpSpPr/>
                <p:nvPr/>
              </p:nvGrpSpPr>
              <p:grpSpPr>
                <a:xfrm>
                  <a:off x="5276520" y="3371400"/>
                  <a:ext cx="496800" cy="117360"/>
                  <a:chOff x="5276520" y="3371400"/>
                  <a:chExt cx="496800" cy="11736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>
                    <a:off x="5276520" y="3486600"/>
                    <a:ext cx="17712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5617080" y="3371400"/>
                    <a:ext cx="156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 flipV="1">
                    <a:off x="5439960" y="3371760"/>
                    <a:ext cx="184320" cy="1148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833" name="" descr=""/>
            <p:cNvPicPr/>
            <p:nvPr/>
          </p:nvPicPr>
          <p:blipFill>
            <a:blip r:embed="rId5"/>
            <a:stretch/>
          </p:blipFill>
          <p:spPr>
            <a:xfrm>
              <a:off x="4041720" y="4194000"/>
              <a:ext cx="645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 flipV="1">
              <a:off x="4581360" y="3914280"/>
              <a:ext cx="466560" cy="39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5771520" y="3971880"/>
              <a:ext cx="3330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80640" y="41986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435000" y="4265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5407560" y="3389400"/>
              <a:ext cx="637560" cy="517320"/>
              <a:chOff x="5407560" y="3389400"/>
              <a:chExt cx="637560" cy="517320"/>
            </a:xfrm>
          </p:grpSpPr>
          <p:sp>
            <p:nvSpPr>
              <p:cNvPr id="1839" name=""/>
              <p:cNvSpPr/>
              <p:nvPr/>
            </p:nvSpPr>
            <p:spPr>
              <a:xfrm rot="19581000">
                <a:off x="5450400" y="368244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9581000">
                <a:off x="5585040" y="359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9581000">
                <a:off x="5720040" y="350280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9581000">
                <a:off x="5854320" y="3413520"/>
                <a:ext cx="147240" cy="2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3" name=""/>
          <p:cNvSpPr/>
          <p:nvPr/>
        </p:nvSpPr>
        <p:spPr>
          <a:xfrm>
            <a:off x="3254760" y="1636560"/>
            <a:ext cx="28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stic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949040" y="2984400"/>
            <a:ext cx="212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ing fo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D40-CF99-4B2B-B3F3-4E493C7CDF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 flipV="1">
            <a:off x="1362240" y="1743120"/>
            <a:ext cx="22860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Core: Packet Switch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848" name="" descr=""/>
          <p:cNvPicPr/>
          <p:nvPr/>
        </p:nvPicPr>
        <p:blipFill>
          <a:blip r:embed="rId1"/>
          <a:stretch/>
        </p:blipFill>
        <p:spPr>
          <a:xfrm>
            <a:off x="638280" y="1941480"/>
            <a:ext cx="4228920" cy="4524480"/>
          </a:xfrm>
          <a:prstGeom prst="rect">
            <a:avLst/>
          </a:prstGeom>
          <a:ln w="0">
            <a:noFill/>
          </a:ln>
        </p:spPr>
      </p:pic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295520" y="1275840"/>
            <a:ext cx="4352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-switch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 and forward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0" name="" descr=""/>
          <p:cNvPicPr/>
          <p:nvPr/>
        </p:nvPicPr>
        <p:blipFill>
          <a:blip r:embed="rId2"/>
          <a:stretch/>
        </p:blipFill>
        <p:spPr>
          <a:xfrm>
            <a:off x="755640" y="1365120"/>
            <a:ext cx="646200" cy="5335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3"/>
          <a:stretch/>
        </p:blipFill>
        <p:spPr>
          <a:xfrm>
            <a:off x="3632040" y="1374840"/>
            <a:ext cx="646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852" name=""/>
          <p:cNvGrpSpPr/>
          <p:nvPr/>
        </p:nvGrpSpPr>
        <p:grpSpPr>
          <a:xfrm>
            <a:off x="1889280" y="1593720"/>
            <a:ext cx="568080" cy="284040"/>
            <a:chOff x="1889280" y="1593720"/>
            <a:chExt cx="568080" cy="284040"/>
          </a:xfrm>
        </p:grpSpPr>
        <p:sp>
          <p:nvSpPr>
            <p:cNvPr id="1853" name=""/>
            <p:cNvSpPr/>
            <p:nvPr/>
          </p:nvSpPr>
          <p:spPr>
            <a:xfrm>
              <a:off x="1893960" y="172080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8939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457360" y="170820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893960" y="170820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89280" y="159372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8" name=""/>
            <p:cNvGrpSpPr/>
            <p:nvPr/>
          </p:nvGrpSpPr>
          <p:grpSpPr>
            <a:xfrm>
              <a:off x="2025720" y="1635120"/>
              <a:ext cx="278640" cy="106200"/>
              <a:chOff x="2025720" y="1635120"/>
              <a:chExt cx="278640" cy="106200"/>
            </a:xfrm>
          </p:grpSpPr>
          <p:sp>
            <p:nvSpPr>
              <p:cNvPr id="1859" name=""/>
              <p:cNvSpPr/>
              <p:nvPr/>
            </p:nvSpPr>
            <p:spPr>
              <a:xfrm flipV="1">
                <a:off x="2025720" y="16351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2216880" y="1741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2117520" y="163728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2025720" y="1633320"/>
              <a:ext cx="278640" cy="106560"/>
              <a:chOff x="2025720" y="1633320"/>
              <a:chExt cx="278640" cy="106560"/>
            </a:xfrm>
          </p:grpSpPr>
          <p:sp>
            <p:nvSpPr>
              <p:cNvPr id="1863" name=""/>
              <p:cNvSpPr/>
              <p:nvPr/>
            </p:nvSpPr>
            <p:spPr>
              <a:xfrm>
                <a:off x="2025720" y="173772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2216880" y="163332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V="1">
                <a:off x="2117520" y="163332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6" name=""/>
          <p:cNvGrpSpPr/>
          <p:nvPr/>
        </p:nvGrpSpPr>
        <p:grpSpPr>
          <a:xfrm>
            <a:off x="2727360" y="1574640"/>
            <a:ext cx="568080" cy="284040"/>
            <a:chOff x="2727360" y="1574640"/>
            <a:chExt cx="568080" cy="284040"/>
          </a:xfrm>
        </p:grpSpPr>
        <p:sp>
          <p:nvSpPr>
            <p:cNvPr id="1867" name=""/>
            <p:cNvSpPr/>
            <p:nvPr/>
          </p:nvSpPr>
          <p:spPr>
            <a:xfrm>
              <a:off x="2732040" y="1701720"/>
              <a:ext cx="563400" cy="1569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7320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95440" y="1689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732040" y="1689120"/>
              <a:ext cx="55872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727360" y="1574640"/>
              <a:ext cx="563400" cy="1843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2" name=""/>
            <p:cNvGrpSpPr/>
            <p:nvPr/>
          </p:nvGrpSpPr>
          <p:grpSpPr>
            <a:xfrm>
              <a:off x="2863800" y="1616040"/>
              <a:ext cx="278640" cy="106200"/>
              <a:chOff x="2863800" y="1616040"/>
              <a:chExt cx="278640" cy="106200"/>
            </a:xfrm>
          </p:grpSpPr>
          <p:sp>
            <p:nvSpPr>
              <p:cNvPr id="1873" name=""/>
              <p:cNvSpPr/>
              <p:nvPr/>
            </p:nvSpPr>
            <p:spPr>
              <a:xfrm flipV="1">
                <a:off x="2863800" y="16160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054960" y="1722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2955600" y="1618200"/>
                <a:ext cx="103320" cy="10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6" name=""/>
            <p:cNvGrpSpPr/>
            <p:nvPr/>
          </p:nvGrpSpPr>
          <p:grpSpPr>
            <a:xfrm>
              <a:off x="2863800" y="1614240"/>
              <a:ext cx="278640" cy="106560"/>
              <a:chOff x="2863800" y="1614240"/>
              <a:chExt cx="278640" cy="106560"/>
            </a:xfrm>
          </p:grpSpPr>
          <p:sp>
            <p:nvSpPr>
              <p:cNvPr id="1877" name=""/>
              <p:cNvSpPr/>
              <p:nvPr/>
            </p:nvSpPr>
            <p:spPr>
              <a:xfrm>
                <a:off x="2863800" y="1718640"/>
                <a:ext cx="99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054960" y="1614240"/>
                <a:ext cx="87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2955600" y="1614240"/>
                <a:ext cx="1033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21A-CA90-40D5-80B1-B6BD570864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it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use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Kbps when “activ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ive 10% of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rcuit-switch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35 users, probability &gt; 10 active less that .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90040" y="139032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switching allows more users to use network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3" name=""/>
          <p:cNvSpPr/>
          <p:nvPr/>
        </p:nvSpPr>
        <p:spPr>
          <a:xfrm>
            <a:off x="4629240" y="30290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629240" y="4629240"/>
            <a:ext cx="3045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933800" y="3333600"/>
            <a:ext cx="838440" cy="457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772240" y="379080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772240" y="3943440"/>
            <a:ext cx="2038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V="1">
            <a:off x="5010120" y="3943080"/>
            <a:ext cx="762120" cy="609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903480" y="362736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065360" y="40752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bp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5864400" y="3503520"/>
            <a:ext cx="1207440" cy="666720"/>
            <a:chOff x="5864400" y="3503520"/>
            <a:chExt cx="1207440" cy="666720"/>
          </a:xfrm>
        </p:grpSpPr>
        <p:sp>
          <p:nvSpPr>
            <p:cNvPr id="1892" name=""/>
            <p:cNvSpPr/>
            <p:nvPr/>
          </p:nvSpPr>
          <p:spPr>
            <a:xfrm>
              <a:off x="5864400" y="3800520"/>
              <a:ext cx="119844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64400" y="3732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873760" y="3503520"/>
              <a:ext cx="1198080" cy="430200"/>
            </a:xfrm>
            <a:prstGeom prst="ellipse">
              <a:avLst/>
            </a:prstGeom>
            <a:solidFill>
              <a:srgbClr val="ccccff"/>
            </a:solidFill>
            <a:ln w="64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6229440" y="3628800"/>
              <a:ext cx="496800" cy="118800"/>
              <a:chOff x="6229440" y="3628800"/>
              <a:chExt cx="496800" cy="118800"/>
            </a:xfrm>
          </p:grpSpPr>
          <p:grpSp>
            <p:nvGrpSpPr>
              <p:cNvPr id="1896" name=""/>
              <p:cNvGrpSpPr/>
              <p:nvPr/>
            </p:nvGrpSpPr>
            <p:grpSpPr>
              <a:xfrm>
                <a:off x="6229440" y="3630600"/>
                <a:ext cx="496800" cy="117000"/>
                <a:chOff x="6229440" y="3630600"/>
                <a:chExt cx="496800" cy="117000"/>
              </a:xfrm>
            </p:grpSpPr>
            <p:sp>
              <p:nvSpPr>
                <p:cNvPr id="1897" name=""/>
                <p:cNvSpPr/>
                <p:nvPr/>
              </p:nvSpPr>
              <p:spPr>
                <a:xfrm flipV="1">
                  <a:off x="6229440" y="36306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570000" y="37476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392880" y="36327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0" name=""/>
              <p:cNvGrpSpPr/>
              <p:nvPr/>
            </p:nvGrpSpPr>
            <p:grpSpPr>
              <a:xfrm>
                <a:off x="6229440" y="3628800"/>
                <a:ext cx="496800" cy="117000"/>
                <a:chOff x="6229440" y="3628800"/>
                <a:chExt cx="496800" cy="117000"/>
              </a:xfrm>
            </p:grpSpPr>
            <p:sp>
              <p:nvSpPr>
                <p:cNvPr id="1901" name=""/>
                <p:cNvSpPr/>
                <p:nvPr/>
              </p:nvSpPr>
              <p:spPr>
                <a:xfrm>
                  <a:off x="6229440" y="3743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570000" y="36288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flipV="1">
                  <a:off x="6392880" y="3629160"/>
                  <a:ext cx="184320" cy="114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04" name=""/>
          <p:cNvSpPr/>
          <p:nvPr/>
        </p:nvSpPr>
        <p:spPr>
          <a:xfrm>
            <a:off x="7077240" y="3857760"/>
            <a:ext cx="171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2C0-102A-489A-B2D0-DB49A0A69C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 switching versus circuit switch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eat for bursty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urce shar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ssive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cket delay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 needed for reliable data transfer,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 How to provide circuit-like behavio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guarantees needed for audio/video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an unsolved problem (chapter 6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33520" y="13712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s packet switching a “slam dunk winner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EFE-80FD-4B98-B233-B35F156876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acket-switched networks: rout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ve packets among routers from sour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ll study several path selection algorithms (chapter 4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gram 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estination add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termines next 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s may change during s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driving, asking direc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irtual circuit 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carries tag  (virtual circuit ID), tag determines next h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path determined a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all setup ti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mains fixed thru c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 maintain per-call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BC6-2DD1-427B-9B96-4E928E4E1D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“nuts and bolts”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llions of connected computing device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hosts, end-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’s workstations, serv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s, toas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twork ap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communication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ber, copper, radio, satell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router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ward packets (chunks) of data thru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917960" y="1243080"/>
            <a:ext cx="3686760" cy="4959360"/>
            <a:chOff x="4917960" y="1243080"/>
            <a:chExt cx="3686760" cy="4959360"/>
          </a:xfrm>
        </p:grpSpPr>
        <p:sp>
          <p:nvSpPr>
            <p:cNvPr id="47" name=""/>
            <p:cNvSpPr/>
            <p:nvPr/>
          </p:nvSpPr>
          <p:spPr>
            <a:xfrm>
              <a:off x="6796440" y="2647080"/>
              <a:ext cx="1799640" cy="16750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17960" y="2504160"/>
              <a:ext cx="1866240" cy="158976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86600" y="3956760"/>
              <a:ext cx="2973600" cy="221832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034600" y="2640600"/>
              <a:ext cx="733680" cy="318960"/>
              <a:chOff x="5034600" y="2640600"/>
              <a:chExt cx="733680" cy="31896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34600" y="264060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8560" y="275868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flipV="1">
                <a:off x="5441400" y="2882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034600" y="3235680"/>
              <a:ext cx="733680" cy="318960"/>
              <a:chOff x="5034600" y="3235680"/>
              <a:chExt cx="733680" cy="318960"/>
            </a:xfrm>
          </p:grpSpPr>
          <p:pic>
            <p:nvPicPr>
              <p:cNvPr id="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4600" y="3235680"/>
                <a:ext cx="41652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88560" y="3353760"/>
                <a:ext cx="27972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flipV="1">
                <a:off x="5441400" y="347724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410800" y="3022200"/>
              <a:ext cx="70560" cy="214560"/>
              <a:chOff x="5410800" y="3022200"/>
              <a:chExt cx="70560" cy="214560"/>
            </a:xfrm>
          </p:grpSpPr>
          <p:sp>
            <p:nvSpPr>
              <p:cNvPr id="59" name=""/>
              <p:cNvSpPr/>
              <p:nvPr/>
            </p:nvSpPr>
            <p:spPr>
              <a:xfrm>
                <a:off x="5410800" y="3022200"/>
                <a:ext cx="65160" cy="604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413320" y="30992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416200" y="3176640"/>
                <a:ext cx="6516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881320" y="3525480"/>
              <a:ext cx="208800" cy="394920"/>
              <a:chOff x="5881320" y="3525480"/>
              <a:chExt cx="208800" cy="394920"/>
            </a:xfrm>
          </p:grpSpPr>
          <p:sp>
            <p:nvSpPr>
              <p:cNvPr id="63" name=""/>
              <p:cNvSpPr/>
              <p:nvPr/>
            </p:nvSpPr>
            <p:spPr>
              <a:xfrm>
                <a:off x="5881320" y="382932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87160" y="3528000"/>
                <a:ext cx="9576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82400" y="3614040"/>
                <a:ext cx="13212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81320" y="3525480"/>
                <a:ext cx="208800" cy="91080"/>
              </a:xfrm>
              <a:prstGeom prst="parallelogram">
                <a:avLst>
                  <a:gd name="adj" fmla="val 8831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90120" y="35316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014880" y="38293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99320" y="365400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911920" y="37069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118200" y="3679200"/>
              <a:ext cx="231840" cy="81000"/>
              <a:chOff x="6118200" y="3679200"/>
              <a:chExt cx="231840" cy="81000"/>
            </a:xfrm>
          </p:grpSpPr>
          <p:sp>
            <p:nvSpPr>
              <p:cNvPr id="72" name=""/>
              <p:cNvSpPr/>
              <p:nvPr/>
            </p:nvSpPr>
            <p:spPr>
              <a:xfrm rot="16200000">
                <a:off x="6113520" y="36900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6196680" y="368712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6200000">
                <a:off x="6280200" y="3683880"/>
                <a:ext cx="74520" cy="65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017760" y="3433320"/>
              <a:ext cx="495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20640" y="3430800"/>
              <a:ext cx="1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6720" y="3427920"/>
              <a:ext cx="1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7160" y="2894400"/>
              <a:ext cx="289440" cy="2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731200" y="3179160"/>
              <a:ext cx="275400" cy="32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257520" y="3265200"/>
              <a:ext cx="1080" cy="16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6377400" y="3504240"/>
              <a:ext cx="208440" cy="394560"/>
              <a:chOff x="6377400" y="3504240"/>
              <a:chExt cx="208440" cy="394560"/>
            </a:xfrm>
          </p:grpSpPr>
          <p:sp>
            <p:nvSpPr>
              <p:cNvPr id="82" name=""/>
              <p:cNvSpPr/>
              <p:nvPr/>
            </p:nvSpPr>
            <p:spPr>
              <a:xfrm>
                <a:off x="6377400" y="380772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482880" y="3506760"/>
                <a:ext cx="9576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378480" y="3592800"/>
                <a:ext cx="13212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377400" y="3504240"/>
                <a:ext cx="208440" cy="91080"/>
              </a:xfrm>
              <a:prstGeom prst="parallelogram">
                <a:avLst>
                  <a:gd name="adj" fmla="val 8816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85840" y="351036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510600" y="3807720"/>
                <a:ext cx="7488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95040" y="3632760"/>
                <a:ext cx="8748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07640" y="3685680"/>
                <a:ext cx="6624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5419080" y="4122360"/>
              <a:ext cx="478800" cy="925920"/>
              <a:chOff x="5419080" y="4122360"/>
              <a:chExt cx="478800" cy="925920"/>
            </a:xfrm>
          </p:grpSpPr>
          <p:pic>
            <p:nvPicPr>
              <p:cNvPr id="9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9080" y="412236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flipV="1">
                <a:off x="5825520" y="4368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9080" y="4717440"/>
                <a:ext cx="416160" cy="33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 flipV="1">
                <a:off x="5825520" y="496800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5544360" y="4464000"/>
                <a:ext cx="70560" cy="222480"/>
                <a:chOff x="5544360" y="4464000"/>
                <a:chExt cx="70560" cy="222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544360" y="446400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546880" y="45439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549760" y="4624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5892480" y="4366440"/>
                <a:ext cx="0" cy="60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6288480" y="513288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5672520" y="5120640"/>
              <a:ext cx="41616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rot="16200000">
              <a:off x="6090120" y="522468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6175080" y="522324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6251760" y="5227200"/>
              <a:ext cx="6264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541560" y="5078160"/>
              <a:ext cx="144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917680" y="5067360"/>
              <a:ext cx="0" cy="6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918760" y="5074200"/>
              <a:ext cx="62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898240" y="4699080"/>
              <a:ext cx="94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99800" y="4744080"/>
              <a:ext cx="303480" cy="38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7296120" y="4741560"/>
              <a:ext cx="27828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9"/>
            <a:stretch/>
          </p:blipFill>
          <p:spPr>
            <a:xfrm>
              <a:off x="7473240" y="429444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0"/>
            <a:stretch/>
          </p:blipFill>
          <p:spPr>
            <a:xfrm>
              <a:off x="6136200" y="4374360"/>
              <a:ext cx="203400" cy="2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218640" y="4150080"/>
              <a:ext cx="135396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484680" y="5571720"/>
              <a:ext cx="406080" cy="426960"/>
              <a:chOff x="6484680" y="5571720"/>
              <a:chExt cx="406080" cy="426960"/>
            </a:xfrm>
          </p:grpSpPr>
          <p:pic>
            <p:nvPicPr>
              <p:cNvPr id="11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84680" y="5571720"/>
                <a:ext cx="3783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44440" y="56836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7261920" y="5603760"/>
              <a:ext cx="406440" cy="426960"/>
              <a:chOff x="7261920" y="5603760"/>
              <a:chExt cx="406440" cy="42696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61920" y="5603760"/>
                <a:ext cx="37872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21680" y="5715720"/>
                <a:ext cx="34668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0" name=""/>
            <p:cNvGrpSpPr/>
            <p:nvPr/>
          </p:nvGrpSpPr>
          <p:grpSpPr>
            <a:xfrm>
              <a:off x="6847920" y="5319720"/>
              <a:ext cx="378720" cy="376560"/>
              <a:chOff x="6847920" y="5319720"/>
              <a:chExt cx="378720" cy="3765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47920" y="5319720"/>
                <a:ext cx="378720" cy="37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6957720" y="5451840"/>
                <a:ext cx="26676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154640" y="52236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874640" y="4646880"/>
              <a:ext cx="208800" cy="408960"/>
              <a:chOff x="7874640" y="4646880"/>
              <a:chExt cx="208800" cy="40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7874640" y="496152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80480" y="4649400"/>
                <a:ext cx="9576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75720" y="4738680"/>
                <a:ext cx="13212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74640" y="4646880"/>
                <a:ext cx="208800" cy="94320"/>
              </a:xfrm>
              <a:prstGeom prst="parallelogram">
                <a:avLst>
                  <a:gd name="adj" fmla="val 8528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83440" y="465336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8008200" y="496152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892640" y="478008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05240" y="4834800"/>
                <a:ext cx="6660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862400" y="5091480"/>
              <a:ext cx="208440" cy="409680"/>
              <a:chOff x="7862400" y="5091480"/>
              <a:chExt cx="208440" cy="409680"/>
            </a:xfrm>
          </p:grpSpPr>
          <p:sp>
            <p:nvSpPr>
              <p:cNvPr id="134" name=""/>
              <p:cNvSpPr/>
              <p:nvPr/>
            </p:nvSpPr>
            <p:spPr>
              <a:xfrm>
                <a:off x="7862400" y="5406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67880" y="509400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63480" y="518328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862400" y="509148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70840" y="509796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7995600" y="540648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880040" y="522468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92640" y="527940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V="1">
              <a:off x="7794000" y="4714920"/>
              <a:ext cx="0" cy="6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91120" y="5323680"/>
              <a:ext cx="10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88240" y="48481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0960" y="2944800"/>
              <a:ext cx="45972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47320" y="2928600"/>
              <a:ext cx="48420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965360" y="3265200"/>
              <a:ext cx="24192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96400" y="304092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21240" y="368964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680600" y="4154040"/>
              <a:ext cx="26748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454880" y="3233160"/>
              <a:ext cx="55980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463880" y="2672640"/>
              <a:ext cx="350640" cy="25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182080" y="2848680"/>
              <a:ext cx="20052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50040" y="2487240"/>
              <a:ext cx="117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oc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00280" y="5498640"/>
              <a:ext cx="1280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59880" y="364032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gional I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850720" y="1243080"/>
              <a:ext cx="501480" cy="232920"/>
              <a:chOff x="5850720" y="1243080"/>
              <a:chExt cx="501480" cy="232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854680" y="13471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85468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52200" y="133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54680" y="13359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50720" y="12430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5970240" y="1275840"/>
                <a:ext cx="246240" cy="88200"/>
                <a:chOff x="5970240" y="1275840"/>
                <a:chExt cx="246240" cy="8820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5970240" y="127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139080" y="136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51240" y="127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970240" y="1275120"/>
                <a:ext cx="246240" cy="88200"/>
                <a:chOff x="5970240" y="1275120"/>
                <a:chExt cx="246240" cy="88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970240" y="136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139080" y="127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6051240" y="127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" name=""/>
            <p:cNvGrpSpPr/>
            <p:nvPr/>
          </p:nvGrpSpPr>
          <p:grpSpPr>
            <a:xfrm>
              <a:off x="5860800" y="1819440"/>
              <a:ext cx="208440" cy="409680"/>
              <a:chOff x="5860800" y="1819440"/>
              <a:chExt cx="208440" cy="409680"/>
            </a:xfrm>
          </p:grpSpPr>
          <p:sp>
            <p:nvSpPr>
              <p:cNvPr id="172" name=""/>
              <p:cNvSpPr/>
              <p:nvPr/>
            </p:nvSpPr>
            <p:spPr>
              <a:xfrm>
                <a:off x="5860800" y="2134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66280" y="1821960"/>
                <a:ext cx="9576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1880" y="1911240"/>
                <a:ext cx="13212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0800" y="1819440"/>
                <a:ext cx="208440" cy="94680"/>
              </a:xfrm>
              <a:prstGeom prst="parallelogram">
                <a:avLst>
                  <a:gd name="adj" fmla="val 8480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069240" y="182592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5994000" y="21344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78440" y="195264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91040" y="200736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0" name="" descr=""/>
            <p:cNvPicPr/>
            <p:nvPr/>
          </p:nvPicPr>
          <p:blipFill>
            <a:blip r:embed="rId16"/>
            <a:stretch/>
          </p:blipFill>
          <p:spPr>
            <a:xfrm>
              <a:off x="7115400" y="1297800"/>
              <a:ext cx="416520" cy="318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"/>
            <p:cNvGrpSpPr/>
            <p:nvPr/>
          </p:nvGrpSpPr>
          <p:grpSpPr>
            <a:xfrm>
              <a:off x="7053120" y="1903680"/>
              <a:ext cx="406080" cy="426960"/>
              <a:chOff x="7053120" y="1903680"/>
              <a:chExt cx="406080" cy="426960"/>
            </a:xfrm>
          </p:grpSpPr>
          <p:pic>
            <p:nvPicPr>
              <p:cNvPr id="18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053120" y="190368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112880" y="201564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5992920" y="3040920"/>
              <a:ext cx="501120" cy="232920"/>
              <a:chOff x="5992920" y="3040920"/>
              <a:chExt cx="501120" cy="232920"/>
            </a:xfrm>
          </p:grpSpPr>
          <p:sp>
            <p:nvSpPr>
              <p:cNvPr id="185" name=""/>
              <p:cNvSpPr/>
              <p:nvPr/>
            </p:nvSpPr>
            <p:spPr>
              <a:xfrm>
                <a:off x="5996880" y="31449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9688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94040" y="31338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96880" y="313380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92920" y="304092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112440" y="3073680"/>
                <a:ext cx="245880" cy="88200"/>
                <a:chOff x="6112440" y="3073680"/>
                <a:chExt cx="245880" cy="8820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6112440" y="30736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280920" y="3161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93440" y="30758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112440" y="3072960"/>
                <a:ext cx="245880" cy="88200"/>
                <a:chOff x="6112440" y="3072960"/>
                <a:chExt cx="245880" cy="88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112440" y="31593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280920" y="3072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6193440" y="30729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6945480" y="2812680"/>
              <a:ext cx="501480" cy="232920"/>
              <a:chOff x="6945480" y="2812680"/>
              <a:chExt cx="501480" cy="232920"/>
            </a:xfrm>
          </p:grpSpPr>
          <p:sp>
            <p:nvSpPr>
              <p:cNvPr id="199" name=""/>
              <p:cNvSpPr/>
              <p:nvPr/>
            </p:nvSpPr>
            <p:spPr>
              <a:xfrm>
                <a:off x="69494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494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4469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9494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9454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7065000" y="2845440"/>
                <a:ext cx="246240" cy="88200"/>
                <a:chOff x="7065000" y="2845440"/>
                <a:chExt cx="246240" cy="882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70650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338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1460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065000" y="2844720"/>
                <a:ext cx="246240" cy="88200"/>
                <a:chOff x="7065000" y="2844720"/>
                <a:chExt cx="246240" cy="882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0650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338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1460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6962400" y="3469320"/>
              <a:ext cx="501480" cy="233280"/>
              <a:chOff x="6962400" y="3469320"/>
              <a:chExt cx="501480" cy="233280"/>
            </a:xfrm>
          </p:grpSpPr>
          <p:sp>
            <p:nvSpPr>
              <p:cNvPr id="213" name=""/>
              <p:cNvSpPr/>
              <p:nvPr/>
            </p:nvSpPr>
            <p:spPr>
              <a:xfrm>
                <a:off x="6966360" y="35733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96636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3880" y="35625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66360" y="3562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62400" y="3469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7081920" y="3502080"/>
                <a:ext cx="246240" cy="88560"/>
                <a:chOff x="7081920" y="3502080"/>
                <a:chExt cx="246240" cy="88560"/>
              </a:xfrm>
            </p:grpSpPr>
            <p:sp>
              <p:nvSpPr>
                <p:cNvPr id="219" name=""/>
                <p:cNvSpPr/>
                <p:nvPr/>
              </p:nvSpPr>
              <p:spPr>
                <a:xfrm flipV="1">
                  <a:off x="7081920" y="350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250760" y="3590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62920" y="35042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081920" y="3501000"/>
                <a:ext cx="246240" cy="88560"/>
                <a:chOff x="7081920" y="3501000"/>
                <a:chExt cx="246240" cy="88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081920" y="358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250760" y="3501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7162920" y="35010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7931880" y="3020760"/>
              <a:ext cx="501480" cy="233280"/>
              <a:chOff x="7931880" y="3020760"/>
              <a:chExt cx="501480" cy="233280"/>
            </a:xfrm>
          </p:grpSpPr>
          <p:sp>
            <p:nvSpPr>
              <p:cNvPr id="227" name=""/>
              <p:cNvSpPr/>
              <p:nvPr/>
            </p:nvSpPr>
            <p:spPr>
              <a:xfrm>
                <a:off x="7935840" y="312480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3584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3360" y="31140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35840" y="31140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31880" y="3020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8051400" y="3053520"/>
                <a:ext cx="246240" cy="88560"/>
                <a:chOff x="8051400" y="3053520"/>
                <a:chExt cx="246240" cy="88560"/>
              </a:xfrm>
            </p:grpSpPr>
            <p:sp>
              <p:nvSpPr>
                <p:cNvPr id="233" name=""/>
                <p:cNvSpPr/>
                <p:nvPr/>
              </p:nvSpPr>
              <p:spPr>
                <a:xfrm flipV="1">
                  <a:off x="8051400" y="305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8220240" y="3142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132400" y="30556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8051400" y="3052440"/>
                <a:ext cx="246240" cy="88560"/>
                <a:chOff x="8051400" y="3052440"/>
                <a:chExt cx="246240" cy="885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8051400" y="3139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8220240" y="305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8132400" y="3052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7739640" y="3917880"/>
              <a:ext cx="501120" cy="233280"/>
              <a:chOff x="7739640" y="3917880"/>
              <a:chExt cx="501120" cy="233280"/>
            </a:xfrm>
          </p:grpSpPr>
          <p:sp>
            <p:nvSpPr>
              <p:cNvPr id="241" name=""/>
              <p:cNvSpPr/>
              <p:nvPr/>
            </p:nvSpPr>
            <p:spPr>
              <a:xfrm>
                <a:off x="7743600" y="402192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74360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40760" y="40111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43600" y="40111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9640" y="391788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7859160" y="3950640"/>
                <a:ext cx="245880" cy="88560"/>
                <a:chOff x="7859160" y="3950640"/>
                <a:chExt cx="245880" cy="88560"/>
              </a:xfrm>
            </p:grpSpPr>
            <p:sp>
              <p:nvSpPr>
                <p:cNvPr id="247" name=""/>
                <p:cNvSpPr/>
                <p:nvPr/>
              </p:nvSpPr>
              <p:spPr>
                <a:xfrm flipV="1">
                  <a:off x="7859160" y="395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027640" y="4039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940160" y="395280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859160" y="3949560"/>
                <a:ext cx="245880" cy="88560"/>
                <a:chOff x="7859160" y="3949560"/>
                <a:chExt cx="245880" cy="88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59160" y="40363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027640" y="3949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7940160" y="39495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7405200" y="4502520"/>
              <a:ext cx="501480" cy="233280"/>
              <a:chOff x="7405200" y="4502520"/>
              <a:chExt cx="501480" cy="233280"/>
            </a:xfrm>
          </p:grpSpPr>
          <p:sp>
            <p:nvSpPr>
              <p:cNvPr id="255" name=""/>
              <p:cNvSpPr/>
              <p:nvPr/>
            </p:nvSpPr>
            <p:spPr>
              <a:xfrm>
                <a:off x="7409160" y="460656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40916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906680" y="459576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09160" y="45957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05200" y="45025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7524720" y="4535280"/>
                <a:ext cx="246240" cy="88560"/>
                <a:chOff x="7524720" y="4535280"/>
                <a:chExt cx="246240" cy="88560"/>
              </a:xfrm>
            </p:grpSpPr>
            <p:sp>
              <p:nvSpPr>
                <p:cNvPr id="261" name=""/>
                <p:cNvSpPr/>
                <p:nvPr/>
              </p:nvSpPr>
              <p:spPr>
                <a:xfrm flipV="1">
                  <a:off x="7524720" y="4535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693560" y="46238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605720" y="453744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7524720" y="4534200"/>
                <a:ext cx="246240" cy="88560"/>
                <a:chOff x="7524720" y="4534200"/>
                <a:chExt cx="246240" cy="885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524720" y="46209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693560" y="4534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7605720" y="45342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6795360" y="4991040"/>
              <a:ext cx="501120" cy="233280"/>
              <a:chOff x="6795360" y="4991040"/>
              <a:chExt cx="501120" cy="233280"/>
            </a:xfrm>
          </p:grpSpPr>
          <p:sp>
            <p:nvSpPr>
              <p:cNvPr id="269" name=""/>
              <p:cNvSpPr/>
              <p:nvPr/>
            </p:nvSpPr>
            <p:spPr>
              <a:xfrm>
                <a:off x="6799320" y="5095080"/>
                <a:ext cx="49680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9932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296480" y="508428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99320" y="508428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95360" y="4991040"/>
                <a:ext cx="49644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914880" y="5023800"/>
                <a:ext cx="245880" cy="88560"/>
                <a:chOff x="6914880" y="5023800"/>
                <a:chExt cx="245880" cy="8856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6914880" y="50238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083360" y="5112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995880" y="502596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914880" y="5022720"/>
                <a:ext cx="245880" cy="88560"/>
                <a:chOff x="6914880" y="5022720"/>
                <a:chExt cx="245880" cy="885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914880" y="51094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083360" y="5022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6995880" y="50227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5992920" y="4614840"/>
              <a:ext cx="501120" cy="232920"/>
              <a:chOff x="5992920" y="4614840"/>
              <a:chExt cx="501120" cy="232920"/>
            </a:xfrm>
          </p:grpSpPr>
          <p:sp>
            <p:nvSpPr>
              <p:cNvPr id="283" name=""/>
              <p:cNvSpPr/>
              <p:nvPr/>
            </p:nvSpPr>
            <p:spPr>
              <a:xfrm>
                <a:off x="5996880" y="471888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9688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94040" y="47077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96880" y="4707720"/>
                <a:ext cx="49248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992920" y="4614840"/>
                <a:ext cx="49644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6112440" y="4647600"/>
                <a:ext cx="245880" cy="88200"/>
                <a:chOff x="6112440" y="4647600"/>
                <a:chExt cx="245880" cy="88200"/>
              </a:xfrm>
            </p:grpSpPr>
            <p:sp>
              <p:nvSpPr>
                <p:cNvPr id="289" name=""/>
                <p:cNvSpPr/>
                <p:nvPr/>
              </p:nvSpPr>
              <p:spPr>
                <a:xfrm flipV="1">
                  <a:off x="6112440" y="464760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80920" y="4735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193440" y="46497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112440" y="4646880"/>
                <a:ext cx="245880" cy="88200"/>
                <a:chOff x="6112440" y="4646880"/>
                <a:chExt cx="245880" cy="882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112440" y="47332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280920" y="4646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6193440" y="464688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5811480" y="140580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05240" y="1533960"/>
              <a:ext cx="159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33600" y="1917000"/>
              <a:ext cx="92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70640" y="210384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B3E-E21F-4644-AFE5-91777BA5FE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ccess networks and physical medi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40100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: How to connect end systems to edge rout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idential access n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itutional access networks (school, compan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bile access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Keep in mind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(bits per second) of access net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2" name=""/>
          <p:cNvSpPr/>
          <p:nvPr/>
        </p:nvSpPr>
        <p:spPr>
          <a:xfrm>
            <a:off x="6807240" y="1800360"/>
            <a:ext cx="1989000" cy="20095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727520" y="1628640"/>
            <a:ext cx="2065320" cy="190656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124600" y="3357720"/>
            <a:ext cx="3290760" cy="26622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5" name="" descr=""/>
          <p:cNvPicPr/>
          <p:nvPr/>
        </p:nvPicPr>
        <p:blipFill>
          <a:blip r:embed="rId1"/>
          <a:stretch/>
        </p:blipFill>
        <p:spPr>
          <a:xfrm>
            <a:off x="4857840" y="1790640"/>
            <a:ext cx="460440" cy="382680"/>
          </a:xfrm>
          <a:prstGeom prst="rect">
            <a:avLst/>
          </a:prstGeom>
          <a:ln w="0">
            <a:noFill/>
          </a:ln>
        </p:spPr>
      </p:pic>
      <p:pic>
        <p:nvPicPr>
          <p:cNvPr id="1916" name="" descr=""/>
          <p:cNvPicPr/>
          <p:nvPr/>
        </p:nvPicPr>
        <p:blipFill>
          <a:blip r:embed="rId2"/>
          <a:stretch/>
        </p:blipFill>
        <p:spPr>
          <a:xfrm>
            <a:off x="5359320" y="193212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 flipV="1">
            <a:off x="5307120" y="2080800"/>
            <a:ext cx="1267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8" name="" descr=""/>
          <p:cNvPicPr/>
          <p:nvPr/>
        </p:nvPicPr>
        <p:blipFill>
          <a:blip r:embed="rId3"/>
          <a:stretch/>
        </p:blipFill>
        <p:spPr>
          <a:xfrm>
            <a:off x="4857840" y="2505240"/>
            <a:ext cx="460440" cy="382320"/>
          </a:xfrm>
          <a:prstGeom prst="rect">
            <a:avLst/>
          </a:prstGeom>
          <a:ln w="0">
            <a:noFill/>
          </a:ln>
        </p:spPr>
      </p:pic>
      <p:pic>
        <p:nvPicPr>
          <p:cNvPr id="1919" name="" descr=""/>
          <p:cNvPicPr/>
          <p:nvPr/>
        </p:nvPicPr>
        <p:blipFill>
          <a:blip r:embed="rId4"/>
          <a:stretch/>
        </p:blipFill>
        <p:spPr>
          <a:xfrm>
            <a:off x="5359320" y="2646360"/>
            <a:ext cx="309600" cy="222120"/>
          </a:xfrm>
          <a:prstGeom prst="rect">
            <a:avLst/>
          </a:prstGeom>
          <a:ln w="0">
            <a:noFill/>
          </a:ln>
        </p:spPr>
      </p:pic>
      <p:sp>
        <p:nvSpPr>
          <p:cNvPr id="1920" name=""/>
          <p:cNvSpPr/>
          <p:nvPr/>
        </p:nvSpPr>
        <p:spPr>
          <a:xfrm flipV="1">
            <a:off x="5307120" y="2795760"/>
            <a:ext cx="12672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273640" y="2249640"/>
            <a:ext cx="77400" cy="256680"/>
            <a:chOff x="5273640" y="2249640"/>
            <a:chExt cx="77400" cy="256680"/>
          </a:xfrm>
        </p:grpSpPr>
        <p:sp>
          <p:nvSpPr>
            <p:cNvPr id="1922" name=""/>
            <p:cNvSpPr/>
            <p:nvPr/>
          </p:nvSpPr>
          <p:spPr>
            <a:xfrm>
              <a:off x="5273640" y="2249640"/>
              <a:ext cx="7128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276520" y="234180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279760" y="2434320"/>
              <a:ext cx="71280" cy="72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5" name=""/>
          <p:cNvGrpSpPr/>
          <p:nvPr/>
        </p:nvGrpSpPr>
        <p:grpSpPr>
          <a:xfrm>
            <a:off x="5792760" y="2852640"/>
            <a:ext cx="231840" cy="474480"/>
            <a:chOff x="5792760" y="2852640"/>
            <a:chExt cx="231840" cy="474480"/>
          </a:xfrm>
        </p:grpSpPr>
        <p:sp>
          <p:nvSpPr>
            <p:cNvPr id="1926" name=""/>
            <p:cNvSpPr/>
            <p:nvPr/>
          </p:nvSpPr>
          <p:spPr>
            <a:xfrm>
              <a:off x="5792760" y="321768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910120" y="2855520"/>
              <a:ext cx="106560" cy="364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793840" y="2959200"/>
              <a:ext cx="146880" cy="3650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792760" y="2852640"/>
              <a:ext cx="231840" cy="109440"/>
            </a:xfrm>
            <a:prstGeom prst="parallelogram">
              <a:avLst>
                <a:gd name="adj" fmla="val 8160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024600" y="28602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5940720" y="3217680"/>
              <a:ext cx="8316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812560" y="3007080"/>
              <a:ext cx="97200" cy="210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826600" y="3070440"/>
              <a:ext cx="738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6054840" y="3038400"/>
            <a:ext cx="258120" cy="96480"/>
            <a:chOff x="6054840" y="3038400"/>
            <a:chExt cx="258120" cy="96480"/>
          </a:xfrm>
        </p:grpSpPr>
        <p:sp>
          <p:nvSpPr>
            <p:cNvPr id="1935" name=""/>
            <p:cNvSpPr/>
            <p:nvPr/>
          </p:nvSpPr>
          <p:spPr>
            <a:xfrm rot="16200000">
              <a:off x="6046560" y="3053880"/>
              <a:ext cx="88920" cy="727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rot="16200000">
              <a:off x="6139440" y="305064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rot="16200000">
              <a:off x="6232320" y="3046680"/>
              <a:ext cx="88920" cy="72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8" name=""/>
          <p:cNvSpPr/>
          <p:nvPr/>
        </p:nvSpPr>
        <p:spPr>
          <a:xfrm>
            <a:off x="5945040" y="2743200"/>
            <a:ext cx="547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948280" y="2738520"/>
            <a:ext cx="1800" cy="11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496200" y="2736720"/>
            <a:ext cx="1440" cy="100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5613480" y="2095560"/>
            <a:ext cx="318960" cy="317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5626080" y="2438280"/>
            <a:ext cx="306360" cy="3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6210360" y="2541600"/>
            <a:ext cx="1440" cy="19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6342120" y="2827440"/>
            <a:ext cx="231840" cy="472680"/>
            <a:chOff x="6342120" y="2827440"/>
            <a:chExt cx="231840" cy="472680"/>
          </a:xfrm>
        </p:grpSpPr>
        <p:sp>
          <p:nvSpPr>
            <p:cNvPr id="1945" name=""/>
            <p:cNvSpPr/>
            <p:nvPr/>
          </p:nvSpPr>
          <p:spPr>
            <a:xfrm>
              <a:off x="6342120" y="31910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459480" y="2830320"/>
              <a:ext cx="106560" cy="3632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43200" y="2933640"/>
              <a:ext cx="146880" cy="3636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342120" y="2827440"/>
              <a:ext cx="231840" cy="109080"/>
            </a:xfrm>
            <a:prstGeom prst="parallelogram">
              <a:avLst>
                <a:gd name="adj" fmla="val 818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573960" y="283500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6490080" y="3191040"/>
              <a:ext cx="831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361920" y="2981160"/>
              <a:ext cx="97200" cy="209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375960" y="3044520"/>
              <a:ext cx="73800" cy="7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3" name="" descr=""/>
          <p:cNvPicPr/>
          <p:nvPr/>
        </p:nvPicPr>
        <p:blipFill>
          <a:blip r:embed="rId5"/>
          <a:stretch/>
        </p:blipFill>
        <p:spPr>
          <a:xfrm>
            <a:off x="5283360" y="35701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 flipV="1">
            <a:off x="5734080" y="3865680"/>
            <a:ext cx="79200" cy="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6"/>
          <a:stretch/>
        </p:blipFill>
        <p:spPr>
          <a:xfrm>
            <a:off x="5283360" y="4282920"/>
            <a:ext cx="460080" cy="39708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 flipV="1">
            <a:off x="5734080" y="4584240"/>
            <a:ext cx="7920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421240" y="3979800"/>
            <a:ext cx="79200" cy="266400"/>
            <a:chOff x="5421240" y="3979800"/>
            <a:chExt cx="79200" cy="266400"/>
          </a:xfrm>
        </p:grpSpPr>
        <p:sp>
          <p:nvSpPr>
            <p:cNvPr id="1958" name=""/>
            <p:cNvSpPr/>
            <p:nvPr/>
          </p:nvSpPr>
          <p:spPr>
            <a:xfrm>
              <a:off x="5421240" y="3979800"/>
              <a:ext cx="73080" cy="752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424120" y="407556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427360" y="4171320"/>
              <a:ext cx="73080" cy="74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>
            <a:off x="5807160" y="3862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7"/>
          <a:stretch/>
        </p:blipFill>
        <p:spPr>
          <a:xfrm>
            <a:off x="6243480" y="4781520"/>
            <a:ext cx="462240" cy="397080"/>
          </a:xfrm>
          <a:prstGeom prst="rect">
            <a:avLst/>
          </a:prstGeom>
          <a:ln w="0">
            <a:noFill/>
          </a:ln>
        </p:spPr>
      </p:pic>
      <p:pic>
        <p:nvPicPr>
          <p:cNvPr id="1963" name="" descr=""/>
          <p:cNvPicPr/>
          <p:nvPr/>
        </p:nvPicPr>
        <p:blipFill>
          <a:blip r:embed="rId8"/>
          <a:stretch/>
        </p:blipFill>
        <p:spPr>
          <a:xfrm>
            <a:off x="5564160" y="4767120"/>
            <a:ext cx="458640" cy="397080"/>
          </a:xfrm>
          <a:prstGeom prst="rect">
            <a:avLst/>
          </a:prstGeom>
          <a:ln w="0">
            <a:noFill/>
          </a:ln>
        </p:spPr>
      </p:pic>
      <p:sp>
        <p:nvSpPr>
          <p:cNvPr id="1964" name=""/>
          <p:cNvSpPr/>
          <p:nvPr/>
        </p:nvSpPr>
        <p:spPr>
          <a:xfrm flipV="1">
            <a:off x="6524640" y="4716000"/>
            <a:ext cx="144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 flipV="1">
            <a:off x="5834160" y="4703760"/>
            <a:ext cx="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H="1">
            <a:off x="5835240" y="4710240"/>
            <a:ext cx="69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803920" y="4255920"/>
            <a:ext cx="112680" cy="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6478560" y="4316400"/>
            <a:ext cx="33516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7358040" y="4313160"/>
            <a:ext cx="3096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0" name="" descr=""/>
          <p:cNvPicPr/>
          <p:nvPr/>
        </p:nvPicPr>
        <p:blipFill>
          <a:blip r:embed="rId9"/>
          <a:stretch/>
        </p:blipFill>
        <p:spPr>
          <a:xfrm>
            <a:off x="7554960" y="3774960"/>
            <a:ext cx="225360" cy="290520"/>
          </a:xfrm>
          <a:prstGeom prst="rect">
            <a:avLst/>
          </a:prstGeom>
          <a:ln w="0">
            <a:noFill/>
          </a:ln>
        </p:spPr>
      </p:pic>
      <p:pic>
        <p:nvPicPr>
          <p:cNvPr id="1971" name="" descr=""/>
          <p:cNvPicPr/>
          <p:nvPr/>
        </p:nvPicPr>
        <p:blipFill>
          <a:blip r:embed="rId10"/>
          <a:stretch/>
        </p:blipFill>
        <p:spPr>
          <a:xfrm>
            <a:off x="6076800" y="3871800"/>
            <a:ext cx="223920" cy="289080"/>
          </a:xfrm>
          <a:prstGeom prst="rect">
            <a:avLst/>
          </a:prstGeom>
          <a:ln w="0">
            <a:noFill/>
          </a:ln>
        </p:spPr>
      </p:pic>
      <p:sp>
        <p:nvSpPr>
          <p:cNvPr id="1972" name=""/>
          <p:cNvSpPr/>
          <p:nvPr/>
        </p:nvSpPr>
        <p:spPr>
          <a:xfrm>
            <a:off x="6165720" y="3602160"/>
            <a:ext cx="1498680" cy="36504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3" name="" descr=""/>
          <p:cNvPicPr/>
          <p:nvPr/>
        </p:nvPicPr>
        <p:blipFill>
          <a:blip r:embed="rId11"/>
          <a:stretch/>
        </p:blipFill>
        <p:spPr>
          <a:xfrm>
            <a:off x="6461280" y="5308560"/>
            <a:ext cx="419040" cy="452520"/>
          </a:xfrm>
          <a:prstGeom prst="rect">
            <a:avLst/>
          </a:prstGeom>
          <a:ln w="0">
            <a:noFill/>
          </a:ln>
        </p:spPr>
      </p:pic>
      <p:pic>
        <p:nvPicPr>
          <p:cNvPr id="1974" name="" descr=""/>
          <p:cNvPicPr/>
          <p:nvPr/>
        </p:nvPicPr>
        <p:blipFill>
          <a:blip r:embed="rId12"/>
          <a:stretch/>
        </p:blipFill>
        <p:spPr>
          <a:xfrm>
            <a:off x="6527880" y="5443560"/>
            <a:ext cx="3826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975" name=""/>
          <p:cNvGrpSpPr/>
          <p:nvPr/>
        </p:nvGrpSpPr>
        <p:grpSpPr>
          <a:xfrm>
            <a:off x="7321680" y="5346720"/>
            <a:ext cx="448920" cy="512280"/>
            <a:chOff x="7321680" y="5346720"/>
            <a:chExt cx="448920" cy="512280"/>
          </a:xfrm>
        </p:grpSpPr>
        <p:pic>
          <p:nvPicPr>
            <p:cNvPr id="1976" name="" descr=""/>
            <p:cNvPicPr/>
            <p:nvPr/>
          </p:nvPicPr>
          <p:blipFill>
            <a:blip r:embed="rId13"/>
            <a:stretch/>
          </p:blipFill>
          <p:spPr>
            <a:xfrm>
              <a:off x="7321680" y="5346720"/>
              <a:ext cx="41796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7" name="" descr=""/>
            <p:cNvPicPr/>
            <p:nvPr/>
          </p:nvPicPr>
          <p:blipFill>
            <a:blip r:embed="rId14"/>
            <a:stretch/>
          </p:blipFill>
          <p:spPr>
            <a:xfrm>
              <a:off x="7387920" y="5481000"/>
              <a:ext cx="382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8" name=""/>
          <p:cNvGrpSpPr/>
          <p:nvPr/>
        </p:nvGrpSpPr>
        <p:grpSpPr>
          <a:xfrm>
            <a:off x="6862680" y="5005440"/>
            <a:ext cx="419040" cy="452160"/>
            <a:chOff x="6862680" y="5005440"/>
            <a:chExt cx="419040" cy="452160"/>
          </a:xfrm>
        </p:grpSpPr>
        <p:pic>
          <p:nvPicPr>
            <p:cNvPr id="1979" name="" descr=""/>
            <p:cNvPicPr/>
            <p:nvPr/>
          </p:nvPicPr>
          <p:blipFill>
            <a:blip r:embed="rId15"/>
            <a:stretch/>
          </p:blipFill>
          <p:spPr>
            <a:xfrm>
              <a:off x="6862680" y="5005440"/>
              <a:ext cx="419040" cy="4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0" name=""/>
            <p:cNvSpPr/>
            <p:nvPr/>
          </p:nvSpPr>
          <p:spPr>
            <a:xfrm>
              <a:off x="6984360" y="5164200"/>
              <a:ext cx="295200" cy="293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7999560" y="4199040"/>
            <a:ext cx="230040" cy="489960"/>
            <a:chOff x="7999560" y="4199040"/>
            <a:chExt cx="230040" cy="489960"/>
          </a:xfrm>
        </p:grpSpPr>
        <p:sp>
          <p:nvSpPr>
            <p:cNvPr id="1982" name=""/>
            <p:cNvSpPr/>
            <p:nvPr/>
          </p:nvSpPr>
          <p:spPr>
            <a:xfrm>
              <a:off x="7999560" y="457596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115840" y="420228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00640" y="430884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999560" y="4199040"/>
              <a:ext cx="230040" cy="113040"/>
            </a:xfrm>
            <a:prstGeom prst="parallelogram">
              <a:avLst>
                <a:gd name="adj" fmla="val 7839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229600" y="420696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8146440" y="4575960"/>
              <a:ext cx="8280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019360" y="435852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033040" y="442404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7985160" y="4732200"/>
            <a:ext cx="230040" cy="490320"/>
            <a:chOff x="7985160" y="4732200"/>
            <a:chExt cx="230040" cy="490320"/>
          </a:xfrm>
        </p:grpSpPr>
        <p:sp>
          <p:nvSpPr>
            <p:cNvPr id="1991" name=""/>
            <p:cNvSpPr/>
            <p:nvPr/>
          </p:nvSpPr>
          <p:spPr>
            <a:xfrm>
              <a:off x="7985160" y="510912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8101440" y="4735440"/>
              <a:ext cx="105480" cy="37656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986240" y="4842360"/>
              <a:ext cx="145800" cy="37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985160" y="4732200"/>
              <a:ext cx="230040" cy="113400"/>
            </a:xfrm>
            <a:prstGeom prst="parallelogram">
              <a:avLst>
                <a:gd name="adj" fmla="val 7814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8215200" y="4740120"/>
              <a:ext cx="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8132040" y="5109120"/>
              <a:ext cx="828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04960" y="4891680"/>
              <a:ext cx="96480" cy="217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018640" y="4957560"/>
              <a:ext cx="730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9" name=""/>
          <p:cNvSpPr/>
          <p:nvPr/>
        </p:nvSpPr>
        <p:spPr>
          <a:xfrm flipV="1">
            <a:off x="7908840" y="4279680"/>
            <a:ext cx="0" cy="73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905600" y="5011560"/>
            <a:ext cx="114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902720" y="4440240"/>
            <a:ext cx="98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491160" y="2155320"/>
            <a:ext cx="50652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7524720" y="2136600"/>
            <a:ext cx="53820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H="1">
            <a:off x="8098920" y="2541600"/>
            <a:ext cx="266760" cy="81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246800" y="2273400"/>
            <a:ext cx="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7275600" y="3049560"/>
            <a:ext cx="59220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H="1">
            <a:off x="7785000" y="3608280"/>
            <a:ext cx="2952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7534080" y="2503440"/>
            <a:ext cx="61884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7543800" y="1830240"/>
            <a:ext cx="3888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>
            <a:off x="8337600" y="2041560"/>
            <a:ext cx="2239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5916600" y="2273400"/>
            <a:ext cx="554040" cy="279000"/>
            <a:chOff x="5916600" y="2273400"/>
            <a:chExt cx="554040" cy="279000"/>
          </a:xfrm>
        </p:grpSpPr>
        <p:sp>
          <p:nvSpPr>
            <p:cNvPr id="2012" name=""/>
            <p:cNvSpPr/>
            <p:nvPr/>
          </p:nvSpPr>
          <p:spPr>
            <a:xfrm>
              <a:off x="5920920" y="239796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92092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70640" y="23846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920920" y="238464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916600" y="227340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7" name=""/>
            <p:cNvGrpSpPr/>
            <p:nvPr/>
          </p:nvGrpSpPr>
          <p:grpSpPr>
            <a:xfrm>
              <a:off x="6048720" y="2313000"/>
              <a:ext cx="271800" cy="105120"/>
              <a:chOff x="6048720" y="2313000"/>
              <a:chExt cx="271800" cy="105120"/>
            </a:xfrm>
          </p:grpSpPr>
          <p:sp>
            <p:nvSpPr>
              <p:cNvPr id="2018" name=""/>
              <p:cNvSpPr/>
              <p:nvPr/>
            </p:nvSpPr>
            <p:spPr>
              <a:xfrm flipV="1">
                <a:off x="6048720" y="2313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35200" y="24181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138000" y="23151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1" name=""/>
            <p:cNvGrpSpPr/>
            <p:nvPr/>
          </p:nvGrpSpPr>
          <p:grpSpPr>
            <a:xfrm>
              <a:off x="6048720" y="2311560"/>
              <a:ext cx="271800" cy="105120"/>
              <a:chOff x="6048720" y="2311560"/>
              <a:chExt cx="271800" cy="105120"/>
            </a:xfrm>
          </p:grpSpPr>
          <p:sp>
            <p:nvSpPr>
              <p:cNvPr id="2022" name=""/>
              <p:cNvSpPr/>
              <p:nvPr/>
            </p:nvSpPr>
            <p:spPr>
              <a:xfrm>
                <a:off x="6048720" y="24145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6235200" y="2311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138000" y="2311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5" name=""/>
          <p:cNvGrpSpPr/>
          <p:nvPr/>
        </p:nvGrpSpPr>
        <p:grpSpPr>
          <a:xfrm>
            <a:off x="6970680" y="1998720"/>
            <a:ext cx="554040" cy="279000"/>
            <a:chOff x="6970680" y="1998720"/>
            <a:chExt cx="554040" cy="279000"/>
          </a:xfrm>
        </p:grpSpPr>
        <p:sp>
          <p:nvSpPr>
            <p:cNvPr id="2026" name=""/>
            <p:cNvSpPr/>
            <p:nvPr/>
          </p:nvSpPr>
          <p:spPr>
            <a:xfrm>
              <a:off x="6975000" y="212328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97500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7524720" y="210996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975000" y="210996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970680" y="199872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1" name=""/>
            <p:cNvGrpSpPr/>
            <p:nvPr/>
          </p:nvGrpSpPr>
          <p:grpSpPr>
            <a:xfrm>
              <a:off x="7102800" y="2038320"/>
              <a:ext cx="271800" cy="105120"/>
              <a:chOff x="7102800" y="2038320"/>
              <a:chExt cx="271800" cy="105120"/>
            </a:xfrm>
          </p:grpSpPr>
          <p:sp>
            <p:nvSpPr>
              <p:cNvPr id="2032" name=""/>
              <p:cNvSpPr/>
              <p:nvPr/>
            </p:nvSpPr>
            <p:spPr>
              <a:xfrm flipV="1">
                <a:off x="7102800" y="20383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7289280" y="21434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7192080" y="20404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7102800" y="2036880"/>
              <a:ext cx="271800" cy="105120"/>
              <a:chOff x="7102800" y="2036880"/>
              <a:chExt cx="271800" cy="105120"/>
            </a:xfrm>
          </p:grpSpPr>
          <p:sp>
            <p:nvSpPr>
              <p:cNvPr id="2036" name=""/>
              <p:cNvSpPr/>
              <p:nvPr/>
            </p:nvSpPr>
            <p:spPr>
              <a:xfrm>
                <a:off x="7102800" y="2139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7289280" y="203688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7192080" y="203688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9" name=""/>
          <p:cNvGrpSpPr/>
          <p:nvPr/>
        </p:nvGrpSpPr>
        <p:grpSpPr>
          <a:xfrm>
            <a:off x="6989760" y="2786040"/>
            <a:ext cx="554040" cy="280800"/>
            <a:chOff x="6989760" y="2786040"/>
            <a:chExt cx="554040" cy="280800"/>
          </a:xfrm>
        </p:grpSpPr>
        <p:sp>
          <p:nvSpPr>
            <p:cNvPr id="2040" name=""/>
            <p:cNvSpPr/>
            <p:nvPr/>
          </p:nvSpPr>
          <p:spPr>
            <a:xfrm>
              <a:off x="6994080" y="2911320"/>
              <a:ext cx="549360" cy="155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99408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43800" y="28980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994080" y="2898000"/>
              <a:ext cx="544320" cy="95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989760" y="2786040"/>
              <a:ext cx="54900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5" name=""/>
            <p:cNvGrpSpPr/>
            <p:nvPr/>
          </p:nvGrpSpPr>
          <p:grpSpPr>
            <a:xfrm>
              <a:off x="7121880" y="2826000"/>
              <a:ext cx="271800" cy="105840"/>
              <a:chOff x="7121880" y="2826000"/>
              <a:chExt cx="271800" cy="105840"/>
            </a:xfrm>
          </p:grpSpPr>
          <p:sp>
            <p:nvSpPr>
              <p:cNvPr id="2046" name=""/>
              <p:cNvSpPr/>
              <p:nvPr/>
            </p:nvSpPr>
            <p:spPr>
              <a:xfrm flipV="1">
                <a:off x="7121880" y="2826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7308360" y="29318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7211160" y="28281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9" name=""/>
            <p:cNvGrpSpPr/>
            <p:nvPr/>
          </p:nvGrpSpPr>
          <p:grpSpPr>
            <a:xfrm>
              <a:off x="7121880" y="2824560"/>
              <a:ext cx="271800" cy="105840"/>
              <a:chOff x="7121880" y="2824560"/>
              <a:chExt cx="271800" cy="105840"/>
            </a:xfrm>
          </p:grpSpPr>
          <p:sp>
            <p:nvSpPr>
              <p:cNvPr id="2050" name=""/>
              <p:cNvSpPr/>
              <p:nvPr/>
            </p:nvSpPr>
            <p:spPr>
              <a:xfrm>
                <a:off x="7121880" y="29282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308360" y="2824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7211160" y="2824560"/>
                <a:ext cx="100800" cy="10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3" name=""/>
          <p:cNvGrpSpPr/>
          <p:nvPr/>
        </p:nvGrpSpPr>
        <p:grpSpPr>
          <a:xfrm>
            <a:off x="8062920" y="2247840"/>
            <a:ext cx="552600" cy="279000"/>
            <a:chOff x="8062920" y="2247840"/>
            <a:chExt cx="552600" cy="279000"/>
          </a:xfrm>
        </p:grpSpPr>
        <p:sp>
          <p:nvSpPr>
            <p:cNvPr id="2054" name=""/>
            <p:cNvSpPr/>
            <p:nvPr/>
          </p:nvSpPr>
          <p:spPr>
            <a:xfrm>
              <a:off x="8067240" y="237240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06724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615520" y="23590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067240" y="235908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062920" y="224784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9" name=""/>
            <p:cNvGrpSpPr/>
            <p:nvPr/>
          </p:nvGrpSpPr>
          <p:grpSpPr>
            <a:xfrm>
              <a:off x="8194680" y="2287440"/>
              <a:ext cx="271080" cy="105120"/>
              <a:chOff x="8194680" y="2287440"/>
              <a:chExt cx="271080" cy="105120"/>
            </a:xfrm>
          </p:grpSpPr>
          <p:sp>
            <p:nvSpPr>
              <p:cNvPr id="2060" name=""/>
              <p:cNvSpPr/>
              <p:nvPr/>
            </p:nvSpPr>
            <p:spPr>
              <a:xfrm flipV="1">
                <a:off x="8194680" y="228744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8380440" y="23925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8283960" y="22896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3" name=""/>
            <p:cNvGrpSpPr/>
            <p:nvPr/>
          </p:nvGrpSpPr>
          <p:grpSpPr>
            <a:xfrm>
              <a:off x="8194680" y="2286000"/>
              <a:ext cx="271080" cy="105120"/>
              <a:chOff x="8194680" y="2286000"/>
              <a:chExt cx="271080" cy="105120"/>
            </a:xfrm>
          </p:grpSpPr>
          <p:sp>
            <p:nvSpPr>
              <p:cNvPr id="2064" name=""/>
              <p:cNvSpPr/>
              <p:nvPr/>
            </p:nvSpPr>
            <p:spPr>
              <a:xfrm>
                <a:off x="8194680" y="238896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8380440" y="22860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8283960" y="228600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7" name=""/>
          <p:cNvGrpSpPr/>
          <p:nvPr/>
        </p:nvGrpSpPr>
        <p:grpSpPr>
          <a:xfrm>
            <a:off x="7848720" y="3324240"/>
            <a:ext cx="554040" cy="279000"/>
            <a:chOff x="7848720" y="3324240"/>
            <a:chExt cx="554040" cy="279000"/>
          </a:xfrm>
        </p:grpSpPr>
        <p:sp>
          <p:nvSpPr>
            <p:cNvPr id="2068" name=""/>
            <p:cNvSpPr/>
            <p:nvPr/>
          </p:nvSpPr>
          <p:spPr>
            <a:xfrm>
              <a:off x="7853040" y="34488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85304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402760" y="34354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853040" y="34354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848720" y="33242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3" name=""/>
            <p:cNvGrpSpPr/>
            <p:nvPr/>
          </p:nvGrpSpPr>
          <p:grpSpPr>
            <a:xfrm>
              <a:off x="7980840" y="3363840"/>
              <a:ext cx="271800" cy="105120"/>
              <a:chOff x="7980840" y="3363840"/>
              <a:chExt cx="271800" cy="105120"/>
            </a:xfrm>
          </p:grpSpPr>
          <p:sp>
            <p:nvSpPr>
              <p:cNvPr id="2074" name=""/>
              <p:cNvSpPr/>
              <p:nvPr/>
            </p:nvSpPr>
            <p:spPr>
              <a:xfrm flipV="1">
                <a:off x="7980840" y="33638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8167320" y="3468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8070120" y="33660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7980840" y="3362400"/>
              <a:ext cx="271800" cy="105120"/>
              <a:chOff x="7980840" y="3362400"/>
              <a:chExt cx="271800" cy="105120"/>
            </a:xfrm>
          </p:grpSpPr>
          <p:sp>
            <p:nvSpPr>
              <p:cNvPr id="2078" name=""/>
              <p:cNvSpPr/>
              <p:nvPr/>
            </p:nvSpPr>
            <p:spPr>
              <a:xfrm>
                <a:off x="7980840" y="34653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8167320" y="33624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8070120" y="33624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1" name=""/>
          <p:cNvGrpSpPr/>
          <p:nvPr/>
        </p:nvGrpSpPr>
        <p:grpSpPr>
          <a:xfrm>
            <a:off x="7478640" y="4024440"/>
            <a:ext cx="555840" cy="282240"/>
            <a:chOff x="7478640" y="4024440"/>
            <a:chExt cx="555840" cy="282240"/>
          </a:xfrm>
        </p:grpSpPr>
        <p:sp>
          <p:nvSpPr>
            <p:cNvPr id="2082" name=""/>
            <p:cNvSpPr/>
            <p:nvPr/>
          </p:nvSpPr>
          <p:spPr>
            <a:xfrm>
              <a:off x="7482960" y="4150440"/>
              <a:ext cx="551160" cy="156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48296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034480" y="413712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82960" y="4137120"/>
              <a:ext cx="546120" cy="95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7478640" y="4024440"/>
              <a:ext cx="550800" cy="182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7" name=""/>
            <p:cNvGrpSpPr/>
            <p:nvPr/>
          </p:nvGrpSpPr>
          <p:grpSpPr>
            <a:xfrm>
              <a:off x="7611120" y="4064400"/>
              <a:ext cx="272880" cy="106560"/>
              <a:chOff x="7611120" y="4064400"/>
              <a:chExt cx="272880" cy="10656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7611120" y="406440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798320" y="4170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700760" y="40665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1" name=""/>
            <p:cNvGrpSpPr/>
            <p:nvPr/>
          </p:nvGrpSpPr>
          <p:grpSpPr>
            <a:xfrm>
              <a:off x="7611120" y="4062960"/>
              <a:ext cx="272880" cy="106560"/>
              <a:chOff x="7611120" y="4062960"/>
              <a:chExt cx="272880" cy="106560"/>
            </a:xfrm>
          </p:grpSpPr>
          <p:sp>
            <p:nvSpPr>
              <p:cNvPr id="2092" name=""/>
              <p:cNvSpPr/>
              <p:nvPr/>
            </p:nvSpPr>
            <p:spPr>
              <a:xfrm>
                <a:off x="7611120" y="4167360"/>
                <a:ext cx="972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798320" y="4062960"/>
                <a:ext cx="85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7700760" y="4062960"/>
                <a:ext cx="1011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5" name=""/>
          <p:cNvGrpSpPr/>
          <p:nvPr/>
        </p:nvGrpSpPr>
        <p:grpSpPr>
          <a:xfrm>
            <a:off x="6805440" y="4611600"/>
            <a:ext cx="552600" cy="279000"/>
            <a:chOff x="6805440" y="4611600"/>
            <a:chExt cx="552600" cy="279000"/>
          </a:xfrm>
        </p:grpSpPr>
        <p:sp>
          <p:nvSpPr>
            <p:cNvPr id="2096" name=""/>
            <p:cNvSpPr/>
            <p:nvPr/>
          </p:nvSpPr>
          <p:spPr>
            <a:xfrm>
              <a:off x="6809760" y="4736160"/>
              <a:ext cx="54792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976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58040" y="47228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809760" y="4722840"/>
              <a:ext cx="54288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805440" y="4611600"/>
              <a:ext cx="54756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6937200" y="4651200"/>
              <a:ext cx="271080" cy="105120"/>
              <a:chOff x="6937200" y="4651200"/>
              <a:chExt cx="271080" cy="105120"/>
            </a:xfrm>
          </p:grpSpPr>
          <p:sp>
            <p:nvSpPr>
              <p:cNvPr id="2102" name=""/>
              <p:cNvSpPr/>
              <p:nvPr/>
            </p:nvSpPr>
            <p:spPr>
              <a:xfrm flipV="1">
                <a:off x="6937200" y="465120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122960" y="47563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026480" y="46533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5" name=""/>
            <p:cNvGrpSpPr/>
            <p:nvPr/>
          </p:nvGrpSpPr>
          <p:grpSpPr>
            <a:xfrm>
              <a:off x="6937200" y="4649760"/>
              <a:ext cx="271080" cy="105120"/>
              <a:chOff x="6937200" y="4649760"/>
              <a:chExt cx="271080" cy="105120"/>
            </a:xfrm>
          </p:grpSpPr>
          <p:sp>
            <p:nvSpPr>
              <p:cNvPr id="2106" name=""/>
              <p:cNvSpPr/>
              <p:nvPr/>
            </p:nvSpPr>
            <p:spPr>
              <a:xfrm>
                <a:off x="6937200" y="4752720"/>
                <a:ext cx="96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122960" y="4649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7026480" y="4649760"/>
                <a:ext cx="10044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9" name=""/>
          <p:cNvGrpSpPr/>
          <p:nvPr/>
        </p:nvGrpSpPr>
        <p:grpSpPr>
          <a:xfrm>
            <a:off x="5916600" y="4160880"/>
            <a:ext cx="554040" cy="279000"/>
            <a:chOff x="5916600" y="4160880"/>
            <a:chExt cx="554040" cy="279000"/>
          </a:xfrm>
        </p:grpSpPr>
        <p:sp>
          <p:nvSpPr>
            <p:cNvPr id="2110" name=""/>
            <p:cNvSpPr/>
            <p:nvPr/>
          </p:nvSpPr>
          <p:spPr>
            <a:xfrm>
              <a:off x="5920920" y="428544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92092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470640" y="427212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920920" y="427212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916600" y="416088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5" name=""/>
            <p:cNvGrpSpPr/>
            <p:nvPr/>
          </p:nvGrpSpPr>
          <p:grpSpPr>
            <a:xfrm>
              <a:off x="6048720" y="4200480"/>
              <a:ext cx="271800" cy="105120"/>
              <a:chOff x="6048720" y="4200480"/>
              <a:chExt cx="271800" cy="105120"/>
            </a:xfrm>
          </p:grpSpPr>
          <p:sp>
            <p:nvSpPr>
              <p:cNvPr id="2116" name=""/>
              <p:cNvSpPr/>
              <p:nvPr/>
            </p:nvSpPr>
            <p:spPr>
              <a:xfrm flipV="1">
                <a:off x="6048720" y="420048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6235200" y="43056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138000" y="42026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9" name=""/>
            <p:cNvGrpSpPr/>
            <p:nvPr/>
          </p:nvGrpSpPr>
          <p:grpSpPr>
            <a:xfrm>
              <a:off x="6048720" y="4199040"/>
              <a:ext cx="271800" cy="105120"/>
              <a:chOff x="6048720" y="4199040"/>
              <a:chExt cx="271800" cy="105120"/>
            </a:xfrm>
          </p:grpSpPr>
          <p:sp>
            <p:nvSpPr>
              <p:cNvPr id="2120" name=""/>
              <p:cNvSpPr/>
              <p:nvPr/>
            </p:nvSpPr>
            <p:spPr>
              <a:xfrm>
                <a:off x="6048720" y="43020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6235200" y="419904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V="1">
                <a:off x="6138000" y="419904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3" name=""/>
          <p:cNvSpPr/>
          <p:nvPr/>
        </p:nvSpPr>
        <p:spPr>
          <a:xfrm>
            <a:off x="6192720" y="4430880"/>
            <a:ext cx="1800" cy="27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4" name=""/>
          <p:cNvGrpSpPr/>
          <p:nvPr/>
        </p:nvGrpSpPr>
        <p:grpSpPr>
          <a:xfrm>
            <a:off x="6022800" y="4889520"/>
            <a:ext cx="1179720" cy="287280"/>
            <a:chOff x="6022800" y="4889520"/>
            <a:chExt cx="1179720" cy="287280"/>
          </a:xfrm>
        </p:grpSpPr>
        <p:sp>
          <p:nvSpPr>
            <p:cNvPr id="2125" name=""/>
            <p:cNvSpPr/>
            <p:nvPr/>
          </p:nvSpPr>
          <p:spPr>
            <a:xfrm rot="16200000">
              <a:off x="6022080" y="489456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6200000">
              <a:off x="6114960" y="4892400"/>
              <a:ext cx="763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16200000">
              <a:off x="6201720" y="4897800"/>
              <a:ext cx="74520" cy="730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02520" y="4889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931080" y="503856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3840" y="50133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818400" y="499752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7020720" y="5023800"/>
              <a:ext cx="65160" cy="7596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 flipV="1">
              <a:off x="7048440" y="4998960"/>
              <a:ext cx="92160" cy="13032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 flipV="1">
              <a:off x="7070760" y="496332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7304040" y="5316480"/>
            <a:ext cx="367920" cy="212760"/>
            <a:chOff x="7304040" y="5316480"/>
            <a:chExt cx="367920" cy="212760"/>
          </a:xfrm>
        </p:grpSpPr>
        <p:sp>
          <p:nvSpPr>
            <p:cNvPr id="2136" name=""/>
            <p:cNvSpPr/>
            <p:nvPr/>
          </p:nvSpPr>
          <p:spPr>
            <a:xfrm>
              <a:off x="7417080" y="539100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359840" y="5365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04040" y="534960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 flipV="1">
              <a:off x="7506720" y="537660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534440" y="53506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 flipV="1">
              <a:off x="7556040" y="531648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6399360" y="5268960"/>
            <a:ext cx="367920" cy="212760"/>
            <a:chOff x="6399360" y="5268960"/>
            <a:chExt cx="367920" cy="212760"/>
          </a:xfrm>
        </p:grpSpPr>
        <p:sp>
          <p:nvSpPr>
            <p:cNvPr id="2143" name=""/>
            <p:cNvSpPr/>
            <p:nvPr/>
          </p:nvSpPr>
          <p:spPr>
            <a:xfrm>
              <a:off x="6512400" y="5343480"/>
              <a:ext cx="6480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455160" y="531828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399360" y="530208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 flipV="1">
              <a:off x="6602040" y="5329080"/>
              <a:ext cx="65160" cy="7632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35" y="0"/>
                  </a:moveTo>
                  <a:cubicBezTo>
                    <a:pt x="20" y="8"/>
                    <a:pt x="8" y="16"/>
                    <a:pt x="4" y="23"/>
                  </a:cubicBezTo>
                  <a:cubicBezTo>
                    <a:pt x="0" y="30"/>
                    <a:pt x="2" y="35"/>
                    <a:pt x="8" y="39"/>
                  </a:cubicBezTo>
                  <a:cubicBezTo>
                    <a:pt x="14" y="43"/>
                    <a:pt x="34" y="46"/>
                    <a:pt x="41" y="4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6629760" y="530316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40" y="0"/>
                  </a:moveTo>
                  <a:cubicBezTo>
                    <a:pt x="34" y="5"/>
                    <a:pt x="10" y="24"/>
                    <a:pt x="5" y="33"/>
                  </a:cubicBezTo>
                  <a:cubicBezTo>
                    <a:pt x="0" y="42"/>
                    <a:pt x="3" y="48"/>
                    <a:pt x="7" y="55"/>
                  </a:cubicBezTo>
                  <a:cubicBezTo>
                    <a:pt x="11" y="62"/>
                    <a:pt x="20" y="71"/>
                    <a:pt x="28" y="75"/>
                  </a:cubicBezTo>
                  <a:cubicBezTo>
                    <a:pt x="36" y="79"/>
                    <a:pt x="52" y="81"/>
                    <a:pt x="58" y="8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 flipV="1">
              <a:off x="6651360" y="5268960"/>
              <a:ext cx="11556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46" y="0"/>
                  </a:moveTo>
                  <a:cubicBezTo>
                    <a:pt x="40" y="5"/>
                    <a:pt x="18" y="22"/>
                    <a:pt x="11" y="33"/>
                  </a:cubicBezTo>
                  <a:cubicBezTo>
                    <a:pt x="4" y="44"/>
                    <a:pt x="0" y="57"/>
                    <a:pt x="3" y="67"/>
                  </a:cubicBezTo>
                  <a:cubicBezTo>
                    <a:pt x="6" y="77"/>
                    <a:pt x="15" y="87"/>
                    <a:pt x="27" y="95"/>
                  </a:cubicBezTo>
                  <a:cubicBezTo>
                    <a:pt x="39" y="103"/>
                    <a:pt x="64" y="109"/>
                    <a:pt x="73" y="11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341-FB7C-41BD-8E00-B1F48889D6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point to point acce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alup via mod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56Kbps direct access to router (conceptuall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ISD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grated services digital network: 128Kbps all-digital connect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DS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asymmetric digital subscriber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1 Mbps home-to-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8 Mbps router-to-h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51" name=""/>
          <p:cNvGrpSpPr/>
          <p:nvPr/>
        </p:nvGrpSpPr>
        <p:grpSpPr>
          <a:xfrm>
            <a:off x="5591160" y="2543040"/>
            <a:ext cx="2554920" cy="1830240"/>
            <a:chOff x="5591160" y="2543040"/>
            <a:chExt cx="2554920" cy="1830240"/>
          </a:xfrm>
        </p:grpSpPr>
        <p:pic>
          <p:nvPicPr>
            <p:cNvPr id="2152" name="" descr=""/>
            <p:cNvPicPr/>
            <p:nvPr/>
          </p:nvPicPr>
          <p:blipFill>
            <a:blip r:embed="rId1"/>
            <a:stretch/>
          </p:blipFill>
          <p:spPr>
            <a:xfrm>
              <a:off x="5591160" y="2543040"/>
              <a:ext cx="72936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3" name="" descr=""/>
            <p:cNvPicPr/>
            <p:nvPr/>
          </p:nvPicPr>
          <p:blipFill>
            <a:blip r:embed="rId2"/>
            <a:stretch/>
          </p:blipFill>
          <p:spPr>
            <a:xfrm>
              <a:off x="6385680" y="277884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 flipV="1">
              <a:off x="6302880" y="3027240"/>
              <a:ext cx="200520" cy="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5" name="" descr=""/>
            <p:cNvPicPr/>
            <p:nvPr/>
          </p:nvPicPr>
          <p:blipFill>
            <a:blip r:embed="rId3"/>
            <a:stretch/>
          </p:blipFill>
          <p:spPr>
            <a:xfrm>
              <a:off x="5591160" y="3735360"/>
              <a:ext cx="729360" cy="63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6" name="" descr=""/>
            <p:cNvPicPr/>
            <p:nvPr/>
          </p:nvPicPr>
          <p:blipFill>
            <a:blip r:embed="rId4"/>
            <a:stretch/>
          </p:blipFill>
          <p:spPr>
            <a:xfrm>
              <a:off x="6385680" y="3970800"/>
              <a:ext cx="490320" cy="3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 flipV="1">
              <a:off x="6302880" y="4219560"/>
              <a:ext cx="20052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8" name=""/>
            <p:cNvGrpSpPr/>
            <p:nvPr/>
          </p:nvGrpSpPr>
          <p:grpSpPr>
            <a:xfrm>
              <a:off x="6249960" y="3308760"/>
              <a:ext cx="122760" cy="428400"/>
              <a:chOff x="6249960" y="3308760"/>
              <a:chExt cx="122760" cy="428400"/>
            </a:xfrm>
          </p:grpSpPr>
          <p:sp>
            <p:nvSpPr>
              <p:cNvPr id="2159" name=""/>
              <p:cNvSpPr/>
              <p:nvPr/>
            </p:nvSpPr>
            <p:spPr>
              <a:xfrm>
                <a:off x="6249960" y="3308760"/>
                <a:ext cx="113040" cy="12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254640" y="346284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259680" y="3616920"/>
                <a:ext cx="113040" cy="120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2" name=""/>
            <p:cNvSpPr/>
            <p:nvPr/>
          </p:nvSpPr>
          <p:spPr>
            <a:xfrm>
              <a:off x="6788520" y="3051720"/>
              <a:ext cx="505440" cy="529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6808320" y="3623400"/>
              <a:ext cx="485280" cy="659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4" name=""/>
            <p:cNvGrpSpPr/>
            <p:nvPr/>
          </p:nvGrpSpPr>
          <p:grpSpPr>
            <a:xfrm>
              <a:off x="7268760" y="3348360"/>
              <a:ext cx="877320" cy="465480"/>
              <a:chOff x="7268760" y="3348360"/>
              <a:chExt cx="877320" cy="465480"/>
            </a:xfrm>
          </p:grpSpPr>
          <p:sp>
            <p:nvSpPr>
              <p:cNvPr id="2165" name=""/>
              <p:cNvSpPr/>
              <p:nvPr/>
            </p:nvSpPr>
            <p:spPr>
              <a:xfrm>
                <a:off x="7275600" y="3556080"/>
                <a:ext cx="870120" cy="257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27560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8146080" y="3534120"/>
                <a:ext cx="0" cy="15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7275600" y="3534120"/>
                <a:ext cx="862560" cy="15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7268760" y="3348360"/>
                <a:ext cx="869400" cy="300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"/>
              <p:cNvGrpSpPr/>
              <p:nvPr/>
            </p:nvGrpSpPr>
            <p:grpSpPr>
              <a:xfrm>
                <a:off x="7477920" y="3414600"/>
                <a:ext cx="430560" cy="175320"/>
                <a:chOff x="7477920" y="3414600"/>
                <a:chExt cx="430560" cy="175320"/>
              </a:xfrm>
            </p:grpSpPr>
            <p:sp>
              <p:nvSpPr>
                <p:cNvPr id="2171" name=""/>
                <p:cNvSpPr/>
                <p:nvPr/>
              </p:nvSpPr>
              <p:spPr>
                <a:xfrm flipV="1">
                  <a:off x="7477920" y="341460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7773120" y="358992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7619400" y="341820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4" name=""/>
              <p:cNvGrpSpPr/>
              <p:nvPr/>
            </p:nvGrpSpPr>
            <p:grpSpPr>
              <a:xfrm>
                <a:off x="7477920" y="3412440"/>
                <a:ext cx="430560" cy="175320"/>
                <a:chOff x="7477920" y="3412440"/>
                <a:chExt cx="430560" cy="17532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7477920" y="3584160"/>
                  <a:ext cx="153360" cy="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7773120" y="3412440"/>
                  <a:ext cx="135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V="1">
                  <a:off x="7619400" y="3412440"/>
                  <a:ext cx="159840" cy="17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73D-7034-463C-878B-9BBC1A52A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sidential access: cable modems 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on diffuso in italia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FC: hybrid fiber coa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mmetric: up to 10Mbps upstream, 1 Mbps down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cable and fiber attaches homes to ISP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d access to router among ho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sues: congestion, dimension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loyment: available via cable companies, e.g., Media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0" name="" descr=""/>
          <p:cNvPicPr/>
          <p:nvPr/>
        </p:nvPicPr>
        <p:blipFill>
          <a:blip r:embed="rId1"/>
          <a:stretch/>
        </p:blipFill>
        <p:spPr>
          <a:xfrm>
            <a:off x="4349880" y="2154240"/>
            <a:ext cx="4375080" cy="29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1A5-DB7F-4E66-BAC4-EE48900D33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stitutional access: local area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ny/univ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area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LAN) connects end system to edg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thern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or dedicated cable connects end system an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 Mbs, 100Mbps, Gigabit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ploym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stitutions, home LANs so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s:  chapter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5416560" y="2427120"/>
            <a:ext cx="2797920" cy="2350800"/>
            <a:chOff x="5416560" y="2427120"/>
            <a:chExt cx="2797920" cy="2350800"/>
          </a:xfrm>
        </p:grpSpPr>
        <p:pic>
          <p:nvPicPr>
            <p:cNvPr id="2184" name="" descr=""/>
            <p:cNvPicPr/>
            <p:nvPr/>
          </p:nvPicPr>
          <p:blipFill>
            <a:blip r:embed="rId1"/>
            <a:stretch/>
          </p:blipFill>
          <p:spPr>
            <a:xfrm>
              <a:off x="5416560" y="242712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5" name=""/>
            <p:cNvSpPr/>
            <p:nvPr/>
          </p:nvSpPr>
          <p:spPr>
            <a:xfrm flipV="1">
              <a:off x="6002640" y="2858760"/>
              <a:ext cx="102960" cy="1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6" name="" descr=""/>
            <p:cNvPicPr/>
            <p:nvPr/>
          </p:nvPicPr>
          <p:blipFill>
            <a:blip r:embed="rId2"/>
            <a:stretch/>
          </p:blipFill>
          <p:spPr>
            <a:xfrm>
              <a:off x="5416560" y="3468960"/>
              <a:ext cx="5983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 flipV="1">
              <a:off x="6002640" y="3909240"/>
              <a:ext cx="1029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5595840" y="3025800"/>
              <a:ext cx="102600" cy="389520"/>
              <a:chOff x="5595840" y="3025800"/>
              <a:chExt cx="102600" cy="389520"/>
            </a:xfrm>
          </p:grpSpPr>
          <p:sp>
            <p:nvSpPr>
              <p:cNvPr id="2189" name=""/>
              <p:cNvSpPr/>
              <p:nvPr/>
            </p:nvSpPr>
            <p:spPr>
              <a:xfrm>
                <a:off x="5595840" y="3025800"/>
                <a:ext cx="94680" cy="109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599800" y="316584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603760" y="3305880"/>
                <a:ext cx="94680" cy="109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6098040" y="2854080"/>
              <a:ext cx="0" cy="1053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3" name="" descr=""/>
            <p:cNvPicPr/>
            <p:nvPr/>
          </p:nvPicPr>
          <p:blipFill>
            <a:blip r:embed="rId3"/>
            <a:stretch/>
          </p:blipFill>
          <p:spPr>
            <a:xfrm>
              <a:off x="6665400" y="4197600"/>
              <a:ext cx="601200" cy="58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4" name="" descr=""/>
            <p:cNvPicPr/>
            <p:nvPr/>
          </p:nvPicPr>
          <p:blipFill>
            <a:blip r:embed="rId4"/>
            <a:stretch/>
          </p:blipFill>
          <p:spPr>
            <a:xfrm>
              <a:off x="5781600" y="4176360"/>
              <a:ext cx="596520" cy="58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5" name=""/>
            <p:cNvSpPr/>
            <p:nvPr/>
          </p:nvSpPr>
          <p:spPr>
            <a:xfrm flipV="1">
              <a:off x="7031160" y="4102200"/>
              <a:ext cx="1800" cy="106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6132960" y="4083480"/>
              <a:ext cx="0" cy="11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6134400" y="4093200"/>
              <a:ext cx="902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093720" y="3429360"/>
              <a:ext cx="146520" cy="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7512480" y="3749760"/>
              <a:ext cx="299160" cy="716760"/>
              <a:chOff x="7512480" y="3749760"/>
              <a:chExt cx="299160" cy="716760"/>
            </a:xfrm>
          </p:grpSpPr>
          <p:sp>
            <p:nvSpPr>
              <p:cNvPr id="2200" name=""/>
              <p:cNvSpPr/>
              <p:nvPr/>
            </p:nvSpPr>
            <p:spPr>
              <a:xfrm>
                <a:off x="751248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766404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751428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751248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781164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770364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53804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55640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7915320" y="3749760"/>
              <a:ext cx="299160" cy="716760"/>
              <a:chOff x="7915320" y="3749760"/>
              <a:chExt cx="299160" cy="716760"/>
            </a:xfrm>
          </p:grpSpPr>
          <p:sp>
            <p:nvSpPr>
              <p:cNvPr id="2209" name=""/>
              <p:cNvSpPr/>
              <p:nvPr/>
            </p:nvSpPr>
            <p:spPr>
              <a:xfrm>
                <a:off x="7915320" y="430092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8066880" y="3754440"/>
                <a:ext cx="137520" cy="55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917120" y="3910680"/>
                <a:ext cx="189720" cy="5511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915320" y="3749760"/>
                <a:ext cx="299160" cy="165600"/>
              </a:xfrm>
              <a:prstGeom prst="parallelogram">
                <a:avLst>
                  <a:gd name="adj" fmla="val 6959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8214480" y="3761280"/>
                <a:ext cx="0" cy="53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8106480" y="4300920"/>
                <a:ext cx="107640" cy="16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940880" y="3983040"/>
                <a:ext cx="1256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959240" y="4078800"/>
                <a:ext cx="95400" cy="11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7" name=""/>
            <p:cNvSpPr/>
            <p:nvPr/>
          </p:nvSpPr>
          <p:spPr>
            <a:xfrm>
              <a:off x="6960960" y="3506040"/>
              <a:ext cx="1127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772560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9" name=""/>
            <p:cNvGrpSpPr/>
            <p:nvPr/>
          </p:nvGrpSpPr>
          <p:grpSpPr>
            <a:xfrm>
              <a:off x="6240240" y="3290400"/>
              <a:ext cx="720360" cy="407520"/>
              <a:chOff x="6240240" y="3290400"/>
              <a:chExt cx="720360" cy="407520"/>
            </a:xfrm>
          </p:grpSpPr>
          <p:sp>
            <p:nvSpPr>
              <p:cNvPr id="2220" name=""/>
              <p:cNvSpPr/>
              <p:nvPr/>
            </p:nvSpPr>
            <p:spPr>
              <a:xfrm>
                <a:off x="6246000" y="3472200"/>
                <a:ext cx="714600" cy="225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2460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960600" y="3453120"/>
                <a:ext cx="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246000" y="3453120"/>
                <a:ext cx="708120" cy="137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240240" y="3290400"/>
                <a:ext cx="714240" cy="263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5" name=""/>
              <p:cNvGrpSpPr/>
              <p:nvPr/>
            </p:nvGrpSpPr>
            <p:grpSpPr>
              <a:xfrm>
                <a:off x="6411960" y="3348360"/>
                <a:ext cx="353880" cy="153720"/>
                <a:chOff x="6411960" y="3348360"/>
                <a:chExt cx="353880" cy="153720"/>
              </a:xfrm>
            </p:grpSpPr>
            <p:sp>
              <p:nvSpPr>
                <p:cNvPr id="2226" name=""/>
                <p:cNvSpPr/>
                <p:nvPr/>
              </p:nvSpPr>
              <p:spPr>
                <a:xfrm flipV="1">
                  <a:off x="6411960" y="334836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6654600" y="350208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6528240" y="335124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6411960" y="3345840"/>
                <a:ext cx="353880" cy="153720"/>
                <a:chOff x="6411960" y="3345840"/>
                <a:chExt cx="353880" cy="15372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6411960" y="3496680"/>
                  <a:ext cx="126000" cy="2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6654600" y="3345840"/>
                  <a:ext cx="11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V="1">
                  <a:off x="6528240" y="3346200"/>
                  <a:ext cx="131040" cy="150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3" name=""/>
            <p:cNvSpPr/>
            <p:nvPr/>
          </p:nvSpPr>
          <p:spPr>
            <a:xfrm>
              <a:off x="6599520" y="3684960"/>
              <a:ext cx="2160" cy="398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8084880" y="3489840"/>
              <a:ext cx="0" cy="28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BDA-4635-41CD-B690-8F1406DE94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ireless access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cess network connects end system to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reless LA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 spectrum replaces wi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Lucent Wavelan 10 M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der-area wireless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DPD: wireless access to ISP router via cellular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7" name=""/>
          <p:cNvGrpSpPr/>
          <p:nvPr/>
        </p:nvGrpSpPr>
        <p:grpSpPr>
          <a:xfrm>
            <a:off x="4991040" y="1779120"/>
            <a:ext cx="3274560" cy="3949920"/>
            <a:chOff x="4991040" y="1779120"/>
            <a:chExt cx="3274560" cy="3949920"/>
          </a:xfrm>
        </p:grpSpPr>
        <p:grpSp>
          <p:nvGrpSpPr>
            <p:cNvPr id="2238" name=""/>
            <p:cNvGrpSpPr/>
            <p:nvPr/>
          </p:nvGrpSpPr>
          <p:grpSpPr>
            <a:xfrm>
              <a:off x="5794200" y="4084560"/>
              <a:ext cx="622440" cy="793800"/>
              <a:chOff x="5794200" y="4084560"/>
              <a:chExt cx="622440" cy="793800"/>
            </a:xfrm>
          </p:grpSpPr>
          <p:pic>
            <p:nvPicPr>
              <p:cNvPr id="2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794200" y="4084560"/>
                <a:ext cx="58104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886360" y="4292640"/>
                <a:ext cx="530280" cy="585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1" name=""/>
            <p:cNvGrpSpPr/>
            <p:nvPr/>
          </p:nvGrpSpPr>
          <p:grpSpPr>
            <a:xfrm>
              <a:off x="6949800" y="3998880"/>
              <a:ext cx="622080" cy="793440"/>
              <a:chOff x="6949800" y="3998880"/>
              <a:chExt cx="622080" cy="793440"/>
            </a:xfrm>
          </p:grpSpPr>
          <p:pic>
            <p:nvPicPr>
              <p:cNvPr id="22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49800" y="399888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1600" y="420696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44" name=""/>
            <p:cNvGrpSpPr/>
            <p:nvPr/>
          </p:nvGrpSpPr>
          <p:grpSpPr>
            <a:xfrm>
              <a:off x="6029280" y="2840040"/>
              <a:ext cx="580680" cy="701280"/>
              <a:chOff x="6029280" y="2840040"/>
              <a:chExt cx="580680" cy="701280"/>
            </a:xfrm>
          </p:grpSpPr>
          <p:pic>
            <p:nvPicPr>
              <p:cNvPr id="2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29280" y="2840040"/>
                <a:ext cx="580680" cy="70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6" name=""/>
              <p:cNvSpPr/>
              <p:nvPr/>
            </p:nvSpPr>
            <p:spPr>
              <a:xfrm>
                <a:off x="6198120" y="3086280"/>
                <a:ext cx="409320" cy="4546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6062400" y="2230200"/>
              <a:ext cx="766440" cy="432720"/>
              <a:chOff x="6062400" y="2230200"/>
              <a:chExt cx="766440" cy="432720"/>
            </a:xfrm>
          </p:grpSpPr>
          <p:sp>
            <p:nvSpPr>
              <p:cNvPr id="2248" name=""/>
              <p:cNvSpPr/>
              <p:nvPr/>
            </p:nvSpPr>
            <p:spPr>
              <a:xfrm>
                <a:off x="6068520" y="2423160"/>
                <a:ext cx="760320" cy="239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06852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828840" y="2403000"/>
                <a:ext cx="0" cy="14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068520" y="2403000"/>
                <a:ext cx="753480" cy="146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062400" y="2230200"/>
                <a:ext cx="759600" cy="2797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3" name=""/>
              <p:cNvGrpSpPr/>
              <p:nvPr/>
            </p:nvGrpSpPr>
            <p:grpSpPr>
              <a:xfrm>
                <a:off x="6245280" y="2291400"/>
                <a:ext cx="376200" cy="163440"/>
                <a:chOff x="6245280" y="2291400"/>
                <a:chExt cx="376200" cy="163440"/>
              </a:xfrm>
            </p:grpSpPr>
            <p:sp>
              <p:nvSpPr>
                <p:cNvPr id="2254" name=""/>
                <p:cNvSpPr/>
                <p:nvPr/>
              </p:nvSpPr>
              <p:spPr>
                <a:xfrm flipV="1">
                  <a:off x="6245280" y="229140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6503400" y="245484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6369120" y="229500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7" name=""/>
              <p:cNvGrpSpPr/>
              <p:nvPr/>
            </p:nvGrpSpPr>
            <p:grpSpPr>
              <a:xfrm>
                <a:off x="6245280" y="2289960"/>
                <a:ext cx="376200" cy="163440"/>
                <a:chOff x="6245280" y="2289960"/>
                <a:chExt cx="376200" cy="16344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6245280" y="2450160"/>
                  <a:ext cx="1342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6503400" y="2289960"/>
                  <a:ext cx="118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V="1">
                  <a:off x="6369120" y="2289960"/>
                  <a:ext cx="139680" cy="15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61" name=""/>
            <p:cNvSpPr/>
            <p:nvPr/>
          </p:nvSpPr>
          <p:spPr>
            <a:xfrm flipV="1">
              <a:off x="6459480" y="265536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2" name=""/>
            <p:cNvGrpSpPr/>
            <p:nvPr/>
          </p:nvGrpSpPr>
          <p:grpSpPr>
            <a:xfrm>
              <a:off x="7194240" y="2395440"/>
              <a:ext cx="622080" cy="793440"/>
              <a:chOff x="7194240" y="2395440"/>
              <a:chExt cx="622080" cy="793440"/>
            </a:xfrm>
          </p:grpSpPr>
          <p:pic>
            <p:nvPicPr>
              <p:cNvPr id="226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4240" y="2395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286040" y="2603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65" name=""/>
            <p:cNvGrpSpPr/>
            <p:nvPr/>
          </p:nvGrpSpPr>
          <p:grpSpPr>
            <a:xfrm>
              <a:off x="7643520" y="3457440"/>
              <a:ext cx="622080" cy="793440"/>
              <a:chOff x="7643520" y="3457440"/>
              <a:chExt cx="622080" cy="793440"/>
            </a:xfrm>
          </p:grpSpPr>
          <p:pic>
            <p:nvPicPr>
              <p:cNvPr id="22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643520" y="3457440"/>
                <a:ext cx="57924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735320" y="3665520"/>
                <a:ext cx="530280" cy="585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68" name=""/>
            <p:cNvSpPr/>
            <p:nvPr/>
          </p:nvSpPr>
          <p:spPr>
            <a:xfrm>
              <a:off x="5008320" y="2884320"/>
              <a:ext cx="116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973920" y="4903560"/>
              <a:ext cx="1168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ho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V="1">
              <a:off x="6402240" y="177912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991040" y="2198520"/>
              <a:ext cx="10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ro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43E-B390-46FE-9184-61D674176F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lin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tted data bit propagates across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uided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s propagate in solid media: copper, fi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guided 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s propagate freelye.g., rad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514760" y="140004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isted Pair (T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insulated copper wi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y 3: traditional phone wires, 10 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y 5 TP: 100Mbp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1"/>
          <a:stretch/>
        </p:blipFill>
        <p:spPr>
          <a:xfrm>
            <a:off x="4219560" y="4886280"/>
            <a:ext cx="4111560" cy="371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985-7A99-460E-B0CE-A9446D74DA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: coax, fib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axial cab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re (signal carrier) within a wire (shiel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band: single channel on c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band: multiple channel on c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use in 10Mbs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8" name="" descr=""/>
          <p:cNvPicPr/>
          <p:nvPr/>
        </p:nvPicPr>
        <p:blipFill>
          <a:blip r:embed="rId1"/>
          <a:stretch/>
        </p:blipFill>
        <p:spPr>
          <a:xfrm>
            <a:off x="976320" y="5257800"/>
            <a:ext cx="2502000" cy="1085760"/>
          </a:xfrm>
          <a:prstGeom prst="rect">
            <a:avLst/>
          </a:prstGeom>
          <a:ln w="0">
            <a:noFill/>
          </a:ln>
        </p:spPr>
      </p:pic>
      <p:sp>
        <p:nvSpPr>
          <p:cNvPr id="2279" name=""/>
          <p:cNvSpPr/>
          <p:nvPr/>
        </p:nvSpPr>
        <p:spPr>
          <a:xfrm>
            <a:off x="4800600" y="1390680"/>
            <a:ext cx="39625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ber optic c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ss fiber carrying light 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-speed 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0Mbps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-speed point-to-point transmission (e.g., 5 G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erro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2"/>
          <a:stretch/>
        </p:blipFill>
        <p:spPr>
          <a:xfrm>
            <a:off x="5424480" y="4700520"/>
            <a:ext cx="2371680" cy="146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E3D-F1D0-419B-8072-E9FF96AA0DA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hysical media: rad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gnal carried in electromagnetic spectr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physical “wi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environment effec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flec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truction by objec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3" name=""/>
          <p:cNvSpPr/>
          <p:nvPr/>
        </p:nvSpPr>
        <p:spPr>
          <a:xfrm>
            <a:off x="4686480" y="1238400"/>
            <a:ext cx="42098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adio link 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up to 45 Mbps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.g., wave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Mbps, 11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ide-are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.g., cellu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CDP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Cellular Digital Packet Data) 10’s 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p to 50Mbps channel (or multiple smaller chann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70 msec end-end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synchronous versus L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1F6-21F0-40A8-A653-92622C9B90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experienc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la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end-to-end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ou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urces of delay at each h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505040" y="1324080"/>
            <a:ext cx="380988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al process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bit err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termine output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ue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waiting at output link for transmiss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ends on congestion level of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7" name=""/>
          <p:cNvGrpSpPr/>
          <p:nvPr/>
        </p:nvGrpSpPr>
        <p:grpSpPr>
          <a:xfrm>
            <a:off x="646920" y="3965400"/>
            <a:ext cx="6006240" cy="2176200"/>
            <a:chOff x="646920" y="3965400"/>
            <a:chExt cx="6006240" cy="2176200"/>
          </a:xfrm>
        </p:grpSpPr>
        <p:pic>
          <p:nvPicPr>
            <p:cNvPr id="2288" name="" descr=""/>
            <p:cNvPicPr/>
            <p:nvPr/>
          </p:nvPicPr>
          <p:blipFill>
            <a:blip r:embed="rId1"/>
            <a:stretch/>
          </p:blipFill>
          <p:spPr>
            <a:xfrm>
              <a:off x="1298520" y="515592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"/>
            <p:cNvSpPr/>
            <p:nvPr/>
          </p:nvSpPr>
          <p:spPr>
            <a:xfrm>
              <a:off x="2340000" y="491472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340000" y="484632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349720" y="461772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2" name=""/>
            <p:cNvGrpSpPr/>
            <p:nvPr/>
          </p:nvGrpSpPr>
          <p:grpSpPr>
            <a:xfrm>
              <a:off x="2695680" y="4647960"/>
              <a:ext cx="497160" cy="118800"/>
              <a:chOff x="2695680" y="4647960"/>
              <a:chExt cx="497160" cy="118800"/>
            </a:xfrm>
          </p:grpSpPr>
          <p:grpSp>
            <p:nvGrpSpPr>
              <p:cNvPr id="2293" name=""/>
              <p:cNvGrpSpPr/>
              <p:nvPr/>
            </p:nvGrpSpPr>
            <p:grpSpPr>
              <a:xfrm>
                <a:off x="2695680" y="4649400"/>
                <a:ext cx="497160" cy="117360"/>
                <a:chOff x="2695680" y="4649400"/>
                <a:chExt cx="497160" cy="117360"/>
              </a:xfrm>
            </p:grpSpPr>
            <p:sp>
              <p:nvSpPr>
                <p:cNvPr id="2294" name=""/>
                <p:cNvSpPr/>
                <p:nvPr/>
              </p:nvSpPr>
              <p:spPr>
                <a:xfrm flipV="1">
                  <a:off x="2695680" y="464940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3036600" y="47667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2859120" y="465156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2695680" y="4647960"/>
                <a:ext cx="497160" cy="117360"/>
                <a:chOff x="2695680" y="4647960"/>
                <a:chExt cx="497160" cy="11736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2695680" y="476316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3036600" y="464796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V="1">
                  <a:off x="2859120" y="464832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1" name=""/>
            <p:cNvSpPr/>
            <p:nvPr/>
          </p:nvSpPr>
          <p:spPr>
            <a:xfrm>
              <a:off x="5435640" y="493380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445360" y="49132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445360" y="487512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454720" y="464652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5" name="" descr=""/>
            <p:cNvPicPr/>
            <p:nvPr/>
          </p:nvPicPr>
          <p:blipFill>
            <a:blip r:embed="rId2"/>
            <a:stretch/>
          </p:blipFill>
          <p:spPr>
            <a:xfrm>
              <a:off x="984240" y="414648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6" name=""/>
            <p:cNvSpPr/>
            <p:nvPr/>
          </p:nvSpPr>
          <p:spPr>
            <a:xfrm>
              <a:off x="1609920" y="455292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1914480" y="553824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533760" y="497196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114640" y="454320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124360" y="497664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53200" y="477180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200400" y="4843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362400" y="48434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148120" y="4743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24160" y="484812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1990800" y="512424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224680" y="45720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6920" y="417024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907200" y="518940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490920" y="478152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836520" y="43844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H="1">
              <a:off x="3633480" y="457200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958040" y="396540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056760" y="423792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083680" y="549900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2366640" y="554328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>
              <a:off x="3176640" y="530532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529800" y="575604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 flipV="1">
              <a:off x="3338640" y="530532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0" name=""/>
            <p:cNvGrpSpPr/>
            <p:nvPr/>
          </p:nvGrpSpPr>
          <p:grpSpPr>
            <a:xfrm>
              <a:off x="5781960" y="4705200"/>
              <a:ext cx="497160" cy="118800"/>
              <a:chOff x="5781960" y="4705200"/>
              <a:chExt cx="497160" cy="118800"/>
            </a:xfrm>
          </p:grpSpPr>
          <p:grpSp>
            <p:nvGrpSpPr>
              <p:cNvPr id="2331" name=""/>
              <p:cNvGrpSpPr/>
              <p:nvPr/>
            </p:nvGrpSpPr>
            <p:grpSpPr>
              <a:xfrm>
                <a:off x="5781960" y="4706640"/>
                <a:ext cx="497160" cy="117360"/>
                <a:chOff x="5781960" y="4706640"/>
                <a:chExt cx="497160" cy="117360"/>
              </a:xfrm>
            </p:grpSpPr>
            <p:sp>
              <p:nvSpPr>
                <p:cNvPr id="2332" name=""/>
                <p:cNvSpPr/>
                <p:nvPr/>
              </p:nvSpPr>
              <p:spPr>
                <a:xfrm flipV="1">
                  <a:off x="5781960" y="470664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6122880" y="48240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5945400" y="470880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5" name=""/>
              <p:cNvGrpSpPr/>
              <p:nvPr/>
            </p:nvGrpSpPr>
            <p:grpSpPr>
              <a:xfrm>
                <a:off x="5781960" y="4705200"/>
                <a:ext cx="497160" cy="117360"/>
                <a:chOff x="5781960" y="4705200"/>
                <a:chExt cx="497160" cy="117360"/>
              </a:xfrm>
            </p:grpSpPr>
            <p:sp>
              <p:nvSpPr>
                <p:cNvPr id="2336" name=""/>
                <p:cNvSpPr/>
                <p:nvPr/>
              </p:nvSpPr>
              <p:spPr>
                <a:xfrm>
                  <a:off x="5781960" y="482040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6122880" y="470520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V="1">
                  <a:off x="5945400" y="470556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B6F-1998-4BFF-A4AE-3E4C0FC0BD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elay in packet-switched network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523800" y="1371240"/>
            <a:ext cx="3810240" cy="25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to send bits into link = L/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476600" y="1362240"/>
            <a:ext cx="415296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pagation dela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 = length of physical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= propagation speed in medium (~2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/se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agation delay = d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2" name=""/>
          <p:cNvGrpSpPr/>
          <p:nvPr/>
        </p:nvGrpSpPr>
        <p:grpSpPr>
          <a:xfrm>
            <a:off x="637560" y="4432320"/>
            <a:ext cx="6006240" cy="2176200"/>
            <a:chOff x="637560" y="4432320"/>
            <a:chExt cx="6006240" cy="2176200"/>
          </a:xfrm>
        </p:grpSpPr>
        <p:pic>
          <p:nvPicPr>
            <p:cNvPr id="2343" name="" descr=""/>
            <p:cNvPicPr/>
            <p:nvPr/>
          </p:nvPicPr>
          <p:blipFill>
            <a:blip r:embed="rId1"/>
            <a:stretch/>
          </p:blipFill>
          <p:spPr>
            <a:xfrm>
              <a:off x="1289160" y="5622840"/>
              <a:ext cx="646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2330640" y="5381640"/>
              <a:ext cx="1198800" cy="3700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30640" y="5313240"/>
              <a:ext cx="119880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340360" y="5084640"/>
              <a:ext cx="1198440" cy="4305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2686320" y="5114880"/>
              <a:ext cx="497160" cy="118800"/>
              <a:chOff x="2686320" y="5114880"/>
              <a:chExt cx="497160" cy="11880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2686320" y="5116320"/>
                <a:ext cx="497160" cy="117360"/>
                <a:chOff x="2686320" y="5116320"/>
                <a:chExt cx="497160" cy="117360"/>
              </a:xfrm>
            </p:grpSpPr>
            <p:sp>
              <p:nvSpPr>
                <p:cNvPr id="2349" name=""/>
                <p:cNvSpPr/>
                <p:nvPr/>
              </p:nvSpPr>
              <p:spPr>
                <a:xfrm flipV="1">
                  <a:off x="2686320" y="511632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3027240" y="52336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2849760" y="511848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2686320" y="5114880"/>
                <a:ext cx="497160" cy="117360"/>
                <a:chOff x="2686320" y="5114880"/>
                <a:chExt cx="497160" cy="11736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2686320" y="5230080"/>
                  <a:ext cx="1774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3027240" y="511488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V="1">
                  <a:off x="2849760" y="5115240"/>
                  <a:ext cx="18468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56" name=""/>
            <p:cNvSpPr/>
            <p:nvPr/>
          </p:nvSpPr>
          <p:spPr>
            <a:xfrm>
              <a:off x="5426280" y="5400720"/>
              <a:ext cx="1198800" cy="369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36000" y="53802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436000" y="5342040"/>
              <a:ext cx="1198440" cy="26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45360" y="5113440"/>
              <a:ext cx="1198440" cy="430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60" name="" descr=""/>
            <p:cNvPicPr/>
            <p:nvPr/>
          </p:nvPicPr>
          <p:blipFill>
            <a:blip r:embed="rId2"/>
            <a:stretch/>
          </p:blipFill>
          <p:spPr>
            <a:xfrm>
              <a:off x="974880" y="4613400"/>
              <a:ext cx="6462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1" name=""/>
            <p:cNvSpPr/>
            <p:nvPr/>
          </p:nvSpPr>
          <p:spPr>
            <a:xfrm>
              <a:off x="1600560" y="50198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1905120" y="6005160"/>
              <a:ext cx="19548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524400" y="5438880"/>
              <a:ext cx="1933560" cy="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5280" y="5010120"/>
              <a:ext cx="0" cy="10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115000" y="5443560"/>
              <a:ext cx="19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443840" y="5238720"/>
              <a:ext cx="147600" cy="200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191040" y="531036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53040" y="531036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138760" y="521028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314800" y="5315040"/>
              <a:ext cx="243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1981440" y="5591160"/>
              <a:ext cx="0" cy="17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215320" y="50389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37560" y="463716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897840" y="56563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481560" y="52484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827160" y="485136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pag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3624120" y="5038920"/>
              <a:ext cx="3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948680" y="4432320"/>
              <a:ext cx="156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047400" y="4704840"/>
              <a:ext cx="528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074320" y="5965920"/>
              <a:ext cx="13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nod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2357280" y="6010200"/>
              <a:ext cx="83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3167280" y="577224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520440" y="6222960"/>
              <a:ext cx="12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queu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 flipV="1">
              <a:off x="3329280" y="5772240"/>
              <a:ext cx="59544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5" name=""/>
            <p:cNvGrpSpPr/>
            <p:nvPr/>
          </p:nvGrpSpPr>
          <p:grpSpPr>
            <a:xfrm>
              <a:off x="5772600" y="5172120"/>
              <a:ext cx="497160" cy="118800"/>
              <a:chOff x="5772600" y="5172120"/>
              <a:chExt cx="497160" cy="118800"/>
            </a:xfrm>
          </p:grpSpPr>
          <p:grpSp>
            <p:nvGrpSpPr>
              <p:cNvPr id="2386" name=""/>
              <p:cNvGrpSpPr/>
              <p:nvPr/>
            </p:nvGrpSpPr>
            <p:grpSpPr>
              <a:xfrm>
                <a:off x="5772600" y="5173560"/>
                <a:ext cx="497160" cy="117360"/>
                <a:chOff x="5772600" y="5173560"/>
                <a:chExt cx="497160" cy="117360"/>
              </a:xfrm>
            </p:grpSpPr>
            <p:sp>
              <p:nvSpPr>
                <p:cNvPr id="2387" name=""/>
                <p:cNvSpPr/>
                <p:nvPr/>
              </p:nvSpPr>
              <p:spPr>
                <a:xfrm flipV="1">
                  <a:off x="5772600" y="517356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6113520" y="52909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5936040" y="517572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0" name=""/>
              <p:cNvGrpSpPr/>
              <p:nvPr/>
            </p:nvGrpSpPr>
            <p:grpSpPr>
              <a:xfrm>
                <a:off x="5772600" y="5172120"/>
                <a:ext cx="497160" cy="117360"/>
                <a:chOff x="5772600" y="5172120"/>
                <a:chExt cx="497160" cy="11736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5772600" y="5287320"/>
                  <a:ext cx="1771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6113520" y="5172120"/>
                  <a:ext cx="15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V="1">
                  <a:off x="5936040" y="5172480"/>
                  <a:ext cx="184320" cy="11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4" name=""/>
          <p:cNvSpPr/>
          <p:nvPr/>
        </p:nvSpPr>
        <p:spPr>
          <a:xfrm>
            <a:off x="4476600" y="3790800"/>
            <a:ext cx="3800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nd R ar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ve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quantiti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4476600" y="3800520"/>
            <a:ext cx="3676680" cy="8762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13D-BADD-4B62-8B91-2348B0DC07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“nuts and bolts”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19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otocols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sending, receiving of ms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TCP, IP, HTTP, FTP, 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net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network of network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sely hierarch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blic Internet versus private intra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6797520" y="2647800"/>
            <a:ext cx="1798920" cy="16750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17960" y="250524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86240" y="395604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035680" y="2639880"/>
            <a:ext cx="732960" cy="319320"/>
            <a:chOff x="5035680" y="2639880"/>
            <a:chExt cx="732960" cy="31932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5035680" y="26398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5489280" y="2757960"/>
              <a:ext cx="27936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 flipV="1">
              <a:off x="5442120" y="28814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035680" y="3235320"/>
            <a:ext cx="732960" cy="318960"/>
            <a:chOff x="5035680" y="3235320"/>
            <a:chExt cx="732960" cy="318960"/>
          </a:xfrm>
        </p:grpSpPr>
        <p:pic>
          <p:nvPicPr>
            <p:cNvPr id="311" name="" descr=""/>
            <p:cNvPicPr/>
            <p:nvPr/>
          </p:nvPicPr>
          <p:blipFill>
            <a:blip r:embed="rId3"/>
            <a:stretch/>
          </p:blipFill>
          <p:spPr>
            <a:xfrm>
              <a:off x="5035680" y="3235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5489280" y="3353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 flipV="1">
              <a:off x="5442120" y="3476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411880" y="3022560"/>
            <a:ext cx="69480" cy="214200"/>
            <a:chOff x="5411880" y="3022560"/>
            <a:chExt cx="69480" cy="214200"/>
          </a:xfrm>
        </p:grpSpPr>
        <p:sp>
          <p:nvSpPr>
            <p:cNvPr id="315" name=""/>
            <p:cNvSpPr/>
            <p:nvPr/>
          </p:nvSpPr>
          <p:spPr>
            <a:xfrm>
              <a:off x="5411880" y="30225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14400" y="30996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17280" y="31766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881680" y="3525840"/>
            <a:ext cx="209520" cy="394920"/>
            <a:chOff x="5881680" y="3525840"/>
            <a:chExt cx="209520" cy="394920"/>
          </a:xfrm>
        </p:grpSpPr>
        <p:sp>
          <p:nvSpPr>
            <p:cNvPr id="319" name=""/>
            <p:cNvSpPr/>
            <p:nvPr/>
          </p:nvSpPr>
          <p:spPr>
            <a:xfrm>
              <a:off x="5881680" y="38296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87880" y="35283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82760" y="36144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81680" y="3525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1200" y="35319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015240" y="38296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99680" y="36543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2280" y="37072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18200" y="3679560"/>
            <a:ext cx="233280" cy="81000"/>
            <a:chOff x="6118200" y="3679560"/>
            <a:chExt cx="233280" cy="81000"/>
          </a:xfrm>
        </p:grpSpPr>
        <p:sp>
          <p:nvSpPr>
            <p:cNvPr id="328" name=""/>
            <p:cNvSpPr/>
            <p:nvPr/>
          </p:nvSpPr>
          <p:spPr>
            <a:xfrm rot="16200000">
              <a:off x="6113520" y="36903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6200000">
              <a:off x="6197400" y="36871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6200000">
              <a:off x="6281280" y="36838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6018120" y="3433680"/>
            <a:ext cx="49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21360" y="343044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16720" y="3429000"/>
            <a:ext cx="144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18240" y="2894040"/>
            <a:ext cx="28872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730840" y="317952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257880" y="3265560"/>
            <a:ext cx="180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386400" y="3513240"/>
            <a:ext cx="209520" cy="394920"/>
            <a:chOff x="6386400" y="3513240"/>
            <a:chExt cx="209520" cy="394920"/>
          </a:xfrm>
        </p:grpSpPr>
        <p:sp>
          <p:nvSpPr>
            <p:cNvPr id="338" name=""/>
            <p:cNvSpPr/>
            <p:nvPr/>
          </p:nvSpPr>
          <p:spPr>
            <a:xfrm>
              <a:off x="6386400" y="38170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92600" y="351576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87480" y="360180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86400" y="35132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595920" y="35193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519960" y="38170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04400" y="364176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17000" y="369468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419800" y="4122720"/>
            <a:ext cx="479160" cy="925200"/>
            <a:chOff x="5419800" y="4122720"/>
            <a:chExt cx="479160" cy="925200"/>
          </a:xfrm>
        </p:grpSpPr>
        <p:pic>
          <p:nvPicPr>
            <p:cNvPr id="347" name="" descr=""/>
            <p:cNvPicPr/>
            <p:nvPr/>
          </p:nvPicPr>
          <p:blipFill>
            <a:blip r:embed="rId5"/>
            <a:stretch/>
          </p:blipFill>
          <p:spPr>
            <a:xfrm>
              <a:off x="5419800" y="412272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 flipV="1">
              <a:off x="5826600" y="436932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6"/>
            <a:stretch/>
          </p:blipFill>
          <p:spPr>
            <a:xfrm>
              <a:off x="5419800" y="47174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 flipV="1">
              <a:off x="5826600" y="496764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545080" y="4464000"/>
              <a:ext cx="70560" cy="222480"/>
              <a:chOff x="5545080" y="4464000"/>
              <a:chExt cx="70560" cy="222480"/>
            </a:xfrm>
          </p:grpSpPr>
          <p:sp>
            <p:nvSpPr>
              <p:cNvPr id="352" name=""/>
              <p:cNvSpPr/>
              <p:nvPr/>
            </p:nvSpPr>
            <p:spPr>
              <a:xfrm>
                <a:off x="5545080" y="446400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47600" y="454392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50480" y="46242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5893560" y="43664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6288120" y="5132520"/>
            <a:ext cx="417600" cy="3315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5673600" y="512136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 rot="16200000">
            <a:off x="6090480" y="5225400"/>
            <a:ext cx="63360" cy="64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6175080" y="5222160"/>
            <a:ext cx="63720" cy="669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6252840" y="522756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541920" y="5078160"/>
            <a:ext cx="1800" cy="6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18040" y="506736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919840" y="50734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99320" y="469872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00880" y="4745160"/>
            <a:ext cx="303120" cy="38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7296120" y="474192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9"/>
          <a:stretch/>
        </p:blipFill>
        <p:spPr>
          <a:xfrm>
            <a:off x="7473960" y="4294080"/>
            <a:ext cx="203040" cy="241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0"/>
          <a:stretch/>
        </p:blipFill>
        <p:spPr>
          <a:xfrm>
            <a:off x="6137280" y="437508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218280" y="414972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485040" y="5572080"/>
            <a:ext cx="406080" cy="426960"/>
            <a:chOff x="6485040" y="5572080"/>
            <a:chExt cx="406080" cy="426960"/>
          </a:xfrm>
        </p:grpSpPr>
        <p:pic>
          <p:nvPicPr>
            <p:cNvPr id="371" name="" descr=""/>
            <p:cNvPicPr/>
            <p:nvPr/>
          </p:nvPicPr>
          <p:blipFill>
            <a:blip r:embed="rId11"/>
            <a:stretch/>
          </p:blipFill>
          <p:spPr>
            <a:xfrm>
              <a:off x="6485040" y="55720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6544800" y="56840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3" name=""/>
          <p:cNvGrpSpPr/>
          <p:nvPr/>
        </p:nvGrpSpPr>
        <p:grpSpPr>
          <a:xfrm>
            <a:off x="7262640" y="5603760"/>
            <a:ext cx="406080" cy="426960"/>
            <a:chOff x="7262640" y="5603760"/>
            <a:chExt cx="406080" cy="42696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7262640" y="5603760"/>
              <a:ext cx="378360" cy="3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4"/>
            <a:stretch/>
          </p:blipFill>
          <p:spPr>
            <a:xfrm>
              <a:off x="7322400" y="571572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"/>
          <p:cNvGrpSpPr/>
          <p:nvPr/>
        </p:nvGrpSpPr>
        <p:grpSpPr>
          <a:xfrm>
            <a:off x="6848640" y="5319720"/>
            <a:ext cx="379080" cy="376200"/>
            <a:chOff x="6848640" y="5319720"/>
            <a:chExt cx="379080" cy="376200"/>
          </a:xfrm>
        </p:grpSpPr>
        <p:pic>
          <p:nvPicPr>
            <p:cNvPr id="377" name="" descr=""/>
            <p:cNvPicPr/>
            <p:nvPr/>
          </p:nvPicPr>
          <p:blipFill>
            <a:blip r:embed="rId15"/>
            <a:stretch/>
          </p:blipFill>
          <p:spPr>
            <a:xfrm>
              <a:off x="6848640" y="5319720"/>
              <a:ext cx="37908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6958800" y="5451840"/>
              <a:ext cx="26712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155000" y="522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875720" y="4646520"/>
            <a:ext cx="207720" cy="409680"/>
            <a:chOff x="7875720" y="4646520"/>
            <a:chExt cx="207720" cy="409680"/>
          </a:xfrm>
        </p:grpSpPr>
        <p:sp>
          <p:nvSpPr>
            <p:cNvPr id="381" name=""/>
            <p:cNvSpPr/>
            <p:nvPr/>
          </p:nvSpPr>
          <p:spPr>
            <a:xfrm>
              <a:off x="7875720" y="4961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80840" y="46490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76800" y="4738320"/>
              <a:ext cx="13140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875720" y="4646520"/>
              <a:ext cx="207720" cy="94680"/>
            </a:xfrm>
            <a:prstGeom prst="parallelogram">
              <a:avLst>
                <a:gd name="adj" fmla="val 8451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083440" y="46530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8008200" y="4961520"/>
              <a:ext cx="7452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3360" y="4779720"/>
              <a:ext cx="8712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05960" y="48344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862760" y="5091120"/>
            <a:ext cx="208080" cy="409680"/>
            <a:chOff x="7862760" y="5091120"/>
            <a:chExt cx="208080" cy="409680"/>
          </a:xfrm>
        </p:grpSpPr>
        <p:sp>
          <p:nvSpPr>
            <p:cNvPr id="390" name=""/>
            <p:cNvSpPr/>
            <p:nvPr/>
          </p:nvSpPr>
          <p:spPr>
            <a:xfrm>
              <a:off x="7862760" y="5406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67880" y="509364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63840" y="518292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62760" y="509112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70840" y="50976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995600" y="540612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0400" y="522432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93000" y="527904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 flipV="1">
            <a:off x="7794720" y="471492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791480" y="532440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788240" y="48481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12040" y="2944800"/>
            <a:ext cx="458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46960" y="292896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966080" y="326556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196040" y="30416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21600" y="368928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682040" y="4154400"/>
            <a:ext cx="26640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7454520" y="3233880"/>
            <a:ext cx="56052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7464600" y="2673360"/>
            <a:ext cx="3506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182080" y="284940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50760" y="248760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01000" y="5499000"/>
            <a:ext cx="128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60240" y="363996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gional 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851440" y="1243080"/>
            <a:ext cx="501840" cy="232920"/>
            <a:chOff x="5851440" y="1243080"/>
            <a:chExt cx="501840" cy="232920"/>
          </a:xfrm>
        </p:grpSpPr>
        <p:sp>
          <p:nvSpPr>
            <p:cNvPr id="414" name=""/>
            <p:cNvSpPr/>
            <p:nvPr/>
          </p:nvSpPr>
          <p:spPr>
            <a:xfrm>
              <a:off x="5855400" y="134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5540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53280" y="133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855400" y="133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51440" y="124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970960" y="1275840"/>
              <a:ext cx="246240" cy="88200"/>
              <a:chOff x="5970960" y="1275840"/>
              <a:chExt cx="246240" cy="88200"/>
            </a:xfrm>
          </p:grpSpPr>
          <p:sp>
            <p:nvSpPr>
              <p:cNvPr id="420" name=""/>
              <p:cNvSpPr/>
              <p:nvPr/>
            </p:nvSpPr>
            <p:spPr>
              <a:xfrm flipV="1">
                <a:off x="5970960" y="127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39800" y="136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51960" y="127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970960" y="1275120"/>
              <a:ext cx="246240" cy="88200"/>
              <a:chOff x="5970960" y="1275120"/>
              <a:chExt cx="246240" cy="88200"/>
            </a:xfrm>
          </p:grpSpPr>
          <p:sp>
            <p:nvSpPr>
              <p:cNvPr id="424" name=""/>
              <p:cNvSpPr/>
              <p:nvPr/>
            </p:nvSpPr>
            <p:spPr>
              <a:xfrm>
                <a:off x="5970960" y="136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139800" y="127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6051960" y="127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5861160" y="1819440"/>
            <a:ext cx="209520" cy="408960"/>
            <a:chOff x="5861160" y="1819440"/>
            <a:chExt cx="209520" cy="408960"/>
          </a:xfrm>
        </p:grpSpPr>
        <p:sp>
          <p:nvSpPr>
            <p:cNvPr id="428" name=""/>
            <p:cNvSpPr/>
            <p:nvPr/>
          </p:nvSpPr>
          <p:spPr>
            <a:xfrm>
              <a:off x="5861160" y="213408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7360" y="1821960"/>
              <a:ext cx="9612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62240" y="1911240"/>
              <a:ext cx="13248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61160" y="1819440"/>
              <a:ext cx="209520" cy="94320"/>
            </a:xfrm>
            <a:prstGeom prst="parallelogram">
              <a:avLst>
                <a:gd name="adj" fmla="val 85574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70680" y="18259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994720" y="2134080"/>
              <a:ext cx="752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79160" y="1952640"/>
              <a:ext cx="8784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91760" y="2007360"/>
              <a:ext cx="666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6" name="" descr=""/>
          <p:cNvPicPr/>
          <p:nvPr/>
        </p:nvPicPr>
        <p:blipFill>
          <a:blip r:embed="rId16"/>
          <a:stretch/>
        </p:blipFill>
        <p:spPr>
          <a:xfrm>
            <a:off x="7115040" y="1297080"/>
            <a:ext cx="417600" cy="31896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7053120" y="1903320"/>
            <a:ext cx="406080" cy="426960"/>
            <a:chOff x="7053120" y="1903320"/>
            <a:chExt cx="406080" cy="426960"/>
          </a:xfrm>
        </p:grpSpPr>
        <p:pic>
          <p:nvPicPr>
            <p:cNvPr id="438" name="" descr=""/>
            <p:cNvPicPr/>
            <p:nvPr/>
          </p:nvPicPr>
          <p:blipFill>
            <a:blip r:embed="rId17"/>
            <a:stretch/>
          </p:blipFill>
          <p:spPr>
            <a:xfrm>
              <a:off x="7053120" y="19033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18"/>
            <a:stretch/>
          </p:blipFill>
          <p:spPr>
            <a:xfrm>
              <a:off x="7112880" y="20152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5992920" y="3041640"/>
            <a:ext cx="501480" cy="232920"/>
            <a:chOff x="5992920" y="3041640"/>
            <a:chExt cx="501480" cy="232920"/>
          </a:xfrm>
        </p:grpSpPr>
        <p:sp>
          <p:nvSpPr>
            <p:cNvPr id="441" name=""/>
            <p:cNvSpPr/>
            <p:nvPr/>
          </p:nvSpPr>
          <p:spPr>
            <a:xfrm>
              <a:off x="5996880" y="31456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9688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4400" y="3134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96880" y="31345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2920" y="3041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112440" y="3074400"/>
              <a:ext cx="246240" cy="88200"/>
              <a:chOff x="6112440" y="3074400"/>
              <a:chExt cx="246240" cy="8820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6112440" y="3074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81280" y="3162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193440" y="3076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112440" y="3073680"/>
              <a:ext cx="246240" cy="88200"/>
              <a:chOff x="6112440" y="3073680"/>
              <a:chExt cx="246240" cy="88200"/>
            </a:xfrm>
          </p:grpSpPr>
          <p:sp>
            <p:nvSpPr>
              <p:cNvPr id="451" name=""/>
              <p:cNvSpPr/>
              <p:nvPr/>
            </p:nvSpPr>
            <p:spPr>
              <a:xfrm>
                <a:off x="6112440" y="3160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81280" y="307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6193440" y="3073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6945480" y="2813040"/>
            <a:ext cx="501480" cy="232920"/>
            <a:chOff x="6945480" y="2813040"/>
            <a:chExt cx="501480" cy="232920"/>
          </a:xfrm>
        </p:grpSpPr>
        <p:sp>
          <p:nvSpPr>
            <p:cNvPr id="455" name=""/>
            <p:cNvSpPr/>
            <p:nvPr/>
          </p:nvSpPr>
          <p:spPr>
            <a:xfrm>
              <a:off x="6949440" y="29170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4944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46960" y="2905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49440" y="29059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45480" y="2813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7065000" y="2845800"/>
              <a:ext cx="246240" cy="88200"/>
              <a:chOff x="7065000" y="2845800"/>
              <a:chExt cx="246240" cy="8820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7065000" y="284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33840" y="293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146000" y="2847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7065000" y="2845080"/>
              <a:ext cx="246240" cy="88200"/>
              <a:chOff x="7065000" y="2845080"/>
              <a:chExt cx="246240" cy="88200"/>
            </a:xfrm>
          </p:grpSpPr>
          <p:sp>
            <p:nvSpPr>
              <p:cNvPr id="465" name=""/>
              <p:cNvSpPr/>
              <p:nvPr/>
            </p:nvSpPr>
            <p:spPr>
              <a:xfrm>
                <a:off x="7065000" y="2931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233840" y="284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146000" y="28450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6962760" y="3470400"/>
            <a:ext cx="501840" cy="232920"/>
            <a:chOff x="6962760" y="3470400"/>
            <a:chExt cx="501840" cy="232920"/>
          </a:xfrm>
        </p:grpSpPr>
        <p:sp>
          <p:nvSpPr>
            <p:cNvPr id="469" name=""/>
            <p:cNvSpPr/>
            <p:nvPr/>
          </p:nvSpPr>
          <p:spPr>
            <a:xfrm>
              <a:off x="6966720" y="35744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6672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46460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66720" y="35632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62760" y="34704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7082280" y="3503160"/>
              <a:ext cx="246240" cy="88200"/>
              <a:chOff x="7082280" y="3503160"/>
              <a:chExt cx="246240" cy="88200"/>
            </a:xfrm>
          </p:grpSpPr>
          <p:sp>
            <p:nvSpPr>
              <p:cNvPr id="475" name=""/>
              <p:cNvSpPr/>
              <p:nvPr/>
            </p:nvSpPr>
            <p:spPr>
              <a:xfrm flipV="1">
                <a:off x="708228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5112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16328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082280" y="3502440"/>
              <a:ext cx="246240" cy="88200"/>
              <a:chOff x="7082280" y="3502440"/>
              <a:chExt cx="246240" cy="88200"/>
            </a:xfrm>
          </p:grpSpPr>
          <p:sp>
            <p:nvSpPr>
              <p:cNvPr id="479" name=""/>
              <p:cNvSpPr/>
              <p:nvPr/>
            </p:nvSpPr>
            <p:spPr>
              <a:xfrm>
                <a:off x="708228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25112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716328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7932600" y="3021120"/>
            <a:ext cx="500040" cy="232920"/>
            <a:chOff x="7932600" y="3021120"/>
            <a:chExt cx="500040" cy="232920"/>
          </a:xfrm>
        </p:grpSpPr>
        <p:sp>
          <p:nvSpPr>
            <p:cNvPr id="483" name=""/>
            <p:cNvSpPr/>
            <p:nvPr/>
          </p:nvSpPr>
          <p:spPr>
            <a:xfrm>
              <a:off x="7936560" y="31251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3656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32640" y="3114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36560" y="31140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32600" y="30211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8051760" y="3053880"/>
              <a:ext cx="245520" cy="88200"/>
              <a:chOff x="8051760" y="3053880"/>
              <a:chExt cx="245520" cy="88200"/>
            </a:xfrm>
          </p:grpSpPr>
          <p:sp>
            <p:nvSpPr>
              <p:cNvPr id="489" name=""/>
              <p:cNvSpPr/>
              <p:nvPr/>
            </p:nvSpPr>
            <p:spPr>
              <a:xfrm flipV="1">
                <a:off x="8051760" y="30538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220240" y="3142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132400" y="30560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8051760" y="3053160"/>
              <a:ext cx="245520" cy="88200"/>
              <a:chOff x="8051760" y="3053160"/>
              <a:chExt cx="245520" cy="88200"/>
            </a:xfrm>
          </p:grpSpPr>
          <p:sp>
            <p:nvSpPr>
              <p:cNvPr id="493" name=""/>
              <p:cNvSpPr/>
              <p:nvPr/>
            </p:nvSpPr>
            <p:spPr>
              <a:xfrm>
                <a:off x="8051760" y="31395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220240" y="30531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8132400" y="3053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7738920" y="3917880"/>
            <a:ext cx="501840" cy="232920"/>
            <a:chOff x="7738920" y="3917880"/>
            <a:chExt cx="501840" cy="232920"/>
          </a:xfrm>
        </p:grpSpPr>
        <p:sp>
          <p:nvSpPr>
            <p:cNvPr id="497" name=""/>
            <p:cNvSpPr/>
            <p:nvPr/>
          </p:nvSpPr>
          <p:spPr>
            <a:xfrm>
              <a:off x="7742880" y="40219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4288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240760" y="4010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42880" y="40107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38920" y="39178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7858440" y="3950640"/>
              <a:ext cx="246240" cy="88200"/>
              <a:chOff x="7858440" y="3950640"/>
              <a:chExt cx="246240" cy="88200"/>
            </a:xfrm>
          </p:grpSpPr>
          <p:sp>
            <p:nvSpPr>
              <p:cNvPr id="503" name=""/>
              <p:cNvSpPr/>
              <p:nvPr/>
            </p:nvSpPr>
            <p:spPr>
              <a:xfrm flipV="1">
                <a:off x="7858440" y="3950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027280" y="4038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939440" y="3952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858440" y="3949920"/>
              <a:ext cx="246240" cy="88200"/>
              <a:chOff x="7858440" y="3949920"/>
              <a:chExt cx="246240" cy="88200"/>
            </a:xfrm>
          </p:grpSpPr>
          <p:sp>
            <p:nvSpPr>
              <p:cNvPr id="507" name=""/>
              <p:cNvSpPr/>
              <p:nvPr/>
            </p:nvSpPr>
            <p:spPr>
              <a:xfrm>
                <a:off x="7858440" y="403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27280" y="3949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939440" y="3949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0" name=""/>
          <p:cNvGrpSpPr/>
          <p:nvPr/>
        </p:nvGrpSpPr>
        <p:grpSpPr>
          <a:xfrm>
            <a:off x="7405560" y="4502160"/>
            <a:ext cx="501840" cy="234720"/>
            <a:chOff x="7405560" y="4502160"/>
            <a:chExt cx="501840" cy="234720"/>
          </a:xfrm>
        </p:grpSpPr>
        <p:sp>
          <p:nvSpPr>
            <p:cNvPr id="511" name=""/>
            <p:cNvSpPr/>
            <p:nvPr/>
          </p:nvSpPr>
          <p:spPr>
            <a:xfrm>
              <a:off x="7409520" y="4606920"/>
              <a:ext cx="49752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0952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07400" y="459576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09520" y="4595760"/>
              <a:ext cx="49320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05560" y="4502160"/>
              <a:ext cx="49716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7525080" y="4535280"/>
              <a:ext cx="246240" cy="88920"/>
              <a:chOff x="7525080" y="4535280"/>
              <a:chExt cx="246240" cy="88920"/>
            </a:xfrm>
          </p:grpSpPr>
          <p:sp>
            <p:nvSpPr>
              <p:cNvPr id="517" name=""/>
              <p:cNvSpPr/>
              <p:nvPr/>
            </p:nvSpPr>
            <p:spPr>
              <a:xfrm flipV="1">
                <a:off x="7525080" y="4535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93920" y="462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06080" y="45374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7525080" y="4534200"/>
              <a:ext cx="246240" cy="88920"/>
              <a:chOff x="7525080" y="4534200"/>
              <a:chExt cx="246240" cy="88920"/>
            </a:xfrm>
          </p:grpSpPr>
          <p:sp>
            <p:nvSpPr>
              <p:cNvPr id="521" name=""/>
              <p:cNvSpPr/>
              <p:nvPr/>
            </p:nvSpPr>
            <p:spPr>
              <a:xfrm>
                <a:off x="7525080" y="4621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693920" y="45342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606080" y="45342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4" name=""/>
          <p:cNvGrpSpPr/>
          <p:nvPr/>
        </p:nvGrpSpPr>
        <p:grpSpPr>
          <a:xfrm>
            <a:off x="6796080" y="4991040"/>
            <a:ext cx="500040" cy="232920"/>
            <a:chOff x="6796080" y="4991040"/>
            <a:chExt cx="500040" cy="232920"/>
          </a:xfrm>
        </p:grpSpPr>
        <p:sp>
          <p:nvSpPr>
            <p:cNvPr id="525" name=""/>
            <p:cNvSpPr/>
            <p:nvPr/>
          </p:nvSpPr>
          <p:spPr>
            <a:xfrm>
              <a:off x="6800040" y="50950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80004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296120" y="5083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800040" y="5083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96080" y="49910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6915240" y="5023800"/>
              <a:ext cx="245520" cy="88200"/>
              <a:chOff x="6915240" y="5023800"/>
              <a:chExt cx="245520" cy="88200"/>
            </a:xfrm>
          </p:grpSpPr>
          <p:sp>
            <p:nvSpPr>
              <p:cNvPr id="531" name=""/>
              <p:cNvSpPr/>
              <p:nvPr/>
            </p:nvSpPr>
            <p:spPr>
              <a:xfrm flipV="1">
                <a:off x="6915240" y="50238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83720" y="5112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95880" y="5025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6915240" y="5023080"/>
              <a:ext cx="245520" cy="88200"/>
              <a:chOff x="6915240" y="5023080"/>
              <a:chExt cx="245520" cy="88200"/>
            </a:xfrm>
          </p:grpSpPr>
          <p:sp>
            <p:nvSpPr>
              <p:cNvPr id="535" name=""/>
              <p:cNvSpPr/>
              <p:nvPr/>
            </p:nvSpPr>
            <p:spPr>
              <a:xfrm>
                <a:off x="6915240" y="51094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83720" y="50230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995880" y="50230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992920" y="4614840"/>
            <a:ext cx="501480" cy="232920"/>
            <a:chOff x="5992920" y="4614840"/>
            <a:chExt cx="501480" cy="232920"/>
          </a:xfrm>
        </p:grpSpPr>
        <p:sp>
          <p:nvSpPr>
            <p:cNvPr id="539" name=""/>
            <p:cNvSpPr/>
            <p:nvPr/>
          </p:nvSpPr>
          <p:spPr>
            <a:xfrm>
              <a:off x="5996880" y="471888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9688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94400" y="47077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996880" y="4707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92920" y="46148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112440" y="4647600"/>
              <a:ext cx="246240" cy="88200"/>
              <a:chOff x="6112440" y="4647600"/>
              <a:chExt cx="246240" cy="8820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6112440" y="46476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281280" y="4735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193440" y="4649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112440" y="4646880"/>
              <a:ext cx="246240" cy="88200"/>
              <a:chOff x="6112440" y="4646880"/>
              <a:chExt cx="246240" cy="88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112440" y="47332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281280" y="464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6193440" y="464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5811840" y="1406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005240" y="1533600"/>
            <a:ext cx="159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34680" y="19177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70640" y="210348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248520" y="4827600"/>
            <a:ext cx="14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06B-7D08-45B3-9164-70EAF98B50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6" name="" descr=""/>
          <p:cNvPicPr/>
          <p:nvPr/>
        </p:nvPicPr>
        <p:blipFill>
          <a:blip r:embed="rId1"/>
          <a:stretch/>
        </p:blipFill>
        <p:spPr>
          <a:xfrm>
            <a:off x="3981600" y="1290600"/>
            <a:ext cx="5162400" cy="3170160"/>
          </a:xfrm>
          <a:prstGeom prst="rect">
            <a:avLst/>
          </a:prstGeom>
          <a:ln w="0">
            <a:noFill/>
          </a:ln>
        </p:spPr>
      </p:pic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7628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Queueing delay (revisited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571320" y="1638360"/>
            <a:ext cx="380988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=link bandwidth (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=packet length (bi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=average packet arrival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9" name=""/>
          <p:cNvSpPr/>
          <p:nvPr/>
        </p:nvSpPr>
        <p:spPr>
          <a:xfrm>
            <a:off x="714240" y="3552840"/>
            <a:ext cx="3810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ffic intensity = La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71680" y="4448160"/>
            <a:ext cx="69721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~ 0: average queueing delay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-&gt; 1: delays becom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/R &gt; 1: more “work” arriving than can be serviced, average delay infini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453-256C-4C1C-93DA-128A224D40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 “Layers”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tworks are complex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“pieces”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s of various 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ware,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552920" y="2266920"/>
            <a:ext cx="394344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uestion: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there any hope o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rganiz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ructure of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at least our discussion of network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0FE-088E-4335-9974-90C11296A0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Organization of air trave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838080" y="548964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ste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6" name=""/>
          <p:cNvGrpSpPr/>
          <p:nvPr/>
        </p:nvGrpSpPr>
        <p:grpSpPr>
          <a:xfrm>
            <a:off x="1111320" y="1587600"/>
            <a:ext cx="6508800" cy="3295800"/>
            <a:chOff x="1111320" y="1587600"/>
            <a:chExt cx="6508800" cy="3295800"/>
          </a:xfrm>
        </p:grpSpPr>
        <p:sp>
          <p:nvSpPr>
            <p:cNvPr id="2407" name=""/>
            <p:cNvSpPr/>
            <p:nvPr/>
          </p:nvSpPr>
          <p:spPr>
            <a:xfrm>
              <a:off x="1378080" y="1598760"/>
              <a:ext cx="21542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purch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he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take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54480" y="1589040"/>
              <a:ext cx="2149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compl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lai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un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l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255840" y="448452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111320" y="1587600"/>
              <a:ext cx="6508800" cy="3289320"/>
            </a:xfrm>
            <a:custGeom>
              <a:avLst/>
              <a:gdLst/>
              <a:ahLst/>
              <a:rect l="l" t="t" r="r" b="b"/>
              <a:pathLst>
                <a:path w="4100" h="2072">
                  <a:moveTo>
                    <a:pt x="0" y="0"/>
                  </a:moveTo>
                  <a:lnTo>
                    <a:pt x="4" y="1736"/>
                  </a:lnTo>
                  <a:lnTo>
                    <a:pt x="804" y="2064"/>
                  </a:lnTo>
                  <a:lnTo>
                    <a:pt x="3468" y="2072"/>
                  </a:lnTo>
                  <a:lnTo>
                    <a:pt x="4100" y="1736"/>
                  </a:lnTo>
                  <a:lnTo>
                    <a:pt x="4100" y="96"/>
                  </a:ln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18A-F9B4-41D2-8F16-596C24447A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rganization of air travel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: a different view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514440" y="5006880"/>
            <a:ext cx="77724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ayer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ayer implements a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a its own internal-layer 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349200" indent="-134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ying on services provided by layer be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3" name=""/>
          <p:cNvGrpSpPr/>
          <p:nvPr/>
        </p:nvGrpSpPr>
        <p:grpSpPr>
          <a:xfrm>
            <a:off x="1231920" y="1523880"/>
            <a:ext cx="6083280" cy="3359520"/>
            <a:chOff x="1231920" y="1523880"/>
            <a:chExt cx="6083280" cy="3359520"/>
          </a:xfrm>
        </p:grpSpPr>
        <p:sp>
          <p:nvSpPr>
            <p:cNvPr id="2414" name=""/>
            <p:cNvSpPr/>
            <p:nvPr/>
          </p:nvSpPr>
          <p:spPr>
            <a:xfrm>
              <a:off x="1378080" y="1598760"/>
              <a:ext cx="215424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purch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hec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takeo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154480" y="1589040"/>
              <a:ext cx="214956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cket (complai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aggage (clai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ates (unloa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unway la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255840" y="448452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270080" y="1523880"/>
              <a:ext cx="60451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270080" y="2120760"/>
              <a:ext cx="60451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257480" y="2768760"/>
              <a:ext cx="60451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257480" y="3378240"/>
              <a:ext cx="60451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231920" y="4000680"/>
              <a:ext cx="6045120" cy="86328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E81-9262-4A34-BA5A-15DA1EC772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ayered air travel: servic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3" name=""/>
          <p:cNvSpPr/>
          <p:nvPr/>
        </p:nvSpPr>
        <p:spPr>
          <a:xfrm>
            <a:off x="1343160" y="1598760"/>
            <a:ext cx="583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ter-to-counter delivery of person+b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gage-claim-to-baggage-claim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ople transfer: loading gate to arrival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way-to-runway delivery of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565280" y="4255920"/>
            <a:ext cx="539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rplane routing from source to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270080" y="152388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270080" y="212076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257480" y="2768760"/>
            <a:ext cx="604512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257480" y="3378240"/>
            <a:ext cx="604512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231920" y="4000680"/>
            <a:ext cx="6045120" cy="863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A82-71A1-4084-AE41-AA75804BB62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279360" y="228240"/>
            <a:ext cx="858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Distribute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 implementation of layer functionalit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31" name=""/>
          <p:cNvSpPr/>
          <p:nvPr/>
        </p:nvSpPr>
        <p:spPr>
          <a:xfrm>
            <a:off x="1378080" y="1598760"/>
            <a:ext cx="2154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cket (purch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gage (ch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s (l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way take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rplan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154480" y="1589040"/>
            <a:ext cx="2149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cket (compl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ggage (clai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s (unlo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way l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rplan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3" name=""/>
          <p:cNvGrpSpPr/>
          <p:nvPr/>
        </p:nvGrpSpPr>
        <p:grpSpPr>
          <a:xfrm>
            <a:off x="1257480" y="1523880"/>
            <a:ext cx="2286000" cy="2387880"/>
            <a:chOff x="1257480" y="1523880"/>
            <a:chExt cx="2286000" cy="2387880"/>
          </a:xfrm>
        </p:grpSpPr>
        <p:sp>
          <p:nvSpPr>
            <p:cNvPr id="2434" name=""/>
            <p:cNvSpPr/>
            <p:nvPr/>
          </p:nvSpPr>
          <p:spPr>
            <a:xfrm>
              <a:off x="1262160" y="152388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62160" y="212076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257480" y="2768760"/>
              <a:ext cx="22813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57480" y="337824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8" name=""/>
          <p:cNvSpPr/>
          <p:nvPr/>
        </p:nvSpPr>
        <p:spPr>
          <a:xfrm>
            <a:off x="1231920" y="4000680"/>
            <a:ext cx="231156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9" name=""/>
          <p:cNvGrpSpPr/>
          <p:nvPr/>
        </p:nvGrpSpPr>
        <p:grpSpPr>
          <a:xfrm>
            <a:off x="5003640" y="1523880"/>
            <a:ext cx="2286000" cy="2387880"/>
            <a:chOff x="5003640" y="1523880"/>
            <a:chExt cx="2286000" cy="2387880"/>
          </a:xfrm>
        </p:grpSpPr>
        <p:sp>
          <p:nvSpPr>
            <p:cNvPr id="2440" name=""/>
            <p:cNvSpPr/>
            <p:nvPr/>
          </p:nvSpPr>
          <p:spPr>
            <a:xfrm>
              <a:off x="5008320" y="152388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008320" y="212076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003640" y="2768760"/>
              <a:ext cx="2281320" cy="5331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003640" y="3378240"/>
              <a:ext cx="2281320" cy="53352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4" name=""/>
          <p:cNvSpPr/>
          <p:nvPr/>
        </p:nvSpPr>
        <p:spPr>
          <a:xfrm>
            <a:off x="4978440" y="4000680"/>
            <a:ext cx="2311200" cy="5457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5" name=""/>
          <p:cNvGrpSpPr/>
          <p:nvPr/>
        </p:nvGrpSpPr>
        <p:grpSpPr>
          <a:xfrm>
            <a:off x="3289320" y="6006960"/>
            <a:ext cx="1993680" cy="545760"/>
            <a:chOff x="3289320" y="6006960"/>
            <a:chExt cx="1993680" cy="545760"/>
          </a:xfrm>
        </p:grpSpPr>
        <p:sp>
          <p:nvSpPr>
            <p:cNvPr id="2446" name=""/>
            <p:cNvSpPr/>
            <p:nvPr/>
          </p:nvSpPr>
          <p:spPr>
            <a:xfrm>
              <a:off x="3359160" y="609552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289320" y="6006960"/>
              <a:ext cx="199368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rot="16200000">
            <a:off x="-674640" y="281412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parting air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rot="16200000">
            <a:off x="6278400" y="276696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riving air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011320" y="4799160"/>
            <a:ext cx="52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mediate air traffic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2108160" y="5295960"/>
            <a:ext cx="1993680" cy="545760"/>
            <a:chOff x="2108160" y="5295960"/>
            <a:chExt cx="1993680" cy="545760"/>
          </a:xfrm>
        </p:grpSpPr>
        <p:sp>
          <p:nvSpPr>
            <p:cNvPr id="2452" name=""/>
            <p:cNvSpPr/>
            <p:nvPr/>
          </p:nvSpPr>
          <p:spPr>
            <a:xfrm>
              <a:off x="2178000" y="538452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108160" y="5295960"/>
              <a:ext cx="199368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4432320" y="5321160"/>
            <a:ext cx="1993680" cy="545760"/>
            <a:chOff x="4432320" y="5321160"/>
            <a:chExt cx="1993680" cy="545760"/>
          </a:xfrm>
        </p:grpSpPr>
        <p:sp>
          <p:nvSpPr>
            <p:cNvPr id="2455" name=""/>
            <p:cNvSpPr/>
            <p:nvPr/>
          </p:nvSpPr>
          <p:spPr>
            <a:xfrm>
              <a:off x="4502160" y="5409720"/>
              <a:ext cx="19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irplane ro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432320" y="5321160"/>
              <a:ext cx="1993680" cy="545760"/>
            </a:xfrm>
            <a:prstGeom prst="rect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83D-508B-402B-A75D-B58344A05F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y layering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546120" y="1346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aling with complex syst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licit structure allows identification, relationship of complex system’s pie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ference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is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ization eases maintenance, updating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ge of implementation of layer’s service transparent to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change in gate procedure doesn’t affect rest of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ing considered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CDF-6449-44AC-B293-7986E31F53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6578640" y="1714680"/>
            <a:ext cx="1892160" cy="3530520"/>
          </a:xfrm>
          <a:prstGeom prst="rect">
            <a:avLst/>
          </a:pr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protocol stac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571320" y="1422360"/>
            <a:ext cx="5715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pl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pporting network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, smtp, ht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st-host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, 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outing of datagrams from sour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, routing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n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transfer between neighboring  network el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pp,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ts “on the wir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2" name=""/>
          <p:cNvGrpSpPr/>
          <p:nvPr/>
        </p:nvGrpSpPr>
        <p:grpSpPr>
          <a:xfrm>
            <a:off x="6508800" y="1828800"/>
            <a:ext cx="1898640" cy="3530520"/>
            <a:chOff x="6508800" y="1828800"/>
            <a:chExt cx="1898640" cy="3530520"/>
          </a:xfrm>
        </p:grpSpPr>
        <p:sp>
          <p:nvSpPr>
            <p:cNvPr id="2463" name=""/>
            <p:cNvSpPr/>
            <p:nvPr/>
          </p:nvSpPr>
          <p:spPr>
            <a:xfrm>
              <a:off x="6515280" y="1828800"/>
              <a:ext cx="1892160" cy="3530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593760" y="1925640"/>
              <a:ext cx="176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08800" y="25207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508800" y="322560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508800" y="393696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508800" y="4648320"/>
              <a:ext cx="18860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22C-0877-46D6-A491-3751118905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log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470" name=""/>
          <p:cNvGrpSpPr/>
          <p:nvPr/>
        </p:nvGrpSpPr>
        <p:grpSpPr>
          <a:xfrm>
            <a:off x="3002040" y="1601640"/>
            <a:ext cx="5943600" cy="4451400"/>
            <a:chOff x="3002040" y="1601640"/>
            <a:chExt cx="5943600" cy="4451400"/>
          </a:xfrm>
        </p:grpSpPr>
        <p:sp>
          <p:nvSpPr>
            <p:cNvPr id="2471" name=""/>
            <p:cNvSpPr/>
            <p:nvPr/>
          </p:nvSpPr>
          <p:spPr>
            <a:xfrm>
              <a:off x="3002040" y="1601640"/>
              <a:ext cx="5943600" cy="445140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2" name=""/>
            <p:cNvGrpSpPr/>
            <p:nvPr/>
          </p:nvGrpSpPr>
          <p:grpSpPr>
            <a:xfrm>
              <a:off x="3361320" y="1951560"/>
              <a:ext cx="2333520" cy="891720"/>
              <a:chOff x="3361320" y="1951560"/>
              <a:chExt cx="2333520" cy="891720"/>
            </a:xfrm>
          </p:grpSpPr>
          <p:pic>
            <p:nvPicPr>
              <p:cNvPr id="24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1320" y="1951560"/>
                <a:ext cx="1324440" cy="89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05280" y="2282040"/>
                <a:ext cx="889560" cy="51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5" name=""/>
              <p:cNvSpPr/>
              <p:nvPr/>
            </p:nvSpPr>
            <p:spPr>
              <a:xfrm flipV="1">
                <a:off x="4654800" y="2628000"/>
                <a:ext cx="36324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6" name=""/>
            <p:cNvGrpSpPr/>
            <p:nvPr/>
          </p:nvGrpSpPr>
          <p:grpSpPr>
            <a:xfrm>
              <a:off x="3361320" y="3618720"/>
              <a:ext cx="2333520" cy="893160"/>
              <a:chOff x="3361320" y="3618720"/>
              <a:chExt cx="2333520" cy="893160"/>
            </a:xfrm>
          </p:grpSpPr>
          <p:pic>
            <p:nvPicPr>
              <p:cNvPr id="24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1320" y="3618720"/>
                <a:ext cx="1324440" cy="89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3949560"/>
                <a:ext cx="889560" cy="51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9" name=""/>
              <p:cNvSpPr/>
              <p:nvPr/>
            </p:nvSpPr>
            <p:spPr>
              <a:xfrm flipV="1">
                <a:off x="4654800" y="4296240"/>
                <a:ext cx="36324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0" name=""/>
            <p:cNvGrpSpPr/>
            <p:nvPr/>
          </p:nvGrpSpPr>
          <p:grpSpPr>
            <a:xfrm>
              <a:off x="5061960" y="2994840"/>
              <a:ext cx="164880" cy="599040"/>
              <a:chOff x="5061960" y="2994840"/>
              <a:chExt cx="164880" cy="599040"/>
            </a:xfrm>
          </p:grpSpPr>
          <p:sp>
            <p:nvSpPr>
              <p:cNvPr id="2481" name=""/>
              <p:cNvSpPr/>
              <p:nvPr/>
            </p:nvSpPr>
            <p:spPr>
              <a:xfrm>
                <a:off x="5061960" y="2994840"/>
                <a:ext cx="151920" cy="1692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068440" y="3210120"/>
                <a:ext cx="151920" cy="168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074920" y="3425760"/>
                <a:ext cx="151920" cy="168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4" name=""/>
            <p:cNvGrpSpPr/>
            <p:nvPr/>
          </p:nvGrpSpPr>
          <p:grpSpPr>
            <a:xfrm>
              <a:off x="6055560" y="4432680"/>
              <a:ext cx="666720" cy="1107000"/>
              <a:chOff x="6055560" y="4432680"/>
              <a:chExt cx="666720" cy="1107000"/>
            </a:xfrm>
          </p:grpSpPr>
          <p:sp>
            <p:nvSpPr>
              <p:cNvPr id="2485" name=""/>
              <p:cNvSpPr/>
              <p:nvPr/>
            </p:nvSpPr>
            <p:spPr>
              <a:xfrm>
                <a:off x="6055560" y="5283720"/>
                <a:ext cx="666720" cy="255960"/>
              </a:xfrm>
              <a:prstGeom prst="parallelogram">
                <a:avLst>
                  <a:gd name="adj" fmla="val 100344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393240" y="4439880"/>
                <a:ext cx="306360" cy="850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059520" y="4681080"/>
                <a:ext cx="422640" cy="851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055560" y="4432680"/>
                <a:ext cx="666720" cy="255960"/>
              </a:xfrm>
              <a:prstGeom prst="parallelogram">
                <a:avLst>
                  <a:gd name="adj" fmla="val 100344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722280" y="4450320"/>
                <a:ext cx="0" cy="8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6482160" y="5283720"/>
                <a:ext cx="239760" cy="24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112800" y="4793040"/>
                <a:ext cx="280080" cy="490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153120" y="4941000"/>
                <a:ext cx="212760" cy="17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3" name=""/>
            <p:cNvGrpSpPr/>
            <p:nvPr/>
          </p:nvGrpSpPr>
          <p:grpSpPr>
            <a:xfrm>
              <a:off x="6808320" y="4864680"/>
              <a:ext cx="741600" cy="226440"/>
              <a:chOff x="6808320" y="4864680"/>
              <a:chExt cx="741600" cy="226440"/>
            </a:xfrm>
          </p:grpSpPr>
          <p:sp>
            <p:nvSpPr>
              <p:cNvPr id="2494" name=""/>
              <p:cNvSpPr/>
              <p:nvPr/>
            </p:nvSpPr>
            <p:spPr>
              <a:xfrm rot="16200000">
                <a:off x="6808680" y="4882320"/>
                <a:ext cx="208440" cy="2091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16200000">
                <a:off x="7074720" y="4873680"/>
                <a:ext cx="208440" cy="2080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16200000">
                <a:off x="7341480" y="4864680"/>
                <a:ext cx="208440" cy="2080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7" name=""/>
            <p:cNvSpPr/>
            <p:nvPr/>
          </p:nvSpPr>
          <p:spPr>
            <a:xfrm>
              <a:off x="6489360" y="4175280"/>
              <a:ext cx="1577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500520" y="4165920"/>
              <a:ext cx="432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077680" y="4160880"/>
              <a:ext cx="4680" cy="23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35000" y="2662200"/>
              <a:ext cx="919440" cy="74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5574600" y="3463200"/>
              <a:ext cx="880200" cy="9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7252920" y="3703320"/>
              <a:ext cx="432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3" name=""/>
            <p:cNvGrpSpPr/>
            <p:nvPr/>
          </p:nvGrpSpPr>
          <p:grpSpPr>
            <a:xfrm>
              <a:off x="7662960" y="4396680"/>
              <a:ext cx="666360" cy="1107000"/>
              <a:chOff x="7662960" y="4396680"/>
              <a:chExt cx="666360" cy="1107000"/>
            </a:xfrm>
          </p:grpSpPr>
          <p:sp>
            <p:nvSpPr>
              <p:cNvPr id="2504" name=""/>
              <p:cNvSpPr/>
              <p:nvPr/>
            </p:nvSpPr>
            <p:spPr>
              <a:xfrm>
                <a:off x="7662960" y="5247720"/>
                <a:ext cx="666360" cy="255960"/>
              </a:xfrm>
              <a:prstGeom prst="parallelogram">
                <a:avLst>
                  <a:gd name="adj" fmla="val 10029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8000640" y="4403880"/>
                <a:ext cx="306360" cy="850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666920" y="4645080"/>
                <a:ext cx="422280" cy="851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662960" y="4396680"/>
                <a:ext cx="666360" cy="255960"/>
              </a:xfrm>
              <a:prstGeom prst="parallelogram">
                <a:avLst>
                  <a:gd name="adj" fmla="val 10029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8329320" y="4414320"/>
                <a:ext cx="0" cy="83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H="1">
                <a:off x="8089200" y="5247720"/>
                <a:ext cx="239760" cy="248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720200" y="4757040"/>
                <a:ext cx="280080" cy="4903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760520" y="4905000"/>
                <a:ext cx="212400" cy="17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2" name=""/>
            <p:cNvGrpSpPr/>
            <p:nvPr/>
          </p:nvGrpSpPr>
          <p:grpSpPr>
            <a:xfrm>
              <a:off x="6409080" y="3076920"/>
              <a:ext cx="1596960" cy="652680"/>
              <a:chOff x="6409080" y="3076920"/>
              <a:chExt cx="1596960" cy="652680"/>
            </a:xfrm>
          </p:grpSpPr>
          <p:sp>
            <p:nvSpPr>
              <p:cNvPr id="2513" name=""/>
              <p:cNvSpPr/>
              <p:nvPr/>
            </p:nvSpPr>
            <p:spPr>
              <a:xfrm>
                <a:off x="6422040" y="3368160"/>
                <a:ext cx="1583640" cy="3614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422040" y="3337560"/>
                <a:ext cx="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8006040" y="3337560"/>
                <a:ext cx="0" cy="224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422040" y="3337560"/>
                <a:ext cx="1569600" cy="220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409080" y="3076920"/>
                <a:ext cx="1582920" cy="421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8" name=""/>
              <p:cNvGrpSpPr/>
              <p:nvPr/>
            </p:nvGrpSpPr>
            <p:grpSpPr>
              <a:xfrm>
                <a:off x="6789960" y="3169800"/>
                <a:ext cx="783720" cy="245880"/>
                <a:chOff x="6789960" y="3169800"/>
                <a:chExt cx="783720" cy="245880"/>
              </a:xfrm>
            </p:grpSpPr>
            <p:sp>
              <p:nvSpPr>
                <p:cNvPr id="2519" name=""/>
                <p:cNvSpPr/>
                <p:nvPr/>
              </p:nvSpPr>
              <p:spPr>
                <a:xfrm flipV="1">
                  <a:off x="6789960" y="3169800"/>
                  <a:ext cx="27936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7327440" y="3415680"/>
                  <a:ext cx="24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7047720" y="3174840"/>
                  <a:ext cx="290880" cy="24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6789960" y="3166920"/>
                <a:ext cx="783720" cy="245880"/>
                <a:chOff x="6789960" y="3166920"/>
                <a:chExt cx="783720" cy="24588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6789960" y="3407760"/>
                  <a:ext cx="27936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7327440" y="3166920"/>
                  <a:ext cx="246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V="1">
                  <a:off x="7047720" y="3166920"/>
                  <a:ext cx="290880" cy="240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6" name=""/>
          <p:cNvGrpSpPr/>
          <p:nvPr/>
        </p:nvGrpSpPr>
        <p:grpSpPr>
          <a:xfrm>
            <a:off x="3276360" y="1362240"/>
            <a:ext cx="5542200" cy="4471200"/>
            <a:chOff x="3276360" y="1362240"/>
            <a:chExt cx="5542200" cy="4471200"/>
          </a:xfrm>
        </p:grpSpPr>
        <p:grpSp>
          <p:nvGrpSpPr>
            <p:cNvPr id="2527" name=""/>
            <p:cNvGrpSpPr/>
            <p:nvPr/>
          </p:nvGrpSpPr>
          <p:grpSpPr>
            <a:xfrm>
              <a:off x="3355920" y="1362240"/>
              <a:ext cx="1368000" cy="1515600"/>
              <a:chOff x="3355920" y="1362240"/>
              <a:chExt cx="1368000" cy="1515600"/>
            </a:xfrm>
          </p:grpSpPr>
          <p:sp>
            <p:nvSpPr>
              <p:cNvPr id="2528" name=""/>
              <p:cNvSpPr/>
              <p:nvPr/>
            </p:nvSpPr>
            <p:spPr>
              <a:xfrm>
                <a:off x="3460680" y="136224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413520" y="142344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3355920" y="14122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V="1">
                <a:off x="3427920" y="22755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 flipV="1">
                <a:off x="3403800" y="25542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5" name=""/>
            <p:cNvGrpSpPr/>
            <p:nvPr/>
          </p:nvGrpSpPr>
          <p:grpSpPr>
            <a:xfrm>
              <a:off x="3276360" y="3070800"/>
              <a:ext cx="1368000" cy="1518840"/>
              <a:chOff x="3276360" y="3070800"/>
              <a:chExt cx="1368000" cy="1518840"/>
            </a:xfrm>
          </p:grpSpPr>
          <p:sp>
            <p:nvSpPr>
              <p:cNvPr id="2536" name=""/>
              <p:cNvSpPr/>
              <p:nvPr/>
            </p:nvSpPr>
            <p:spPr>
              <a:xfrm>
                <a:off x="3383640" y="307080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3336480" y="313200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3276360" y="31240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 flipV="1">
                <a:off x="3350880" y="37303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3350880" y="39844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3326760" y="42631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3" name=""/>
            <p:cNvGrpSpPr/>
            <p:nvPr/>
          </p:nvGrpSpPr>
          <p:grpSpPr>
            <a:xfrm>
              <a:off x="5679000" y="4321080"/>
              <a:ext cx="1368000" cy="1512360"/>
              <a:chOff x="5679000" y="4321080"/>
              <a:chExt cx="1368000" cy="1512360"/>
            </a:xfrm>
          </p:grpSpPr>
          <p:sp>
            <p:nvSpPr>
              <p:cNvPr id="2544" name=""/>
              <p:cNvSpPr/>
              <p:nvPr/>
            </p:nvSpPr>
            <p:spPr>
              <a:xfrm>
                <a:off x="5786280" y="432108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739120" y="438228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679000" y="43678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flipV="1">
                <a:off x="5734440" y="4698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V="1">
                <a:off x="5753520" y="49806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753520" y="52347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5729400" y="55134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1" name=""/>
            <p:cNvGrpSpPr/>
            <p:nvPr/>
          </p:nvGrpSpPr>
          <p:grpSpPr>
            <a:xfrm>
              <a:off x="7450560" y="4314960"/>
              <a:ext cx="1368000" cy="1515600"/>
              <a:chOff x="7450560" y="4314960"/>
              <a:chExt cx="1368000" cy="1515600"/>
            </a:xfrm>
          </p:grpSpPr>
          <p:sp>
            <p:nvSpPr>
              <p:cNvPr id="2552" name=""/>
              <p:cNvSpPr/>
              <p:nvPr/>
            </p:nvSpPr>
            <p:spPr>
              <a:xfrm>
                <a:off x="7557840" y="431496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7510680" y="437616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7450560" y="436500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V="1">
                <a:off x="7506000" y="46915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7525080" y="49744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V="1">
                <a:off x="7525080" y="52282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7500960" y="55069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2560" name=""/>
              <p:cNvSpPr/>
              <p:nvPr/>
            </p:nvSpPr>
            <p:spPr>
              <a:xfrm>
                <a:off x="6589440" y="280404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535800" y="286524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632280" y="2854080"/>
                <a:ext cx="1069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6555960" y="34635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lay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ties” implement layer functions at each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ities perform actions, exchange messages with pe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511-5846-4040-A5A5-8949B3F468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ogical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67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8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4080" cy="892080"/>
          </a:xfrm>
          <a:prstGeom prst="rect">
            <a:avLst/>
          </a:prstGeom>
          <a:ln w="0">
            <a:noFill/>
          </a:ln>
        </p:spPr>
      </p:pic>
      <p:sp>
        <p:nvSpPr>
          <p:cNvPr id="2569" name=""/>
          <p:cNvSpPr/>
          <p:nvPr/>
        </p:nvSpPr>
        <p:spPr>
          <a:xfrm flipV="1">
            <a:off x="4654440" y="262908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1324080" cy="893880"/>
          </a:xfrm>
          <a:prstGeom prst="rect">
            <a:avLst/>
          </a:prstGeom>
          <a:ln w="0">
            <a:noFill/>
          </a:ln>
        </p:spPr>
      </p:pic>
      <p:sp>
        <p:nvSpPr>
          <p:cNvPr id="2571" name=""/>
          <p:cNvSpPr/>
          <p:nvPr/>
        </p:nvSpPr>
        <p:spPr>
          <a:xfrm flipV="1">
            <a:off x="4654440" y="4297320"/>
            <a:ext cx="3636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2573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6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2577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2586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9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5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2596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2605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0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2611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2615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8" name=""/>
          <p:cNvGrpSpPr/>
          <p:nvPr/>
        </p:nvGrpSpPr>
        <p:grpSpPr>
          <a:xfrm>
            <a:off x="3276360" y="1362240"/>
            <a:ext cx="5542200" cy="4471200"/>
            <a:chOff x="3276360" y="1362240"/>
            <a:chExt cx="5542200" cy="4471200"/>
          </a:xfrm>
        </p:grpSpPr>
        <p:grpSp>
          <p:nvGrpSpPr>
            <p:cNvPr id="2619" name=""/>
            <p:cNvGrpSpPr/>
            <p:nvPr/>
          </p:nvGrpSpPr>
          <p:grpSpPr>
            <a:xfrm>
              <a:off x="3355920" y="1362240"/>
              <a:ext cx="1368000" cy="1515600"/>
              <a:chOff x="3355920" y="1362240"/>
              <a:chExt cx="1368000" cy="1515600"/>
            </a:xfrm>
          </p:grpSpPr>
          <p:sp>
            <p:nvSpPr>
              <p:cNvPr id="2620" name=""/>
              <p:cNvSpPr/>
              <p:nvPr/>
            </p:nvSpPr>
            <p:spPr>
              <a:xfrm>
                <a:off x="3460680" y="136224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3413520" y="142344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3355920" y="14122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3408840" y="17388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3427920" y="202176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3427920" y="22755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3403800" y="25542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7" name=""/>
            <p:cNvGrpSpPr/>
            <p:nvPr/>
          </p:nvGrpSpPr>
          <p:grpSpPr>
            <a:xfrm>
              <a:off x="3276360" y="3070800"/>
              <a:ext cx="1368000" cy="1518840"/>
              <a:chOff x="3276360" y="3070800"/>
              <a:chExt cx="1368000" cy="1518840"/>
            </a:xfrm>
          </p:grpSpPr>
          <p:sp>
            <p:nvSpPr>
              <p:cNvPr id="2628" name=""/>
              <p:cNvSpPr/>
              <p:nvPr/>
            </p:nvSpPr>
            <p:spPr>
              <a:xfrm>
                <a:off x="3383640" y="307080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336480" y="313200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276360" y="31240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3331800" y="34477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V="1">
                <a:off x="3350880" y="37303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3350880" y="39844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3326760" y="42631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5" name=""/>
            <p:cNvGrpSpPr/>
            <p:nvPr/>
          </p:nvGrpSpPr>
          <p:grpSpPr>
            <a:xfrm>
              <a:off x="5679000" y="4321080"/>
              <a:ext cx="1368000" cy="1512360"/>
              <a:chOff x="5679000" y="4321080"/>
              <a:chExt cx="1368000" cy="1512360"/>
            </a:xfrm>
          </p:grpSpPr>
          <p:sp>
            <p:nvSpPr>
              <p:cNvPr id="2636" name=""/>
              <p:cNvSpPr/>
              <p:nvPr/>
            </p:nvSpPr>
            <p:spPr>
              <a:xfrm>
                <a:off x="5786280" y="4321080"/>
                <a:ext cx="1258560" cy="1418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739120" y="4382280"/>
                <a:ext cx="1258560" cy="1418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679000" y="436788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5734440" y="46980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5753520" y="498060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5753520" y="523476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5729400" y="551340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3" name=""/>
            <p:cNvGrpSpPr/>
            <p:nvPr/>
          </p:nvGrpSpPr>
          <p:grpSpPr>
            <a:xfrm>
              <a:off x="7450560" y="4314960"/>
              <a:ext cx="1368000" cy="1515600"/>
              <a:chOff x="7450560" y="4314960"/>
              <a:chExt cx="1368000" cy="1515600"/>
            </a:xfrm>
          </p:grpSpPr>
          <p:sp>
            <p:nvSpPr>
              <p:cNvPr id="2644" name=""/>
              <p:cNvSpPr/>
              <p:nvPr/>
            </p:nvSpPr>
            <p:spPr>
              <a:xfrm>
                <a:off x="7557840" y="4314960"/>
                <a:ext cx="1258560" cy="141804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10680" y="4376160"/>
                <a:ext cx="1258560" cy="1418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450560" y="4365000"/>
                <a:ext cx="136800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V="1">
                <a:off x="7506000" y="469152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V="1">
                <a:off x="7525080" y="4974480"/>
                <a:ext cx="124416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V="1">
                <a:off x="7525080" y="5228280"/>
                <a:ext cx="124416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7500960" y="5506920"/>
                <a:ext cx="124452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6535800" y="2804040"/>
              <a:ext cx="1312200" cy="966960"/>
              <a:chOff x="6535800" y="2804040"/>
              <a:chExt cx="1312200" cy="966960"/>
            </a:xfrm>
          </p:grpSpPr>
          <p:sp>
            <p:nvSpPr>
              <p:cNvPr id="2652" name=""/>
              <p:cNvSpPr/>
              <p:nvPr/>
            </p:nvSpPr>
            <p:spPr>
              <a:xfrm>
                <a:off x="6589440" y="2804040"/>
                <a:ext cx="1258560" cy="91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535800" y="2865240"/>
                <a:ext cx="1258560" cy="884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632280" y="2854080"/>
                <a:ext cx="1069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lin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536880" y="3180240"/>
                <a:ext cx="12448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6555960" y="3463560"/>
                <a:ext cx="1244880" cy="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7" name=""/>
          <p:cNvSpPr/>
          <p:nvPr/>
        </p:nvSpPr>
        <p:spPr>
          <a:xfrm>
            <a:off x="3828960" y="1514520"/>
            <a:ext cx="3724200" cy="3162240"/>
          </a:xfrm>
          <a:custGeom>
            <a:avLst/>
            <a:gdLst/>
            <a:ahLst/>
            <a:rect l="l" t="t" r="r" b="b"/>
            <a:pathLst>
              <a:path w="2346" h="1992">
                <a:moveTo>
                  <a:pt x="12" y="0"/>
                </a:moveTo>
                <a:lnTo>
                  <a:pt x="0" y="288"/>
                </a:lnTo>
                <a:lnTo>
                  <a:pt x="2112" y="1812"/>
                </a:lnTo>
                <a:lnTo>
                  <a:pt x="2346" y="19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7966080" y="4046400"/>
            <a:ext cx="700200" cy="383760"/>
            <a:chOff x="7966080" y="4046400"/>
            <a:chExt cx="700200" cy="383760"/>
          </a:xfrm>
        </p:grpSpPr>
        <p:sp>
          <p:nvSpPr>
            <p:cNvPr id="2659" name=""/>
            <p:cNvSpPr/>
            <p:nvPr/>
          </p:nvSpPr>
          <p:spPr>
            <a:xfrm>
              <a:off x="7966080" y="4046400"/>
              <a:ext cx="70020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89120" y="4061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1" name=""/>
          <p:cNvGrpSpPr/>
          <p:nvPr/>
        </p:nvGrpSpPr>
        <p:grpSpPr>
          <a:xfrm>
            <a:off x="3451320" y="1114560"/>
            <a:ext cx="701640" cy="383760"/>
            <a:chOff x="3451320" y="1114560"/>
            <a:chExt cx="701640" cy="383760"/>
          </a:xfrm>
        </p:grpSpPr>
        <p:sp>
          <p:nvSpPr>
            <p:cNvPr id="2662" name=""/>
            <p:cNvSpPr/>
            <p:nvPr/>
          </p:nvSpPr>
          <p:spPr>
            <a:xfrm>
              <a:off x="3451320" y="1114560"/>
              <a:ext cx="701640" cy="37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474360" y="11300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254160" y="1396800"/>
            <a:ext cx="2813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.g.: transp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 data from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 addressing, reliability check info to form “datagram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datagram to p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for peer to ack rece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alogy: post off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5308560" y="3408480"/>
            <a:ext cx="700200" cy="383760"/>
            <a:chOff x="5308560" y="3408480"/>
            <a:chExt cx="700200" cy="383760"/>
          </a:xfrm>
        </p:grpSpPr>
        <p:sp>
          <p:nvSpPr>
            <p:cNvPr id="2666" name=""/>
            <p:cNvSpPr/>
            <p:nvPr/>
          </p:nvSpPr>
          <p:spPr>
            <a:xfrm>
              <a:off x="5308560" y="3408480"/>
              <a:ext cx="700200" cy="376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331600" y="342396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8" name=""/>
          <p:cNvSpPr/>
          <p:nvPr/>
        </p:nvSpPr>
        <p:spPr>
          <a:xfrm>
            <a:off x="6019920" y="3753000"/>
            <a:ext cx="285480" cy="218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H="1" flipV="1">
            <a:off x="5448240" y="2790720"/>
            <a:ext cx="200160" cy="16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7524720" y="471492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438360" y="1762200"/>
            <a:ext cx="12574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8439120" y="4419720"/>
            <a:ext cx="9720" cy="361800"/>
          </a:xfrm>
          <a:custGeom>
            <a:avLst/>
            <a:gdLst/>
            <a:ahLst/>
            <a:rect l="l" t="t" r="r" b="b"/>
            <a:pathLst>
              <a:path w="6" h="228">
                <a:moveTo>
                  <a:pt x="6" y="2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4495680" y="2048040"/>
            <a:ext cx="3822840" cy="2892240"/>
          </a:xfrm>
          <a:custGeom>
            <a:avLst/>
            <a:gdLst/>
            <a:ahLst/>
            <a:rect l="l" t="t" r="r" b="b"/>
            <a:pathLst>
              <a:path w="2408" h="1822">
                <a:moveTo>
                  <a:pt x="0" y="0"/>
                </a:moveTo>
                <a:lnTo>
                  <a:pt x="6" y="126"/>
                </a:lnTo>
                <a:lnTo>
                  <a:pt x="2408" y="18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5" name=""/>
          <p:cNvGrpSpPr/>
          <p:nvPr/>
        </p:nvGrpSpPr>
        <p:grpSpPr>
          <a:xfrm>
            <a:off x="5670720" y="2836800"/>
            <a:ext cx="699840" cy="383760"/>
            <a:chOff x="5670720" y="2836800"/>
            <a:chExt cx="699840" cy="383760"/>
          </a:xfrm>
        </p:grpSpPr>
        <p:sp>
          <p:nvSpPr>
            <p:cNvPr id="2676" name=""/>
            <p:cNvSpPr/>
            <p:nvPr/>
          </p:nvSpPr>
          <p:spPr>
            <a:xfrm>
              <a:off x="5670720" y="2836800"/>
              <a:ext cx="699840" cy="376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693040" y="2852280"/>
              <a:ext cx="5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8" name=""/>
          <p:cNvSpPr/>
          <p:nvPr/>
        </p:nvSpPr>
        <p:spPr>
          <a:xfrm>
            <a:off x="4843440" y="3911760"/>
            <a:ext cx="89064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03D-B9C5-4957-B381-604338C2BE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’s the Internet: a service 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municatio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frastructu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ables distributed applic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, email, games, e-commerce, database., voting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munication services provid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l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-orien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yberspace [Gibson]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consensual hallucination experienced daily by billions of operators, in every nation, ...."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567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571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575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584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594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603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608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2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5891040" y="461628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627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630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633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637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646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667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673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677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0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681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687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691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695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705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709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715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719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723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729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733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6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737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743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747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0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751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757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761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765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771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775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" name=""/>
          <p:cNvSpPr/>
          <p:nvPr/>
        </p:nvSpPr>
        <p:spPr>
          <a:xfrm flipV="1">
            <a:off x="6219720" y="4398840"/>
            <a:ext cx="180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B1A-DDCB-4AA0-A3E1-5A9366919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ayering: physical communication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80" name=""/>
          <p:cNvGrpSpPr/>
          <p:nvPr/>
        </p:nvGrpSpPr>
        <p:grpSpPr>
          <a:xfrm>
            <a:off x="1731960" y="1670040"/>
            <a:ext cx="5981760" cy="4497480"/>
            <a:chOff x="1731960" y="1670040"/>
            <a:chExt cx="5981760" cy="4497480"/>
          </a:xfrm>
        </p:grpSpPr>
        <p:sp>
          <p:nvSpPr>
            <p:cNvPr id="2681" name=""/>
            <p:cNvSpPr/>
            <p:nvPr/>
          </p:nvSpPr>
          <p:spPr>
            <a:xfrm>
              <a:off x="1731960" y="1670040"/>
              <a:ext cx="5981760" cy="44974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2" name=""/>
            <p:cNvGrpSpPr/>
            <p:nvPr/>
          </p:nvGrpSpPr>
          <p:grpSpPr>
            <a:xfrm>
              <a:off x="2093760" y="2023920"/>
              <a:ext cx="2348640" cy="901080"/>
              <a:chOff x="2093760" y="2023920"/>
              <a:chExt cx="2348640" cy="901080"/>
            </a:xfrm>
          </p:grpSpPr>
          <p:pic>
            <p:nvPicPr>
              <p:cNvPr id="26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93760" y="2023920"/>
                <a:ext cx="1333080" cy="90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547080" y="2357640"/>
                <a:ext cx="895320" cy="52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5" name=""/>
              <p:cNvSpPr/>
              <p:nvPr/>
            </p:nvSpPr>
            <p:spPr>
              <a:xfrm flipV="1">
                <a:off x="3395520" y="270720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6" name=""/>
            <p:cNvGrpSpPr/>
            <p:nvPr/>
          </p:nvGrpSpPr>
          <p:grpSpPr>
            <a:xfrm>
              <a:off x="2093760" y="3708360"/>
              <a:ext cx="2348640" cy="902520"/>
              <a:chOff x="2093760" y="3708360"/>
              <a:chExt cx="2348640" cy="902520"/>
            </a:xfrm>
          </p:grpSpPr>
          <p:pic>
            <p:nvPicPr>
              <p:cNvPr id="26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3760" y="3708360"/>
                <a:ext cx="1333080" cy="90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47080" y="4042800"/>
                <a:ext cx="895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9" name=""/>
              <p:cNvSpPr/>
              <p:nvPr/>
            </p:nvSpPr>
            <p:spPr>
              <a:xfrm flipV="1">
                <a:off x="3395520" y="4393080"/>
                <a:ext cx="3657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0" name=""/>
            <p:cNvGrpSpPr/>
            <p:nvPr/>
          </p:nvGrpSpPr>
          <p:grpSpPr>
            <a:xfrm>
              <a:off x="3805200" y="3078000"/>
              <a:ext cx="165600" cy="605520"/>
              <a:chOff x="3805200" y="3078000"/>
              <a:chExt cx="165600" cy="605520"/>
            </a:xfrm>
          </p:grpSpPr>
          <p:sp>
            <p:nvSpPr>
              <p:cNvPr id="2691" name=""/>
              <p:cNvSpPr/>
              <p:nvPr/>
            </p:nvSpPr>
            <p:spPr>
              <a:xfrm>
                <a:off x="3805200" y="3078000"/>
                <a:ext cx="152640" cy="171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811680" y="3295800"/>
                <a:ext cx="152640" cy="1699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818160" y="3513600"/>
                <a:ext cx="152640" cy="1699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4" name=""/>
            <p:cNvGrpSpPr/>
            <p:nvPr/>
          </p:nvGrpSpPr>
          <p:grpSpPr>
            <a:xfrm>
              <a:off x="4805280" y="4530600"/>
              <a:ext cx="671040" cy="1118520"/>
              <a:chOff x="4805280" y="4530600"/>
              <a:chExt cx="671040" cy="1118520"/>
            </a:xfrm>
          </p:grpSpPr>
          <p:sp>
            <p:nvSpPr>
              <p:cNvPr id="2695" name=""/>
              <p:cNvSpPr/>
              <p:nvPr/>
            </p:nvSpPr>
            <p:spPr>
              <a:xfrm>
                <a:off x="4805280" y="539064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145120" y="4537800"/>
                <a:ext cx="308520" cy="859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809240" y="4781520"/>
                <a:ext cx="425160" cy="860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805280" y="4530600"/>
                <a:ext cx="671040" cy="258480"/>
              </a:xfrm>
              <a:prstGeom prst="parallelogram">
                <a:avLst>
                  <a:gd name="adj" fmla="val 100010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476320" y="454860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H="1">
                <a:off x="5234040" y="5390640"/>
                <a:ext cx="24156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862880" y="4894920"/>
                <a:ext cx="282240" cy="495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903560" y="5044320"/>
                <a:ext cx="21420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5562720" y="4966560"/>
              <a:ext cx="746640" cy="228960"/>
              <a:chOff x="5562720" y="4966560"/>
              <a:chExt cx="746640" cy="228960"/>
            </a:xfrm>
          </p:grpSpPr>
          <p:sp>
            <p:nvSpPr>
              <p:cNvPr id="2704" name=""/>
              <p:cNvSpPr/>
              <p:nvPr/>
            </p:nvSpPr>
            <p:spPr>
              <a:xfrm rot="16200000">
                <a:off x="5562360" y="4984560"/>
                <a:ext cx="210960" cy="210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rot="16200000">
                <a:off x="5830560" y="4976280"/>
                <a:ext cx="210960" cy="209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rot="16200000">
                <a:off x="6099120" y="4967280"/>
                <a:ext cx="210960" cy="209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7" name=""/>
            <p:cNvSpPr/>
            <p:nvPr/>
          </p:nvSpPr>
          <p:spPr>
            <a:xfrm>
              <a:off x="5241960" y="4270320"/>
              <a:ext cx="1587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253120" y="4260960"/>
              <a:ext cx="468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840360" y="4255920"/>
              <a:ext cx="5040" cy="23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281480" y="2741760"/>
              <a:ext cx="9255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V="1">
              <a:off x="4321080" y="3551400"/>
              <a:ext cx="885960" cy="9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6010200" y="3793680"/>
              <a:ext cx="4680" cy="46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3" name=""/>
            <p:cNvGrpSpPr/>
            <p:nvPr/>
          </p:nvGrpSpPr>
          <p:grpSpPr>
            <a:xfrm>
              <a:off x="6423120" y="4494240"/>
              <a:ext cx="670680" cy="1118520"/>
              <a:chOff x="6423120" y="4494240"/>
              <a:chExt cx="670680" cy="1118520"/>
            </a:xfrm>
          </p:grpSpPr>
          <p:sp>
            <p:nvSpPr>
              <p:cNvPr id="2714" name=""/>
              <p:cNvSpPr/>
              <p:nvPr/>
            </p:nvSpPr>
            <p:spPr>
              <a:xfrm>
                <a:off x="6423120" y="535428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762960" y="4501440"/>
                <a:ext cx="308160" cy="8593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427080" y="4745160"/>
                <a:ext cx="425160" cy="8600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423120" y="4494240"/>
                <a:ext cx="670680" cy="258480"/>
              </a:xfrm>
              <a:prstGeom prst="parallelogram">
                <a:avLst>
                  <a:gd name="adj" fmla="val 9995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093800" y="4512240"/>
                <a:ext cx="0" cy="84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6852240" y="5354280"/>
                <a:ext cx="24120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80720" y="4858560"/>
                <a:ext cx="281880" cy="495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521400" y="5007960"/>
                <a:ext cx="213840" cy="17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2" name=""/>
            <p:cNvGrpSpPr/>
            <p:nvPr/>
          </p:nvGrpSpPr>
          <p:grpSpPr>
            <a:xfrm>
              <a:off x="5160960" y="3160800"/>
              <a:ext cx="1607400" cy="659160"/>
              <a:chOff x="5160960" y="3160800"/>
              <a:chExt cx="1607400" cy="659160"/>
            </a:xfrm>
          </p:grpSpPr>
          <p:sp>
            <p:nvSpPr>
              <p:cNvPr id="2723" name=""/>
              <p:cNvSpPr/>
              <p:nvPr/>
            </p:nvSpPr>
            <p:spPr>
              <a:xfrm>
                <a:off x="5173920" y="3454920"/>
                <a:ext cx="1594080" cy="365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17392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768360" y="3424320"/>
                <a:ext cx="0" cy="22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173920" y="3424320"/>
                <a:ext cx="1580040" cy="223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160960" y="3160800"/>
                <a:ext cx="1593000" cy="425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8" name=""/>
              <p:cNvGrpSpPr/>
              <p:nvPr/>
            </p:nvGrpSpPr>
            <p:grpSpPr>
              <a:xfrm>
                <a:off x="5544360" y="3254760"/>
                <a:ext cx="789120" cy="248400"/>
                <a:chOff x="5544360" y="3254760"/>
                <a:chExt cx="789120" cy="248400"/>
              </a:xfrm>
            </p:grpSpPr>
            <p:sp>
              <p:nvSpPr>
                <p:cNvPr id="2729" name=""/>
                <p:cNvSpPr/>
                <p:nvPr/>
              </p:nvSpPr>
              <p:spPr>
                <a:xfrm flipV="1">
                  <a:off x="5544360" y="325476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6085440" y="3503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5803920" y="325980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5544360" y="3251160"/>
                <a:ext cx="789120" cy="248400"/>
                <a:chOff x="5544360" y="3251160"/>
                <a:chExt cx="789120" cy="24840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5544360" y="3494520"/>
                  <a:ext cx="281520" cy="5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6085440" y="3251160"/>
                  <a:ext cx="248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V="1">
                  <a:off x="5803920" y="3251160"/>
                  <a:ext cx="293040" cy="243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36" name=""/>
          <p:cNvGrpSpPr/>
          <p:nvPr/>
        </p:nvGrpSpPr>
        <p:grpSpPr>
          <a:xfrm>
            <a:off x="2090880" y="1427040"/>
            <a:ext cx="1369800" cy="1513080"/>
            <a:chOff x="2090880" y="1427040"/>
            <a:chExt cx="1369800" cy="1513080"/>
          </a:xfrm>
        </p:grpSpPr>
        <p:sp>
          <p:nvSpPr>
            <p:cNvPr id="2737" name=""/>
            <p:cNvSpPr/>
            <p:nvPr/>
          </p:nvSpPr>
          <p:spPr>
            <a:xfrm>
              <a:off x="2193840" y="142704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2146320" y="148896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2090880" y="147456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flipV="1">
              <a:off x="2141640" y="18075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V="1">
              <a:off x="2160720" y="209340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2160720" y="235080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flipV="1">
              <a:off x="2136600" y="263160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2013120" y="3154320"/>
            <a:ext cx="1369800" cy="1513080"/>
            <a:chOff x="2013120" y="3154320"/>
            <a:chExt cx="1369800" cy="1513080"/>
          </a:xfrm>
        </p:grpSpPr>
        <p:sp>
          <p:nvSpPr>
            <p:cNvPr id="2745" name=""/>
            <p:cNvSpPr/>
            <p:nvPr/>
          </p:nvSpPr>
          <p:spPr>
            <a:xfrm>
              <a:off x="2116080" y="31543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2068560" y="32162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013120" y="320184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2063880" y="35348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2082960" y="38206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2082960" y="40780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V="1">
              <a:off x="2058840" y="43588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2" name=""/>
          <p:cNvGrpSpPr/>
          <p:nvPr/>
        </p:nvGrpSpPr>
        <p:grpSpPr>
          <a:xfrm>
            <a:off x="4430880" y="4417920"/>
            <a:ext cx="1369800" cy="1513080"/>
            <a:chOff x="4430880" y="4417920"/>
            <a:chExt cx="1369800" cy="1513080"/>
          </a:xfrm>
        </p:grpSpPr>
        <p:sp>
          <p:nvSpPr>
            <p:cNvPr id="2753" name=""/>
            <p:cNvSpPr/>
            <p:nvPr/>
          </p:nvSpPr>
          <p:spPr>
            <a:xfrm>
              <a:off x="4533840" y="441792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86320" y="447984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30880" y="446544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81640" y="479844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500720" y="508428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4500720" y="534168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V="1">
              <a:off x="4476600" y="56224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0" name=""/>
          <p:cNvGrpSpPr/>
          <p:nvPr/>
        </p:nvGrpSpPr>
        <p:grpSpPr>
          <a:xfrm>
            <a:off x="6213600" y="4411800"/>
            <a:ext cx="1369800" cy="1513080"/>
            <a:chOff x="6213600" y="4411800"/>
            <a:chExt cx="1369800" cy="1513080"/>
          </a:xfrm>
        </p:grpSpPr>
        <p:sp>
          <p:nvSpPr>
            <p:cNvPr id="2761" name=""/>
            <p:cNvSpPr/>
            <p:nvPr/>
          </p:nvSpPr>
          <p:spPr>
            <a:xfrm>
              <a:off x="6316560" y="4411800"/>
              <a:ext cx="1266840" cy="1433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269040" y="4473720"/>
              <a:ext cx="1266840" cy="1433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213600" y="4459320"/>
              <a:ext cx="1368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V="1">
              <a:off x="6264360" y="479232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V="1">
              <a:off x="6283440" y="5078160"/>
              <a:ext cx="12524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6283440" y="5335560"/>
              <a:ext cx="12524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6259320" y="561636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8" name=""/>
          <p:cNvGrpSpPr/>
          <p:nvPr/>
        </p:nvGrpSpPr>
        <p:grpSpPr>
          <a:xfrm>
            <a:off x="5288040" y="2884320"/>
            <a:ext cx="1320840" cy="964440"/>
            <a:chOff x="5288040" y="2884320"/>
            <a:chExt cx="1320840" cy="964440"/>
          </a:xfrm>
        </p:grpSpPr>
        <p:sp>
          <p:nvSpPr>
            <p:cNvPr id="2769" name=""/>
            <p:cNvSpPr/>
            <p:nvPr/>
          </p:nvSpPr>
          <p:spPr>
            <a:xfrm>
              <a:off x="5342040" y="2884320"/>
              <a:ext cx="1266840" cy="9255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288040" y="2946240"/>
              <a:ext cx="1266840" cy="893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388480" y="2931840"/>
              <a:ext cx="106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5289480" y="3265200"/>
              <a:ext cx="125280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5308560" y="3550680"/>
              <a:ext cx="12528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2940120" y="1638360"/>
            <a:ext cx="6120" cy="1028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165720" y="3048120"/>
            <a:ext cx="6480" cy="27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5549760" y="3015720"/>
            <a:ext cx="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543640" y="3035160"/>
            <a:ext cx="62532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165720" y="5765760"/>
            <a:ext cx="787680" cy="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 flipV="1">
            <a:off x="6953400" y="4606920"/>
            <a:ext cx="12600" cy="1168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2971800" y="2682720"/>
            <a:ext cx="1403280" cy="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346640" y="2698920"/>
            <a:ext cx="1212840" cy="96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2" name=""/>
          <p:cNvGrpSpPr/>
          <p:nvPr/>
        </p:nvGrpSpPr>
        <p:grpSpPr>
          <a:xfrm>
            <a:off x="6661080" y="4178160"/>
            <a:ext cx="704880" cy="384120"/>
            <a:chOff x="6661080" y="4178160"/>
            <a:chExt cx="704880" cy="384120"/>
          </a:xfrm>
        </p:grpSpPr>
        <p:sp>
          <p:nvSpPr>
            <p:cNvPr id="2783" name=""/>
            <p:cNvSpPr/>
            <p:nvPr/>
          </p:nvSpPr>
          <p:spPr>
            <a:xfrm>
              <a:off x="6661080" y="417816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684480" y="41940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5" name=""/>
          <p:cNvGrpSpPr/>
          <p:nvPr/>
        </p:nvGrpSpPr>
        <p:grpSpPr>
          <a:xfrm>
            <a:off x="2610000" y="1257480"/>
            <a:ext cx="704880" cy="384120"/>
            <a:chOff x="2610000" y="1257480"/>
            <a:chExt cx="704880" cy="384120"/>
          </a:xfrm>
        </p:grpSpPr>
        <p:sp>
          <p:nvSpPr>
            <p:cNvPr id="2786" name=""/>
            <p:cNvSpPr/>
            <p:nvPr/>
          </p:nvSpPr>
          <p:spPr>
            <a:xfrm>
              <a:off x="2610000" y="1257480"/>
              <a:ext cx="7048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633400" y="127332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406-FB56-4703-9310-C76BD85639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2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546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 layering and da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95160" y="1530000"/>
            <a:ext cx="777240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layer takes data from abo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header information to create new data un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new data unit to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0" name=""/>
          <p:cNvGrpSpPr/>
          <p:nvPr/>
        </p:nvGrpSpPr>
        <p:grpSpPr>
          <a:xfrm>
            <a:off x="1848600" y="3618000"/>
            <a:ext cx="1776600" cy="2022840"/>
            <a:chOff x="1848600" y="3618000"/>
            <a:chExt cx="1776600" cy="2022840"/>
          </a:xfrm>
        </p:grpSpPr>
        <p:grpSp>
          <p:nvGrpSpPr>
            <p:cNvPr id="2791" name=""/>
            <p:cNvGrpSpPr/>
            <p:nvPr/>
          </p:nvGrpSpPr>
          <p:grpSpPr>
            <a:xfrm>
              <a:off x="1892520" y="3618000"/>
              <a:ext cx="1732680" cy="2009520"/>
              <a:chOff x="1892520" y="3618000"/>
              <a:chExt cx="1732680" cy="2009520"/>
            </a:xfrm>
          </p:grpSpPr>
          <p:sp>
            <p:nvSpPr>
              <p:cNvPr id="2792" name=""/>
              <p:cNvSpPr/>
              <p:nvPr/>
            </p:nvSpPr>
            <p:spPr>
              <a:xfrm>
                <a:off x="1966680" y="361800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1904760" y="370116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 flipV="1">
                <a:off x="1898640" y="412992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1923480" y="45136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1923480" y="485928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1892520" y="523728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8" name=""/>
            <p:cNvSpPr/>
            <p:nvPr/>
          </p:nvSpPr>
          <p:spPr>
            <a:xfrm>
              <a:off x="1848600" y="371808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9" name=""/>
          <p:cNvGrpSpPr/>
          <p:nvPr/>
        </p:nvGrpSpPr>
        <p:grpSpPr>
          <a:xfrm>
            <a:off x="4223160" y="3598920"/>
            <a:ext cx="1776600" cy="2022840"/>
            <a:chOff x="4223160" y="3598920"/>
            <a:chExt cx="1776600" cy="2022840"/>
          </a:xfrm>
        </p:grpSpPr>
        <p:grpSp>
          <p:nvGrpSpPr>
            <p:cNvPr id="2800" name=""/>
            <p:cNvGrpSpPr/>
            <p:nvPr/>
          </p:nvGrpSpPr>
          <p:grpSpPr>
            <a:xfrm>
              <a:off x="4267080" y="3598920"/>
              <a:ext cx="1732680" cy="2009520"/>
              <a:chOff x="4267080" y="3598920"/>
              <a:chExt cx="1732680" cy="2009520"/>
            </a:xfrm>
          </p:grpSpPr>
          <p:sp>
            <p:nvSpPr>
              <p:cNvPr id="2801" name=""/>
              <p:cNvSpPr/>
              <p:nvPr/>
            </p:nvSpPr>
            <p:spPr>
              <a:xfrm>
                <a:off x="4341240" y="359892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4279320" y="368208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V="1">
                <a:off x="4273200" y="411084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V="1">
                <a:off x="4298040" y="44946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V="1">
                <a:off x="4298040" y="4840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4267080" y="521820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7" name=""/>
            <p:cNvSpPr/>
            <p:nvPr/>
          </p:nvSpPr>
          <p:spPr>
            <a:xfrm>
              <a:off x="4223160" y="369900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8" name=""/>
          <p:cNvSpPr/>
          <p:nvPr/>
        </p:nvSpPr>
        <p:spPr>
          <a:xfrm>
            <a:off x="2200680" y="30844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257360" y="3141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076400" y="3181320"/>
            <a:ext cx="5848200" cy="2828880"/>
          </a:xfrm>
          <a:custGeom>
            <a:avLst/>
            <a:gdLst/>
            <a:ahLst/>
            <a:rect l="l" t="t" r="r" b="b"/>
            <a:pathLst>
              <a:path w="4572" h="1752">
                <a:moveTo>
                  <a:pt x="0" y="264"/>
                </a:moveTo>
                <a:lnTo>
                  <a:pt x="0" y="1752"/>
                </a:lnTo>
                <a:lnTo>
                  <a:pt x="4572" y="1746"/>
                </a:lnTo>
                <a:lnTo>
                  <a:pt x="457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1" name=""/>
          <p:cNvGrpSpPr/>
          <p:nvPr/>
        </p:nvGrpSpPr>
        <p:grpSpPr>
          <a:xfrm>
            <a:off x="165240" y="3753000"/>
            <a:ext cx="1667880" cy="1553040"/>
            <a:chOff x="165240" y="3753000"/>
            <a:chExt cx="1667880" cy="1553040"/>
          </a:xfrm>
        </p:grpSpPr>
        <p:sp>
          <p:nvSpPr>
            <p:cNvPr id="2812" name=""/>
            <p:cNvSpPr/>
            <p:nvPr/>
          </p:nvSpPr>
          <p:spPr>
            <a:xfrm>
              <a:off x="1215720" y="37530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215720" y="416232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233360" y="454680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233360" y="49276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6" name=""/>
            <p:cNvGrpSpPr/>
            <p:nvPr/>
          </p:nvGrpSpPr>
          <p:grpSpPr>
            <a:xfrm>
              <a:off x="804600" y="4133880"/>
              <a:ext cx="486720" cy="407160"/>
              <a:chOff x="804600" y="4133880"/>
              <a:chExt cx="486720" cy="407160"/>
            </a:xfrm>
          </p:grpSpPr>
          <p:sp>
            <p:nvSpPr>
              <p:cNvPr id="2817" name=""/>
              <p:cNvSpPr/>
              <p:nvPr/>
            </p:nvSpPr>
            <p:spPr>
              <a:xfrm>
                <a:off x="880560" y="4162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804600" y="4133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994680" y="4203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825480" y="4518000"/>
              <a:ext cx="486360" cy="407160"/>
              <a:chOff x="825480" y="4518000"/>
              <a:chExt cx="486360" cy="407160"/>
            </a:xfrm>
          </p:grpSpPr>
          <p:sp>
            <p:nvSpPr>
              <p:cNvPr id="2821" name=""/>
              <p:cNvSpPr/>
              <p:nvPr/>
            </p:nvSpPr>
            <p:spPr>
              <a:xfrm>
                <a:off x="901440" y="454680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825480" y="451800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015560" y="458784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4" name=""/>
            <p:cNvGrpSpPr/>
            <p:nvPr/>
          </p:nvGrpSpPr>
          <p:grpSpPr>
            <a:xfrm>
              <a:off x="498240" y="4518000"/>
              <a:ext cx="486720" cy="407160"/>
              <a:chOff x="498240" y="4518000"/>
              <a:chExt cx="486720" cy="407160"/>
            </a:xfrm>
          </p:grpSpPr>
          <p:sp>
            <p:nvSpPr>
              <p:cNvPr id="2825" name=""/>
              <p:cNvSpPr/>
              <p:nvPr/>
            </p:nvSpPr>
            <p:spPr>
              <a:xfrm>
                <a:off x="574200" y="454680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498240" y="451800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688320" y="45878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8" name=""/>
            <p:cNvGrpSpPr/>
            <p:nvPr/>
          </p:nvGrpSpPr>
          <p:grpSpPr>
            <a:xfrm>
              <a:off x="498240" y="4897440"/>
              <a:ext cx="813240" cy="407160"/>
              <a:chOff x="498240" y="4897440"/>
              <a:chExt cx="813240" cy="407160"/>
            </a:xfrm>
          </p:grpSpPr>
          <p:grpSp>
            <p:nvGrpSpPr>
              <p:cNvPr id="2829" name=""/>
              <p:cNvGrpSpPr/>
              <p:nvPr/>
            </p:nvGrpSpPr>
            <p:grpSpPr>
              <a:xfrm>
                <a:off x="825120" y="4897440"/>
                <a:ext cx="486360" cy="407160"/>
                <a:chOff x="825120" y="4897440"/>
                <a:chExt cx="486360" cy="407160"/>
              </a:xfrm>
            </p:grpSpPr>
            <p:sp>
              <p:nvSpPr>
                <p:cNvPr id="2830" name=""/>
                <p:cNvSpPr/>
                <p:nvPr/>
              </p:nvSpPr>
              <p:spPr>
                <a:xfrm>
                  <a:off x="901080" y="492624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825120" y="489744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1015200" y="496728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498240" y="4897440"/>
                <a:ext cx="486720" cy="407160"/>
                <a:chOff x="498240" y="4897440"/>
                <a:chExt cx="486720" cy="407160"/>
              </a:xfrm>
            </p:grpSpPr>
            <p:sp>
              <p:nvSpPr>
                <p:cNvPr id="2834" name=""/>
                <p:cNvSpPr/>
                <p:nvPr/>
              </p:nvSpPr>
              <p:spPr>
                <a:xfrm>
                  <a:off x="574200" y="492624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498240" y="489744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688320" y="49672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7" name=""/>
            <p:cNvGrpSpPr/>
            <p:nvPr/>
          </p:nvGrpSpPr>
          <p:grpSpPr>
            <a:xfrm>
              <a:off x="165240" y="4898880"/>
              <a:ext cx="486720" cy="407160"/>
              <a:chOff x="165240" y="4898880"/>
              <a:chExt cx="486720" cy="407160"/>
            </a:xfrm>
          </p:grpSpPr>
          <p:sp>
            <p:nvSpPr>
              <p:cNvPr id="2838" name=""/>
              <p:cNvSpPr/>
              <p:nvPr/>
            </p:nvSpPr>
            <p:spPr>
              <a:xfrm>
                <a:off x="241200" y="49276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165240" y="48988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55320" y="4968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1" name=""/>
          <p:cNvGrpSpPr/>
          <p:nvPr/>
        </p:nvGrpSpPr>
        <p:grpSpPr>
          <a:xfrm>
            <a:off x="6051600" y="3695760"/>
            <a:ext cx="1667880" cy="1553040"/>
            <a:chOff x="6051600" y="3695760"/>
            <a:chExt cx="1667880" cy="1553040"/>
          </a:xfrm>
        </p:grpSpPr>
        <p:sp>
          <p:nvSpPr>
            <p:cNvPr id="2842" name=""/>
            <p:cNvSpPr/>
            <p:nvPr/>
          </p:nvSpPr>
          <p:spPr>
            <a:xfrm>
              <a:off x="7102080" y="36957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102080" y="410508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119720" y="44895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119720" y="487044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6" name=""/>
            <p:cNvGrpSpPr/>
            <p:nvPr/>
          </p:nvGrpSpPr>
          <p:grpSpPr>
            <a:xfrm>
              <a:off x="6690960" y="4076640"/>
              <a:ext cx="486720" cy="407160"/>
              <a:chOff x="6690960" y="4076640"/>
              <a:chExt cx="486720" cy="407160"/>
            </a:xfrm>
          </p:grpSpPr>
          <p:sp>
            <p:nvSpPr>
              <p:cNvPr id="2847" name=""/>
              <p:cNvSpPr/>
              <p:nvPr/>
            </p:nvSpPr>
            <p:spPr>
              <a:xfrm>
                <a:off x="6766920" y="4105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690960" y="4076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881040" y="4146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0" name=""/>
            <p:cNvGrpSpPr/>
            <p:nvPr/>
          </p:nvGrpSpPr>
          <p:grpSpPr>
            <a:xfrm>
              <a:off x="6711840" y="4460760"/>
              <a:ext cx="486360" cy="407160"/>
              <a:chOff x="6711840" y="4460760"/>
              <a:chExt cx="486360" cy="407160"/>
            </a:xfrm>
          </p:grpSpPr>
          <p:sp>
            <p:nvSpPr>
              <p:cNvPr id="2851" name=""/>
              <p:cNvSpPr/>
              <p:nvPr/>
            </p:nvSpPr>
            <p:spPr>
              <a:xfrm>
                <a:off x="6787800" y="448956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711840" y="446076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901920" y="453060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4" name=""/>
            <p:cNvGrpSpPr/>
            <p:nvPr/>
          </p:nvGrpSpPr>
          <p:grpSpPr>
            <a:xfrm>
              <a:off x="6384600" y="4460760"/>
              <a:ext cx="486720" cy="407160"/>
              <a:chOff x="6384600" y="4460760"/>
              <a:chExt cx="486720" cy="407160"/>
            </a:xfrm>
          </p:grpSpPr>
          <p:sp>
            <p:nvSpPr>
              <p:cNvPr id="2855" name=""/>
              <p:cNvSpPr/>
              <p:nvPr/>
            </p:nvSpPr>
            <p:spPr>
              <a:xfrm>
                <a:off x="6460560" y="44895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384600" y="44607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574680" y="4530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6384600" y="4840200"/>
              <a:ext cx="813240" cy="407160"/>
              <a:chOff x="6384600" y="4840200"/>
              <a:chExt cx="813240" cy="407160"/>
            </a:xfrm>
          </p:grpSpPr>
          <p:grpSp>
            <p:nvGrpSpPr>
              <p:cNvPr id="2859" name=""/>
              <p:cNvGrpSpPr/>
              <p:nvPr/>
            </p:nvGrpSpPr>
            <p:grpSpPr>
              <a:xfrm>
                <a:off x="6711480" y="4840200"/>
                <a:ext cx="486360" cy="407160"/>
                <a:chOff x="6711480" y="4840200"/>
                <a:chExt cx="486360" cy="40716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6787440" y="486900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6711480" y="484020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6901560" y="491004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3" name=""/>
              <p:cNvGrpSpPr/>
              <p:nvPr/>
            </p:nvGrpSpPr>
            <p:grpSpPr>
              <a:xfrm>
                <a:off x="6384600" y="4840200"/>
                <a:ext cx="486720" cy="407160"/>
                <a:chOff x="6384600" y="4840200"/>
                <a:chExt cx="486720" cy="407160"/>
              </a:xfrm>
            </p:grpSpPr>
            <p:sp>
              <p:nvSpPr>
                <p:cNvPr id="2864" name=""/>
                <p:cNvSpPr/>
                <p:nvPr/>
              </p:nvSpPr>
              <p:spPr>
                <a:xfrm>
                  <a:off x="6460560" y="486900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6384600" y="484020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6574680" y="49100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67" name=""/>
            <p:cNvGrpSpPr/>
            <p:nvPr/>
          </p:nvGrpSpPr>
          <p:grpSpPr>
            <a:xfrm>
              <a:off x="6051600" y="4841640"/>
              <a:ext cx="486720" cy="407160"/>
              <a:chOff x="6051600" y="4841640"/>
              <a:chExt cx="486720" cy="407160"/>
            </a:xfrm>
          </p:grpSpPr>
          <p:sp>
            <p:nvSpPr>
              <p:cNvPr id="2868" name=""/>
              <p:cNvSpPr/>
              <p:nvPr/>
            </p:nvSpPr>
            <p:spPr>
              <a:xfrm>
                <a:off x="6127560" y="48704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051600" y="48416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241680" y="4911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1" name=""/>
          <p:cNvSpPr/>
          <p:nvPr/>
        </p:nvSpPr>
        <p:spPr>
          <a:xfrm>
            <a:off x="7756920" y="36464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7764480" y="40464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792560" y="445608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at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7911000" y="48657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583A-383C-44FA-B3B0-8DAAFB88D5C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structure: network of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352440" y="1428480"/>
            <a:ext cx="4362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ghly hierarchi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tional/international backbone providers (NB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 BBN/GTE, Sprint, AT&amp;T, IBM, UU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connect (peer) with each other privately, or at public Network Access Point (NAP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gional IS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into N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cal I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 into regional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7" name=""/>
          <p:cNvSpPr/>
          <p:nvPr/>
        </p:nvSpPr>
        <p:spPr>
          <a:xfrm>
            <a:off x="4924440" y="4191120"/>
            <a:ext cx="3848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981680" y="2962440"/>
            <a:ext cx="3848040" cy="790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BP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9" name=""/>
          <p:cNvGrpSpPr/>
          <p:nvPr/>
        </p:nvGrpSpPr>
        <p:grpSpPr>
          <a:xfrm>
            <a:off x="4790880" y="3751200"/>
            <a:ext cx="800280" cy="459720"/>
            <a:chOff x="4790880" y="3751200"/>
            <a:chExt cx="800280" cy="459720"/>
          </a:xfrm>
        </p:grpSpPr>
        <p:sp>
          <p:nvSpPr>
            <p:cNvPr id="2880" name=""/>
            <p:cNvSpPr/>
            <p:nvPr/>
          </p:nvSpPr>
          <p:spPr>
            <a:xfrm>
              <a:off x="4790880" y="378108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792680" y="37512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2" name=""/>
          <p:cNvGrpSpPr/>
          <p:nvPr/>
        </p:nvGrpSpPr>
        <p:grpSpPr>
          <a:xfrm>
            <a:off x="8086320" y="3760920"/>
            <a:ext cx="800280" cy="459720"/>
            <a:chOff x="8086320" y="3760920"/>
            <a:chExt cx="800280" cy="459720"/>
          </a:xfrm>
        </p:grpSpPr>
        <p:sp>
          <p:nvSpPr>
            <p:cNvPr id="2883" name=""/>
            <p:cNvSpPr/>
            <p:nvPr/>
          </p:nvSpPr>
          <p:spPr>
            <a:xfrm>
              <a:off x="8086320" y="3790800"/>
              <a:ext cx="800280" cy="390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8088120" y="37609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N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5" name=""/>
          <p:cNvSpPr/>
          <p:nvPr/>
        </p:nvSpPr>
        <p:spPr>
          <a:xfrm>
            <a:off x="6753240" y="3848040"/>
            <a:ext cx="18108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5238720" y="3524400"/>
            <a:ext cx="399960" cy="2570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 flipH="1" flipV="1">
            <a:off x="8210160" y="3590640"/>
            <a:ext cx="343080" cy="199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 flipH="1" flipV="1">
            <a:off x="6810120" y="3647880"/>
            <a:ext cx="2844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5229360" y="4152960"/>
            <a:ext cx="390240" cy="3333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 flipH="1">
            <a:off x="8477280" y="4181400"/>
            <a:ext cx="247680" cy="19044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6829560" y="4057560"/>
            <a:ext cx="0" cy="2667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6772320" y="2600280"/>
            <a:ext cx="1952640" cy="590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010280" y="2952720"/>
            <a:ext cx="133560" cy="1429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7119000" y="2717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086440" y="4695840"/>
            <a:ext cx="1952640" cy="590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296040" y="4724280"/>
            <a:ext cx="13320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261760" y="481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onal 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8" name=""/>
          <p:cNvGrpSpPr/>
          <p:nvPr/>
        </p:nvGrpSpPr>
        <p:grpSpPr>
          <a:xfrm>
            <a:off x="7419960" y="2066760"/>
            <a:ext cx="1056960" cy="695160"/>
            <a:chOff x="7419960" y="2066760"/>
            <a:chExt cx="1056960" cy="695160"/>
          </a:xfrm>
        </p:grpSpPr>
        <p:sp>
          <p:nvSpPr>
            <p:cNvPr id="2899" name=""/>
            <p:cNvSpPr/>
            <p:nvPr/>
          </p:nvSpPr>
          <p:spPr>
            <a:xfrm>
              <a:off x="7419960" y="20667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524720" y="20984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1" name=""/>
          <p:cNvGrpSpPr/>
          <p:nvPr/>
        </p:nvGrpSpPr>
        <p:grpSpPr>
          <a:xfrm>
            <a:off x="5429160" y="5133960"/>
            <a:ext cx="1056960" cy="695160"/>
            <a:chOff x="5429160" y="5133960"/>
            <a:chExt cx="1056960" cy="695160"/>
          </a:xfrm>
        </p:grpSpPr>
        <p:sp>
          <p:nvSpPr>
            <p:cNvPr id="2902" name=""/>
            <p:cNvSpPr/>
            <p:nvPr/>
          </p:nvSpPr>
          <p:spPr>
            <a:xfrm>
              <a:off x="5429160" y="5133960"/>
              <a:ext cx="1056960" cy="695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533920" y="5165640"/>
              <a:ext cx="67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6124680" y="5181480"/>
            <a:ext cx="104760" cy="114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8010360" y="2610000"/>
            <a:ext cx="105120" cy="11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7C9-71D0-4981-A951-33D91F26183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6" name="" descr=""/>
          <p:cNvPicPr/>
          <p:nvPr/>
        </p:nvPicPr>
        <p:blipFill>
          <a:blip r:embed="rId1"/>
          <a:stretch/>
        </p:blipFill>
        <p:spPr>
          <a:xfrm>
            <a:off x="2489040" y="2409840"/>
            <a:ext cx="4972320" cy="3405240"/>
          </a:xfrm>
          <a:prstGeom prst="rect">
            <a:avLst/>
          </a:prstGeom>
          <a:ln w="0">
            <a:noFill/>
          </a:ln>
        </p:spPr>
      </p:pic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ational Backbone Provi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08" name=""/>
          <p:cNvSpPr/>
          <p:nvPr/>
        </p:nvSpPr>
        <p:spPr>
          <a:xfrm>
            <a:off x="551160" y="1494000"/>
            <a:ext cx="52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 BBN/GTE US backb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3E3-8040-4A28-8732-E73E394A1E6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533520" y="1790280"/>
            <a:ext cx="3695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leinrock - queueing theory shows effectiveness of packet-swit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Baran - packet-switching in military n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7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conceived by Advanced Reearch Projects Ag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rst ARPAnet node operat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monstrated public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CP (Network Control Protocol) first host-host protoc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e-mail pro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has 15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2" name=""/>
          <p:cNvSpPr/>
          <p:nvPr/>
        </p:nvSpPr>
        <p:spPr>
          <a:xfrm>
            <a:off x="523800" y="102888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61-1972: Early packet-switching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921-C6CE-43EE-8429-064289A5D1E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228600" y="1695600"/>
            <a:ext cx="415296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0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LOHAnet satellite network in Hawai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3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tcalfe’s PhD thesis proposes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4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rf and Kahn - architecture for interconnecting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te70’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prietary architectures: DECnet, SNA, X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late 70’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witching fixed length packets (ATM precur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79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PAnet has 200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rf and Kahn’s internetworking princi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imalism, autonomy - no internal changes required to interconnect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st effort servi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entralized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fine today’s Internet archite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6" name=""/>
          <p:cNvSpPr/>
          <p:nvPr/>
        </p:nvSpPr>
        <p:spPr>
          <a:xfrm>
            <a:off x="523800" y="1028880"/>
            <a:ext cx="7972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72-1980: Internetworking, new and proprietary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4457880" y="1771560"/>
            <a:ext cx="3809880" cy="4143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5D3-6D83-4753-898D-520615AAFB4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533160" y="1790280"/>
            <a:ext cx="38098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ployment of TCP/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98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mtp e-mail protocol defin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98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NS defined for name-to-IP-address trans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985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tp protocol defi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988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CP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495680" y="1800360"/>
            <a:ext cx="38102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national networks: Csnet, BITnet, NSFnet, Minit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0,000 hosts connected to confederation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1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80-1990: new protocols, a proliferation of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784-BFCC-40CE-8BBA-579177DE8B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47628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Hist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418680" y="1790280"/>
            <a:ext cx="409572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’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 decomissio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1991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SF lifts restrictions on commercial use of NSFnet (decommissioned, 1995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arly 1990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W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ypertext [Bush 1945, Nelson 1960’s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ML, http: Berners-L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94: Mosaic, later Netsca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 1990’s: commercializ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WW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4876560" y="1800360"/>
            <a:ext cx="34290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te 1990’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. 50 million computers on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. 100 million+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 links runnning at 1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5" name=""/>
          <p:cNvSpPr/>
          <p:nvPr/>
        </p:nvSpPr>
        <p:spPr>
          <a:xfrm>
            <a:off x="523800" y="1028880"/>
            <a:ext cx="796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1990’s: commercialization, the 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DC9-5DF5-4692-8EAA-7699398BF27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29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TM: Asynchronous Transfer Mode ne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day’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e fac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ndard for global data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980’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co’s develop ATM: competing network standard for carrying high-speed voice/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s bod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M For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M princip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(48 byte payload, 5 byte header) fixed lengt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like packe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 switch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mall size good for voic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rtual-circuit network: switches maintain state for each “call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ll-defined interface between “network” and “user” (think of telephone compan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819-C681-48E0-BEB5-6BC2E2940E3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304560" y="132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TM layer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30" name=""/>
          <p:cNvSpPr/>
          <p:nvPr/>
        </p:nvSpPr>
        <p:spPr>
          <a:xfrm>
            <a:off x="3002040" y="1601640"/>
            <a:ext cx="5943600" cy="445140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1" name="" descr=""/>
          <p:cNvPicPr/>
          <p:nvPr/>
        </p:nvPicPr>
        <p:blipFill>
          <a:blip r:embed="rId1"/>
          <a:stretch/>
        </p:blipFill>
        <p:spPr>
          <a:xfrm>
            <a:off x="3362400" y="1952640"/>
            <a:ext cx="1324080" cy="892080"/>
          </a:xfrm>
          <a:prstGeom prst="rect">
            <a:avLst/>
          </a:prstGeom>
          <a:ln w="0">
            <a:noFill/>
          </a:ln>
        </p:spPr>
      </p:pic>
      <p:pic>
        <p:nvPicPr>
          <p:cNvPr id="2932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1324080" cy="893880"/>
          </a:xfrm>
          <a:prstGeom prst="rect">
            <a:avLst/>
          </a:prstGeom>
          <a:ln w="0">
            <a:noFill/>
          </a:ln>
        </p:spPr>
      </p:pic>
      <p:sp>
        <p:nvSpPr>
          <p:cNvPr id="2933" name=""/>
          <p:cNvSpPr/>
          <p:nvPr/>
        </p:nvSpPr>
        <p:spPr>
          <a:xfrm flipV="1">
            <a:off x="4654440" y="4297320"/>
            <a:ext cx="3636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5062680" y="2995560"/>
            <a:ext cx="164160" cy="599040"/>
            <a:chOff x="5062680" y="2995560"/>
            <a:chExt cx="164160" cy="599040"/>
          </a:xfrm>
        </p:grpSpPr>
        <p:sp>
          <p:nvSpPr>
            <p:cNvPr id="2935" name=""/>
            <p:cNvSpPr/>
            <p:nvPr/>
          </p:nvSpPr>
          <p:spPr>
            <a:xfrm>
              <a:off x="5062680" y="2995560"/>
              <a:ext cx="151200" cy="1692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069160" y="321084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075640" y="3426480"/>
              <a:ext cx="151200" cy="168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8" name=""/>
          <p:cNvGrpSpPr/>
          <p:nvPr/>
        </p:nvGrpSpPr>
        <p:grpSpPr>
          <a:xfrm>
            <a:off x="6056280" y="4433760"/>
            <a:ext cx="666000" cy="1105920"/>
            <a:chOff x="6056280" y="4433760"/>
            <a:chExt cx="666000" cy="1105920"/>
          </a:xfrm>
        </p:grpSpPr>
        <p:sp>
          <p:nvSpPr>
            <p:cNvPr id="2939" name=""/>
            <p:cNvSpPr/>
            <p:nvPr/>
          </p:nvSpPr>
          <p:spPr>
            <a:xfrm>
              <a:off x="6056280" y="528408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393600" y="4440960"/>
              <a:ext cx="306000" cy="849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060240" y="4681800"/>
              <a:ext cx="421920" cy="8503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056280" y="4433760"/>
              <a:ext cx="666000" cy="255600"/>
            </a:xfrm>
            <a:prstGeom prst="parallelogram">
              <a:avLst>
                <a:gd name="adj" fmla="val 10037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722280" y="4451400"/>
              <a:ext cx="0" cy="83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6482520" y="5284080"/>
              <a:ext cx="23976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113520" y="4793760"/>
              <a:ext cx="28008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153840" y="4941720"/>
              <a:ext cx="212400" cy="17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7" name=""/>
          <p:cNvGrpSpPr/>
          <p:nvPr/>
        </p:nvGrpSpPr>
        <p:grpSpPr>
          <a:xfrm>
            <a:off x="6808680" y="4864680"/>
            <a:ext cx="741960" cy="226080"/>
            <a:chOff x="6808680" y="4864680"/>
            <a:chExt cx="741960" cy="226080"/>
          </a:xfrm>
        </p:grpSpPr>
        <p:sp>
          <p:nvSpPr>
            <p:cNvPr id="2948" name=""/>
            <p:cNvSpPr/>
            <p:nvPr/>
          </p:nvSpPr>
          <p:spPr>
            <a:xfrm rot="16200000">
              <a:off x="6809400" y="4881960"/>
              <a:ext cx="208080" cy="209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rot="16200000">
              <a:off x="7075440" y="4873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rot="16200000">
              <a:off x="7342200" y="4864320"/>
              <a:ext cx="208080" cy="2084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1" name=""/>
          <p:cNvSpPr/>
          <p:nvPr/>
        </p:nvSpPr>
        <p:spPr>
          <a:xfrm>
            <a:off x="6489720" y="4175280"/>
            <a:ext cx="15778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500880" y="4165560"/>
            <a:ext cx="4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8078760" y="4160880"/>
            <a:ext cx="324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5535720" y="2662200"/>
            <a:ext cx="919080" cy="7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5575320" y="3463920"/>
            <a:ext cx="879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7253280" y="3703680"/>
            <a:ext cx="46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7662960" y="4397400"/>
            <a:ext cx="666000" cy="1107360"/>
            <a:chOff x="7662960" y="4397400"/>
            <a:chExt cx="666000" cy="1107360"/>
          </a:xfrm>
        </p:grpSpPr>
        <p:sp>
          <p:nvSpPr>
            <p:cNvPr id="2958" name=""/>
            <p:cNvSpPr/>
            <p:nvPr/>
          </p:nvSpPr>
          <p:spPr>
            <a:xfrm>
              <a:off x="7662960" y="52488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8000280" y="4404600"/>
              <a:ext cx="306000" cy="8506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666920" y="4645800"/>
              <a:ext cx="421920" cy="8514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662960" y="4397400"/>
              <a:ext cx="666000" cy="255960"/>
            </a:xfrm>
            <a:prstGeom prst="parallelogram">
              <a:avLst>
                <a:gd name="adj" fmla="val 10023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328960" y="4415040"/>
              <a:ext cx="0" cy="83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H="1">
              <a:off x="8089200" y="5248800"/>
              <a:ext cx="239760" cy="24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720200" y="4758120"/>
              <a:ext cx="280080" cy="4906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760520" y="4906080"/>
              <a:ext cx="212400" cy="17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6408720" y="3076560"/>
            <a:ext cx="1598040" cy="653400"/>
            <a:chOff x="6408720" y="3076560"/>
            <a:chExt cx="1598040" cy="653400"/>
          </a:xfrm>
        </p:grpSpPr>
        <p:sp>
          <p:nvSpPr>
            <p:cNvPr id="2967" name=""/>
            <p:cNvSpPr/>
            <p:nvPr/>
          </p:nvSpPr>
          <p:spPr>
            <a:xfrm>
              <a:off x="6421680" y="3368160"/>
              <a:ext cx="1584720" cy="36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42168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8006760" y="3337560"/>
              <a:ext cx="0" cy="22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421680" y="3337560"/>
              <a:ext cx="1570680" cy="221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408720" y="3076560"/>
              <a:ext cx="1584000" cy="421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2" name=""/>
            <p:cNvGrpSpPr/>
            <p:nvPr/>
          </p:nvGrpSpPr>
          <p:grpSpPr>
            <a:xfrm>
              <a:off x="6789960" y="3169800"/>
              <a:ext cx="784440" cy="246240"/>
              <a:chOff x="6789960" y="3169800"/>
              <a:chExt cx="784440" cy="246240"/>
            </a:xfrm>
          </p:grpSpPr>
          <p:sp>
            <p:nvSpPr>
              <p:cNvPr id="2973" name=""/>
              <p:cNvSpPr/>
              <p:nvPr/>
            </p:nvSpPr>
            <p:spPr>
              <a:xfrm flipV="1">
                <a:off x="6789960" y="31698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327800" y="341604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048080" y="317484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6789960" y="3166200"/>
              <a:ext cx="784440" cy="246240"/>
              <a:chOff x="6789960" y="3166200"/>
              <a:chExt cx="784440" cy="246240"/>
            </a:xfrm>
          </p:grpSpPr>
          <p:sp>
            <p:nvSpPr>
              <p:cNvPr id="2977" name=""/>
              <p:cNvSpPr/>
              <p:nvPr/>
            </p:nvSpPr>
            <p:spPr>
              <a:xfrm>
                <a:off x="6789960" y="3407400"/>
                <a:ext cx="2797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327800" y="3166200"/>
                <a:ext cx="24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7048080" y="3166200"/>
                <a:ext cx="291240" cy="24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54160" y="1397160"/>
            <a:ext cx="2813040" cy="29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TM Adaptation Layer (AAL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erface to upper lay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d-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gmentation/reassemb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TM Lay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ell switch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1" name=""/>
          <p:cNvSpPr/>
          <p:nvPr/>
        </p:nvSpPr>
        <p:spPr>
          <a:xfrm>
            <a:off x="4824360" y="2206800"/>
            <a:ext cx="890640" cy="51876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4843440" y="3911760"/>
            <a:ext cx="890640" cy="519120"/>
          </a:xfrm>
          <a:custGeom>
            <a:avLst/>
            <a:gdLst/>
            <a:ahLst/>
            <a:rect l="l" t="t" r="r" b="b"/>
            <a:pathLst>
              <a:path w="1122" h="981">
                <a:moveTo>
                  <a:pt x="986" y="98"/>
                </a:moveTo>
                <a:lnTo>
                  <a:pt x="964" y="84"/>
                </a:lnTo>
                <a:lnTo>
                  <a:pt x="941" y="72"/>
                </a:lnTo>
                <a:lnTo>
                  <a:pt x="918" y="61"/>
                </a:lnTo>
                <a:lnTo>
                  <a:pt x="894" y="52"/>
                </a:lnTo>
                <a:lnTo>
                  <a:pt x="870" y="42"/>
                </a:lnTo>
                <a:lnTo>
                  <a:pt x="847" y="35"/>
                </a:lnTo>
                <a:lnTo>
                  <a:pt x="821" y="28"/>
                </a:lnTo>
                <a:lnTo>
                  <a:pt x="796" y="21"/>
                </a:lnTo>
                <a:lnTo>
                  <a:pt x="770" y="15"/>
                </a:lnTo>
                <a:lnTo>
                  <a:pt x="744" y="11"/>
                </a:lnTo>
                <a:lnTo>
                  <a:pt x="715" y="8"/>
                </a:lnTo>
                <a:lnTo>
                  <a:pt x="687" y="4"/>
                </a:lnTo>
                <a:lnTo>
                  <a:pt x="657" y="3"/>
                </a:lnTo>
                <a:lnTo>
                  <a:pt x="627" y="1"/>
                </a:lnTo>
                <a:lnTo>
                  <a:pt x="594" y="0"/>
                </a:lnTo>
                <a:lnTo>
                  <a:pt x="562" y="0"/>
                </a:lnTo>
                <a:lnTo>
                  <a:pt x="528" y="0"/>
                </a:lnTo>
                <a:lnTo>
                  <a:pt x="496" y="1"/>
                </a:lnTo>
                <a:lnTo>
                  <a:pt x="465" y="3"/>
                </a:lnTo>
                <a:lnTo>
                  <a:pt x="436" y="4"/>
                </a:lnTo>
                <a:lnTo>
                  <a:pt x="407" y="8"/>
                </a:lnTo>
                <a:lnTo>
                  <a:pt x="378" y="11"/>
                </a:lnTo>
                <a:lnTo>
                  <a:pt x="352" y="15"/>
                </a:lnTo>
                <a:lnTo>
                  <a:pt x="326" y="21"/>
                </a:lnTo>
                <a:lnTo>
                  <a:pt x="300" y="28"/>
                </a:lnTo>
                <a:lnTo>
                  <a:pt x="275" y="35"/>
                </a:lnTo>
                <a:lnTo>
                  <a:pt x="252" y="42"/>
                </a:lnTo>
                <a:lnTo>
                  <a:pt x="227" y="52"/>
                </a:lnTo>
                <a:lnTo>
                  <a:pt x="203" y="61"/>
                </a:lnTo>
                <a:lnTo>
                  <a:pt x="181" y="72"/>
                </a:lnTo>
                <a:lnTo>
                  <a:pt x="157" y="84"/>
                </a:lnTo>
                <a:lnTo>
                  <a:pt x="135" y="98"/>
                </a:lnTo>
                <a:lnTo>
                  <a:pt x="94" y="127"/>
                </a:lnTo>
                <a:lnTo>
                  <a:pt x="63" y="160"/>
                </a:lnTo>
                <a:lnTo>
                  <a:pt x="39" y="196"/>
                </a:lnTo>
                <a:lnTo>
                  <a:pt x="22" y="233"/>
                </a:lnTo>
                <a:lnTo>
                  <a:pt x="11" y="269"/>
                </a:lnTo>
                <a:lnTo>
                  <a:pt x="4" y="304"/>
                </a:lnTo>
                <a:lnTo>
                  <a:pt x="1" y="336"/>
                </a:lnTo>
                <a:lnTo>
                  <a:pt x="0" y="364"/>
                </a:lnTo>
                <a:lnTo>
                  <a:pt x="1" y="386"/>
                </a:lnTo>
                <a:lnTo>
                  <a:pt x="6" y="405"/>
                </a:lnTo>
                <a:lnTo>
                  <a:pt x="11" y="421"/>
                </a:lnTo>
                <a:lnTo>
                  <a:pt x="20" y="432"/>
                </a:lnTo>
                <a:lnTo>
                  <a:pt x="30" y="442"/>
                </a:lnTo>
                <a:lnTo>
                  <a:pt x="43" y="447"/>
                </a:lnTo>
                <a:lnTo>
                  <a:pt x="57" y="453"/>
                </a:lnTo>
                <a:lnTo>
                  <a:pt x="73" y="456"/>
                </a:lnTo>
                <a:lnTo>
                  <a:pt x="86" y="457"/>
                </a:lnTo>
                <a:lnTo>
                  <a:pt x="99" y="457"/>
                </a:lnTo>
                <a:lnTo>
                  <a:pt x="113" y="456"/>
                </a:lnTo>
                <a:lnTo>
                  <a:pt x="127" y="453"/>
                </a:lnTo>
                <a:lnTo>
                  <a:pt x="142" y="450"/>
                </a:lnTo>
                <a:lnTo>
                  <a:pt x="155" y="447"/>
                </a:lnTo>
                <a:lnTo>
                  <a:pt x="168" y="442"/>
                </a:lnTo>
                <a:lnTo>
                  <a:pt x="183" y="438"/>
                </a:lnTo>
                <a:lnTo>
                  <a:pt x="195" y="432"/>
                </a:lnTo>
                <a:lnTo>
                  <a:pt x="208" y="426"/>
                </a:lnTo>
                <a:lnTo>
                  <a:pt x="220" y="421"/>
                </a:lnTo>
                <a:lnTo>
                  <a:pt x="231" y="414"/>
                </a:lnTo>
                <a:lnTo>
                  <a:pt x="241" y="408"/>
                </a:lnTo>
                <a:lnTo>
                  <a:pt x="250" y="403"/>
                </a:lnTo>
                <a:lnTo>
                  <a:pt x="258" y="396"/>
                </a:lnTo>
                <a:lnTo>
                  <a:pt x="265" y="390"/>
                </a:lnTo>
                <a:lnTo>
                  <a:pt x="276" y="379"/>
                </a:lnTo>
                <a:lnTo>
                  <a:pt x="286" y="368"/>
                </a:lnTo>
                <a:lnTo>
                  <a:pt x="294" y="357"/>
                </a:lnTo>
                <a:lnTo>
                  <a:pt x="300" y="346"/>
                </a:lnTo>
                <a:lnTo>
                  <a:pt x="304" y="336"/>
                </a:lnTo>
                <a:lnTo>
                  <a:pt x="308" y="325"/>
                </a:lnTo>
                <a:lnTo>
                  <a:pt x="309" y="315"/>
                </a:lnTo>
                <a:lnTo>
                  <a:pt x="308" y="305"/>
                </a:lnTo>
                <a:lnTo>
                  <a:pt x="302" y="283"/>
                </a:lnTo>
                <a:lnTo>
                  <a:pt x="297" y="255"/>
                </a:lnTo>
                <a:lnTo>
                  <a:pt x="294" y="231"/>
                </a:lnTo>
                <a:lnTo>
                  <a:pt x="300" y="216"/>
                </a:lnTo>
                <a:lnTo>
                  <a:pt x="310" y="215"/>
                </a:lnTo>
                <a:lnTo>
                  <a:pt x="318" y="222"/>
                </a:lnTo>
                <a:lnTo>
                  <a:pt x="323" y="237"/>
                </a:lnTo>
                <a:lnTo>
                  <a:pt x="327" y="259"/>
                </a:lnTo>
                <a:lnTo>
                  <a:pt x="328" y="295"/>
                </a:lnTo>
                <a:lnTo>
                  <a:pt x="326" y="332"/>
                </a:lnTo>
                <a:lnTo>
                  <a:pt x="322" y="365"/>
                </a:lnTo>
                <a:lnTo>
                  <a:pt x="317" y="389"/>
                </a:lnTo>
                <a:lnTo>
                  <a:pt x="312" y="401"/>
                </a:lnTo>
                <a:lnTo>
                  <a:pt x="302" y="419"/>
                </a:lnTo>
                <a:lnTo>
                  <a:pt x="290" y="440"/>
                </a:lnTo>
                <a:lnTo>
                  <a:pt x="275" y="464"/>
                </a:lnTo>
                <a:lnTo>
                  <a:pt x="258" y="489"/>
                </a:lnTo>
                <a:lnTo>
                  <a:pt x="243" y="513"/>
                </a:lnTo>
                <a:lnTo>
                  <a:pt x="227" y="535"/>
                </a:lnTo>
                <a:lnTo>
                  <a:pt x="213" y="553"/>
                </a:lnTo>
                <a:lnTo>
                  <a:pt x="200" y="574"/>
                </a:lnTo>
                <a:lnTo>
                  <a:pt x="185" y="606"/>
                </a:lnTo>
                <a:lnTo>
                  <a:pt x="170" y="644"/>
                </a:lnTo>
                <a:lnTo>
                  <a:pt x="154" y="686"/>
                </a:lnTo>
                <a:lnTo>
                  <a:pt x="138" y="730"/>
                </a:lnTo>
                <a:lnTo>
                  <a:pt x="126" y="772"/>
                </a:lnTo>
                <a:lnTo>
                  <a:pt x="116" y="810"/>
                </a:lnTo>
                <a:lnTo>
                  <a:pt x="110" y="840"/>
                </a:lnTo>
                <a:lnTo>
                  <a:pt x="107" y="882"/>
                </a:lnTo>
                <a:lnTo>
                  <a:pt x="108" y="916"/>
                </a:lnTo>
                <a:lnTo>
                  <a:pt x="113" y="941"/>
                </a:lnTo>
                <a:lnTo>
                  <a:pt x="124" y="957"/>
                </a:lnTo>
                <a:lnTo>
                  <a:pt x="139" y="970"/>
                </a:lnTo>
                <a:lnTo>
                  <a:pt x="159" y="977"/>
                </a:lnTo>
                <a:lnTo>
                  <a:pt x="185" y="980"/>
                </a:lnTo>
                <a:lnTo>
                  <a:pt x="217" y="981"/>
                </a:lnTo>
                <a:lnTo>
                  <a:pt x="235" y="981"/>
                </a:lnTo>
                <a:lnTo>
                  <a:pt x="255" y="981"/>
                </a:lnTo>
                <a:lnTo>
                  <a:pt x="277" y="981"/>
                </a:lnTo>
                <a:lnTo>
                  <a:pt x="301" y="981"/>
                </a:lnTo>
                <a:lnTo>
                  <a:pt x="326" y="981"/>
                </a:lnTo>
                <a:lnTo>
                  <a:pt x="352" y="981"/>
                </a:lnTo>
                <a:lnTo>
                  <a:pt x="378" y="981"/>
                </a:lnTo>
                <a:lnTo>
                  <a:pt x="404" y="981"/>
                </a:lnTo>
                <a:lnTo>
                  <a:pt x="430" y="981"/>
                </a:lnTo>
                <a:lnTo>
                  <a:pt x="455" y="981"/>
                </a:lnTo>
                <a:lnTo>
                  <a:pt x="477" y="981"/>
                </a:lnTo>
                <a:lnTo>
                  <a:pt x="499" y="981"/>
                </a:lnTo>
                <a:lnTo>
                  <a:pt x="518" y="981"/>
                </a:lnTo>
                <a:lnTo>
                  <a:pt x="533" y="981"/>
                </a:lnTo>
                <a:lnTo>
                  <a:pt x="546" y="981"/>
                </a:lnTo>
                <a:lnTo>
                  <a:pt x="555" y="981"/>
                </a:lnTo>
                <a:lnTo>
                  <a:pt x="555" y="872"/>
                </a:lnTo>
                <a:lnTo>
                  <a:pt x="535" y="871"/>
                </a:lnTo>
                <a:lnTo>
                  <a:pt x="514" y="867"/>
                </a:lnTo>
                <a:lnTo>
                  <a:pt x="495" y="860"/>
                </a:lnTo>
                <a:lnTo>
                  <a:pt x="477" y="851"/>
                </a:lnTo>
                <a:lnTo>
                  <a:pt x="459" y="842"/>
                </a:lnTo>
                <a:lnTo>
                  <a:pt x="444" y="828"/>
                </a:lnTo>
                <a:lnTo>
                  <a:pt x="428" y="814"/>
                </a:lnTo>
                <a:lnTo>
                  <a:pt x="413" y="797"/>
                </a:lnTo>
                <a:lnTo>
                  <a:pt x="401" y="779"/>
                </a:lnTo>
                <a:lnTo>
                  <a:pt x="389" y="761"/>
                </a:lnTo>
                <a:lnTo>
                  <a:pt x="380" y="740"/>
                </a:lnTo>
                <a:lnTo>
                  <a:pt x="371" y="718"/>
                </a:lnTo>
                <a:lnTo>
                  <a:pt x="364" y="694"/>
                </a:lnTo>
                <a:lnTo>
                  <a:pt x="359" y="670"/>
                </a:lnTo>
                <a:lnTo>
                  <a:pt x="356" y="645"/>
                </a:lnTo>
                <a:lnTo>
                  <a:pt x="355" y="620"/>
                </a:lnTo>
                <a:lnTo>
                  <a:pt x="356" y="595"/>
                </a:lnTo>
                <a:lnTo>
                  <a:pt x="359" y="570"/>
                </a:lnTo>
                <a:lnTo>
                  <a:pt x="364" y="546"/>
                </a:lnTo>
                <a:lnTo>
                  <a:pt x="371" y="523"/>
                </a:lnTo>
                <a:lnTo>
                  <a:pt x="380" y="500"/>
                </a:lnTo>
                <a:lnTo>
                  <a:pt x="389" y="479"/>
                </a:lnTo>
                <a:lnTo>
                  <a:pt x="401" y="461"/>
                </a:lnTo>
                <a:lnTo>
                  <a:pt x="413" y="443"/>
                </a:lnTo>
                <a:lnTo>
                  <a:pt x="428" y="426"/>
                </a:lnTo>
                <a:lnTo>
                  <a:pt x="444" y="412"/>
                </a:lnTo>
                <a:lnTo>
                  <a:pt x="459" y="399"/>
                </a:lnTo>
                <a:lnTo>
                  <a:pt x="477" y="389"/>
                </a:lnTo>
                <a:lnTo>
                  <a:pt x="495" y="380"/>
                </a:lnTo>
                <a:lnTo>
                  <a:pt x="514" y="373"/>
                </a:lnTo>
                <a:lnTo>
                  <a:pt x="535" y="369"/>
                </a:lnTo>
                <a:lnTo>
                  <a:pt x="555" y="368"/>
                </a:lnTo>
                <a:lnTo>
                  <a:pt x="555" y="241"/>
                </a:lnTo>
                <a:lnTo>
                  <a:pt x="546" y="241"/>
                </a:lnTo>
                <a:lnTo>
                  <a:pt x="536" y="241"/>
                </a:lnTo>
                <a:lnTo>
                  <a:pt x="524" y="242"/>
                </a:lnTo>
                <a:lnTo>
                  <a:pt x="513" y="242"/>
                </a:lnTo>
                <a:lnTo>
                  <a:pt x="503" y="242"/>
                </a:lnTo>
                <a:lnTo>
                  <a:pt x="493" y="244"/>
                </a:lnTo>
                <a:lnTo>
                  <a:pt x="484" y="244"/>
                </a:lnTo>
                <a:lnTo>
                  <a:pt x="477" y="244"/>
                </a:lnTo>
                <a:lnTo>
                  <a:pt x="467" y="237"/>
                </a:lnTo>
                <a:lnTo>
                  <a:pt x="462" y="220"/>
                </a:lnTo>
                <a:lnTo>
                  <a:pt x="460" y="203"/>
                </a:lnTo>
                <a:lnTo>
                  <a:pt x="465" y="195"/>
                </a:lnTo>
                <a:lnTo>
                  <a:pt x="471" y="194"/>
                </a:lnTo>
                <a:lnTo>
                  <a:pt x="478" y="194"/>
                </a:lnTo>
                <a:lnTo>
                  <a:pt x="489" y="194"/>
                </a:lnTo>
                <a:lnTo>
                  <a:pt x="501" y="194"/>
                </a:lnTo>
                <a:lnTo>
                  <a:pt x="514" y="194"/>
                </a:lnTo>
                <a:lnTo>
                  <a:pt x="530" y="195"/>
                </a:lnTo>
                <a:lnTo>
                  <a:pt x="546" y="195"/>
                </a:lnTo>
                <a:lnTo>
                  <a:pt x="562" y="195"/>
                </a:lnTo>
                <a:lnTo>
                  <a:pt x="577" y="195"/>
                </a:lnTo>
                <a:lnTo>
                  <a:pt x="593" y="195"/>
                </a:lnTo>
                <a:lnTo>
                  <a:pt x="608" y="194"/>
                </a:lnTo>
                <a:lnTo>
                  <a:pt x="621" y="194"/>
                </a:lnTo>
                <a:lnTo>
                  <a:pt x="633" y="194"/>
                </a:lnTo>
                <a:lnTo>
                  <a:pt x="644" y="194"/>
                </a:lnTo>
                <a:lnTo>
                  <a:pt x="651" y="194"/>
                </a:lnTo>
                <a:lnTo>
                  <a:pt x="657" y="195"/>
                </a:lnTo>
                <a:lnTo>
                  <a:pt x="662" y="203"/>
                </a:lnTo>
                <a:lnTo>
                  <a:pt x="662" y="220"/>
                </a:lnTo>
                <a:lnTo>
                  <a:pt x="655" y="237"/>
                </a:lnTo>
                <a:lnTo>
                  <a:pt x="645" y="244"/>
                </a:lnTo>
                <a:lnTo>
                  <a:pt x="637" y="244"/>
                </a:lnTo>
                <a:lnTo>
                  <a:pt x="628" y="244"/>
                </a:lnTo>
                <a:lnTo>
                  <a:pt x="617" y="242"/>
                </a:lnTo>
                <a:lnTo>
                  <a:pt x="605" y="242"/>
                </a:lnTo>
                <a:lnTo>
                  <a:pt x="593" y="242"/>
                </a:lnTo>
                <a:lnTo>
                  <a:pt x="581" y="241"/>
                </a:lnTo>
                <a:lnTo>
                  <a:pt x="571" y="241"/>
                </a:lnTo>
                <a:lnTo>
                  <a:pt x="562" y="241"/>
                </a:lnTo>
                <a:lnTo>
                  <a:pt x="560" y="241"/>
                </a:lnTo>
                <a:lnTo>
                  <a:pt x="558" y="241"/>
                </a:lnTo>
                <a:lnTo>
                  <a:pt x="557" y="241"/>
                </a:lnTo>
                <a:lnTo>
                  <a:pt x="555" y="241"/>
                </a:lnTo>
                <a:lnTo>
                  <a:pt x="555" y="368"/>
                </a:lnTo>
                <a:lnTo>
                  <a:pt x="556" y="368"/>
                </a:lnTo>
                <a:lnTo>
                  <a:pt x="557" y="368"/>
                </a:lnTo>
                <a:lnTo>
                  <a:pt x="557" y="368"/>
                </a:lnTo>
                <a:lnTo>
                  <a:pt x="558" y="368"/>
                </a:lnTo>
                <a:lnTo>
                  <a:pt x="580" y="369"/>
                </a:lnTo>
                <a:lnTo>
                  <a:pt x="600" y="373"/>
                </a:lnTo>
                <a:lnTo>
                  <a:pt x="619" y="379"/>
                </a:lnTo>
                <a:lnTo>
                  <a:pt x="638" y="387"/>
                </a:lnTo>
                <a:lnTo>
                  <a:pt x="656" y="399"/>
                </a:lnTo>
                <a:lnTo>
                  <a:pt x="673" y="411"/>
                </a:lnTo>
                <a:lnTo>
                  <a:pt x="688" y="425"/>
                </a:lnTo>
                <a:lnTo>
                  <a:pt x="703" y="442"/>
                </a:lnTo>
                <a:lnTo>
                  <a:pt x="717" y="460"/>
                </a:lnTo>
                <a:lnTo>
                  <a:pt x="728" y="479"/>
                </a:lnTo>
                <a:lnTo>
                  <a:pt x="738" y="500"/>
                </a:lnTo>
                <a:lnTo>
                  <a:pt x="747" y="523"/>
                </a:lnTo>
                <a:lnTo>
                  <a:pt x="754" y="545"/>
                </a:lnTo>
                <a:lnTo>
                  <a:pt x="758" y="570"/>
                </a:lnTo>
                <a:lnTo>
                  <a:pt x="761" y="594"/>
                </a:lnTo>
                <a:lnTo>
                  <a:pt x="763" y="620"/>
                </a:lnTo>
                <a:lnTo>
                  <a:pt x="761" y="647"/>
                </a:lnTo>
                <a:lnTo>
                  <a:pt x="758" y="670"/>
                </a:lnTo>
                <a:lnTo>
                  <a:pt x="754" y="695"/>
                </a:lnTo>
                <a:lnTo>
                  <a:pt x="747" y="718"/>
                </a:lnTo>
                <a:lnTo>
                  <a:pt x="738" y="740"/>
                </a:lnTo>
                <a:lnTo>
                  <a:pt x="728" y="761"/>
                </a:lnTo>
                <a:lnTo>
                  <a:pt x="717" y="780"/>
                </a:lnTo>
                <a:lnTo>
                  <a:pt x="703" y="798"/>
                </a:lnTo>
                <a:lnTo>
                  <a:pt x="688" y="815"/>
                </a:lnTo>
                <a:lnTo>
                  <a:pt x="673" y="829"/>
                </a:lnTo>
                <a:lnTo>
                  <a:pt x="656" y="842"/>
                </a:lnTo>
                <a:lnTo>
                  <a:pt x="638" y="853"/>
                </a:lnTo>
                <a:lnTo>
                  <a:pt x="619" y="861"/>
                </a:lnTo>
                <a:lnTo>
                  <a:pt x="600" y="867"/>
                </a:lnTo>
                <a:lnTo>
                  <a:pt x="580" y="871"/>
                </a:lnTo>
                <a:lnTo>
                  <a:pt x="558" y="872"/>
                </a:lnTo>
                <a:lnTo>
                  <a:pt x="557" y="872"/>
                </a:lnTo>
                <a:lnTo>
                  <a:pt x="557" y="872"/>
                </a:lnTo>
                <a:lnTo>
                  <a:pt x="556" y="872"/>
                </a:lnTo>
                <a:lnTo>
                  <a:pt x="555" y="872"/>
                </a:lnTo>
                <a:lnTo>
                  <a:pt x="555" y="981"/>
                </a:lnTo>
                <a:lnTo>
                  <a:pt x="558" y="981"/>
                </a:lnTo>
                <a:lnTo>
                  <a:pt x="560" y="981"/>
                </a:lnTo>
                <a:lnTo>
                  <a:pt x="562" y="981"/>
                </a:lnTo>
                <a:lnTo>
                  <a:pt x="562" y="981"/>
                </a:lnTo>
                <a:lnTo>
                  <a:pt x="564" y="981"/>
                </a:lnTo>
                <a:lnTo>
                  <a:pt x="573" y="981"/>
                </a:lnTo>
                <a:lnTo>
                  <a:pt x="585" y="981"/>
                </a:lnTo>
                <a:lnTo>
                  <a:pt x="602" y="981"/>
                </a:lnTo>
                <a:lnTo>
                  <a:pt x="622" y="981"/>
                </a:lnTo>
                <a:lnTo>
                  <a:pt x="645" y="981"/>
                </a:lnTo>
                <a:lnTo>
                  <a:pt x="671" y="981"/>
                </a:lnTo>
                <a:lnTo>
                  <a:pt x="697" y="981"/>
                </a:lnTo>
                <a:lnTo>
                  <a:pt x="726" y="981"/>
                </a:lnTo>
                <a:lnTo>
                  <a:pt x="754" y="981"/>
                </a:lnTo>
                <a:lnTo>
                  <a:pt x="783" y="981"/>
                </a:lnTo>
                <a:lnTo>
                  <a:pt x="811" y="981"/>
                </a:lnTo>
                <a:lnTo>
                  <a:pt x="838" y="981"/>
                </a:lnTo>
                <a:lnTo>
                  <a:pt x="863" y="981"/>
                </a:lnTo>
                <a:lnTo>
                  <a:pt x="885" y="981"/>
                </a:lnTo>
                <a:lnTo>
                  <a:pt x="905" y="981"/>
                </a:lnTo>
                <a:lnTo>
                  <a:pt x="937" y="980"/>
                </a:lnTo>
                <a:lnTo>
                  <a:pt x="961" y="977"/>
                </a:lnTo>
                <a:lnTo>
                  <a:pt x="983" y="970"/>
                </a:lnTo>
                <a:lnTo>
                  <a:pt x="997" y="957"/>
                </a:lnTo>
                <a:lnTo>
                  <a:pt x="1009" y="941"/>
                </a:lnTo>
                <a:lnTo>
                  <a:pt x="1013" y="916"/>
                </a:lnTo>
                <a:lnTo>
                  <a:pt x="1014" y="882"/>
                </a:lnTo>
                <a:lnTo>
                  <a:pt x="1011" y="840"/>
                </a:lnTo>
                <a:lnTo>
                  <a:pt x="1005" y="810"/>
                </a:lnTo>
                <a:lnTo>
                  <a:pt x="995" y="772"/>
                </a:lnTo>
                <a:lnTo>
                  <a:pt x="983" y="730"/>
                </a:lnTo>
                <a:lnTo>
                  <a:pt x="968" y="686"/>
                </a:lnTo>
                <a:lnTo>
                  <a:pt x="951" y="644"/>
                </a:lnTo>
                <a:lnTo>
                  <a:pt x="936" y="606"/>
                </a:lnTo>
                <a:lnTo>
                  <a:pt x="921" y="574"/>
                </a:lnTo>
                <a:lnTo>
                  <a:pt x="907" y="553"/>
                </a:lnTo>
                <a:lnTo>
                  <a:pt x="894" y="535"/>
                </a:lnTo>
                <a:lnTo>
                  <a:pt x="878" y="513"/>
                </a:lnTo>
                <a:lnTo>
                  <a:pt x="863" y="489"/>
                </a:lnTo>
                <a:lnTo>
                  <a:pt x="846" y="464"/>
                </a:lnTo>
                <a:lnTo>
                  <a:pt x="831" y="440"/>
                </a:lnTo>
                <a:lnTo>
                  <a:pt x="819" y="419"/>
                </a:lnTo>
                <a:lnTo>
                  <a:pt x="809" y="401"/>
                </a:lnTo>
                <a:lnTo>
                  <a:pt x="804" y="389"/>
                </a:lnTo>
                <a:lnTo>
                  <a:pt x="799" y="365"/>
                </a:lnTo>
                <a:lnTo>
                  <a:pt x="795" y="332"/>
                </a:lnTo>
                <a:lnTo>
                  <a:pt x="794" y="295"/>
                </a:lnTo>
                <a:lnTo>
                  <a:pt x="794" y="259"/>
                </a:lnTo>
                <a:lnTo>
                  <a:pt x="797" y="237"/>
                </a:lnTo>
                <a:lnTo>
                  <a:pt x="803" y="222"/>
                </a:lnTo>
                <a:lnTo>
                  <a:pt x="811" y="215"/>
                </a:lnTo>
                <a:lnTo>
                  <a:pt x="821" y="216"/>
                </a:lnTo>
                <a:lnTo>
                  <a:pt x="827" y="231"/>
                </a:lnTo>
                <a:lnTo>
                  <a:pt x="824" y="255"/>
                </a:lnTo>
                <a:lnTo>
                  <a:pt x="819" y="283"/>
                </a:lnTo>
                <a:lnTo>
                  <a:pt x="813" y="305"/>
                </a:lnTo>
                <a:lnTo>
                  <a:pt x="812" y="315"/>
                </a:lnTo>
                <a:lnTo>
                  <a:pt x="813" y="325"/>
                </a:lnTo>
                <a:lnTo>
                  <a:pt x="817" y="336"/>
                </a:lnTo>
                <a:lnTo>
                  <a:pt x="821" y="346"/>
                </a:lnTo>
                <a:lnTo>
                  <a:pt x="827" y="357"/>
                </a:lnTo>
                <a:lnTo>
                  <a:pt x="834" y="368"/>
                </a:lnTo>
                <a:lnTo>
                  <a:pt x="845" y="379"/>
                </a:lnTo>
                <a:lnTo>
                  <a:pt x="856" y="390"/>
                </a:lnTo>
                <a:lnTo>
                  <a:pt x="863" y="396"/>
                </a:lnTo>
                <a:lnTo>
                  <a:pt x="870" y="403"/>
                </a:lnTo>
                <a:lnTo>
                  <a:pt x="879" y="408"/>
                </a:lnTo>
                <a:lnTo>
                  <a:pt x="890" y="414"/>
                </a:lnTo>
                <a:lnTo>
                  <a:pt x="901" y="421"/>
                </a:lnTo>
                <a:lnTo>
                  <a:pt x="913" y="426"/>
                </a:lnTo>
                <a:lnTo>
                  <a:pt x="925" y="432"/>
                </a:lnTo>
                <a:lnTo>
                  <a:pt x="939" y="438"/>
                </a:lnTo>
                <a:lnTo>
                  <a:pt x="952" y="442"/>
                </a:lnTo>
                <a:lnTo>
                  <a:pt x="966" y="447"/>
                </a:lnTo>
                <a:lnTo>
                  <a:pt x="980" y="450"/>
                </a:lnTo>
                <a:lnTo>
                  <a:pt x="994" y="453"/>
                </a:lnTo>
                <a:lnTo>
                  <a:pt x="1009" y="456"/>
                </a:lnTo>
                <a:lnTo>
                  <a:pt x="1022" y="457"/>
                </a:lnTo>
                <a:lnTo>
                  <a:pt x="1036" y="457"/>
                </a:lnTo>
                <a:lnTo>
                  <a:pt x="1048" y="456"/>
                </a:lnTo>
                <a:lnTo>
                  <a:pt x="1064" y="453"/>
                </a:lnTo>
                <a:lnTo>
                  <a:pt x="1078" y="447"/>
                </a:lnTo>
                <a:lnTo>
                  <a:pt x="1091" y="442"/>
                </a:lnTo>
                <a:lnTo>
                  <a:pt x="1102" y="432"/>
                </a:lnTo>
                <a:lnTo>
                  <a:pt x="1110" y="421"/>
                </a:lnTo>
                <a:lnTo>
                  <a:pt x="1116" y="405"/>
                </a:lnTo>
                <a:lnTo>
                  <a:pt x="1121" y="386"/>
                </a:lnTo>
                <a:lnTo>
                  <a:pt x="1122" y="364"/>
                </a:lnTo>
                <a:lnTo>
                  <a:pt x="1121" y="336"/>
                </a:lnTo>
                <a:lnTo>
                  <a:pt x="1118" y="304"/>
                </a:lnTo>
                <a:lnTo>
                  <a:pt x="1111" y="269"/>
                </a:lnTo>
                <a:lnTo>
                  <a:pt x="1100" y="233"/>
                </a:lnTo>
                <a:lnTo>
                  <a:pt x="1082" y="196"/>
                </a:lnTo>
                <a:lnTo>
                  <a:pt x="1058" y="160"/>
                </a:lnTo>
                <a:lnTo>
                  <a:pt x="1027" y="127"/>
                </a:lnTo>
                <a:lnTo>
                  <a:pt x="986" y="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 flipV="1">
            <a:off x="4606920" y="2590920"/>
            <a:ext cx="36360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4" name=""/>
          <p:cNvGrpSpPr/>
          <p:nvPr/>
        </p:nvGrpSpPr>
        <p:grpSpPr>
          <a:xfrm>
            <a:off x="3338640" y="1800360"/>
            <a:ext cx="5409720" cy="3927240"/>
            <a:chOff x="3338640" y="1800360"/>
            <a:chExt cx="5409720" cy="3927240"/>
          </a:xfrm>
        </p:grpSpPr>
        <p:grpSp>
          <p:nvGrpSpPr>
            <p:cNvPr id="2985" name=""/>
            <p:cNvGrpSpPr/>
            <p:nvPr/>
          </p:nvGrpSpPr>
          <p:grpSpPr>
            <a:xfrm>
              <a:off x="3338640" y="1800360"/>
              <a:ext cx="1342800" cy="965160"/>
              <a:chOff x="3338640" y="1800360"/>
              <a:chExt cx="1342800" cy="965160"/>
            </a:xfrm>
          </p:grpSpPr>
          <p:sp>
            <p:nvSpPr>
              <p:cNvPr id="2986" name=""/>
              <p:cNvSpPr/>
              <p:nvPr/>
            </p:nvSpPr>
            <p:spPr>
              <a:xfrm>
                <a:off x="3395880" y="1800360"/>
                <a:ext cx="1285560" cy="914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338640" y="1852920"/>
                <a:ext cx="1257120" cy="91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3434400" y="1822680"/>
                <a:ext cx="1046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3343320" y="2139840"/>
                <a:ext cx="12430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3343320" y="2441520"/>
                <a:ext cx="12430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1" name=""/>
            <p:cNvGrpSpPr/>
            <p:nvPr/>
          </p:nvGrpSpPr>
          <p:grpSpPr>
            <a:xfrm>
              <a:off x="3405240" y="3743280"/>
              <a:ext cx="1342800" cy="965160"/>
              <a:chOff x="3405240" y="3743280"/>
              <a:chExt cx="1342800" cy="965160"/>
            </a:xfrm>
          </p:grpSpPr>
          <p:sp>
            <p:nvSpPr>
              <p:cNvPr id="2992" name=""/>
              <p:cNvSpPr/>
              <p:nvPr/>
            </p:nvSpPr>
            <p:spPr>
              <a:xfrm>
                <a:off x="3462480" y="3743280"/>
                <a:ext cx="1285560" cy="914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405240" y="3795840"/>
                <a:ext cx="1257120" cy="91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501000" y="3765600"/>
                <a:ext cx="1046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3409920" y="4082760"/>
                <a:ext cx="12430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409920" y="4384440"/>
                <a:ext cx="12430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7" name=""/>
            <p:cNvGrpSpPr/>
            <p:nvPr/>
          </p:nvGrpSpPr>
          <p:grpSpPr>
            <a:xfrm>
              <a:off x="5796000" y="4762440"/>
              <a:ext cx="1342800" cy="965160"/>
              <a:chOff x="5796000" y="4762440"/>
              <a:chExt cx="1342800" cy="965160"/>
            </a:xfrm>
          </p:grpSpPr>
          <p:sp>
            <p:nvSpPr>
              <p:cNvPr id="2998" name=""/>
              <p:cNvSpPr/>
              <p:nvPr/>
            </p:nvSpPr>
            <p:spPr>
              <a:xfrm>
                <a:off x="5853240" y="4762440"/>
                <a:ext cx="1285560" cy="914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796000" y="4815000"/>
                <a:ext cx="1257120" cy="91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891760" y="4784760"/>
                <a:ext cx="1046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5800680" y="5101920"/>
                <a:ext cx="12430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5800680" y="5403600"/>
                <a:ext cx="12430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3" name=""/>
            <p:cNvGrpSpPr/>
            <p:nvPr/>
          </p:nvGrpSpPr>
          <p:grpSpPr>
            <a:xfrm>
              <a:off x="7405560" y="4724280"/>
              <a:ext cx="1342800" cy="965160"/>
              <a:chOff x="7405560" y="4724280"/>
              <a:chExt cx="1342800" cy="965160"/>
            </a:xfrm>
          </p:grpSpPr>
          <p:sp>
            <p:nvSpPr>
              <p:cNvPr id="3004" name=""/>
              <p:cNvSpPr/>
              <p:nvPr/>
            </p:nvSpPr>
            <p:spPr>
              <a:xfrm>
                <a:off x="7462800" y="4724280"/>
                <a:ext cx="1285560" cy="9144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405560" y="4776840"/>
                <a:ext cx="1257120" cy="912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01320" y="4746600"/>
                <a:ext cx="1046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7410240" y="5063760"/>
                <a:ext cx="12430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7410240" y="5365440"/>
                <a:ext cx="124308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9" name=""/>
            <p:cNvGrpSpPr/>
            <p:nvPr/>
          </p:nvGrpSpPr>
          <p:grpSpPr>
            <a:xfrm>
              <a:off x="6548400" y="3038400"/>
              <a:ext cx="1342800" cy="702720"/>
              <a:chOff x="6548400" y="3038400"/>
              <a:chExt cx="1342800" cy="702720"/>
            </a:xfrm>
          </p:grpSpPr>
          <p:sp>
            <p:nvSpPr>
              <p:cNvPr id="3010" name=""/>
              <p:cNvSpPr/>
              <p:nvPr/>
            </p:nvSpPr>
            <p:spPr>
              <a:xfrm>
                <a:off x="6605640" y="3038400"/>
                <a:ext cx="1285560" cy="62856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548400" y="3090600"/>
                <a:ext cx="1257120" cy="627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653880" y="3098520"/>
                <a:ext cx="104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6553080" y="3393720"/>
                <a:ext cx="124308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4" name=""/>
          <p:cNvGrpSpPr/>
          <p:nvPr/>
        </p:nvGrpSpPr>
        <p:grpSpPr>
          <a:xfrm>
            <a:off x="3276720" y="333360"/>
            <a:ext cx="5667120" cy="4530240"/>
            <a:chOff x="3276720" y="333360"/>
            <a:chExt cx="5667120" cy="4530240"/>
          </a:xfrm>
        </p:grpSpPr>
        <p:grpSp>
          <p:nvGrpSpPr>
            <p:cNvPr id="3015" name=""/>
            <p:cNvGrpSpPr/>
            <p:nvPr/>
          </p:nvGrpSpPr>
          <p:grpSpPr>
            <a:xfrm>
              <a:off x="5686560" y="333360"/>
              <a:ext cx="3257280" cy="1581120"/>
              <a:chOff x="5686560" y="333360"/>
              <a:chExt cx="3257280" cy="1581120"/>
            </a:xfrm>
          </p:grpSpPr>
          <p:sp>
            <p:nvSpPr>
              <p:cNvPr id="3016" name=""/>
              <p:cNvSpPr/>
              <p:nvPr/>
            </p:nvSpPr>
            <p:spPr>
              <a:xfrm>
                <a:off x="5686560" y="333360"/>
                <a:ext cx="3200400" cy="158112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759280" y="396720"/>
                <a:ext cx="3184560" cy="12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1000"/>
              </a:bodyPr>
              <a:p>
                <a:pPr marL="277560" indent="-27756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Where’s the application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77560" indent="-277560">
                  <a:lnSpc>
                    <a:spcPct val="100000"/>
                  </a:lnSpc>
                  <a:spcBef>
                    <a:spcPts val="499"/>
                  </a:spcBef>
                  <a:buClr>
                    <a:srgbClr val="3333cc"/>
                  </a:buClr>
                  <a:buSzPct val="85000"/>
                  <a:buFont typeface="ZapfDingbats" charset="2"/>
                  <a:buChar char="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TM: lower laye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77560" indent="-277560">
                  <a:lnSpc>
                    <a:spcPct val="100000"/>
                  </a:lnSpc>
                  <a:spcBef>
                    <a:spcPts val="499"/>
                  </a:spcBef>
                  <a:buClr>
                    <a:srgbClr val="3333cc"/>
                  </a:buClr>
                  <a:buSzPct val="85000"/>
                  <a:buFont typeface="ZapfDingbats" charset="2"/>
                  <a:buChar char="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unctionality on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77560" indent="-277560">
                  <a:lnSpc>
                    <a:spcPct val="100000"/>
                  </a:lnSpc>
                  <a:spcBef>
                    <a:spcPts val="499"/>
                  </a:spcBef>
                  <a:buClr>
                    <a:srgbClr val="3333cc"/>
                  </a:buClr>
                  <a:buSzPct val="85000"/>
                  <a:buFont typeface="ZapfDingbats" charset="2"/>
                  <a:buChar char="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IP-over ATM: lat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"/>
            <p:cNvGrpSpPr/>
            <p:nvPr/>
          </p:nvGrpSpPr>
          <p:grpSpPr>
            <a:xfrm>
              <a:off x="3276720" y="933480"/>
              <a:ext cx="1368000" cy="963000"/>
              <a:chOff x="3276720" y="933480"/>
              <a:chExt cx="1368000" cy="963000"/>
            </a:xfrm>
          </p:grpSpPr>
          <p:sp>
            <p:nvSpPr>
              <p:cNvPr id="3019" name=""/>
              <p:cNvSpPr/>
              <p:nvPr/>
            </p:nvSpPr>
            <p:spPr>
              <a:xfrm>
                <a:off x="3384720" y="933480"/>
                <a:ext cx="1258560" cy="865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3336840" y="1004760"/>
                <a:ext cx="1258920" cy="84456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76720" y="979560"/>
                <a:ext cx="1368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/UD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V="1">
                <a:off x="3351240" y="1284120"/>
                <a:ext cx="12445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V="1">
                <a:off x="3327480" y="1561680"/>
                <a:ext cx="12445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4" name=""/>
            <p:cNvGrpSpPr/>
            <p:nvPr/>
          </p:nvGrpSpPr>
          <p:grpSpPr>
            <a:xfrm>
              <a:off x="3348360" y="2886120"/>
              <a:ext cx="1368000" cy="963000"/>
              <a:chOff x="3348360" y="2886120"/>
              <a:chExt cx="1368000" cy="963000"/>
            </a:xfrm>
          </p:grpSpPr>
          <p:sp>
            <p:nvSpPr>
              <p:cNvPr id="3025" name=""/>
              <p:cNvSpPr/>
              <p:nvPr/>
            </p:nvSpPr>
            <p:spPr>
              <a:xfrm>
                <a:off x="3456360" y="2886120"/>
                <a:ext cx="1258560" cy="865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3408480" y="2957400"/>
                <a:ext cx="1258920" cy="84456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3348360" y="2932200"/>
                <a:ext cx="1368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/UD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422880" y="3236760"/>
                <a:ext cx="12445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399120" y="3514320"/>
                <a:ext cx="12445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0" name=""/>
            <p:cNvGrpSpPr/>
            <p:nvPr/>
          </p:nvGrpSpPr>
          <p:grpSpPr>
            <a:xfrm>
              <a:off x="5739120" y="3900600"/>
              <a:ext cx="1368000" cy="963000"/>
              <a:chOff x="5739120" y="3900600"/>
              <a:chExt cx="1368000" cy="963000"/>
            </a:xfrm>
          </p:grpSpPr>
          <p:sp>
            <p:nvSpPr>
              <p:cNvPr id="3031" name=""/>
              <p:cNvSpPr/>
              <p:nvPr/>
            </p:nvSpPr>
            <p:spPr>
              <a:xfrm>
                <a:off x="5847120" y="3900600"/>
                <a:ext cx="1258560" cy="865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799240" y="3971880"/>
                <a:ext cx="1258920" cy="84456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739120" y="3946680"/>
                <a:ext cx="1368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/UD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5813640" y="4251240"/>
                <a:ext cx="12445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5789880" y="4528800"/>
                <a:ext cx="12445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7348680" y="3852720"/>
              <a:ext cx="1368000" cy="963000"/>
              <a:chOff x="7348680" y="3852720"/>
              <a:chExt cx="1368000" cy="963000"/>
            </a:xfrm>
          </p:grpSpPr>
          <p:sp>
            <p:nvSpPr>
              <p:cNvPr id="3037" name=""/>
              <p:cNvSpPr/>
              <p:nvPr/>
            </p:nvSpPr>
            <p:spPr>
              <a:xfrm>
                <a:off x="7456680" y="3852720"/>
                <a:ext cx="1258560" cy="865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7408800" y="3924000"/>
                <a:ext cx="1258920" cy="84456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7348680" y="3898800"/>
                <a:ext cx="1368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TCP/UD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7423200" y="4203360"/>
                <a:ext cx="1244520" cy="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7399440" y="4480920"/>
                <a:ext cx="124452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8C6-E38D-4F72-BAD9-BDDDA1B2DDA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human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’s the time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a ques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msg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actions taken when msgs received, or other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495680" y="13712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twork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s rather than hum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communication activity in Internet governed by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4343400" y="39625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otocols define format, order of msgs sent and received among network entities, and actions taken on msg transmission, receipt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495680" y="3962520"/>
            <a:ext cx="4343400" cy="23619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650-A7DB-4D51-B570-E4809930D8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overed a “ton” of materia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overvie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a protocol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edge, core, access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: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yering and 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ckbones, NAPs, IS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M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295520" y="1371600"/>
            <a:ext cx="372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You now hopefully hav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ext, overview, “feel” of networ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depth, detai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CBA-1228-46F2-88E7-C4AA1DEE96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pplic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ual + implementation aspects of network application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server paradig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ice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 about protocols by examining popular application-level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114800" y="137160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More goa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c protocol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HyperText Transfer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tp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File Transfer Protoco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tp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imple MailTransfe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Post Office Protocol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Domain Name System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ming network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cket programm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54D-6771-439D-AA58-8CD939ED65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pplications and application-layer protocol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38120" y="1399680"/>
            <a:ext cx="419112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: communicating, distributed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 in network hosts in “user spac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hange messages to implement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mail, file transfer, the W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ication-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“piece” of an a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messages exchanged by apps and actions ta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services provided by lower layer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4908600" y="1876320"/>
            <a:ext cx="3678120" cy="3670560"/>
            <a:chOff x="4908600" y="1876320"/>
            <a:chExt cx="3678120" cy="3670560"/>
          </a:xfrm>
        </p:grpSpPr>
        <p:sp>
          <p:nvSpPr>
            <p:cNvPr id="3051" name=""/>
            <p:cNvSpPr/>
            <p:nvPr/>
          </p:nvSpPr>
          <p:spPr>
            <a:xfrm>
              <a:off x="6788160" y="2019240"/>
              <a:ext cx="1798560" cy="167472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908600" y="1876320"/>
              <a:ext cx="1866960" cy="158904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5276880" y="3327480"/>
              <a:ext cx="2975040" cy="221940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4" name=""/>
            <p:cNvGrpSpPr/>
            <p:nvPr/>
          </p:nvGrpSpPr>
          <p:grpSpPr>
            <a:xfrm>
              <a:off x="5025960" y="2011320"/>
              <a:ext cx="732960" cy="318960"/>
              <a:chOff x="5025960" y="2011320"/>
              <a:chExt cx="732960" cy="318960"/>
            </a:xfrm>
          </p:grpSpPr>
          <p:pic>
            <p:nvPicPr>
              <p:cNvPr id="305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5960" y="201132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9560" y="212940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7" name=""/>
              <p:cNvSpPr/>
              <p:nvPr/>
            </p:nvSpPr>
            <p:spPr>
              <a:xfrm flipV="1">
                <a:off x="5432400" y="225288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8" name=""/>
            <p:cNvGrpSpPr/>
            <p:nvPr/>
          </p:nvGrpSpPr>
          <p:grpSpPr>
            <a:xfrm>
              <a:off x="5025960" y="2606760"/>
              <a:ext cx="732960" cy="318960"/>
              <a:chOff x="5025960" y="2606760"/>
              <a:chExt cx="732960" cy="318960"/>
            </a:xfrm>
          </p:grpSpPr>
          <p:pic>
            <p:nvPicPr>
              <p:cNvPr id="30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5960" y="2606760"/>
                <a:ext cx="4161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79560" y="27248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1" name=""/>
              <p:cNvSpPr/>
              <p:nvPr/>
            </p:nvSpPr>
            <p:spPr>
              <a:xfrm flipV="1">
                <a:off x="5432400" y="28483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5402160" y="2394000"/>
              <a:ext cx="69480" cy="214200"/>
              <a:chOff x="5402160" y="2394000"/>
              <a:chExt cx="69480" cy="214200"/>
            </a:xfrm>
          </p:grpSpPr>
          <p:sp>
            <p:nvSpPr>
              <p:cNvPr id="3063" name=""/>
              <p:cNvSpPr/>
              <p:nvPr/>
            </p:nvSpPr>
            <p:spPr>
              <a:xfrm>
                <a:off x="5402160" y="239400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04680" y="247104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07560" y="254808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6" name=""/>
            <p:cNvGrpSpPr/>
            <p:nvPr/>
          </p:nvGrpSpPr>
          <p:grpSpPr>
            <a:xfrm>
              <a:off x="5872320" y="2897280"/>
              <a:ext cx="209520" cy="394920"/>
              <a:chOff x="5872320" y="2897280"/>
              <a:chExt cx="209520" cy="394920"/>
            </a:xfrm>
          </p:grpSpPr>
          <p:sp>
            <p:nvSpPr>
              <p:cNvPr id="3067" name=""/>
              <p:cNvSpPr/>
              <p:nvPr/>
            </p:nvSpPr>
            <p:spPr>
              <a:xfrm>
                <a:off x="5872320" y="320112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978520" y="289980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73400" y="298584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72320" y="28972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6081840" y="290340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6005880" y="320112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890320" y="302580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902920" y="307872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5" name=""/>
            <p:cNvGrpSpPr/>
            <p:nvPr/>
          </p:nvGrpSpPr>
          <p:grpSpPr>
            <a:xfrm>
              <a:off x="6108840" y="3050640"/>
              <a:ext cx="233280" cy="81000"/>
              <a:chOff x="6108840" y="3050640"/>
              <a:chExt cx="233280" cy="81000"/>
            </a:xfrm>
          </p:grpSpPr>
          <p:sp>
            <p:nvSpPr>
              <p:cNvPr id="3076" name=""/>
              <p:cNvSpPr/>
              <p:nvPr/>
            </p:nvSpPr>
            <p:spPr>
              <a:xfrm rot="16200000">
                <a:off x="6104160" y="306144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 rot="16200000">
                <a:off x="6188040" y="305820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rot="16200000">
                <a:off x="6271920" y="3054960"/>
                <a:ext cx="7452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9" name=""/>
            <p:cNvSpPr/>
            <p:nvPr/>
          </p:nvSpPr>
          <p:spPr>
            <a:xfrm>
              <a:off x="6008760" y="2805120"/>
              <a:ext cx="495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012000" y="2801880"/>
              <a:ext cx="144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507000" y="280044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708520" y="2265480"/>
              <a:ext cx="289080" cy="26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5721480" y="2550960"/>
              <a:ext cx="27612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6248520" y="2637000"/>
              <a:ext cx="1440" cy="16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5" name=""/>
            <p:cNvGrpSpPr/>
            <p:nvPr/>
          </p:nvGrpSpPr>
          <p:grpSpPr>
            <a:xfrm>
              <a:off x="6367320" y="2874960"/>
              <a:ext cx="209520" cy="394920"/>
              <a:chOff x="6367320" y="2874960"/>
              <a:chExt cx="209520" cy="394920"/>
            </a:xfrm>
          </p:grpSpPr>
          <p:sp>
            <p:nvSpPr>
              <p:cNvPr id="3086" name=""/>
              <p:cNvSpPr/>
              <p:nvPr/>
            </p:nvSpPr>
            <p:spPr>
              <a:xfrm>
                <a:off x="6367320" y="317880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473520" y="2877480"/>
                <a:ext cx="96120" cy="303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368400" y="2963520"/>
                <a:ext cx="132480" cy="3038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367320" y="2874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576840" y="2881080"/>
                <a:ext cx="0" cy="29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H="1">
                <a:off x="6500880" y="317880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385320" y="300348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97920" y="3056400"/>
                <a:ext cx="66600" cy="61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4" name=""/>
            <p:cNvGrpSpPr/>
            <p:nvPr/>
          </p:nvGrpSpPr>
          <p:grpSpPr>
            <a:xfrm>
              <a:off x="5410080" y="3494160"/>
              <a:ext cx="479160" cy="925200"/>
              <a:chOff x="5410080" y="3494160"/>
              <a:chExt cx="479160" cy="925200"/>
            </a:xfrm>
          </p:grpSpPr>
          <p:pic>
            <p:nvPicPr>
              <p:cNvPr id="30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34941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6" name=""/>
              <p:cNvSpPr/>
              <p:nvPr/>
            </p:nvSpPr>
            <p:spPr>
              <a:xfrm flipV="1">
                <a:off x="5816880" y="37407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9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10080" y="408888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8" name=""/>
              <p:cNvSpPr/>
              <p:nvPr/>
            </p:nvSpPr>
            <p:spPr>
              <a:xfrm flipV="1">
                <a:off x="5816880" y="433908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9" name=""/>
              <p:cNvGrpSpPr/>
              <p:nvPr/>
            </p:nvGrpSpPr>
            <p:grpSpPr>
              <a:xfrm>
                <a:off x="5535360" y="3835440"/>
                <a:ext cx="70560" cy="222480"/>
                <a:chOff x="5535360" y="3835440"/>
                <a:chExt cx="70560" cy="222480"/>
              </a:xfrm>
            </p:grpSpPr>
            <p:sp>
              <p:nvSpPr>
                <p:cNvPr id="3100" name=""/>
                <p:cNvSpPr/>
                <p:nvPr/>
              </p:nvSpPr>
              <p:spPr>
                <a:xfrm>
                  <a:off x="5535360" y="383544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537880" y="391536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540760" y="399564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3" name=""/>
              <p:cNvSpPr/>
              <p:nvPr/>
            </p:nvSpPr>
            <p:spPr>
              <a:xfrm>
                <a:off x="5883840" y="3737880"/>
                <a:ext cx="0" cy="60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04" name="" descr=""/>
            <p:cNvPicPr/>
            <p:nvPr/>
          </p:nvPicPr>
          <p:blipFill>
            <a:blip r:embed="rId7"/>
            <a:stretch/>
          </p:blipFill>
          <p:spPr>
            <a:xfrm>
              <a:off x="6278400" y="4503600"/>
              <a:ext cx="4176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5" name="" descr=""/>
            <p:cNvPicPr/>
            <p:nvPr/>
          </p:nvPicPr>
          <p:blipFill>
            <a:blip r:embed="rId8"/>
            <a:stretch/>
          </p:blipFill>
          <p:spPr>
            <a:xfrm>
              <a:off x="5664240" y="4492800"/>
              <a:ext cx="415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6" name=""/>
            <p:cNvSpPr/>
            <p:nvPr/>
          </p:nvSpPr>
          <p:spPr>
            <a:xfrm rot="16200000">
              <a:off x="6080760" y="4596480"/>
              <a:ext cx="6336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6165720" y="4593960"/>
              <a:ext cx="63720" cy="66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6243480" y="4598640"/>
              <a:ext cx="6192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6532560" y="4449600"/>
              <a:ext cx="1440" cy="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V="1">
              <a:off x="5908680" y="4438800"/>
              <a:ext cx="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H="1">
              <a:off x="5910120" y="44449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5889600" y="4070520"/>
              <a:ext cx="93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491160" y="4116240"/>
              <a:ext cx="303480" cy="3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H="1">
              <a:off x="7286760" y="4113360"/>
              <a:ext cx="279360" cy="3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5" name="" descr=""/>
            <p:cNvPicPr/>
            <p:nvPr/>
          </p:nvPicPr>
          <p:blipFill>
            <a:blip r:embed="rId9"/>
            <a:stretch/>
          </p:blipFill>
          <p:spPr>
            <a:xfrm>
              <a:off x="7464600" y="3665520"/>
              <a:ext cx="203040" cy="24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6" name="" descr=""/>
            <p:cNvPicPr/>
            <p:nvPr/>
          </p:nvPicPr>
          <p:blipFill>
            <a:blip r:embed="rId10"/>
            <a:stretch/>
          </p:blipFill>
          <p:spPr>
            <a:xfrm>
              <a:off x="6127920" y="3746520"/>
              <a:ext cx="20304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"/>
            <p:cNvSpPr/>
            <p:nvPr/>
          </p:nvSpPr>
          <p:spPr>
            <a:xfrm>
              <a:off x="6208560" y="3521160"/>
              <a:ext cx="1354320" cy="30456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8" name=""/>
            <p:cNvGrpSpPr/>
            <p:nvPr/>
          </p:nvGrpSpPr>
          <p:grpSpPr>
            <a:xfrm>
              <a:off x="6475320" y="4943520"/>
              <a:ext cx="406080" cy="426960"/>
              <a:chOff x="6475320" y="4943520"/>
              <a:chExt cx="406080" cy="426960"/>
            </a:xfrm>
          </p:grpSpPr>
          <p:pic>
            <p:nvPicPr>
              <p:cNvPr id="311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75320" y="494352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35080" y="505548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1" name=""/>
            <p:cNvGrpSpPr/>
            <p:nvPr/>
          </p:nvGrpSpPr>
          <p:grpSpPr>
            <a:xfrm>
              <a:off x="7253280" y="4975200"/>
              <a:ext cx="406080" cy="426960"/>
              <a:chOff x="7253280" y="4975200"/>
              <a:chExt cx="406080" cy="426960"/>
            </a:xfrm>
          </p:grpSpPr>
          <p:pic>
            <p:nvPicPr>
              <p:cNvPr id="31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53280" y="4975200"/>
                <a:ext cx="378360" cy="37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13040" y="5087160"/>
                <a:ext cx="346320" cy="315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124" name=""/>
            <p:cNvGrpSpPr/>
            <p:nvPr/>
          </p:nvGrpSpPr>
          <p:grpSpPr>
            <a:xfrm>
              <a:off x="6838920" y="4691160"/>
              <a:ext cx="379440" cy="376200"/>
              <a:chOff x="6838920" y="4691160"/>
              <a:chExt cx="379440" cy="376200"/>
            </a:xfrm>
          </p:grpSpPr>
          <p:pic>
            <p:nvPicPr>
              <p:cNvPr id="31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38920" y="4691160"/>
                <a:ext cx="379440" cy="3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6" name=""/>
              <p:cNvSpPr/>
              <p:nvPr/>
            </p:nvSpPr>
            <p:spPr>
              <a:xfrm>
                <a:off x="6949080" y="4823280"/>
                <a:ext cx="267480" cy="2440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7" name=""/>
            <p:cNvSpPr/>
            <p:nvPr/>
          </p:nvSpPr>
          <p:spPr>
            <a:xfrm>
              <a:off x="7145280" y="4594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8" name=""/>
            <p:cNvGrpSpPr/>
            <p:nvPr/>
          </p:nvGrpSpPr>
          <p:grpSpPr>
            <a:xfrm>
              <a:off x="7866000" y="4017960"/>
              <a:ext cx="208080" cy="409680"/>
              <a:chOff x="7866000" y="4017960"/>
              <a:chExt cx="208080" cy="409680"/>
            </a:xfrm>
          </p:grpSpPr>
          <p:sp>
            <p:nvSpPr>
              <p:cNvPr id="3129" name=""/>
              <p:cNvSpPr/>
              <p:nvPr/>
            </p:nvSpPr>
            <p:spPr>
              <a:xfrm>
                <a:off x="7866000" y="4332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7971120" y="4020480"/>
                <a:ext cx="95400" cy="3146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7867080" y="4109760"/>
                <a:ext cx="131760" cy="315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7866000" y="4017960"/>
                <a:ext cx="208080" cy="94680"/>
              </a:xfrm>
              <a:prstGeom prst="parallelogram">
                <a:avLst>
                  <a:gd name="adj" fmla="val 84663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8074080" y="4024440"/>
                <a:ext cx="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H="1">
                <a:off x="7998840" y="433296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7883640" y="4151160"/>
                <a:ext cx="87480" cy="181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7896240" y="42058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7" name=""/>
            <p:cNvGrpSpPr/>
            <p:nvPr/>
          </p:nvGrpSpPr>
          <p:grpSpPr>
            <a:xfrm>
              <a:off x="7853400" y="4462560"/>
              <a:ext cx="208080" cy="408960"/>
              <a:chOff x="7853400" y="4462560"/>
              <a:chExt cx="208080" cy="408960"/>
            </a:xfrm>
          </p:grpSpPr>
          <p:sp>
            <p:nvSpPr>
              <p:cNvPr id="3138" name=""/>
              <p:cNvSpPr/>
              <p:nvPr/>
            </p:nvSpPr>
            <p:spPr>
              <a:xfrm>
                <a:off x="7853400" y="47772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7958520" y="44650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7854480" y="45543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7853400" y="44625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8061480" y="44690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>
                <a:off x="7986240" y="47772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7871040" y="45957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7883640" y="46504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6" name=""/>
            <p:cNvSpPr/>
            <p:nvPr/>
          </p:nvSpPr>
          <p:spPr>
            <a:xfrm flipV="1">
              <a:off x="7785000" y="4086000"/>
              <a:ext cx="0" cy="6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7781760" y="46958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7778880" y="4219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6502320" y="2315880"/>
              <a:ext cx="45900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437600" y="2300400"/>
              <a:ext cx="485640" cy="20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>
              <a:off x="7956720" y="2637000"/>
              <a:ext cx="241200" cy="68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7186680" y="24130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211880" y="3060720"/>
              <a:ext cx="53496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>
              <a:off x="7671960" y="3525840"/>
              <a:ext cx="266760" cy="36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7445520" y="2604960"/>
              <a:ext cx="560160" cy="3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7454520" y="2044800"/>
              <a:ext cx="35100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>
              <a:off x="8172360" y="2220840"/>
              <a:ext cx="20160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8" name=""/>
            <p:cNvGrpSpPr/>
            <p:nvPr/>
          </p:nvGrpSpPr>
          <p:grpSpPr>
            <a:xfrm>
              <a:off x="5983200" y="2413080"/>
              <a:ext cx="501840" cy="232920"/>
              <a:chOff x="5983200" y="2413080"/>
              <a:chExt cx="501840" cy="232920"/>
            </a:xfrm>
          </p:grpSpPr>
          <p:sp>
            <p:nvSpPr>
              <p:cNvPr id="3159" name=""/>
              <p:cNvSpPr/>
              <p:nvPr/>
            </p:nvSpPr>
            <p:spPr>
              <a:xfrm>
                <a:off x="5987160" y="25171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98716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485040" y="25059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987160" y="25059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983200" y="24130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64" name=""/>
              <p:cNvGrpSpPr/>
              <p:nvPr/>
            </p:nvGrpSpPr>
            <p:grpSpPr>
              <a:xfrm>
                <a:off x="6102720" y="2445840"/>
                <a:ext cx="246240" cy="88200"/>
                <a:chOff x="6102720" y="2445840"/>
                <a:chExt cx="246240" cy="88200"/>
              </a:xfrm>
            </p:grpSpPr>
            <p:sp>
              <p:nvSpPr>
                <p:cNvPr id="3165" name=""/>
                <p:cNvSpPr/>
                <p:nvPr/>
              </p:nvSpPr>
              <p:spPr>
                <a:xfrm flipV="1">
                  <a:off x="6102720" y="24458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6271560" y="2534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6183720" y="24480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8" name=""/>
              <p:cNvGrpSpPr/>
              <p:nvPr/>
            </p:nvGrpSpPr>
            <p:grpSpPr>
              <a:xfrm>
                <a:off x="6102720" y="2445120"/>
                <a:ext cx="246240" cy="88200"/>
                <a:chOff x="6102720" y="2445120"/>
                <a:chExt cx="246240" cy="8820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6102720" y="2531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6271560" y="2445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V="1">
                  <a:off x="6183720" y="24451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2" name=""/>
            <p:cNvGrpSpPr/>
            <p:nvPr/>
          </p:nvGrpSpPr>
          <p:grpSpPr>
            <a:xfrm>
              <a:off x="6935760" y="2184480"/>
              <a:ext cx="501840" cy="232920"/>
              <a:chOff x="6935760" y="2184480"/>
              <a:chExt cx="501840" cy="232920"/>
            </a:xfrm>
          </p:grpSpPr>
          <p:sp>
            <p:nvSpPr>
              <p:cNvPr id="3173" name=""/>
              <p:cNvSpPr/>
              <p:nvPr/>
            </p:nvSpPr>
            <p:spPr>
              <a:xfrm>
                <a:off x="6939720" y="22885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93972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37600" y="2277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939720" y="22773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935760" y="21844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8" name=""/>
              <p:cNvGrpSpPr/>
              <p:nvPr/>
            </p:nvGrpSpPr>
            <p:grpSpPr>
              <a:xfrm>
                <a:off x="7055280" y="2217240"/>
                <a:ext cx="246240" cy="88200"/>
                <a:chOff x="7055280" y="2217240"/>
                <a:chExt cx="246240" cy="88200"/>
              </a:xfrm>
            </p:grpSpPr>
            <p:sp>
              <p:nvSpPr>
                <p:cNvPr id="3179" name=""/>
                <p:cNvSpPr/>
                <p:nvPr/>
              </p:nvSpPr>
              <p:spPr>
                <a:xfrm flipV="1">
                  <a:off x="7055280" y="2217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7224120" y="2305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7136280" y="2219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2" name=""/>
              <p:cNvGrpSpPr/>
              <p:nvPr/>
            </p:nvGrpSpPr>
            <p:grpSpPr>
              <a:xfrm>
                <a:off x="7055280" y="2216520"/>
                <a:ext cx="246240" cy="88200"/>
                <a:chOff x="7055280" y="2216520"/>
                <a:chExt cx="246240" cy="88200"/>
              </a:xfrm>
            </p:grpSpPr>
            <p:sp>
              <p:nvSpPr>
                <p:cNvPr id="3183" name=""/>
                <p:cNvSpPr/>
                <p:nvPr/>
              </p:nvSpPr>
              <p:spPr>
                <a:xfrm>
                  <a:off x="7055280" y="2302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7224120" y="22165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 flipV="1">
                  <a:off x="7136280" y="22165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6" name=""/>
            <p:cNvGrpSpPr/>
            <p:nvPr/>
          </p:nvGrpSpPr>
          <p:grpSpPr>
            <a:xfrm>
              <a:off x="6953400" y="2841480"/>
              <a:ext cx="501480" cy="233280"/>
              <a:chOff x="6953400" y="2841480"/>
              <a:chExt cx="501480" cy="233280"/>
            </a:xfrm>
          </p:grpSpPr>
          <p:sp>
            <p:nvSpPr>
              <p:cNvPr id="3187" name=""/>
              <p:cNvSpPr/>
              <p:nvPr/>
            </p:nvSpPr>
            <p:spPr>
              <a:xfrm>
                <a:off x="6957360" y="2945520"/>
                <a:ext cx="49716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95736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54880" y="293472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957360" y="293472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953400" y="28414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2" name=""/>
              <p:cNvGrpSpPr/>
              <p:nvPr/>
            </p:nvGrpSpPr>
            <p:grpSpPr>
              <a:xfrm>
                <a:off x="7072920" y="2874240"/>
                <a:ext cx="246240" cy="88560"/>
                <a:chOff x="7072920" y="2874240"/>
                <a:chExt cx="246240" cy="88560"/>
              </a:xfrm>
            </p:grpSpPr>
            <p:sp>
              <p:nvSpPr>
                <p:cNvPr id="3193" name=""/>
                <p:cNvSpPr/>
                <p:nvPr/>
              </p:nvSpPr>
              <p:spPr>
                <a:xfrm flipV="1">
                  <a:off x="7072920" y="2874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7241760" y="29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7153920" y="287640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6" name=""/>
              <p:cNvGrpSpPr/>
              <p:nvPr/>
            </p:nvGrpSpPr>
            <p:grpSpPr>
              <a:xfrm>
                <a:off x="7072920" y="2873160"/>
                <a:ext cx="246240" cy="88560"/>
                <a:chOff x="7072920" y="2873160"/>
                <a:chExt cx="246240" cy="88560"/>
              </a:xfrm>
            </p:grpSpPr>
            <p:sp>
              <p:nvSpPr>
                <p:cNvPr id="3197" name=""/>
                <p:cNvSpPr/>
                <p:nvPr/>
              </p:nvSpPr>
              <p:spPr>
                <a:xfrm>
                  <a:off x="7072920" y="29599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7241760" y="28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 flipV="1">
                  <a:off x="7153920" y="287316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0" name=""/>
            <p:cNvGrpSpPr/>
            <p:nvPr/>
          </p:nvGrpSpPr>
          <p:grpSpPr>
            <a:xfrm>
              <a:off x="7923240" y="2392200"/>
              <a:ext cx="500040" cy="233280"/>
              <a:chOff x="7923240" y="2392200"/>
              <a:chExt cx="500040" cy="233280"/>
            </a:xfrm>
          </p:grpSpPr>
          <p:sp>
            <p:nvSpPr>
              <p:cNvPr id="3201" name=""/>
              <p:cNvSpPr/>
              <p:nvPr/>
            </p:nvSpPr>
            <p:spPr>
              <a:xfrm>
                <a:off x="7927200" y="2496240"/>
                <a:ext cx="495720" cy="1292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92720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8423280" y="248544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927200" y="248544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923240" y="2392200"/>
                <a:ext cx="4953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6" name=""/>
              <p:cNvGrpSpPr/>
              <p:nvPr/>
            </p:nvGrpSpPr>
            <p:grpSpPr>
              <a:xfrm>
                <a:off x="8042400" y="2424960"/>
                <a:ext cx="245520" cy="88560"/>
                <a:chOff x="8042400" y="2424960"/>
                <a:chExt cx="245520" cy="88560"/>
              </a:xfrm>
            </p:grpSpPr>
            <p:sp>
              <p:nvSpPr>
                <p:cNvPr id="3207" name=""/>
                <p:cNvSpPr/>
                <p:nvPr/>
              </p:nvSpPr>
              <p:spPr>
                <a:xfrm flipV="1">
                  <a:off x="8042400" y="24249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8210880" y="2513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8123040" y="242712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0" name=""/>
              <p:cNvGrpSpPr/>
              <p:nvPr/>
            </p:nvGrpSpPr>
            <p:grpSpPr>
              <a:xfrm>
                <a:off x="8042400" y="2423880"/>
                <a:ext cx="245520" cy="88560"/>
                <a:chOff x="8042400" y="2423880"/>
                <a:chExt cx="245520" cy="88560"/>
              </a:xfrm>
            </p:grpSpPr>
            <p:sp>
              <p:nvSpPr>
                <p:cNvPr id="3211" name=""/>
                <p:cNvSpPr/>
                <p:nvPr/>
              </p:nvSpPr>
              <p:spPr>
                <a:xfrm>
                  <a:off x="8042400" y="25106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>
                  <a:off x="8210880" y="24238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 flipV="1">
                  <a:off x="8123040" y="2423880"/>
                  <a:ext cx="9108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4" name=""/>
            <p:cNvGrpSpPr/>
            <p:nvPr/>
          </p:nvGrpSpPr>
          <p:grpSpPr>
            <a:xfrm>
              <a:off x="7729560" y="3289320"/>
              <a:ext cx="501480" cy="232920"/>
              <a:chOff x="7729560" y="3289320"/>
              <a:chExt cx="501480" cy="232920"/>
            </a:xfrm>
          </p:grpSpPr>
          <p:sp>
            <p:nvSpPr>
              <p:cNvPr id="3215" name=""/>
              <p:cNvSpPr/>
              <p:nvPr/>
            </p:nvSpPr>
            <p:spPr>
              <a:xfrm>
                <a:off x="7733520" y="339336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773352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231040" y="33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7733520" y="33822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7729560" y="32893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0" name=""/>
              <p:cNvGrpSpPr/>
              <p:nvPr/>
            </p:nvGrpSpPr>
            <p:grpSpPr>
              <a:xfrm>
                <a:off x="7849080" y="3322080"/>
                <a:ext cx="246240" cy="88200"/>
                <a:chOff x="7849080" y="3322080"/>
                <a:chExt cx="246240" cy="88200"/>
              </a:xfrm>
            </p:grpSpPr>
            <p:sp>
              <p:nvSpPr>
                <p:cNvPr id="3221" name=""/>
                <p:cNvSpPr/>
                <p:nvPr/>
              </p:nvSpPr>
              <p:spPr>
                <a:xfrm flipV="1">
                  <a:off x="7849080" y="3322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>
                  <a:off x="8017920" y="3410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>
                  <a:off x="7930080" y="3324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4" name=""/>
              <p:cNvGrpSpPr/>
              <p:nvPr/>
            </p:nvGrpSpPr>
            <p:grpSpPr>
              <a:xfrm>
                <a:off x="7849080" y="3321360"/>
                <a:ext cx="246240" cy="88200"/>
                <a:chOff x="7849080" y="3321360"/>
                <a:chExt cx="246240" cy="88200"/>
              </a:xfrm>
            </p:grpSpPr>
            <p:sp>
              <p:nvSpPr>
                <p:cNvPr id="3225" name=""/>
                <p:cNvSpPr/>
                <p:nvPr/>
              </p:nvSpPr>
              <p:spPr>
                <a:xfrm>
                  <a:off x="7849080" y="3407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>
                  <a:off x="8017920" y="3321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V="1">
                  <a:off x="7930080" y="3321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8" name=""/>
            <p:cNvGrpSpPr/>
            <p:nvPr/>
          </p:nvGrpSpPr>
          <p:grpSpPr>
            <a:xfrm>
              <a:off x="7396200" y="3873600"/>
              <a:ext cx="501480" cy="234360"/>
              <a:chOff x="7396200" y="3873600"/>
              <a:chExt cx="501480" cy="234360"/>
            </a:xfrm>
          </p:grpSpPr>
          <p:sp>
            <p:nvSpPr>
              <p:cNvPr id="3229" name=""/>
              <p:cNvSpPr/>
              <p:nvPr/>
            </p:nvSpPr>
            <p:spPr>
              <a:xfrm>
                <a:off x="7400160" y="3978000"/>
                <a:ext cx="497160" cy="129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740016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7897680" y="3967200"/>
                <a:ext cx="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7400160" y="3967200"/>
                <a:ext cx="492840" cy="7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7396200" y="3873600"/>
                <a:ext cx="496800" cy="1515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4" name=""/>
              <p:cNvGrpSpPr/>
              <p:nvPr/>
            </p:nvGrpSpPr>
            <p:grpSpPr>
              <a:xfrm>
                <a:off x="7515720" y="3906720"/>
                <a:ext cx="246240" cy="88920"/>
                <a:chOff x="7515720" y="3906720"/>
                <a:chExt cx="246240" cy="88920"/>
              </a:xfrm>
            </p:grpSpPr>
            <p:sp>
              <p:nvSpPr>
                <p:cNvPr id="3235" name=""/>
                <p:cNvSpPr/>
                <p:nvPr/>
              </p:nvSpPr>
              <p:spPr>
                <a:xfrm flipV="1">
                  <a:off x="7515720" y="3906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7684560" y="399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>
                  <a:off x="7596720" y="390888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8" name=""/>
              <p:cNvGrpSpPr/>
              <p:nvPr/>
            </p:nvGrpSpPr>
            <p:grpSpPr>
              <a:xfrm>
                <a:off x="7515720" y="3905640"/>
                <a:ext cx="246240" cy="88920"/>
                <a:chOff x="7515720" y="3905640"/>
                <a:chExt cx="246240" cy="88920"/>
              </a:xfrm>
            </p:grpSpPr>
            <p:sp>
              <p:nvSpPr>
                <p:cNvPr id="3239" name=""/>
                <p:cNvSpPr/>
                <p:nvPr/>
              </p:nvSpPr>
              <p:spPr>
                <a:xfrm>
                  <a:off x="7515720" y="3992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7684560" y="3905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V="1">
                  <a:off x="7596720" y="3905640"/>
                  <a:ext cx="91440" cy="86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42" name=""/>
            <p:cNvGrpSpPr/>
            <p:nvPr/>
          </p:nvGrpSpPr>
          <p:grpSpPr>
            <a:xfrm>
              <a:off x="6786720" y="4362480"/>
              <a:ext cx="500040" cy="232920"/>
              <a:chOff x="6786720" y="4362480"/>
              <a:chExt cx="500040" cy="232920"/>
            </a:xfrm>
          </p:grpSpPr>
          <p:sp>
            <p:nvSpPr>
              <p:cNvPr id="3243" name=""/>
              <p:cNvSpPr/>
              <p:nvPr/>
            </p:nvSpPr>
            <p:spPr>
              <a:xfrm>
                <a:off x="6790680" y="446652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79068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7286760" y="4455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790680" y="445536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786720" y="436248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8" name=""/>
              <p:cNvGrpSpPr/>
              <p:nvPr/>
            </p:nvGrpSpPr>
            <p:grpSpPr>
              <a:xfrm>
                <a:off x="6905880" y="4395240"/>
                <a:ext cx="245520" cy="88200"/>
                <a:chOff x="6905880" y="4395240"/>
                <a:chExt cx="245520" cy="88200"/>
              </a:xfrm>
            </p:grpSpPr>
            <p:sp>
              <p:nvSpPr>
                <p:cNvPr id="3249" name=""/>
                <p:cNvSpPr/>
                <p:nvPr/>
              </p:nvSpPr>
              <p:spPr>
                <a:xfrm flipV="1">
                  <a:off x="6905880" y="43952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7074360" y="4483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986520" y="43974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2" name=""/>
              <p:cNvGrpSpPr/>
              <p:nvPr/>
            </p:nvGrpSpPr>
            <p:grpSpPr>
              <a:xfrm>
                <a:off x="6905880" y="4394520"/>
                <a:ext cx="245520" cy="88200"/>
                <a:chOff x="6905880" y="4394520"/>
                <a:chExt cx="245520" cy="88200"/>
              </a:xfrm>
            </p:grpSpPr>
            <p:sp>
              <p:nvSpPr>
                <p:cNvPr id="3253" name=""/>
                <p:cNvSpPr/>
                <p:nvPr/>
              </p:nvSpPr>
              <p:spPr>
                <a:xfrm>
                  <a:off x="6905880" y="448092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7074360" y="439452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V="1">
                  <a:off x="6986520" y="43945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6" name=""/>
            <p:cNvGrpSpPr/>
            <p:nvPr/>
          </p:nvGrpSpPr>
          <p:grpSpPr>
            <a:xfrm>
              <a:off x="5983200" y="3986280"/>
              <a:ext cx="501840" cy="232920"/>
              <a:chOff x="5983200" y="3986280"/>
              <a:chExt cx="501840" cy="232920"/>
            </a:xfrm>
          </p:grpSpPr>
          <p:sp>
            <p:nvSpPr>
              <p:cNvPr id="3257" name=""/>
              <p:cNvSpPr/>
              <p:nvPr/>
            </p:nvSpPr>
            <p:spPr>
              <a:xfrm>
                <a:off x="5987160" y="409032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98716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485040" y="4079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987160" y="40791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983200" y="39862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2" name=""/>
              <p:cNvGrpSpPr/>
              <p:nvPr/>
            </p:nvGrpSpPr>
            <p:grpSpPr>
              <a:xfrm>
                <a:off x="6102720" y="4019040"/>
                <a:ext cx="246240" cy="88200"/>
                <a:chOff x="6102720" y="4019040"/>
                <a:chExt cx="246240" cy="88200"/>
              </a:xfrm>
            </p:grpSpPr>
            <p:sp>
              <p:nvSpPr>
                <p:cNvPr id="3263" name=""/>
                <p:cNvSpPr/>
                <p:nvPr/>
              </p:nvSpPr>
              <p:spPr>
                <a:xfrm flipV="1">
                  <a:off x="6102720" y="4019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6271560" y="4107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6183720" y="4021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6" name=""/>
              <p:cNvGrpSpPr/>
              <p:nvPr/>
            </p:nvGrpSpPr>
            <p:grpSpPr>
              <a:xfrm>
                <a:off x="6102720" y="4018320"/>
                <a:ext cx="246240" cy="88200"/>
                <a:chOff x="6102720" y="4018320"/>
                <a:chExt cx="246240" cy="88200"/>
              </a:xfrm>
            </p:grpSpPr>
            <p:sp>
              <p:nvSpPr>
                <p:cNvPr id="3267" name=""/>
                <p:cNvSpPr/>
                <p:nvPr/>
              </p:nvSpPr>
              <p:spPr>
                <a:xfrm>
                  <a:off x="6102720" y="410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6271560" y="4018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V="1">
                  <a:off x="6183720" y="40183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0" name=""/>
            <p:cNvSpPr/>
            <p:nvPr/>
          </p:nvSpPr>
          <p:spPr>
            <a:xfrm flipV="1">
              <a:off x="6238800" y="4199040"/>
              <a:ext cx="180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1" name=""/>
          <p:cNvGrpSpPr/>
          <p:nvPr/>
        </p:nvGrpSpPr>
        <p:grpSpPr>
          <a:xfrm>
            <a:off x="4740120" y="1500120"/>
            <a:ext cx="3738600" cy="3984480"/>
            <a:chOff x="4740120" y="1500120"/>
            <a:chExt cx="3738600" cy="3984480"/>
          </a:xfrm>
        </p:grpSpPr>
        <p:grpSp>
          <p:nvGrpSpPr>
            <p:cNvPr id="3272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3273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3281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8" name=""/>
            <p:cNvGrpSpPr/>
            <p:nvPr/>
          </p:nvGrpSpPr>
          <p:grpSpPr>
            <a:xfrm>
              <a:off x="5321160" y="4471920"/>
              <a:ext cx="814320" cy="1012680"/>
              <a:chOff x="5321160" y="4471920"/>
              <a:chExt cx="814320" cy="1012680"/>
            </a:xfrm>
          </p:grpSpPr>
          <p:sp>
            <p:nvSpPr>
              <p:cNvPr id="3289" name=""/>
              <p:cNvSpPr/>
              <p:nvPr/>
            </p:nvSpPr>
            <p:spPr>
              <a:xfrm>
                <a:off x="5419440" y="447192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386320" y="44960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391000" y="45007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321160" y="44769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386320" y="4838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395680" y="4977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395680" y="51148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6" name=""/>
            <p:cNvSpPr/>
            <p:nvPr/>
          </p:nvSpPr>
          <p:spPr>
            <a:xfrm>
              <a:off x="5524560" y="1619280"/>
              <a:ext cx="2190600" cy="2847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6105600" y="4524480"/>
              <a:ext cx="1590480" cy="56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DD3-1D22-4018-A64E-C26B4DEF976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etwork applications: some jargon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program that is running within a h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in the same host, two processes communicate with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erprocess communic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fined by the 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es running in different hosts communicate with a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pplication-layer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ser ag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interface between the user and the network applic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b:brows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mail: mail r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eaming audio/video: media p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96E-CBA2-4315-8B0D-1CC350F84E5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/>
          <p:nvPr/>
        </p:nvSpPr>
        <p:spPr>
          <a:xfrm>
            <a:off x="619200" y="1247760"/>
            <a:ext cx="363852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190440" y="2376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lient-server paradigm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90240" y="1304640"/>
            <a:ext cx="419076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 network app has two pieces: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4" name=""/>
          <p:cNvGrpSpPr/>
          <p:nvPr/>
        </p:nvGrpSpPr>
        <p:grpSpPr>
          <a:xfrm>
            <a:off x="4898880" y="1847880"/>
            <a:ext cx="3678120" cy="3669840"/>
            <a:chOff x="4898880" y="1847880"/>
            <a:chExt cx="3678120" cy="3669840"/>
          </a:xfrm>
        </p:grpSpPr>
        <p:sp>
          <p:nvSpPr>
            <p:cNvPr id="3305" name=""/>
            <p:cNvSpPr/>
            <p:nvPr/>
          </p:nvSpPr>
          <p:spPr>
            <a:xfrm>
              <a:off x="6778440" y="1990440"/>
              <a:ext cx="1798560" cy="167436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898880" y="1847880"/>
              <a:ext cx="1866960" cy="15886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5267160" y="3298680"/>
              <a:ext cx="2975040" cy="221904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8" name=""/>
            <p:cNvGrpSpPr/>
            <p:nvPr/>
          </p:nvGrpSpPr>
          <p:grpSpPr>
            <a:xfrm>
              <a:off x="5016240" y="1982520"/>
              <a:ext cx="732960" cy="318600"/>
              <a:chOff x="5016240" y="1982520"/>
              <a:chExt cx="732960" cy="318600"/>
            </a:xfrm>
          </p:grpSpPr>
          <p:pic>
            <p:nvPicPr>
              <p:cNvPr id="33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16240" y="1982520"/>
                <a:ext cx="41616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9840" y="210024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1" name=""/>
              <p:cNvSpPr/>
              <p:nvPr/>
            </p:nvSpPr>
            <p:spPr>
              <a:xfrm flipV="1">
                <a:off x="5422680" y="222372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"/>
            <p:cNvGrpSpPr/>
            <p:nvPr/>
          </p:nvGrpSpPr>
          <p:grpSpPr>
            <a:xfrm>
              <a:off x="5016240" y="2577960"/>
              <a:ext cx="732960" cy="318600"/>
              <a:chOff x="5016240" y="2577960"/>
              <a:chExt cx="732960" cy="318600"/>
            </a:xfrm>
          </p:grpSpPr>
          <p:pic>
            <p:nvPicPr>
              <p:cNvPr id="33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16240" y="2577960"/>
                <a:ext cx="416160" cy="31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469840" y="2695680"/>
                <a:ext cx="279360" cy="18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5" name=""/>
              <p:cNvSpPr/>
              <p:nvPr/>
            </p:nvSpPr>
            <p:spPr>
              <a:xfrm flipV="1">
                <a:off x="5422680" y="2819160"/>
                <a:ext cx="11412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5392440" y="2365200"/>
              <a:ext cx="69480" cy="213480"/>
              <a:chOff x="5392440" y="2365200"/>
              <a:chExt cx="69480" cy="213480"/>
            </a:xfrm>
          </p:grpSpPr>
          <p:sp>
            <p:nvSpPr>
              <p:cNvPr id="3317" name=""/>
              <p:cNvSpPr/>
              <p:nvPr/>
            </p:nvSpPr>
            <p:spPr>
              <a:xfrm>
                <a:off x="5392440" y="2365200"/>
                <a:ext cx="64080" cy="601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394960" y="2441880"/>
                <a:ext cx="64080" cy="597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397840" y="2518920"/>
                <a:ext cx="64080" cy="5976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5862600" y="2868480"/>
              <a:ext cx="209520" cy="394560"/>
              <a:chOff x="5862600" y="2868480"/>
              <a:chExt cx="209520" cy="394560"/>
            </a:xfrm>
          </p:grpSpPr>
          <p:sp>
            <p:nvSpPr>
              <p:cNvPr id="3321" name=""/>
              <p:cNvSpPr/>
              <p:nvPr/>
            </p:nvSpPr>
            <p:spPr>
              <a:xfrm>
                <a:off x="5862600" y="31719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968800" y="2871000"/>
                <a:ext cx="9612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863680" y="2957040"/>
                <a:ext cx="13248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862600" y="286848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072120" y="287460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 flipH="1">
                <a:off x="5996160" y="317196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880600" y="299700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893200" y="3049920"/>
                <a:ext cx="666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6099120" y="3022560"/>
              <a:ext cx="233280" cy="80280"/>
              <a:chOff x="6099120" y="3022560"/>
              <a:chExt cx="233280" cy="80280"/>
            </a:xfrm>
          </p:grpSpPr>
          <p:sp>
            <p:nvSpPr>
              <p:cNvPr id="3330" name=""/>
              <p:cNvSpPr/>
              <p:nvPr/>
            </p:nvSpPr>
            <p:spPr>
              <a:xfrm rot="16200000">
                <a:off x="6094800" y="303300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rot="16200000">
                <a:off x="6178680" y="303012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 rot="16200000">
                <a:off x="6262560" y="3026880"/>
                <a:ext cx="74160" cy="65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3" name=""/>
            <p:cNvSpPr/>
            <p:nvPr/>
          </p:nvSpPr>
          <p:spPr>
            <a:xfrm>
              <a:off x="5999040" y="2776320"/>
              <a:ext cx="495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002280" y="2773080"/>
              <a:ext cx="144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497280" y="2771640"/>
              <a:ext cx="1800" cy="8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698800" y="2236680"/>
              <a:ext cx="289080" cy="26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V="1">
              <a:off x="5711760" y="2521800"/>
              <a:ext cx="27612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V="1">
              <a:off x="6238800" y="2607840"/>
              <a:ext cx="1440" cy="16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9" name=""/>
            <p:cNvGrpSpPr/>
            <p:nvPr/>
          </p:nvGrpSpPr>
          <p:grpSpPr>
            <a:xfrm>
              <a:off x="6357600" y="2846160"/>
              <a:ext cx="209520" cy="394560"/>
              <a:chOff x="6357600" y="2846160"/>
              <a:chExt cx="209520" cy="394560"/>
            </a:xfrm>
          </p:grpSpPr>
          <p:sp>
            <p:nvSpPr>
              <p:cNvPr id="3340" name=""/>
              <p:cNvSpPr/>
              <p:nvPr/>
            </p:nvSpPr>
            <p:spPr>
              <a:xfrm>
                <a:off x="6357600" y="314964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463800" y="2848680"/>
                <a:ext cx="96120" cy="3031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358680" y="2934720"/>
                <a:ext cx="132480" cy="303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357600" y="2846160"/>
                <a:ext cx="209520" cy="91080"/>
              </a:xfrm>
              <a:prstGeom prst="parallelogram">
                <a:avLst>
                  <a:gd name="adj" fmla="val 886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567120" y="2852280"/>
                <a:ext cx="0" cy="29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6491160" y="3149640"/>
                <a:ext cx="7524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375600" y="2974680"/>
                <a:ext cx="87840" cy="1749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388200" y="3027600"/>
                <a:ext cx="66600" cy="6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8" name=""/>
            <p:cNvGrpSpPr/>
            <p:nvPr/>
          </p:nvGrpSpPr>
          <p:grpSpPr>
            <a:xfrm>
              <a:off x="5400360" y="3465360"/>
              <a:ext cx="479160" cy="924840"/>
              <a:chOff x="5400360" y="3465360"/>
              <a:chExt cx="479160" cy="924840"/>
            </a:xfrm>
          </p:grpSpPr>
          <p:pic>
            <p:nvPicPr>
              <p:cNvPr id="33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00360" y="346536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0" name=""/>
              <p:cNvSpPr/>
              <p:nvPr/>
            </p:nvSpPr>
            <p:spPr>
              <a:xfrm flipV="1">
                <a:off x="5807160" y="3711960"/>
                <a:ext cx="7236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35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00360" y="4059720"/>
                <a:ext cx="416520" cy="33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2" name=""/>
              <p:cNvSpPr/>
              <p:nvPr/>
            </p:nvSpPr>
            <p:spPr>
              <a:xfrm flipV="1">
                <a:off x="5807160" y="4309920"/>
                <a:ext cx="72360" cy="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3" name=""/>
              <p:cNvGrpSpPr/>
              <p:nvPr/>
            </p:nvGrpSpPr>
            <p:grpSpPr>
              <a:xfrm>
                <a:off x="5525640" y="3806280"/>
                <a:ext cx="70560" cy="222120"/>
                <a:chOff x="5525640" y="3806280"/>
                <a:chExt cx="70560" cy="222120"/>
              </a:xfrm>
            </p:grpSpPr>
            <p:sp>
              <p:nvSpPr>
                <p:cNvPr id="3354" name=""/>
                <p:cNvSpPr/>
                <p:nvPr/>
              </p:nvSpPr>
              <p:spPr>
                <a:xfrm>
                  <a:off x="5525640" y="3806280"/>
                  <a:ext cx="65160" cy="6264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5528160" y="388620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5531040" y="3966120"/>
                  <a:ext cx="65160" cy="622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7" name=""/>
              <p:cNvSpPr/>
              <p:nvPr/>
            </p:nvSpPr>
            <p:spPr>
              <a:xfrm>
                <a:off x="5874120" y="3709080"/>
                <a:ext cx="0" cy="59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8" name="" descr=""/>
            <p:cNvPicPr/>
            <p:nvPr/>
          </p:nvPicPr>
          <p:blipFill>
            <a:blip r:embed="rId7"/>
            <a:stretch/>
          </p:blipFill>
          <p:spPr>
            <a:xfrm>
              <a:off x="6268680" y="4474800"/>
              <a:ext cx="4176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9" name="" descr=""/>
            <p:cNvPicPr/>
            <p:nvPr/>
          </p:nvPicPr>
          <p:blipFill>
            <a:blip r:embed="rId8"/>
            <a:stretch/>
          </p:blipFill>
          <p:spPr>
            <a:xfrm>
              <a:off x="5654520" y="4464000"/>
              <a:ext cx="415800" cy="3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0" name=""/>
            <p:cNvSpPr/>
            <p:nvPr/>
          </p:nvSpPr>
          <p:spPr>
            <a:xfrm rot="16200000">
              <a:off x="6071400" y="4567320"/>
              <a:ext cx="6300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rot="16200000">
              <a:off x="6156000" y="4565160"/>
              <a:ext cx="63360" cy="66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 rot="16200000">
              <a:off x="6234120" y="4569480"/>
              <a:ext cx="61560" cy="65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V="1">
              <a:off x="6522840" y="4420440"/>
              <a:ext cx="144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5898960" y="4409640"/>
              <a:ext cx="0" cy="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H="1">
              <a:off x="5900400" y="4416120"/>
              <a:ext cx="6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V="1">
              <a:off x="5879880" y="4041360"/>
              <a:ext cx="93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81440" y="4087440"/>
              <a:ext cx="303480" cy="38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H="1">
              <a:off x="7277040" y="4084560"/>
              <a:ext cx="279360" cy="39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9" name="" descr=""/>
            <p:cNvPicPr/>
            <p:nvPr/>
          </p:nvPicPr>
          <p:blipFill>
            <a:blip r:embed="rId9"/>
            <a:stretch/>
          </p:blipFill>
          <p:spPr>
            <a:xfrm>
              <a:off x="7454880" y="3636720"/>
              <a:ext cx="203040" cy="24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0" name="" descr=""/>
            <p:cNvPicPr/>
            <p:nvPr/>
          </p:nvPicPr>
          <p:blipFill>
            <a:blip r:embed="rId10"/>
            <a:stretch/>
          </p:blipFill>
          <p:spPr>
            <a:xfrm>
              <a:off x="6118200" y="3717720"/>
              <a:ext cx="203040" cy="2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1" name=""/>
            <p:cNvSpPr/>
            <p:nvPr/>
          </p:nvSpPr>
          <p:spPr>
            <a:xfrm>
              <a:off x="6198840" y="3492360"/>
              <a:ext cx="1354320" cy="30420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6465600" y="4914720"/>
              <a:ext cx="406080" cy="426240"/>
              <a:chOff x="6465600" y="4914720"/>
              <a:chExt cx="406080" cy="426240"/>
            </a:xfrm>
          </p:grpSpPr>
          <p:pic>
            <p:nvPicPr>
              <p:cNvPr id="33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465600" y="491472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25360" y="502632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75" name=""/>
            <p:cNvGrpSpPr/>
            <p:nvPr/>
          </p:nvGrpSpPr>
          <p:grpSpPr>
            <a:xfrm>
              <a:off x="7243560" y="4946400"/>
              <a:ext cx="406080" cy="426240"/>
              <a:chOff x="7243560" y="4946400"/>
              <a:chExt cx="406080" cy="426240"/>
            </a:xfrm>
          </p:grpSpPr>
          <p:pic>
            <p:nvPicPr>
              <p:cNvPr id="337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43560" y="4946400"/>
                <a:ext cx="378360" cy="37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303320" y="5058000"/>
                <a:ext cx="346320" cy="314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78" name=""/>
            <p:cNvGrpSpPr/>
            <p:nvPr/>
          </p:nvGrpSpPr>
          <p:grpSpPr>
            <a:xfrm>
              <a:off x="6829200" y="4662360"/>
              <a:ext cx="379440" cy="375840"/>
              <a:chOff x="6829200" y="4662360"/>
              <a:chExt cx="379440" cy="375840"/>
            </a:xfrm>
          </p:grpSpPr>
          <p:pic>
            <p:nvPicPr>
              <p:cNvPr id="337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29200" y="4662360"/>
                <a:ext cx="379440" cy="37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0" name=""/>
              <p:cNvSpPr/>
              <p:nvPr/>
            </p:nvSpPr>
            <p:spPr>
              <a:xfrm>
                <a:off x="6939360" y="4794120"/>
                <a:ext cx="267480" cy="2437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1" name=""/>
            <p:cNvSpPr/>
            <p:nvPr/>
          </p:nvSpPr>
          <p:spPr>
            <a:xfrm>
              <a:off x="7135560" y="456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2" name=""/>
            <p:cNvGrpSpPr/>
            <p:nvPr/>
          </p:nvGrpSpPr>
          <p:grpSpPr>
            <a:xfrm>
              <a:off x="7856280" y="3989160"/>
              <a:ext cx="208080" cy="408960"/>
              <a:chOff x="7856280" y="3989160"/>
              <a:chExt cx="208080" cy="408960"/>
            </a:xfrm>
          </p:grpSpPr>
          <p:sp>
            <p:nvSpPr>
              <p:cNvPr id="3383" name=""/>
              <p:cNvSpPr/>
              <p:nvPr/>
            </p:nvSpPr>
            <p:spPr>
              <a:xfrm>
                <a:off x="7856280" y="430380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961400" y="3991680"/>
                <a:ext cx="95400" cy="3142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857360" y="4080960"/>
                <a:ext cx="131760" cy="3146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856280" y="39891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8064360" y="39956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7989120" y="430380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873920" y="41223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7886520" y="417708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1" name=""/>
            <p:cNvGrpSpPr/>
            <p:nvPr/>
          </p:nvGrpSpPr>
          <p:grpSpPr>
            <a:xfrm>
              <a:off x="7843680" y="4433760"/>
              <a:ext cx="208080" cy="408600"/>
              <a:chOff x="7843680" y="4433760"/>
              <a:chExt cx="208080" cy="408600"/>
            </a:xfrm>
          </p:grpSpPr>
          <p:sp>
            <p:nvSpPr>
              <p:cNvPr id="3392" name=""/>
              <p:cNvSpPr/>
              <p:nvPr/>
            </p:nvSpPr>
            <p:spPr>
              <a:xfrm>
                <a:off x="7843680" y="474804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948800" y="4436280"/>
                <a:ext cx="95400" cy="3139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844760" y="4525560"/>
                <a:ext cx="131760" cy="3142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843680" y="4433760"/>
                <a:ext cx="208080" cy="94320"/>
              </a:xfrm>
              <a:prstGeom prst="parallelogram">
                <a:avLst>
                  <a:gd name="adj" fmla="val 8498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8051760" y="4440240"/>
                <a:ext cx="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7976520" y="4748040"/>
                <a:ext cx="7488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861320" y="4566960"/>
                <a:ext cx="87480" cy="1810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873920" y="4621320"/>
                <a:ext cx="66240" cy="6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0" name=""/>
            <p:cNvSpPr/>
            <p:nvPr/>
          </p:nvSpPr>
          <p:spPr>
            <a:xfrm flipV="1">
              <a:off x="7775280" y="4057560"/>
              <a:ext cx="0" cy="61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772040" y="4667040"/>
              <a:ext cx="1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769160" y="41907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6492600" y="2287440"/>
              <a:ext cx="459000" cy="20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427880" y="2271600"/>
              <a:ext cx="485640" cy="20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7947000" y="2608200"/>
              <a:ext cx="241200" cy="68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176960" y="238428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202160" y="3031920"/>
              <a:ext cx="53496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H="1">
              <a:off x="7662240" y="3497040"/>
              <a:ext cx="266760" cy="36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flipH="1">
              <a:off x="7435800" y="2576160"/>
              <a:ext cx="560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7444800" y="2016000"/>
              <a:ext cx="35100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8162640" y="2192040"/>
              <a:ext cx="20160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2" name=""/>
            <p:cNvGrpSpPr/>
            <p:nvPr/>
          </p:nvGrpSpPr>
          <p:grpSpPr>
            <a:xfrm>
              <a:off x="5973480" y="2384280"/>
              <a:ext cx="501840" cy="232560"/>
              <a:chOff x="5973480" y="2384280"/>
              <a:chExt cx="501840" cy="232560"/>
            </a:xfrm>
          </p:grpSpPr>
          <p:sp>
            <p:nvSpPr>
              <p:cNvPr id="3413" name=""/>
              <p:cNvSpPr/>
              <p:nvPr/>
            </p:nvSpPr>
            <p:spPr>
              <a:xfrm>
                <a:off x="5977440" y="24879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977440" y="2477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475320" y="24771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977440" y="24771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973480" y="23842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8" name=""/>
              <p:cNvGrpSpPr/>
              <p:nvPr/>
            </p:nvGrpSpPr>
            <p:grpSpPr>
              <a:xfrm>
                <a:off x="6093000" y="2417040"/>
                <a:ext cx="246240" cy="88200"/>
                <a:chOff x="6093000" y="2417040"/>
                <a:chExt cx="246240" cy="88200"/>
              </a:xfrm>
            </p:grpSpPr>
            <p:sp>
              <p:nvSpPr>
                <p:cNvPr id="3419" name=""/>
                <p:cNvSpPr/>
                <p:nvPr/>
              </p:nvSpPr>
              <p:spPr>
                <a:xfrm flipV="1">
                  <a:off x="6093000" y="241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6261840" y="25052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6174000" y="2419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2" name=""/>
              <p:cNvGrpSpPr/>
              <p:nvPr/>
            </p:nvGrpSpPr>
            <p:grpSpPr>
              <a:xfrm>
                <a:off x="6093000" y="2415960"/>
                <a:ext cx="246240" cy="88200"/>
                <a:chOff x="6093000" y="2415960"/>
                <a:chExt cx="246240" cy="88200"/>
              </a:xfrm>
            </p:grpSpPr>
            <p:sp>
              <p:nvSpPr>
                <p:cNvPr id="3423" name=""/>
                <p:cNvSpPr/>
                <p:nvPr/>
              </p:nvSpPr>
              <p:spPr>
                <a:xfrm>
                  <a:off x="6093000" y="25023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261840" y="24159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 flipV="1">
                  <a:off x="6174000" y="2415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6" name=""/>
            <p:cNvGrpSpPr/>
            <p:nvPr/>
          </p:nvGrpSpPr>
          <p:grpSpPr>
            <a:xfrm>
              <a:off x="6926040" y="2155680"/>
              <a:ext cx="501840" cy="232560"/>
              <a:chOff x="6926040" y="2155680"/>
              <a:chExt cx="501840" cy="232560"/>
            </a:xfrm>
          </p:grpSpPr>
          <p:sp>
            <p:nvSpPr>
              <p:cNvPr id="3427" name=""/>
              <p:cNvSpPr/>
              <p:nvPr/>
            </p:nvSpPr>
            <p:spPr>
              <a:xfrm>
                <a:off x="6930000" y="22593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6930000" y="224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7427880" y="2248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930000" y="22485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926040" y="21556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2" name=""/>
              <p:cNvGrpSpPr/>
              <p:nvPr/>
            </p:nvGrpSpPr>
            <p:grpSpPr>
              <a:xfrm>
                <a:off x="7045560" y="2188440"/>
                <a:ext cx="246240" cy="88200"/>
                <a:chOff x="7045560" y="2188440"/>
                <a:chExt cx="246240" cy="88200"/>
              </a:xfrm>
            </p:grpSpPr>
            <p:sp>
              <p:nvSpPr>
                <p:cNvPr id="3433" name=""/>
                <p:cNvSpPr/>
                <p:nvPr/>
              </p:nvSpPr>
              <p:spPr>
                <a:xfrm flipV="1">
                  <a:off x="7045560" y="2188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214400" y="227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126560" y="2190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6" name=""/>
              <p:cNvGrpSpPr/>
              <p:nvPr/>
            </p:nvGrpSpPr>
            <p:grpSpPr>
              <a:xfrm>
                <a:off x="7045560" y="2187360"/>
                <a:ext cx="246240" cy="88200"/>
                <a:chOff x="7045560" y="2187360"/>
                <a:chExt cx="246240" cy="88200"/>
              </a:xfrm>
            </p:grpSpPr>
            <p:sp>
              <p:nvSpPr>
                <p:cNvPr id="3437" name=""/>
                <p:cNvSpPr/>
                <p:nvPr/>
              </p:nvSpPr>
              <p:spPr>
                <a:xfrm>
                  <a:off x="7045560" y="2273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214400" y="2187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 flipV="1">
                  <a:off x="7126560" y="21873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40" name=""/>
            <p:cNvGrpSpPr/>
            <p:nvPr/>
          </p:nvGrpSpPr>
          <p:grpSpPr>
            <a:xfrm>
              <a:off x="6943680" y="2812680"/>
              <a:ext cx="501480" cy="232920"/>
              <a:chOff x="6943680" y="2812680"/>
              <a:chExt cx="501480" cy="232920"/>
            </a:xfrm>
          </p:grpSpPr>
          <p:sp>
            <p:nvSpPr>
              <p:cNvPr id="3441" name=""/>
              <p:cNvSpPr/>
              <p:nvPr/>
            </p:nvSpPr>
            <p:spPr>
              <a:xfrm>
                <a:off x="6947640" y="291672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94764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7445160" y="2905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947640" y="290556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943680" y="281268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6" name=""/>
              <p:cNvGrpSpPr/>
              <p:nvPr/>
            </p:nvGrpSpPr>
            <p:grpSpPr>
              <a:xfrm>
                <a:off x="7063200" y="2845440"/>
                <a:ext cx="246240" cy="88200"/>
                <a:chOff x="7063200" y="2845440"/>
                <a:chExt cx="246240" cy="88200"/>
              </a:xfrm>
            </p:grpSpPr>
            <p:sp>
              <p:nvSpPr>
                <p:cNvPr id="3447" name=""/>
                <p:cNvSpPr/>
                <p:nvPr/>
              </p:nvSpPr>
              <p:spPr>
                <a:xfrm flipV="1">
                  <a:off x="7063200" y="2845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232040" y="2933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144200" y="28476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0" name=""/>
              <p:cNvGrpSpPr/>
              <p:nvPr/>
            </p:nvGrpSpPr>
            <p:grpSpPr>
              <a:xfrm>
                <a:off x="7063200" y="2844720"/>
                <a:ext cx="246240" cy="88200"/>
                <a:chOff x="7063200" y="2844720"/>
                <a:chExt cx="246240" cy="8820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7063200" y="2931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232040" y="2844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 flipV="1">
                  <a:off x="7144200" y="284472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4" name=""/>
            <p:cNvGrpSpPr/>
            <p:nvPr/>
          </p:nvGrpSpPr>
          <p:grpSpPr>
            <a:xfrm>
              <a:off x="7913520" y="2363400"/>
              <a:ext cx="500040" cy="232920"/>
              <a:chOff x="7913520" y="2363400"/>
              <a:chExt cx="500040" cy="232920"/>
            </a:xfrm>
          </p:grpSpPr>
          <p:sp>
            <p:nvSpPr>
              <p:cNvPr id="3455" name=""/>
              <p:cNvSpPr/>
              <p:nvPr/>
            </p:nvSpPr>
            <p:spPr>
              <a:xfrm>
                <a:off x="7917480" y="246744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7917480" y="245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8413560" y="245628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917480" y="245628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913520" y="236340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0" name=""/>
              <p:cNvGrpSpPr/>
              <p:nvPr/>
            </p:nvGrpSpPr>
            <p:grpSpPr>
              <a:xfrm>
                <a:off x="8032680" y="2396160"/>
                <a:ext cx="245520" cy="88200"/>
                <a:chOff x="8032680" y="2396160"/>
                <a:chExt cx="245520" cy="88200"/>
              </a:xfrm>
            </p:grpSpPr>
            <p:sp>
              <p:nvSpPr>
                <p:cNvPr id="3461" name=""/>
                <p:cNvSpPr/>
                <p:nvPr/>
              </p:nvSpPr>
              <p:spPr>
                <a:xfrm flipV="1">
                  <a:off x="8032680" y="23961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2" name=""/>
                <p:cNvSpPr/>
                <p:nvPr/>
              </p:nvSpPr>
              <p:spPr>
                <a:xfrm>
                  <a:off x="8201160" y="2484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8113320" y="239832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4" name=""/>
              <p:cNvGrpSpPr/>
              <p:nvPr/>
            </p:nvGrpSpPr>
            <p:grpSpPr>
              <a:xfrm>
                <a:off x="8032680" y="2395440"/>
                <a:ext cx="245520" cy="88200"/>
                <a:chOff x="8032680" y="2395440"/>
                <a:chExt cx="245520" cy="88200"/>
              </a:xfrm>
            </p:grpSpPr>
            <p:sp>
              <p:nvSpPr>
                <p:cNvPr id="3465" name=""/>
                <p:cNvSpPr/>
                <p:nvPr/>
              </p:nvSpPr>
              <p:spPr>
                <a:xfrm>
                  <a:off x="8032680" y="24818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8201160" y="23954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7" name=""/>
                <p:cNvSpPr/>
                <p:nvPr/>
              </p:nvSpPr>
              <p:spPr>
                <a:xfrm flipV="1">
                  <a:off x="8113320" y="23954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68" name=""/>
            <p:cNvGrpSpPr/>
            <p:nvPr/>
          </p:nvGrpSpPr>
          <p:grpSpPr>
            <a:xfrm>
              <a:off x="7719840" y="3260520"/>
              <a:ext cx="501480" cy="232560"/>
              <a:chOff x="7719840" y="3260520"/>
              <a:chExt cx="501480" cy="232560"/>
            </a:xfrm>
          </p:grpSpPr>
          <p:sp>
            <p:nvSpPr>
              <p:cNvPr id="3469" name=""/>
              <p:cNvSpPr/>
              <p:nvPr/>
            </p:nvSpPr>
            <p:spPr>
              <a:xfrm>
                <a:off x="7723800" y="3364200"/>
                <a:ext cx="49716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723800" y="33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8221320" y="33534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723800" y="3353400"/>
                <a:ext cx="49284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719840" y="326052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4" name=""/>
              <p:cNvGrpSpPr/>
              <p:nvPr/>
            </p:nvGrpSpPr>
            <p:grpSpPr>
              <a:xfrm>
                <a:off x="7839360" y="3293280"/>
                <a:ext cx="246240" cy="88200"/>
                <a:chOff x="7839360" y="3293280"/>
                <a:chExt cx="246240" cy="88200"/>
              </a:xfrm>
            </p:grpSpPr>
            <p:sp>
              <p:nvSpPr>
                <p:cNvPr id="3475" name=""/>
                <p:cNvSpPr/>
                <p:nvPr/>
              </p:nvSpPr>
              <p:spPr>
                <a:xfrm flipV="1">
                  <a:off x="7839360" y="32932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8008200" y="3381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920360" y="32954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8" name=""/>
              <p:cNvGrpSpPr/>
              <p:nvPr/>
            </p:nvGrpSpPr>
            <p:grpSpPr>
              <a:xfrm>
                <a:off x="7839360" y="3292200"/>
                <a:ext cx="246240" cy="88200"/>
                <a:chOff x="7839360" y="3292200"/>
                <a:chExt cx="246240" cy="88200"/>
              </a:xfrm>
            </p:grpSpPr>
            <p:sp>
              <p:nvSpPr>
                <p:cNvPr id="3479" name=""/>
                <p:cNvSpPr/>
                <p:nvPr/>
              </p:nvSpPr>
              <p:spPr>
                <a:xfrm>
                  <a:off x="7839360" y="3378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8008200" y="3292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 flipV="1">
                  <a:off x="7920360" y="32922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2" name=""/>
            <p:cNvGrpSpPr/>
            <p:nvPr/>
          </p:nvGrpSpPr>
          <p:grpSpPr>
            <a:xfrm>
              <a:off x="7386480" y="3844800"/>
              <a:ext cx="501480" cy="234000"/>
              <a:chOff x="7386480" y="3844800"/>
              <a:chExt cx="501480" cy="234000"/>
            </a:xfrm>
          </p:grpSpPr>
          <p:sp>
            <p:nvSpPr>
              <p:cNvPr id="3483" name=""/>
              <p:cNvSpPr/>
              <p:nvPr/>
            </p:nvSpPr>
            <p:spPr>
              <a:xfrm>
                <a:off x="7390440" y="3949200"/>
                <a:ext cx="497160" cy="129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7390440" y="39384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7887960" y="3938400"/>
                <a:ext cx="0" cy="8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7390440" y="3938400"/>
                <a:ext cx="492840" cy="79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7386480" y="3844800"/>
                <a:ext cx="496800" cy="1512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8" name=""/>
              <p:cNvGrpSpPr/>
              <p:nvPr/>
            </p:nvGrpSpPr>
            <p:grpSpPr>
              <a:xfrm>
                <a:off x="7506000" y="3877560"/>
                <a:ext cx="246240" cy="88560"/>
                <a:chOff x="7506000" y="3877560"/>
                <a:chExt cx="246240" cy="88560"/>
              </a:xfrm>
            </p:grpSpPr>
            <p:sp>
              <p:nvSpPr>
                <p:cNvPr id="3489" name=""/>
                <p:cNvSpPr/>
                <p:nvPr/>
              </p:nvSpPr>
              <p:spPr>
                <a:xfrm flipV="1">
                  <a:off x="7506000" y="3877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674840" y="3966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7587000" y="387972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2" name=""/>
              <p:cNvGrpSpPr/>
              <p:nvPr/>
            </p:nvGrpSpPr>
            <p:grpSpPr>
              <a:xfrm>
                <a:off x="7506000" y="3876480"/>
                <a:ext cx="246240" cy="88560"/>
                <a:chOff x="7506000" y="3876480"/>
                <a:chExt cx="246240" cy="88560"/>
              </a:xfrm>
            </p:grpSpPr>
            <p:sp>
              <p:nvSpPr>
                <p:cNvPr id="3493" name=""/>
                <p:cNvSpPr/>
                <p:nvPr/>
              </p:nvSpPr>
              <p:spPr>
                <a:xfrm>
                  <a:off x="7506000" y="3963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7674840" y="3876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 flipV="1">
                  <a:off x="7587000" y="3876480"/>
                  <a:ext cx="91440" cy="8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6" name=""/>
            <p:cNvGrpSpPr/>
            <p:nvPr/>
          </p:nvGrpSpPr>
          <p:grpSpPr>
            <a:xfrm>
              <a:off x="6777000" y="4333680"/>
              <a:ext cx="500040" cy="232560"/>
              <a:chOff x="6777000" y="4333680"/>
              <a:chExt cx="500040" cy="232560"/>
            </a:xfrm>
          </p:grpSpPr>
          <p:sp>
            <p:nvSpPr>
              <p:cNvPr id="3497" name=""/>
              <p:cNvSpPr/>
              <p:nvPr/>
            </p:nvSpPr>
            <p:spPr>
              <a:xfrm>
                <a:off x="6780960" y="4437360"/>
                <a:ext cx="4957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780960" y="4426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7277040" y="44265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780960" y="4426560"/>
                <a:ext cx="4914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777000" y="4333680"/>
                <a:ext cx="4953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2" name=""/>
              <p:cNvGrpSpPr/>
              <p:nvPr/>
            </p:nvGrpSpPr>
            <p:grpSpPr>
              <a:xfrm>
                <a:off x="6896160" y="4366440"/>
                <a:ext cx="245520" cy="88200"/>
                <a:chOff x="6896160" y="4366440"/>
                <a:chExt cx="245520" cy="88200"/>
              </a:xfrm>
            </p:grpSpPr>
            <p:sp>
              <p:nvSpPr>
                <p:cNvPr id="3503" name=""/>
                <p:cNvSpPr/>
                <p:nvPr/>
              </p:nvSpPr>
              <p:spPr>
                <a:xfrm flipV="1">
                  <a:off x="6896160" y="436644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"/>
                <p:cNvSpPr/>
                <p:nvPr/>
              </p:nvSpPr>
              <p:spPr>
                <a:xfrm>
                  <a:off x="7064640" y="445464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6976800" y="436860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6" name=""/>
              <p:cNvGrpSpPr/>
              <p:nvPr/>
            </p:nvGrpSpPr>
            <p:grpSpPr>
              <a:xfrm>
                <a:off x="6896160" y="4365360"/>
                <a:ext cx="245520" cy="88200"/>
                <a:chOff x="6896160" y="4365360"/>
                <a:chExt cx="245520" cy="88200"/>
              </a:xfrm>
            </p:grpSpPr>
            <p:sp>
              <p:nvSpPr>
                <p:cNvPr id="3507" name=""/>
                <p:cNvSpPr/>
                <p:nvPr/>
              </p:nvSpPr>
              <p:spPr>
                <a:xfrm>
                  <a:off x="6896160" y="445176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>
                  <a:off x="7064640" y="4365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 flipV="1">
                  <a:off x="6976800" y="436536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10" name=""/>
            <p:cNvGrpSpPr/>
            <p:nvPr/>
          </p:nvGrpSpPr>
          <p:grpSpPr>
            <a:xfrm>
              <a:off x="5973480" y="3957480"/>
              <a:ext cx="501840" cy="232560"/>
              <a:chOff x="5973480" y="3957480"/>
              <a:chExt cx="501840" cy="232560"/>
            </a:xfrm>
          </p:grpSpPr>
          <p:sp>
            <p:nvSpPr>
              <p:cNvPr id="3511" name=""/>
              <p:cNvSpPr/>
              <p:nvPr/>
            </p:nvSpPr>
            <p:spPr>
              <a:xfrm>
                <a:off x="5977440" y="4061160"/>
                <a:ext cx="49752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977440" y="405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475320" y="405036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977440" y="4050360"/>
                <a:ext cx="493200" cy="78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973480" y="3957480"/>
                <a:ext cx="49716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6" name=""/>
              <p:cNvGrpSpPr/>
              <p:nvPr/>
            </p:nvGrpSpPr>
            <p:grpSpPr>
              <a:xfrm>
                <a:off x="6093000" y="3990240"/>
                <a:ext cx="246240" cy="88200"/>
                <a:chOff x="6093000" y="3990240"/>
                <a:chExt cx="246240" cy="88200"/>
              </a:xfrm>
            </p:grpSpPr>
            <p:sp>
              <p:nvSpPr>
                <p:cNvPr id="3517" name=""/>
                <p:cNvSpPr/>
                <p:nvPr/>
              </p:nvSpPr>
              <p:spPr>
                <a:xfrm flipV="1">
                  <a:off x="6093000" y="39902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6261840" y="4078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6174000" y="399240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0" name=""/>
              <p:cNvGrpSpPr/>
              <p:nvPr/>
            </p:nvGrpSpPr>
            <p:grpSpPr>
              <a:xfrm>
                <a:off x="6093000" y="3989160"/>
                <a:ext cx="246240" cy="88200"/>
                <a:chOff x="6093000" y="3989160"/>
                <a:chExt cx="246240" cy="88200"/>
              </a:xfrm>
            </p:grpSpPr>
            <p:sp>
              <p:nvSpPr>
                <p:cNvPr id="3521" name=""/>
                <p:cNvSpPr/>
                <p:nvPr/>
              </p:nvSpPr>
              <p:spPr>
                <a:xfrm>
                  <a:off x="6093000" y="4075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6261840" y="3989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 flipV="1">
                  <a:off x="6174000" y="3989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4" name=""/>
            <p:cNvSpPr/>
            <p:nvPr/>
          </p:nvSpPr>
          <p:spPr>
            <a:xfrm flipV="1">
              <a:off x="6229080" y="4169880"/>
              <a:ext cx="180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5" name=""/>
          <p:cNvGrpSpPr/>
          <p:nvPr/>
        </p:nvGrpSpPr>
        <p:grpSpPr>
          <a:xfrm>
            <a:off x="4740120" y="1500120"/>
            <a:ext cx="3738600" cy="3879720"/>
            <a:chOff x="4740120" y="1500120"/>
            <a:chExt cx="3738600" cy="3879720"/>
          </a:xfrm>
        </p:grpSpPr>
        <p:grpSp>
          <p:nvGrpSpPr>
            <p:cNvPr id="3526" name=""/>
            <p:cNvGrpSpPr/>
            <p:nvPr/>
          </p:nvGrpSpPr>
          <p:grpSpPr>
            <a:xfrm>
              <a:off x="4740120" y="1500120"/>
              <a:ext cx="814320" cy="1012680"/>
              <a:chOff x="4740120" y="1500120"/>
              <a:chExt cx="814320" cy="1012680"/>
            </a:xfrm>
          </p:grpSpPr>
          <p:sp>
            <p:nvSpPr>
              <p:cNvPr id="3527" name=""/>
              <p:cNvSpPr/>
              <p:nvPr/>
            </p:nvSpPr>
            <p:spPr>
              <a:xfrm>
                <a:off x="4838400" y="150012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805280" y="152424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809960" y="152892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4740120" y="150516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805280" y="1866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814640" y="2005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4814640" y="21430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4" name=""/>
            <p:cNvGrpSpPr/>
            <p:nvPr/>
          </p:nvGrpSpPr>
          <p:grpSpPr>
            <a:xfrm>
              <a:off x="7664400" y="4367160"/>
              <a:ext cx="814320" cy="1012680"/>
              <a:chOff x="7664400" y="4367160"/>
              <a:chExt cx="814320" cy="1012680"/>
            </a:xfrm>
          </p:grpSpPr>
          <p:sp>
            <p:nvSpPr>
              <p:cNvPr id="3535" name=""/>
              <p:cNvSpPr/>
              <p:nvPr/>
            </p:nvSpPr>
            <p:spPr>
              <a:xfrm>
                <a:off x="7762680" y="4367160"/>
                <a:ext cx="676440" cy="776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7729560" y="4391280"/>
                <a:ext cx="690480" cy="799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734240" y="4395960"/>
                <a:ext cx="676080" cy="1998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7664400" y="4372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7729560" y="47340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7738920" y="4872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738920" y="501012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2" name=""/>
          <p:cNvSpPr/>
          <p:nvPr/>
        </p:nvSpPr>
        <p:spPr>
          <a:xfrm>
            <a:off x="571680" y="2095560"/>
            <a:ext cx="4295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tes contact with server (“speaks first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requests service from serv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Web, client is implemented in browser; for e-mail, in mail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rv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requested service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Web server sends requested Web page, mail server delivers e-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3" name=""/>
          <p:cNvGrpSpPr/>
          <p:nvPr/>
        </p:nvGrpSpPr>
        <p:grpSpPr>
          <a:xfrm>
            <a:off x="5473080" y="1724040"/>
            <a:ext cx="2242080" cy="2743200"/>
            <a:chOff x="5473080" y="1724040"/>
            <a:chExt cx="2242080" cy="2743200"/>
          </a:xfrm>
        </p:grpSpPr>
        <p:sp>
          <p:nvSpPr>
            <p:cNvPr id="3544" name=""/>
            <p:cNvSpPr/>
            <p:nvPr/>
          </p:nvSpPr>
          <p:spPr>
            <a:xfrm>
              <a:off x="5495760" y="1724040"/>
              <a:ext cx="221940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5" name=""/>
            <p:cNvGrpSpPr/>
            <p:nvPr/>
          </p:nvGrpSpPr>
          <p:grpSpPr>
            <a:xfrm>
              <a:off x="5473080" y="2351160"/>
              <a:ext cx="1099800" cy="398880"/>
              <a:chOff x="5473080" y="2351160"/>
              <a:chExt cx="1099800" cy="398880"/>
            </a:xfrm>
          </p:grpSpPr>
          <p:sp>
            <p:nvSpPr>
              <p:cNvPr id="3546" name=""/>
              <p:cNvSpPr/>
              <p:nvPr/>
            </p:nvSpPr>
            <p:spPr>
              <a:xfrm>
                <a:off x="5562360" y="2438280"/>
                <a:ext cx="94284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473080" y="235116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8" name=""/>
          <p:cNvGrpSpPr/>
          <p:nvPr/>
        </p:nvGrpSpPr>
        <p:grpSpPr>
          <a:xfrm>
            <a:off x="5572080" y="1609560"/>
            <a:ext cx="2914560" cy="2743200"/>
            <a:chOff x="5572080" y="1609560"/>
            <a:chExt cx="2914560" cy="2743200"/>
          </a:xfrm>
        </p:grpSpPr>
        <p:sp>
          <p:nvSpPr>
            <p:cNvPr id="3549" name=""/>
            <p:cNvSpPr/>
            <p:nvPr/>
          </p:nvSpPr>
          <p:spPr>
            <a:xfrm>
              <a:off x="5572080" y="1609560"/>
              <a:ext cx="2286000" cy="274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0" name=""/>
            <p:cNvGrpSpPr/>
            <p:nvPr/>
          </p:nvGrpSpPr>
          <p:grpSpPr>
            <a:xfrm>
              <a:off x="7543800" y="3789360"/>
              <a:ext cx="942840" cy="398880"/>
              <a:chOff x="7543800" y="3789360"/>
              <a:chExt cx="942840" cy="398880"/>
            </a:xfrm>
          </p:grpSpPr>
          <p:sp>
            <p:nvSpPr>
              <p:cNvPr id="3551" name=""/>
              <p:cNvSpPr/>
              <p:nvPr/>
            </p:nvSpPr>
            <p:spPr>
              <a:xfrm>
                <a:off x="7543800" y="3876480"/>
                <a:ext cx="94284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7612920" y="3789360"/>
                <a:ext cx="78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rep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7D7-72DE-4563-9280-2E53F06A7E3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3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3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pplication-layer protoco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PI: application programming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s interface between application and transport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ket: Internet AP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processes communicate by sending data into socket, reading data out of so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does a process “identify” the other process with which it wants to communicat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host running other proc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ort numb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- allows receiving host to determine to which local process the message should be deliver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nsport service requirements of common appsInternet apps: their protocols and transport protoco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6" name=""/>
          <p:cNvSpPr/>
          <p:nvPr/>
        </p:nvSpPr>
        <p:spPr>
          <a:xfrm>
            <a:off x="2586600" y="59612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ts more on thi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E5D-0354-4D36-BD82-CFD4E2C26A8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at’s a protocol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uman protocol and a computer network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"/>
          <p:cNvSpPr/>
          <p:nvPr/>
        </p:nvSpPr>
        <p:spPr>
          <a:xfrm>
            <a:off x="685800" y="59436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57480" y="2771640"/>
            <a:ext cx="176184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174080" y="2917800"/>
            <a:ext cx="354960" cy="932760"/>
            <a:chOff x="7174080" y="2917800"/>
            <a:chExt cx="354960" cy="932760"/>
          </a:xfrm>
        </p:grpSpPr>
        <p:sp>
          <p:nvSpPr>
            <p:cNvPr id="789" name=""/>
            <p:cNvSpPr/>
            <p:nvPr/>
          </p:nvSpPr>
          <p:spPr>
            <a:xfrm>
              <a:off x="7174080" y="363492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53720" y="2923920"/>
              <a:ext cx="163080" cy="716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75880" y="3126960"/>
              <a:ext cx="225000" cy="717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74080" y="2917800"/>
              <a:ext cx="354960" cy="215640"/>
            </a:xfrm>
            <a:prstGeom prst="parallelogram">
              <a:avLst>
                <a:gd name="adj" fmla="val 63412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29040" y="2932920"/>
              <a:ext cx="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400880" y="3634920"/>
              <a:ext cx="127800" cy="2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204680" y="3221640"/>
              <a:ext cx="149040" cy="413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25920" y="3346200"/>
              <a:ext cx="113040" cy="1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4543560" y="2631960"/>
            <a:ext cx="622080" cy="50004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709560" y="2376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3129120" y="2771640"/>
            <a:ext cx="676080" cy="6908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1707120" y="2484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971640" y="335268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697760" y="3141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33480" y="3762360"/>
            <a:ext cx="2162160" cy="438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332720" y="3693960"/>
            <a:ext cx="1069200" cy="703800"/>
            <a:chOff x="1332720" y="3693960"/>
            <a:chExt cx="1069200" cy="703800"/>
          </a:xfrm>
        </p:grpSpPr>
        <p:sp>
          <p:nvSpPr>
            <p:cNvPr id="805" name=""/>
            <p:cNvSpPr/>
            <p:nvPr/>
          </p:nvSpPr>
          <p:spPr>
            <a:xfrm>
              <a:off x="1400040" y="3762000"/>
              <a:ext cx="93348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32720" y="3693960"/>
              <a:ext cx="106920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Got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im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 flipV="1">
            <a:off x="1095480" y="4334040"/>
            <a:ext cx="1952640" cy="333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455840" y="4361040"/>
            <a:ext cx="784080" cy="459720"/>
            <a:chOff x="1455840" y="4361040"/>
            <a:chExt cx="784080" cy="459720"/>
          </a:xfrm>
        </p:grpSpPr>
        <p:sp>
          <p:nvSpPr>
            <p:cNvPr id="809" name=""/>
            <p:cNvSpPr/>
            <p:nvPr/>
          </p:nvSpPr>
          <p:spPr>
            <a:xfrm>
              <a:off x="1523880" y="44388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5840" y="43610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2: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5149440" y="2655720"/>
            <a:ext cx="202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C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943520" y="4648320"/>
            <a:ext cx="2343240" cy="428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219640" y="2981160"/>
            <a:ext cx="1762200" cy="276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4896000" y="3476520"/>
            <a:ext cx="2085840" cy="3621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130360" y="3408480"/>
            <a:ext cx="2026440" cy="703800"/>
            <a:chOff x="5130360" y="3408480"/>
            <a:chExt cx="2026440" cy="703800"/>
          </a:xfrm>
        </p:grpSpPr>
        <p:sp>
          <p:nvSpPr>
            <p:cNvPr id="816" name=""/>
            <p:cNvSpPr/>
            <p:nvPr/>
          </p:nvSpPr>
          <p:spPr>
            <a:xfrm>
              <a:off x="5248440" y="3476520"/>
              <a:ext cx="143820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30360" y="3408480"/>
              <a:ext cx="202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CP 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repl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943520" y="4086360"/>
            <a:ext cx="2400120" cy="419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156280" y="4151160"/>
            <a:ext cx="3794040" cy="307080"/>
            <a:chOff x="5156280" y="4151160"/>
            <a:chExt cx="3794040" cy="307080"/>
          </a:xfrm>
        </p:grpSpPr>
        <p:sp>
          <p:nvSpPr>
            <p:cNvPr id="820" name=""/>
            <p:cNvSpPr/>
            <p:nvPr/>
          </p:nvSpPr>
          <p:spPr>
            <a:xfrm>
              <a:off x="5219640" y="4200480"/>
              <a:ext cx="33339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56280" y="4151160"/>
              <a:ext cx="37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Get http://gaia.cs.umass.edu/index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757480" y="4656240"/>
            <a:ext cx="962640" cy="459720"/>
            <a:chOff x="5757480" y="4656240"/>
            <a:chExt cx="962640" cy="459720"/>
          </a:xfrm>
        </p:grpSpPr>
        <p:sp>
          <p:nvSpPr>
            <p:cNvPr id="823" name=""/>
            <p:cNvSpPr/>
            <p:nvPr/>
          </p:nvSpPr>
          <p:spPr>
            <a:xfrm>
              <a:off x="5876640" y="4734000"/>
              <a:ext cx="704880" cy="29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57480" y="465624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&lt;file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4057560" y="1962000"/>
            <a:ext cx="0" cy="3857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674520" y="5094360"/>
            <a:ext cx="826920" cy="459720"/>
            <a:chOff x="3674520" y="5094360"/>
            <a:chExt cx="826920" cy="459720"/>
          </a:xfrm>
        </p:grpSpPr>
        <p:sp>
          <p:nvSpPr>
            <p:cNvPr id="827" name=""/>
            <p:cNvSpPr/>
            <p:nvPr/>
          </p:nvSpPr>
          <p:spPr>
            <a:xfrm>
              <a:off x="3752640" y="5191200"/>
              <a:ext cx="64800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74520" y="509436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6A3-A78C-4E03-BBDA-EC7F3D95DB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closer look at network structure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twork edg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pplications and h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twork cor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munication li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006880" y="2192400"/>
            <a:ext cx="733680" cy="318960"/>
            <a:chOff x="5006880" y="2192400"/>
            <a:chExt cx="733680" cy="318960"/>
          </a:xfrm>
        </p:grpSpPr>
        <p:pic>
          <p:nvPicPr>
            <p:cNvPr id="835" name="" descr=""/>
            <p:cNvPicPr/>
            <p:nvPr/>
          </p:nvPicPr>
          <p:blipFill>
            <a:blip r:embed="rId1"/>
            <a:stretch/>
          </p:blipFill>
          <p:spPr>
            <a:xfrm>
              <a:off x="5006880" y="219240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2"/>
            <a:stretch/>
          </p:blipFill>
          <p:spPr>
            <a:xfrm>
              <a:off x="5460840" y="2310480"/>
              <a:ext cx="27972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flipV="1">
              <a:off x="5413320" y="243396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839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843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847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856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866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7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8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880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4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899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0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1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902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4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905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909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7834320" y="4643280"/>
            <a:ext cx="208080" cy="409680"/>
            <a:chOff x="7834320" y="4643280"/>
            <a:chExt cx="208080" cy="409680"/>
          </a:xfrm>
        </p:grpSpPr>
        <p:sp>
          <p:nvSpPr>
            <p:cNvPr id="918" name=""/>
            <p:cNvSpPr/>
            <p:nvPr/>
          </p:nvSpPr>
          <p:spPr>
            <a:xfrm>
              <a:off x="7834320" y="4958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939440" y="464580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35400" y="473508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34320" y="464328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042400" y="464976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7967160" y="49582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851960" y="477648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864560" y="483120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939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945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949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953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8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959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963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967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977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981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987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991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4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995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001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005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009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015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019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023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033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037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043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047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"/>
          <p:cNvSpPr/>
          <p:nvPr/>
        </p:nvSpPr>
        <p:spPr>
          <a:xfrm flipV="1">
            <a:off x="6200640" y="4389120"/>
            <a:ext cx="180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CD4-D91E-447B-8B73-D2C9FB905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network edge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d systems (hosts)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application progr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WWW, e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“edge of network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ent/server 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host requests, receives service from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WWW client (browser)/ server; email client/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eer-peer model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 interaction symmetr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: teleconferenc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6769080" y="220032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89520" y="205740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350820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4316400" y="1785960"/>
            <a:ext cx="1100160" cy="874800"/>
            <a:chOff x="4316400" y="1785960"/>
            <a:chExt cx="1100160" cy="874800"/>
          </a:xfrm>
        </p:grpSpPr>
        <p:sp>
          <p:nvSpPr>
            <p:cNvPr id="1057" name=""/>
            <p:cNvSpPr/>
            <p:nvPr/>
          </p:nvSpPr>
          <p:spPr>
            <a:xfrm>
              <a:off x="4316400" y="1785960"/>
              <a:ext cx="1100160" cy="874800"/>
            </a:xfrm>
            <a:custGeom>
              <a:avLst/>
              <a:gdLst/>
              <a:ahLst/>
              <a:rect l="l" t="t" r="r" b="b"/>
              <a:pathLst>
                <a:path w="693" h="551">
                  <a:moveTo>
                    <a:pt x="77" y="63"/>
                  </a:moveTo>
                  <a:cubicBezTo>
                    <a:pt x="31" y="105"/>
                    <a:pt x="42" y="191"/>
                    <a:pt x="35" y="255"/>
                  </a:cubicBezTo>
                  <a:cubicBezTo>
                    <a:pt x="28" y="319"/>
                    <a:pt x="0" y="404"/>
                    <a:pt x="35" y="447"/>
                  </a:cubicBezTo>
                  <a:cubicBezTo>
                    <a:pt x="70" y="490"/>
                    <a:pt x="179" y="497"/>
                    <a:pt x="245" y="513"/>
                  </a:cubicBezTo>
                  <a:cubicBezTo>
                    <a:pt x="311" y="529"/>
                    <a:pt x="364" y="551"/>
                    <a:pt x="431" y="543"/>
                  </a:cubicBezTo>
                  <a:cubicBezTo>
                    <a:pt x="498" y="535"/>
                    <a:pt x="604" y="505"/>
                    <a:pt x="647" y="465"/>
                  </a:cubicBezTo>
                  <a:cubicBezTo>
                    <a:pt x="690" y="425"/>
                    <a:pt x="685" y="363"/>
                    <a:pt x="689" y="303"/>
                  </a:cubicBezTo>
                  <a:cubicBezTo>
                    <a:pt x="693" y="243"/>
                    <a:pt x="683" y="149"/>
                    <a:pt x="671" y="105"/>
                  </a:cubicBezTo>
                  <a:cubicBezTo>
                    <a:pt x="659" y="61"/>
                    <a:pt x="677" y="56"/>
                    <a:pt x="617" y="39"/>
                  </a:cubicBezTo>
                  <a:cubicBezTo>
                    <a:pt x="557" y="22"/>
                    <a:pt x="401" y="0"/>
                    <a:pt x="311" y="3"/>
                  </a:cubicBezTo>
                  <a:cubicBezTo>
                    <a:pt x="221" y="6"/>
                    <a:pt x="123" y="21"/>
                    <a:pt x="77" y="63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8" name="" descr=""/>
            <p:cNvPicPr/>
            <p:nvPr/>
          </p:nvPicPr>
          <p:blipFill>
            <a:blip r:embed="rId1"/>
            <a:stretch/>
          </p:blipFill>
          <p:spPr>
            <a:xfrm>
              <a:off x="4397400" y="1863720"/>
              <a:ext cx="93024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5460840" y="2311560"/>
            <a:ext cx="279720" cy="18396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 flipV="1">
            <a:off x="5413320" y="2433240"/>
            <a:ext cx="1144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5006880" y="2787480"/>
            <a:ext cx="733680" cy="319320"/>
            <a:chOff x="5006880" y="2787480"/>
            <a:chExt cx="733680" cy="319320"/>
          </a:xfrm>
        </p:grpSpPr>
        <p:pic>
          <p:nvPicPr>
            <p:cNvPr id="1062" name="" descr=""/>
            <p:cNvPicPr/>
            <p:nvPr/>
          </p:nvPicPr>
          <p:blipFill>
            <a:blip r:embed="rId3"/>
            <a:stretch/>
          </p:blipFill>
          <p:spPr>
            <a:xfrm>
              <a:off x="5006880" y="2787480"/>
              <a:ext cx="416160" cy="3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" descr=""/>
            <p:cNvPicPr/>
            <p:nvPr/>
          </p:nvPicPr>
          <p:blipFill>
            <a:blip r:embed="rId4"/>
            <a:stretch/>
          </p:blipFill>
          <p:spPr>
            <a:xfrm>
              <a:off x="5460840" y="2905560"/>
              <a:ext cx="2797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 flipV="1">
              <a:off x="5413320" y="302904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5383080" y="2575080"/>
            <a:ext cx="69480" cy="214200"/>
            <a:chOff x="5383080" y="2575080"/>
            <a:chExt cx="69480" cy="214200"/>
          </a:xfrm>
        </p:grpSpPr>
        <p:sp>
          <p:nvSpPr>
            <p:cNvPr id="1066" name=""/>
            <p:cNvSpPr/>
            <p:nvPr/>
          </p:nvSpPr>
          <p:spPr>
            <a:xfrm>
              <a:off x="5383080" y="2575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85600" y="265212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88480" y="272916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853240" y="3078000"/>
            <a:ext cx="209520" cy="394920"/>
            <a:chOff x="5853240" y="3078000"/>
            <a:chExt cx="209520" cy="394920"/>
          </a:xfrm>
        </p:grpSpPr>
        <p:sp>
          <p:nvSpPr>
            <p:cNvPr id="1070" name=""/>
            <p:cNvSpPr/>
            <p:nvPr/>
          </p:nvSpPr>
          <p:spPr>
            <a:xfrm>
              <a:off x="5853240" y="338184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959440" y="308052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854320" y="316656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853240" y="30780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62760" y="308412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5986800" y="338184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871240" y="320652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883840" y="325944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6089760" y="3231720"/>
            <a:ext cx="233280" cy="81000"/>
            <a:chOff x="6089760" y="3231720"/>
            <a:chExt cx="233280" cy="81000"/>
          </a:xfrm>
        </p:grpSpPr>
        <p:sp>
          <p:nvSpPr>
            <p:cNvPr id="1079" name=""/>
            <p:cNvSpPr/>
            <p:nvPr/>
          </p:nvSpPr>
          <p:spPr>
            <a:xfrm rot="16200000">
              <a:off x="6085080" y="324252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6168960" y="323928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6252840" y="32360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5989680" y="298620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92920" y="2982960"/>
            <a:ext cx="144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88280" y="2981160"/>
            <a:ext cx="144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89440" y="2446200"/>
            <a:ext cx="28908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702400" y="2731680"/>
            <a:ext cx="2761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6229440" y="281772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6348240" y="3056040"/>
            <a:ext cx="209880" cy="394920"/>
            <a:chOff x="6348240" y="3056040"/>
            <a:chExt cx="209880" cy="394920"/>
          </a:xfrm>
        </p:grpSpPr>
        <p:sp>
          <p:nvSpPr>
            <p:cNvPr id="1089" name=""/>
            <p:cNvSpPr/>
            <p:nvPr/>
          </p:nvSpPr>
          <p:spPr>
            <a:xfrm>
              <a:off x="6348240" y="335988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54440" y="3058560"/>
              <a:ext cx="9648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349320" y="3144600"/>
              <a:ext cx="13284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348240" y="3056040"/>
              <a:ext cx="209880" cy="91080"/>
            </a:xfrm>
            <a:prstGeom prst="parallelogram">
              <a:avLst>
                <a:gd name="adj" fmla="val 8877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58120" y="306216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6482160" y="335988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66240" y="3184560"/>
              <a:ext cx="8820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78840" y="3237480"/>
              <a:ext cx="6696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5391000" y="3675240"/>
            <a:ext cx="479160" cy="924840"/>
            <a:chOff x="5391000" y="3675240"/>
            <a:chExt cx="479160" cy="924840"/>
          </a:xfrm>
        </p:grpSpPr>
        <p:pic>
          <p:nvPicPr>
            <p:cNvPr id="1098" name="" descr=""/>
            <p:cNvPicPr/>
            <p:nvPr/>
          </p:nvPicPr>
          <p:blipFill>
            <a:blip r:embed="rId5"/>
            <a:stretch/>
          </p:blipFill>
          <p:spPr>
            <a:xfrm>
              <a:off x="5391000" y="367524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 flipV="1">
              <a:off x="5797800" y="392184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6"/>
            <a:stretch/>
          </p:blipFill>
          <p:spPr>
            <a:xfrm>
              <a:off x="5391000" y="426960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 flipV="1">
              <a:off x="5797800" y="451980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5516280" y="4016160"/>
              <a:ext cx="70560" cy="222120"/>
              <a:chOff x="5516280" y="4016160"/>
              <a:chExt cx="70560" cy="222120"/>
            </a:xfrm>
          </p:grpSpPr>
          <p:sp>
            <p:nvSpPr>
              <p:cNvPr id="1103" name=""/>
              <p:cNvSpPr/>
              <p:nvPr/>
            </p:nvSpPr>
            <p:spPr>
              <a:xfrm>
                <a:off x="5516280" y="401616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518800" y="409608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521680" y="417600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5864760" y="3918960"/>
              <a:ext cx="0" cy="59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7" name="" descr=""/>
          <p:cNvPicPr/>
          <p:nvPr/>
        </p:nvPicPr>
        <p:blipFill>
          <a:blip r:embed="rId7"/>
          <a:stretch/>
        </p:blipFill>
        <p:spPr>
          <a:xfrm>
            <a:off x="6259680" y="46846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8"/>
          <a:stretch/>
        </p:blipFill>
        <p:spPr>
          <a:xfrm>
            <a:off x="5645160" y="46735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6200000">
            <a:off x="6061680" y="4777200"/>
            <a:ext cx="637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16200000">
            <a:off x="6146640" y="4775040"/>
            <a:ext cx="6336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6224400" y="477972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6513480" y="4630680"/>
            <a:ext cx="180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5889600" y="4619160"/>
            <a:ext cx="0" cy="6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5891040" y="46260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5870520" y="425088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472080" y="429732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7267680" y="429408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9"/>
          <a:stretch/>
        </p:blipFill>
        <p:spPr>
          <a:xfrm>
            <a:off x="7445520" y="384660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10"/>
          <a:stretch/>
        </p:blipFill>
        <p:spPr>
          <a:xfrm>
            <a:off x="6108840" y="3927600"/>
            <a:ext cx="203040" cy="239760"/>
          </a:xfrm>
          <a:prstGeom prst="rect">
            <a:avLst/>
          </a:prstGeom>
          <a:ln w="0">
            <a:noFill/>
          </a:ln>
        </p:spPr>
      </p:pic>
      <p:sp>
        <p:nvSpPr>
          <p:cNvPr id="1120" name=""/>
          <p:cNvSpPr/>
          <p:nvPr/>
        </p:nvSpPr>
        <p:spPr>
          <a:xfrm>
            <a:off x="6189840" y="3701880"/>
            <a:ext cx="1353960" cy="304920"/>
          </a:xfrm>
          <a:custGeom>
            <a:avLst/>
            <a:gdLst/>
            <a:ahLst/>
            <a:rect l="l" t="t" r="r" b="b"/>
            <a:pathLst>
              <a:path w="972" h="228">
                <a:moveTo>
                  <a:pt x="0" y="228"/>
                </a:moveTo>
                <a:cubicBezTo>
                  <a:pt x="135" y="123"/>
                  <a:pt x="270" y="18"/>
                  <a:pt x="432" y="9"/>
                </a:cubicBezTo>
                <a:cubicBezTo>
                  <a:pt x="594" y="0"/>
                  <a:pt x="783" y="85"/>
                  <a:pt x="972" y="17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6456240" y="5124600"/>
            <a:ext cx="406080" cy="426960"/>
            <a:chOff x="6456240" y="5124600"/>
            <a:chExt cx="406080" cy="426960"/>
          </a:xfrm>
        </p:grpSpPr>
        <p:pic>
          <p:nvPicPr>
            <p:cNvPr id="1122" name="" descr=""/>
            <p:cNvPicPr/>
            <p:nvPr/>
          </p:nvPicPr>
          <p:blipFill>
            <a:blip r:embed="rId11"/>
            <a:stretch/>
          </p:blipFill>
          <p:spPr>
            <a:xfrm>
              <a:off x="6456240" y="51246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12"/>
            <a:stretch/>
          </p:blipFill>
          <p:spPr>
            <a:xfrm>
              <a:off x="6516000" y="52365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4" name=""/>
          <p:cNvGrpSpPr/>
          <p:nvPr/>
        </p:nvGrpSpPr>
        <p:grpSpPr>
          <a:xfrm>
            <a:off x="7234200" y="5156280"/>
            <a:ext cx="406080" cy="426960"/>
            <a:chOff x="7234200" y="5156280"/>
            <a:chExt cx="406080" cy="426960"/>
          </a:xfrm>
        </p:grpSpPr>
        <p:pic>
          <p:nvPicPr>
            <p:cNvPr id="1125" name="" descr=""/>
            <p:cNvPicPr/>
            <p:nvPr/>
          </p:nvPicPr>
          <p:blipFill>
            <a:blip r:embed="rId13"/>
            <a:stretch/>
          </p:blipFill>
          <p:spPr>
            <a:xfrm>
              <a:off x="7234200" y="515628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" descr=""/>
            <p:cNvPicPr/>
            <p:nvPr/>
          </p:nvPicPr>
          <p:blipFill>
            <a:blip r:embed="rId14"/>
            <a:stretch/>
          </p:blipFill>
          <p:spPr>
            <a:xfrm>
              <a:off x="7293960" y="526824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7" name=""/>
          <p:cNvGrpSpPr/>
          <p:nvPr/>
        </p:nvGrpSpPr>
        <p:grpSpPr>
          <a:xfrm>
            <a:off x="6819840" y="4871880"/>
            <a:ext cx="379440" cy="376560"/>
            <a:chOff x="6819840" y="4871880"/>
            <a:chExt cx="379440" cy="376560"/>
          </a:xfrm>
        </p:grpSpPr>
        <p:pic>
          <p:nvPicPr>
            <p:cNvPr id="1128" name="" descr=""/>
            <p:cNvPicPr/>
            <p:nvPr/>
          </p:nvPicPr>
          <p:blipFill>
            <a:blip r:embed="rId15"/>
            <a:stretch/>
          </p:blipFill>
          <p:spPr>
            <a:xfrm>
              <a:off x="6819840" y="4871880"/>
              <a:ext cx="379440" cy="3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930000" y="500400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7126200" y="47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7846920" y="4199040"/>
            <a:ext cx="208080" cy="408960"/>
            <a:chOff x="7846920" y="4199040"/>
            <a:chExt cx="208080" cy="408960"/>
          </a:xfrm>
        </p:grpSpPr>
        <p:sp>
          <p:nvSpPr>
            <p:cNvPr id="1132" name=""/>
            <p:cNvSpPr/>
            <p:nvPr/>
          </p:nvSpPr>
          <p:spPr>
            <a:xfrm>
              <a:off x="7846920" y="451368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952040" y="420156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848000" y="429084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846920" y="419904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055000" y="420552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7979760" y="451368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864560" y="433224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77160" y="438696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7808760" y="4653000"/>
            <a:ext cx="797040" cy="1260360"/>
            <a:chOff x="7808760" y="4653000"/>
            <a:chExt cx="797040" cy="1260360"/>
          </a:xfrm>
        </p:grpSpPr>
        <p:sp>
          <p:nvSpPr>
            <p:cNvPr id="1141" name=""/>
            <p:cNvSpPr/>
            <p:nvPr/>
          </p:nvSpPr>
          <p:spPr>
            <a:xfrm>
              <a:off x="7808760" y="4653000"/>
              <a:ext cx="797040" cy="1260360"/>
            </a:xfrm>
            <a:custGeom>
              <a:avLst/>
              <a:gdLst/>
              <a:ahLst/>
              <a:rect l="l" t="t" r="r" b="b"/>
              <a:pathLst>
                <a:path w="502" h="794">
                  <a:moveTo>
                    <a:pt x="289" y="9"/>
                  </a:moveTo>
                  <a:cubicBezTo>
                    <a:pt x="232" y="0"/>
                    <a:pt x="171" y="0"/>
                    <a:pt x="127" y="33"/>
                  </a:cubicBezTo>
                  <a:cubicBezTo>
                    <a:pt x="83" y="66"/>
                    <a:pt x="44" y="109"/>
                    <a:pt x="25" y="207"/>
                  </a:cubicBezTo>
                  <a:cubicBezTo>
                    <a:pt x="6" y="305"/>
                    <a:pt x="0" y="527"/>
                    <a:pt x="13" y="621"/>
                  </a:cubicBezTo>
                  <a:cubicBezTo>
                    <a:pt x="26" y="715"/>
                    <a:pt x="60" y="748"/>
                    <a:pt x="103" y="771"/>
                  </a:cubicBezTo>
                  <a:cubicBezTo>
                    <a:pt x="146" y="794"/>
                    <a:pt x="218" y="765"/>
                    <a:pt x="271" y="759"/>
                  </a:cubicBezTo>
                  <a:cubicBezTo>
                    <a:pt x="324" y="753"/>
                    <a:pt x="388" y="765"/>
                    <a:pt x="421" y="735"/>
                  </a:cubicBezTo>
                  <a:cubicBezTo>
                    <a:pt x="454" y="705"/>
                    <a:pt x="458" y="623"/>
                    <a:pt x="469" y="579"/>
                  </a:cubicBezTo>
                  <a:cubicBezTo>
                    <a:pt x="480" y="535"/>
                    <a:pt x="487" y="553"/>
                    <a:pt x="487" y="471"/>
                  </a:cubicBezTo>
                  <a:cubicBezTo>
                    <a:pt x="487" y="389"/>
                    <a:pt x="502" y="164"/>
                    <a:pt x="469" y="87"/>
                  </a:cubicBezTo>
                  <a:cubicBezTo>
                    <a:pt x="436" y="10"/>
                    <a:pt x="346" y="18"/>
                    <a:pt x="289" y="9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7920000" y="4748400"/>
              <a:ext cx="550800" cy="1038240"/>
              <a:chOff x="7920000" y="4748400"/>
              <a:chExt cx="550800" cy="1038240"/>
            </a:xfrm>
          </p:grpSpPr>
          <p:sp>
            <p:nvSpPr>
              <p:cNvPr id="1143" name=""/>
              <p:cNvSpPr/>
              <p:nvPr/>
            </p:nvSpPr>
            <p:spPr>
              <a:xfrm>
                <a:off x="7920000" y="5547240"/>
                <a:ext cx="550800" cy="239400"/>
              </a:xfrm>
              <a:prstGeom prst="parallelogram">
                <a:avLst>
                  <a:gd name="adj" fmla="val 88632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8199360" y="4754880"/>
                <a:ext cx="262080" cy="7984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923240" y="4982040"/>
                <a:ext cx="349200" cy="7984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920000" y="4748400"/>
                <a:ext cx="550800" cy="239760"/>
              </a:xfrm>
              <a:prstGeom prst="parallelogram">
                <a:avLst>
                  <a:gd name="adj" fmla="val 88499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470800" y="4766040"/>
                <a:ext cx="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8272080" y="5547240"/>
                <a:ext cx="19836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967520" y="5086800"/>
                <a:ext cx="231840" cy="460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01000" y="5224680"/>
                <a:ext cx="176040" cy="16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1" name=""/>
          <p:cNvSpPr/>
          <p:nvPr/>
        </p:nvSpPr>
        <p:spPr>
          <a:xfrm flipV="1">
            <a:off x="7765920" y="426708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763040" y="4876920"/>
            <a:ext cx="10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759800" y="44006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6483240" y="2496960"/>
            <a:ext cx="45900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418520" y="2481120"/>
            <a:ext cx="485640" cy="20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937640" y="2817720"/>
            <a:ext cx="241200" cy="68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67600" y="2593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192800" y="3241800"/>
            <a:ext cx="53532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652880" y="370692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7426440" y="2786040"/>
            <a:ext cx="560160" cy="38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7435440" y="222552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8153280" y="2401920"/>
            <a:ext cx="201600" cy="17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5964120" y="2593800"/>
            <a:ext cx="501840" cy="233280"/>
            <a:chOff x="5964120" y="2593800"/>
            <a:chExt cx="501840" cy="233280"/>
          </a:xfrm>
        </p:grpSpPr>
        <p:sp>
          <p:nvSpPr>
            <p:cNvPr id="1164" name=""/>
            <p:cNvSpPr/>
            <p:nvPr/>
          </p:nvSpPr>
          <p:spPr>
            <a:xfrm>
              <a:off x="5968080" y="26978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96808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465960" y="2687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968080" y="26870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64120" y="25938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6083640" y="2626560"/>
              <a:ext cx="246240" cy="88560"/>
              <a:chOff x="6083640" y="2626560"/>
              <a:chExt cx="246240" cy="88560"/>
            </a:xfrm>
          </p:grpSpPr>
          <p:sp>
            <p:nvSpPr>
              <p:cNvPr id="1170" name=""/>
              <p:cNvSpPr/>
              <p:nvPr/>
            </p:nvSpPr>
            <p:spPr>
              <a:xfrm flipV="1">
                <a:off x="6083640" y="2626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52480" y="271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164640" y="2628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"/>
            <p:cNvGrpSpPr/>
            <p:nvPr/>
          </p:nvGrpSpPr>
          <p:grpSpPr>
            <a:xfrm>
              <a:off x="6083640" y="2625480"/>
              <a:ext cx="246240" cy="88560"/>
              <a:chOff x="6083640" y="2625480"/>
              <a:chExt cx="246240" cy="88560"/>
            </a:xfrm>
          </p:grpSpPr>
          <p:sp>
            <p:nvSpPr>
              <p:cNvPr id="1174" name=""/>
              <p:cNvSpPr/>
              <p:nvPr/>
            </p:nvSpPr>
            <p:spPr>
              <a:xfrm>
                <a:off x="6083640" y="2712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52480" y="2625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6164640" y="2625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7" name=""/>
          <p:cNvGrpSpPr/>
          <p:nvPr/>
        </p:nvGrpSpPr>
        <p:grpSpPr>
          <a:xfrm>
            <a:off x="6916680" y="2365200"/>
            <a:ext cx="501840" cy="233280"/>
            <a:chOff x="6916680" y="2365200"/>
            <a:chExt cx="501840" cy="233280"/>
          </a:xfrm>
        </p:grpSpPr>
        <p:sp>
          <p:nvSpPr>
            <p:cNvPr id="1178" name=""/>
            <p:cNvSpPr/>
            <p:nvPr/>
          </p:nvSpPr>
          <p:spPr>
            <a:xfrm>
              <a:off x="6920640" y="2469240"/>
              <a:ext cx="4975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2064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418520" y="2458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20640" y="24584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916680" y="236520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7036200" y="2397960"/>
              <a:ext cx="246240" cy="88560"/>
              <a:chOff x="7036200" y="2397960"/>
              <a:chExt cx="246240" cy="88560"/>
            </a:xfrm>
          </p:grpSpPr>
          <p:sp>
            <p:nvSpPr>
              <p:cNvPr id="1184" name=""/>
              <p:cNvSpPr/>
              <p:nvPr/>
            </p:nvSpPr>
            <p:spPr>
              <a:xfrm flipV="1">
                <a:off x="7036200" y="23979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205040" y="248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17200" y="24001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7036200" y="2396880"/>
              <a:ext cx="246240" cy="88560"/>
              <a:chOff x="7036200" y="2396880"/>
              <a:chExt cx="246240" cy="88560"/>
            </a:xfrm>
          </p:grpSpPr>
          <p:sp>
            <p:nvSpPr>
              <p:cNvPr id="1188" name=""/>
              <p:cNvSpPr/>
              <p:nvPr/>
            </p:nvSpPr>
            <p:spPr>
              <a:xfrm>
                <a:off x="7036200" y="2483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05040" y="2396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7117200" y="23968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1" name=""/>
          <p:cNvGrpSpPr/>
          <p:nvPr/>
        </p:nvGrpSpPr>
        <p:grpSpPr>
          <a:xfrm>
            <a:off x="6934320" y="3022560"/>
            <a:ext cx="501480" cy="232920"/>
            <a:chOff x="6934320" y="3022560"/>
            <a:chExt cx="501480" cy="232920"/>
          </a:xfrm>
        </p:grpSpPr>
        <p:sp>
          <p:nvSpPr>
            <p:cNvPr id="1192" name=""/>
            <p:cNvSpPr/>
            <p:nvPr/>
          </p:nvSpPr>
          <p:spPr>
            <a:xfrm>
              <a:off x="6938280" y="31266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93828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435800" y="3115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938280" y="31154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934320" y="30225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7053840" y="3055320"/>
              <a:ext cx="246240" cy="88200"/>
              <a:chOff x="7053840" y="3055320"/>
              <a:chExt cx="246240" cy="88200"/>
            </a:xfrm>
          </p:grpSpPr>
          <p:sp>
            <p:nvSpPr>
              <p:cNvPr id="1198" name=""/>
              <p:cNvSpPr/>
              <p:nvPr/>
            </p:nvSpPr>
            <p:spPr>
              <a:xfrm flipV="1">
                <a:off x="7053840" y="305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222680" y="3143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134840" y="3057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7053840" y="3054600"/>
              <a:ext cx="246240" cy="88200"/>
              <a:chOff x="7053840" y="3054600"/>
              <a:chExt cx="246240" cy="88200"/>
            </a:xfrm>
          </p:grpSpPr>
          <p:sp>
            <p:nvSpPr>
              <p:cNvPr id="1202" name=""/>
              <p:cNvSpPr/>
              <p:nvPr/>
            </p:nvSpPr>
            <p:spPr>
              <a:xfrm>
                <a:off x="7053840" y="31410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222680" y="3054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V="1">
                <a:off x="7134840" y="3054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"/>
          <p:cNvGrpSpPr/>
          <p:nvPr/>
        </p:nvGrpSpPr>
        <p:grpSpPr>
          <a:xfrm>
            <a:off x="7904160" y="2573280"/>
            <a:ext cx="500040" cy="232920"/>
            <a:chOff x="7904160" y="2573280"/>
            <a:chExt cx="500040" cy="232920"/>
          </a:xfrm>
        </p:grpSpPr>
        <p:sp>
          <p:nvSpPr>
            <p:cNvPr id="1206" name=""/>
            <p:cNvSpPr/>
            <p:nvPr/>
          </p:nvSpPr>
          <p:spPr>
            <a:xfrm>
              <a:off x="7908120" y="2677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90812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404200" y="2666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908120" y="2666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904160" y="2573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8023320" y="2606040"/>
              <a:ext cx="245520" cy="88200"/>
              <a:chOff x="8023320" y="2606040"/>
              <a:chExt cx="245520" cy="88200"/>
            </a:xfrm>
          </p:grpSpPr>
          <p:sp>
            <p:nvSpPr>
              <p:cNvPr id="1212" name=""/>
              <p:cNvSpPr/>
              <p:nvPr/>
            </p:nvSpPr>
            <p:spPr>
              <a:xfrm flipV="1">
                <a:off x="8023320" y="2606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191800" y="2694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103960" y="2608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8023320" y="2605320"/>
              <a:ext cx="245520" cy="88200"/>
              <a:chOff x="8023320" y="2605320"/>
              <a:chExt cx="245520" cy="88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8023320" y="2691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8191800" y="2605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8103960" y="2605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9" name=""/>
          <p:cNvGrpSpPr/>
          <p:nvPr/>
        </p:nvGrpSpPr>
        <p:grpSpPr>
          <a:xfrm>
            <a:off x="7710480" y="3470400"/>
            <a:ext cx="501480" cy="232920"/>
            <a:chOff x="7710480" y="3470400"/>
            <a:chExt cx="501480" cy="232920"/>
          </a:xfrm>
        </p:grpSpPr>
        <p:sp>
          <p:nvSpPr>
            <p:cNvPr id="1220" name=""/>
            <p:cNvSpPr/>
            <p:nvPr/>
          </p:nvSpPr>
          <p:spPr>
            <a:xfrm>
              <a:off x="7714440" y="357444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71444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211960" y="35632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14440" y="356328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710480" y="34704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5" name=""/>
            <p:cNvGrpSpPr/>
            <p:nvPr/>
          </p:nvGrpSpPr>
          <p:grpSpPr>
            <a:xfrm>
              <a:off x="7830000" y="3503160"/>
              <a:ext cx="246240" cy="88200"/>
              <a:chOff x="7830000" y="3503160"/>
              <a:chExt cx="246240" cy="88200"/>
            </a:xfrm>
          </p:grpSpPr>
          <p:sp>
            <p:nvSpPr>
              <p:cNvPr id="1226" name=""/>
              <p:cNvSpPr/>
              <p:nvPr/>
            </p:nvSpPr>
            <p:spPr>
              <a:xfrm flipV="1">
                <a:off x="7830000" y="350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998840" y="359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911000" y="3505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7830000" y="3502440"/>
              <a:ext cx="246240" cy="88200"/>
              <a:chOff x="7830000" y="3502440"/>
              <a:chExt cx="246240" cy="88200"/>
            </a:xfrm>
          </p:grpSpPr>
          <p:sp>
            <p:nvSpPr>
              <p:cNvPr id="1230" name=""/>
              <p:cNvSpPr/>
              <p:nvPr/>
            </p:nvSpPr>
            <p:spPr>
              <a:xfrm>
                <a:off x="7830000" y="3588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998840" y="3502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7911000" y="35024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"/>
          <p:cNvGrpSpPr/>
          <p:nvPr/>
        </p:nvGrpSpPr>
        <p:grpSpPr>
          <a:xfrm>
            <a:off x="7377120" y="4054320"/>
            <a:ext cx="501480" cy="234720"/>
            <a:chOff x="7377120" y="4054320"/>
            <a:chExt cx="501480" cy="234720"/>
          </a:xfrm>
        </p:grpSpPr>
        <p:sp>
          <p:nvSpPr>
            <p:cNvPr id="1234" name=""/>
            <p:cNvSpPr/>
            <p:nvPr/>
          </p:nvSpPr>
          <p:spPr>
            <a:xfrm>
              <a:off x="7381080" y="415908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8108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78600" y="414792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81080" y="414792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77120" y="405432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9" name=""/>
            <p:cNvGrpSpPr/>
            <p:nvPr/>
          </p:nvGrpSpPr>
          <p:grpSpPr>
            <a:xfrm>
              <a:off x="7496640" y="4087440"/>
              <a:ext cx="246240" cy="88920"/>
              <a:chOff x="7496640" y="4087440"/>
              <a:chExt cx="246240" cy="88920"/>
            </a:xfrm>
          </p:grpSpPr>
          <p:sp>
            <p:nvSpPr>
              <p:cNvPr id="1240" name=""/>
              <p:cNvSpPr/>
              <p:nvPr/>
            </p:nvSpPr>
            <p:spPr>
              <a:xfrm flipV="1">
                <a:off x="7496640" y="4087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665480" y="417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77640" y="408960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7496640" y="4086360"/>
              <a:ext cx="246240" cy="88920"/>
              <a:chOff x="7496640" y="4086360"/>
              <a:chExt cx="246240" cy="88920"/>
            </a:xfrm>
          </p:grpSpPr>
          <p:sp>
            <p:nvSpPr>
              <p:cNvPr id="1244" name=""/>
              <p:cNvSpPr/>
              <p:nvPr/>
            </p:nvSpPr>
            <p:spPr>
              <a:xfrm>
                <a:off x="7496640" y="417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65480" y="4086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7577640" y="408636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7" name=""/>
          <p:cNvGrpSpPr/>
          <p:nvPr/>
        </p:nvGrpSpPr>
        <p:grpSpPr>
          <a:xfrm>
            <a:off x="6767640" y="4543560"/>
            <a:ext cx="500040" cy="232920"/>
            <a:chOff x="6767640" y="4543560"/>
            <a:chExt cx="500040" cy="232920"/>
          </a:xfrm>
        </p:grpSpPr>
        <p:sp>
          <p:nvSpPr>
            <p:cNvPr id="1248" name=""/>
            <p:cNvSpPr/>
            <p:nvPr/>
          </p:nvSpPr>
          <p:spPr>
            <a:xfrm>
              <a:off x="6771600" y="464760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7160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267680" y="46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771600" y="4636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67640" y="454356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3" name=""/>
            <p:cNvGrpSpPr/>
            <p:nvPr/>
          </p:nvGrpSpPr>
          <p:grpSpPr>
            <a:xfrm>
              <a:off x="6886800" y="4576320"/>
              <a:ext cx="245520" cy="88200"/>
              <a:chOff x="6886800" y="4576320"/>
              <a:chExt cx="245520" cy="88200"/>
            </a:xfrm>
          </p:grpSpPr>
          <p:sp>
            <p:nvSpPr>
              <p:cNvPr id="1254" name=""/>
              <p:cNvSpPr/>
              <p:nvPr/>
            </p:nvSpPr>
            <p:spPr>
              <a:xfrm flipV="1">
                <a:off x="6886800" y="45763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055280" y="466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967440" y="45784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886800" y="4575600"/>
              <a:ext cx="245520" cy="88200"/>
              <a:chOff x="6886800" y="4575600"/>
              <a:chExt cx="245520" cy="88200"/>
            </a:xfrm>
          </p:grpSpPr>
          <p:sp>
            <p:nvSpPr>
              <p:cNvPr id="1258" name=""/>
              <p:cNvSpPr/>
              <p:nvPr/>
            </p:nvSpPr>
            <p:spPr>
              <a:xfrm>
                <a:off x="6886800" y="4662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055280" y="45756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V="1">
                <a:off x="6967440" y="45756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1" name=""/>
          <p:cNvGrpSpPr/>
          <p:nvPr/>
        </p:nvGrpSpPr>
        <p:grpSpPr>
          <a:xfrm>
            <a:off x="5964120" y="4167360"/>
            <a:ext cx="501840" cy="232920"/>
            <a:chOff x="5964120" y="4167360"/>
            <a:chExt cx="501840" cy="232920"/>
          </a:xfrm>
        </p:grpSpPr>
        <p:sp>
          <p:nvSpPr>
            <p:cNvPr id="1262" name=""/>
            <p:cNvSpPr/>
            <p:nvPr/>
          </p:nvSpPr>
          <p:spPr>
            <a:xfrm>
              <a:off x="5968080" y="427140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6808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465960" y="4260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68080" y="426024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64120" y="416736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7" name=""/>
            <p:cNvGrpSpPr/>
            <p:nvPr/>
          </p:nvGrpSpPr>
          <p:grpSpPr>
            <a:xfrm>
              <a:off x="6083640" y="4200120"/>
              <a:ext cx="246240" cy="88200"/>
              <a:chOff x="6083640" y="4200120"/>
              <a:chExt cx="246240" cy="88200"/>
            </a:xfrm>
          </p:grpSpPr>
          <p:sp>
            <p:nvSpPr>
              <p:cNvPr id="1268" name=""/>
              <p:cNvSpPr/>
              <p:nvPr/>
            </p:nvSpPr>
            <p:spPr>
              <a:xfrm flipV="1">
                <a:off x="6083640" y="4200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252480" y="428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164640" y="42022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1" name=""/>
            <p:cNvGrpSpPr/>
            <p:nvPr/>
          </p:nvGrpSpPr>
          <p:grpSpPr>
            <a:xfrm>
              <a:off x="6083640" y="4199400"/>
              <a:ext cx="246240" cy="88200"/>
              <a:chOff x="6083640" y="4199400"/>
              <a:chExt cx="246240" cy="88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083640" y="4285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52480" y="4199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6164640" y="419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5" name=""/>
          <p:cNvSpPr/>
          <p:nvPr/>
        </p:nvSpPr>
        <p:spPr>
          <a:xfrm>
            <a:off x="5391000" y="2266920"/>
            <a:ext cx="2724480" cy="2448000"/>
          </a:xfrm>
          <a:custGeom>
            <a:avLst/>
            <a:gdLst/>
            <a:ahLst/>
            <a:rect l="l" t="t" r="r" b="b"/>
            <a:pathLst>
              <a:path w="1716" h="1542">
                <a:moveTo>
                  <a:pt x="0" y="0"/>
                </a:moveTo>
                <a:cubicBezTo>
                  <a:pt x="62" y="7"/>
                  <a:pt x="230" y="4"/>
                  <a:pt x="372" y="42"/>
                </a:cubicBezTo>
                <a:cubicBezTo>
                  <a:pt x="514" y="80"/>
                  <a:pt x="672" y="114"/>
                  <a:pt x="852" y="228"/>
                </a:cubicBezTo>
                <a:cubicBezTo>
                  <a:pt x="1032" y="342"/>
                  <a:pt x="1308" y="507"/>
                  <a:pt x="1452" y="726"/>
                </a:cubicBezTo>
                <a:cubicBezTo>
                  <a:pt x="1596" y="945"/>
                  <a:pt x="1661" y="1372"/>
                  <a:pt x="1716" y="154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210360" y="4398480"/>
            <a:ext cx="144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EFD-0372-48F8-981D-32DCB1D88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edge: connection-oriented servic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transfer between end sy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handshak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tup (prepare for) data transfer ahead of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lo, hello back human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set up “state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wo communicating hos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- Transmission Control Protoco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’s connection-oriented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TCP service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RFC 79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eliable, in-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yte-stream data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: acknowledgements and retransmi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on’t overwhelm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s “slow down sending rate” when network conges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770-FE40-462E-B984-1CC78ADB74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4-22T12:13:11Z</dcterms:modified>
  <cp:revision>48</cp:revision>
  <dc:subject/>
  <dc:title>Part I: Introduction</dc:title>
</cp:coreProperties>
</file>