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CAMERA.WAV" ContentType="audio/x-wav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593-6B2B-4D33-85DC-C9FCC181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5BE-4990-465A-B6DF-43228F5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B36-9916-4C46-B8CD-2A763874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1D4-9170-4D80-85EF-9D7E584E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0B1-76BB-43B0-8A31-D3699EE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212-7E4B-4DFF-B083-DE509B65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1CC-8AB4-486A-8B13-E401C08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501-3972-44BB-BC1C-F73CD824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9D3F-70A0-44EA-B480-54D6F213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08E-80B9-48E8-AC4D-A63C3523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BF9-CBEA-4AF2-850C-4086C14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FE0-2667-4DF2-AB21-16A7EDE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AC71-A0B6-4CB4-9FAC-FEDF2DF0B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ail access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0600" y="3219120"/>
            <a:ext cx="74818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delivery/storage to receiver’s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l access protocol: retrieval 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zation (agent &lt;--&gt;server) and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IMA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features (more comple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ipulation of stored msgs 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Hotmail , Yahoo! Mail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07040" y="1536840"/>
            <a:ext cx="732240" cy="702720"/>
            <a:chOff x="7007040" y="1536840"/>
            <a:chExt cx="732240" cy="70272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019640" y="153684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7007040" y="1658880"/>
              <a:ext cx="732240" cy="580680"/>
              <a:chOff x="7007040" y="1658880"/>
              <a:chExt cx="732240" cy="580680"/>
            </a:xfrm>
          </p:grpSpPr>
          <p:sp>
            <p:nvSpPr>
              <p:cNvPr id="47" name=""/>
              <p:cNvSpPr/>
              <p:nvPr/>
            </p:nvSpPr>
            <p:spPr>
              <a:xfrm>
                <a:off x="7065720" y="170496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07040" y="165888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" name=""/>
          <p:cNvGrpSpPr/>
          <p:nvPr/>
        </p:nvGrpSpPr>
        <p:grpSpPr>
          <a:xfrm>
            <a:off x="3135240" y="1631880"/>
            <a:ext cx="355320" cy="932760"/>
            <a:chOff x="3135240" y="1631880"/>
            <a:chExt cx="355320" cy="932760"/>
          </a:xfrm>
        </p:grpSpPr>
        <p:sp>
          <p:nvSpPr>
            <p:cNvPr id="50" name=""/>
            <p:cNvSpPr/>
            <p:nvPr/>
          </p:nvSpPr>
          <p:spPr>
            <a:xfrm>
              <a:off x="313524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524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3704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524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056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36204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6584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8708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49880" y="2009880"/>
            <a:ext cx="1486800" cy="1179000"/>
            <a:chOff x="2549880" y="2009880"/>
            <a:chExt cx="1486800" cy="1179000"/>
          </a:xfrm>
        </p:grpSpPr>
        <p:sp>
          <p:nvSpPr>
            <p:cNvPr id="59" name=""/>
            <p:cNvSpPr/>
            <p:nvPr/>
          </p:nvSpPr>
          <p:spPr>
            <a:xfrm>
              <a:off x="2549880" y="2608200"/>
              <a:ext cx="148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nder’s mai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885760" y="2009880"/>
              <a:ext cx="809280" cy="561600"/>
              <a:chOff x="2885760" y="2009880"/>
              <a:chExt cx="809280" cy="561600"/>
            </a:xfrm>
          </p:grpSpPr>
          <p:sp>
            <p:nvSpPr>
              <p:cNvPr id="61" name=""/>
              <p:cNvSpPr/>
              <p:nvPr/>
            </p:nvSpPr>
            <p:spPr>
              <a:xfrm>
                <a:off x="2885760" y="2009880"/>
                <a:ext cx="809280" cy="5616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923560" y="2124000"/>
                <a:ext cx="71388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01320" y="21682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17448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261600" y="21697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35232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44916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53808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85560" y="21682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36160" y="2388960"/>
                <a:ext cx="10116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72600" y="238896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09400" y="2387520"/>
                <a:ext cx="10116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63120" y="23842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15760" y="2384280"/>
                <a:ext cx="10116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1558800" y="1641600"/>
            <a:ext cx="732240" cy="702720"/>
            <a:chOff x="1558800" y="1641600"/>
            <a:chExt cx="732240" cy="7027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571400" y="16416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558800" y="1763640"/>
              <a:ext cx="732240" cy="580680"/>
              <a:chOff x="1558800" y="1763640"/>
              <a:chExt cx="732240" cy="58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617480" y="18097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58800" y="1763640"/>
                <a:ext cx="7322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2200320" y="1389240"/>
            <a:ext cx="977760" cy="459720"/>
            <a:chOff x="2200320" y="1389240"/>
            <a:chExt cx="977760" cy="459720"/>
          </a:xfrm>
        </p:grpSpPr>
        <p:sp>
          <p:nvSpPr>
            <p:cNvPr id="81" name=""/>
            <p:cNvSpPr/>
            <p:nvPr/>
          </p:nvSpPr>
          <p:spPr>
            <a:xfrm>
              <a:off x="2257200" y="14576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0320" y="138924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002200" y="1631880"/>
            <a:ext cx="355320" cy="932760"/>
            <a:chOff x="5002200" y="1631880"/>
            <a:chExt cx="355320" cy="932760"/>
          </a:xfrm>
        </p:grpSpPr>
        <p:sp>
          <p:nvSpPr>
            <p:cNvPr id="84" name=""/>
            <p:cNvSpPr/>
            <p:nvPr/>
          </p:nvSpPr>
          <p:spPr>
            <a:xfrm>
              <a:off x="500220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8220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0400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0220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5752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22900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3280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5404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24200" y="13892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07720" y="147492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P3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5920" y="2598840"/>
            <a:ext cx="159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ver’s ma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734000" y="2000160"/>
            <a:ext cx="809640" cy="561960"/>
            <a:chOff x="4734000" y="2000160"/>
            <a:chExt cx="809640" cy="561960"/>
          </a:xfrm>
        </p:grpSpPr>
        <p:sp>
          <p:nvSpPr>
            <p:cNvPr id="99" name=""/>
            <p:cNvSpPr/>
            <p:nvPr/>
          </p:nvSpPr>
          <p:spPr>
            <a:xfrm>
              <a:off x="47340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721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499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30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102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09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977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86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341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847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12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580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117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643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48-042B-4367-8C1B-51A9957CF9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record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tributed db storing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source recor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R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440" y="3895560"/>
            <a:ext cx="400068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ype=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domain (e.g. foo.c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is IP address of authoritative name server for this 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795320" y="1895400"/>
            <a:ext cx="5364360" cy="571680"/>
            <a:chOff x="1795320" y="1895400"/>
            <a:chExt cx="5364360" cy="571680"/>
          </a:xfrm>
        </p:grpSpPr>
        <p:sp>
          <p:nvSpPr>
            <p:cNvPr id="324" name=""/>
            <p:cNvSpPr/>
            <p:nvPr/>
          </p:nvSpPr>
          <p:spPr>
            <a:xfrm>
              <a:off x="1795320" y="1906920"/>
              <a:ext cx="53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R format: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(name, value, type, tt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76320" y="1895400"/>
              <a:ext cx="5267520" cy="57168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host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IP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14920" y="2647800"/>
            <a:ext cx="380988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C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n alias name for some “canonical” (the real)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canonical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5840" y="4809960"/>
            <a:ext cx="444816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=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hostname of mailserver associat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896-63AE-40CF-88CD-396B47C98D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, messag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 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ry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ssages, both with </a:t>
            </a:r>
            <a:r>
              <a:rPr b="0" lang="en-US" sz="2400" spc="-1" strike="noStrike">
                <a:solidFill>
                  <a:srgbClr val="33b729"/>
                </a:solidFill>
                <a:latin typeface="Comic Sans MS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essage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352600"/>
            <a:ext cx="38098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6 bit # for query, rep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 to query uses same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227480" y="2128680"/>
            <a:ext cx="4916520" cy="406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B73-ACAA-4693-A266-485F1C4493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protocol, messag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327560" y="1523880"/>
            <a:ext cx="4816440" cy="37767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55080" y="1829520"/>
            <a:ext cx="22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74680" y="2829600"/>
            <a:ext cx="20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1520" y="3715200"/>
            <a:ext cx="26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1080" y="4667760"/>
            <a:ext cx="277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“helpfu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2171880"/>
            <a:ext cx="14475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52880" y="3200400"/>
            <a:ext cx="1514520" cy="371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81320" y="4076640"/>
            <a:ext cx="1447920" cy="1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191040" y="4743360"/>
            <a:ext cx="1438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508-2766-411F-9F4C-0D1341C43C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04520" y="2295360"/>
            <a:ext cx="396252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ed in BSD4.1 UNIX, 198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icitly created, used, released by app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paradig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types of transport service via socket API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gr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, byte stream-orient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248440" y="2313360"/>
            <a:ext cx="3337920" cy="3715920"/>
            <a:chOff x="5248440" y="2313360"/>
            <a:chExt cx="3337920" cy="3715920"/>
          </a:xfrm>
        </p:grpSpPr>
        <p:sp>
          <p:nvSpPr>
            <p:cNvPr id="346" name=""/>
            <p:cNvSpPr/>
            <p:nvPr/>
          </p:nvSpPr>
          <p:spPr>
            <a:xfrm>
              <a:off x="5288040" y="2862000"/>
              <a:ext cx="329832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host-loca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application-created/owne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Comic Sans MS"/>
                </a:rPr>
                <a:t>OS-controlled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interface (a “door”) into whi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 process can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th send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messages to/from another (remote o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ocal) application 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48440" y="2543040"/>
              <a:ext cx="3295440" cy="348624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419440" y="2313360"/>
              <a:ext cx="1107000" cy="459720"/>
              <a:chOff x="5419440" y="2313360"/>
              <a:chExt cx="1107000" cy="45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5419440" y="2343240"/>
                <a:ext cx="1075680" cy="399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423760" y="2313360"/>
                <a:ext cx="110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Comic Sans MS"/>
                  </a:rPr>
                  <a:t>sock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619200" y="1276200"/>
            <a:ext cx="81630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dersta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to build client/server application that communicate using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DDD-09C6-4820-9DEC-01C48AEF7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-programming using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0120" y="14191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ock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door between application process and end-end-transport protocol (UCP or TC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ser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iable transfer of bytes from one process to ano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073240" y="351324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2111760" y="3853800"/>
            <a:ext cx="1145520" cy="1585080"/>
            <a:chOff x="2111760" y="3853800"/>
            <a:chExt cx="1145520" cy="1585080"/>
          </a:xfrm>
        </p:grpSpPr>
        <p:sp>
          <p:nvSpPr>
            <p:cNvPr id="356" name=""/>
            <p:cNvSpPr/>
            <p:nvPr/>
          </p:nvSpPr>
          <p:spPr>
            <a:xfrm>
              <a:off x="2162160" y="388620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81960" y="385380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2111760" y="4438800"/>
              <a:ext cx="1145520" cy="1000080"/>
              <a:chOff x="2111760" y="4438800"/>
              <a:chExt cx="1145520" cy="1000080"/>
            </a:xfrm>
          </p:grpSpPr>
          <p:sp>
            <p:nvSpPr>
              <p:cNvPr id="359" name=""/>
              <p:cNvSpPr/>
              <p:nvPr/>
            </p:nvSpPr>
            <p:spPr>
              <a:xfrm>
                <a:off x="2111760" y="4514040"/>
                <a:ext cx="114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wi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ab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71520" y="443880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2270880" y="4234680"/>
              <a:ext cx="872640" cy="368280"/>
              <a:chOff x="2270880" y="4234680"/>
              <a:chExt cx="872640" cy="368280"/>
            </a:xfrm>
          </p:grpSpPr>
          <p:sp>
            <p:nvSpPr>
              <p:cNvPr id="362" name=""/>
              <p:cNvSpPr/>
              <p:nvPr/>
            </p:nvSpPr>
            <p:spPr>
              <a:xfrm>
                <a:off x="2305080" y="429552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70880" y="423468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518400" y="36820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9600" y="454896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943280" y="3895560"/>
            <a:ext cx="0" cy="4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33560" y="4476240"/>
            <a:ext cx="0" cy="1000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61800" y="559980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730840" y="3408480"/>
            <a:ext cx="1123920" cy="89208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5769360" y="3749040"/>
            <a:ext cx="1145520" cy="1585080"/>
            <a:chOff x="5769360" y="3749040"/>
            <a:chExt cx="1145520" cy="1585080"/>
          </a:xfrm>
        </p:grpSpPr>
        <p:sp>
          <p:nvSpPr>
            <p:cNvPr id="371" name=""/>
            <p:cNvSpPr/>
            <p:nvPr/>
          </p:nvSpPr>
          <p:spPr>
            <a:xfrm>
              <a:off x="5819760" y="3781440"/>
              <a:ext cx="1019160" cy="457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39560" y="3749040"/>
              <a:ext cx="101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5769360" y="4334040"/>
              <a:ext cx="1145520" cy="1000080"/>
              <a:chOff x="5769360" y="4334040"/>
              <a:chExt cx="1145520" cy="1000080"/>
            </a:xfrm>
          </p:grpSpPr>
          <p:sp>
            <p:nvSpPr>
              <p:cNvPr id="374" name=""/>
              <p:cNvSpPr/>
              <p:nvPr/>
            </p:nvSpPr>
            <p:spPr>
              <a:xfrm>
                <a:off x="5769360" y="4409280"/>
                <a:ext cx="114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 wi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buffers,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variabl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829120" y="4334040"/>
                <a:ext cx="1019160" cy="100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5928480" y="4129920"/>
              <a:ext cx="872640" cy="368280"/>
              <a:chOff x="5928480" y="4129920"/>
              <a:chExt cx="872640" cy="368280"/>
            </a:xfrm>
          </p:grpSpPr>
          <p:sp>
            <p:nvSpPr>
              <p:cNvPr id="377" name=""/>
              <p:cNvSpPr/>
              <p:nvPr/>
            </p:nvSpPr>
            <p:spPr>
              <a:xfrm>
                <a:off x="5962680" y="4190760"/>
                <a:ext cx="780840" cy="247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928480" y="4129920"/>
                <a:ext cx="872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sock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>
            <a:off x="7119000" y="35200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vel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23680" y="4434480"/>
            <a:ext cx="142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029360" y="3762000"/>
            <a:ext cx="0" cy="485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20000" y="4343400"/>
            <a:ext cx="0" cy="1000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19400" y="549504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97120" y="4229280"/>
            <a:ext cx="179892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49200" y="483768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228840" y="4734000"/>
            <a:ext cx="2533680" cy="93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382-BC4B-444B-A9EE-CCBBD17680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with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must contact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process must first be ru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ust have created socket (door) that welcomes client’s co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contacts server b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ng client-local TCP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ying IP address, port number of serve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 creates sock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lient TCP establishes connection to server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contacted by client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rver TCP creates new sock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server process to communicate with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s server to talk with multiple cl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67400" y="4583880"/>
            <a:ext cx="4133880" cy="1635840"/>
            <a:chOff x="4667400" y="4583880"/>
            <a:chExt cx="4133880" cy="1635840"/>
          </a:xfrm>
        </p:grpSpPr>
        <p:sp>
          <p:nvSpPr>
            <p:cNvPr id="391" name=""/>
            <p:cNvSpPr/>
            <p:nvPr/>
          </p:nvSpPr>
          <p:spPr>
            <a:xfrm>
              <a:off x="4910400" y="4983840"/>
              <a:ext cx="35791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TCP provides reliable, in-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transfer of bytes (“pipe”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between client and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67400" y="4800600"/>
              <a:ext cx="4133880" cy="14191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671360" y="4583880"/>
              <a:ext cx="2730240" cy="398880"/>
              <a:chOff x="4671360" y="4583880"/>
              <a:chExt cx="2730240" cy="398880"/>
            </a:xfrm>
          </p:grpSpPr>
          <p:sp>
            <p:nvSpPr>
              <p:cNvPr id="394" name=""/>
              <p:cNvSpPr/>
              <p:nvPr/>
            </p:nvSpPr>
            <p:spPr>
              <a:xfrm>
                <a:off x="4771800" y="4657680"/>
                <a:ext cx="25146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671360" y="4583880"/>
                <a:ext cx="273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pplication viewpo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C1E-345E-4DF9-B2C2-8B9679FE27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with TC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060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xample client-server app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reads line from standard inpu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romUs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 , sends to server via sock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To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ads line from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converts line to uppercase, sends back to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reads, prints  modified line from socke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rom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ea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62600" y="1628640"/>
            <a:ext cx="3695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put stream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bytes into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tput stream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uence of bytes out of process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353200" y="5543640"/>
            <a:ext cx="3019320" cy="495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ent so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200">
            <a:off x="5352840" y="4712760"/>
            <a:ext cx="1655640" cy="352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200">
            <a:off x="5313240" y="4689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From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1200">
            <a:off x="6364080" y="3951000"/>
            <a:ext cx="1942920" cy="352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1200">
            <a:off x="6413400" y="3989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utTo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324560" y="5057640"/>
            <a:ext cx="0" cy="476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1200">
            <a:off x="7126200" y="3998520"/>
            <a:ext cx="1942920" cy="352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1200">
            <a:off x="7032600" y="40752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inFrom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086680" y="5105520"/>
            <a:ext cx="0" cy="476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81560" y="4229280"/>
            <a:ext cx="0" cy="475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9E99-799E-4ECF-A7E6-79F2549247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socket interaction: TC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308240" y="3216600"/>
            <a:ext cx="2127600" cy="929880"/>
            <a:chOff x="1308240" y="3216600"/>
            <a:chExt cx="2127600" cy="929880"/>
          </a:xfrm>
        </p:grpSpPr>
        <p:sp>
          <p:nvSpPr>
            <p:cNvPr id="411" name=""/>
            <p:cNvSpPr/>
            <p:nvPr/>
          </p:nvSpPr>
          <p:spPr>
            <a:xfrm>
              <a:off x="1308240" y="321660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08960" y="3626280"/>
              <a:ext cx="2126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welcomeSocket.accep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299240" y="1879920"/>
            <a:ext cx="1641960" cy="1415880"/>
            <a:chOff x="1299240" y="1879920"/>
            <a:chExt cx="1641960" cy="1415880"/>
          </a:xfrm>
        </p:grpSpPr>
        <p:grpSp>
          <p:nvGrpSpPr>
            <p:cNvPr id="414" name=""/>
            <p:cNvGrpSpPr/>
            <p:nvPr/>
          </p:nvGrpSpPr>
          <p:grpSpPr>
            <a:xfrm>
              <a:off x="1299240" y="1879920"/>
              <a:ext cx="1641960" cy="1132920"/>
              <a:chOff x="1299240" y="1879920"/>
              <a:chExt cx="1641960" cy="1132920"/>
            </a:xfrm>
          </p:grpSpPr>
          <p:sp>
            <p:nvSpPr>
              <p:cNvPr id="415" name=""/>
              <p:cNvSpPr/>
              <p:nvPr/>
            </p:nvSpPr>
            <p:spPr>
              <a:xfrm>
                <a:off x="1299240" y="1879920"/>
                <a:ext cx="1590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06440" y="2492640"/>
                <a:ext cx="1634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welcome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2038320" y="297180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087520" y="3148200"/>
            <a:ext cx="2315520" cy="912240"/>
            <a:chOff x="5087520" y="3148200"/>
            <a:chExt cx="2315520" cy="912240"/>
          </a:xfrm>
        </p:grpSpPr>
        <p:sp>
          <p:nvSpPr>
            <p:cNvPr id="419" name=""/>
            <p:cNvSpPr/>
            <p:nvPr/>
          </p:nvSpPr>
          <p:spPr>
            <a:xfrm>
              <a:off x="5087520" y="314820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87880" y="35402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 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ocket(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276200" y="3124080"/>
            <a:ext cx="5444280" cy="3353040"/>
            <a:chOff x="1276200" y="3124080"/>
            <a:chExt cx="5444280" cy="3353040"/>
          </a:xfrm>
        </p:grpSpPr>
        <p:sp>
          <p:nvSpPr>
            <p:cNvPr id="422" name=""/>
            <p:cNvSpPr/>
            <p:nvPr/>
          </p:nvSpPr>
          <p:spPr>
            <a:xfrm>
              <a:off x="1328400" y="57787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48040" y="56577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76200" y="3124080"/>
              <a:ext cx="781200" cy="335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338800" y="5359680"/>
              <a:ext cx="1381680" cy="1101240"/>
              <a:chOff x="5338800" y="5359680"/>
              <a:chExt cx="1381680" cy="1101240"/>
            </a:xfrm>
          </p:grpSpPr>
          <p:sp>
            <p:nvSpPr>
              <p:cNvPr id="426" name=""/>
              <p:cNvSpPr/>
              <p:nvPr/>
            </p:nvSpPr>
            <p:spPr>
              <a:xfrm>
                <a:off x="5338800" y="53596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78040" y="59407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58080" y="5857920"/>
                <a:ext cx="0" cy="3236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>
            <a:off x="581760" y="13132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unning 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9240" y="13323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933640" y="4010040"/>
            <a:ext cx="4046760" cy="1371600"/>
            <a:chOff x="2933640" y="4010040"/>
            <a:chExt cx="4046760" cy="1371600"/>
          </a:xfrm>
        </p:grpSpPr>
        <p:sp>
          <p:nvSpPr>
            <p:cNvPr id="432" name=""/>
            <p:cNvSpPr/>
            <p:nvPr/>
          </p:nvSpPr>
          <p:spPr>
            <a:xfrm flipH="1">
              <a:off x="6019920" y="4705200"/>
              <a:ext cx="9360" cy="676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2933640" y="4010040"/>
              <a:ext cx="4046760" cy="819000"/>
              <a:chOff x="2933640" y="4010040"/>
              <a:chExt cx="4046760" cy="819000"/>
            </a:xfrm>
          </p:grpSpPr>
          <p:sp>
            <p:nvSpPr>
              <p:cNvPr id="434" name=""/>
              <p:cNvSpPr/>
              <p:nvPr/>
            </p:nvSpPr>
            <p:spPr>
              <a:xfrm>
                <a:off x="5289480" y="424548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19920" y="4010040"/>
                <a:ext cx="0" cy="3240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933640" y="4429080"/>
                <a:ext cx="2409840" cy="39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7" name=""/>
          <p:cNvGrpSpPr/>
          <p:nvPr/>
        </p:nvGrpSpPr>
        <p:grpSpPr>
          <a:xfrm>
            <a:off x="1299600" y="4105440"/>
            <a:ext cx="4101120" cy="1488600"/>
            <a:chOff x="1299600" y="4105440"/>
            <a:chExt cx="4101120" cy="1488600"/>
          </a:xfrm>
        </p:grpSpPr>
        <p:sp>
          <p:nvSpPr>
            <p:cNvPr id="438" name=""/>
            <p:cNvSpPr/>
            <p:nvPr/>
          </p:nvSpPr>
          <p:spPr>
            <a:xfrm>
              <a:off x="1299600" y="44262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47480" y="50738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28960" y="41054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037960" y="4905360"/>
              <a:ext cx="9720" cy="247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62440" y="5248440"/>
              <a:ext cx="2438280" cy="285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2924280" y="3041280"/>
            <a:ext cx="2200320" cy="642600"/>
            <a:chOff x="2924280" y="3041280"/>
            <a:chExt cx="2200320" cy="642600"/>
          </a:xfrm>
        </p:grpSpPr>
        <p:sp>
          <p:nvSpPr>
            <p:cNvPr id="444" name=""/>
            <p:cNvSpPr/>
            <p:nvPr/>
          </p:nvSpPr>
          <p:spPr>
            <a:xfrm>
              <a:off x="2924280" y="3381480"/>
              <a:ext cx="2200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1360" y="3041280"/>
              <a:ext cx="203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A7D-1484-42C2-9D63-FD8196489F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ocket programming with UD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: no “connection” between client and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handsha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explicitly attaches IP address and port of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ust extract IP address, port of sender from received dat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DP: transmitted data may be received out of order, or l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57680" y="2678760"/>
            <a:ext cx="4133880" cy="1760040"/>
            <a:chOff x="4657680" y="2678760"/>
            <a:chExt cx="4133880" cy="1760040"/>
          </a:xfrm>
        </p:grpSpPr>
        <p:sp>
          <p:nvSpPr>
            <p:cNvPr id="449" name=""/>
            <p:cNvSpPr/>
            <p:nvPr/>
          </p:nvSpPr>
          <p:spPr>
            <a:xfrm>
              <a:off x="4657680" y="2895480"/>
              <a:ext cx="4133880" cy="1418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4661640" y="2678760"/>
              <a:ext cx="2730240" cy="398880"/>
              <a:chOff x="4661640" y="2678760"/>
              <a:chExt cx="2730240" cy="398880"/>
            </a:xfrm>
          </p:grpSpPr>
          <p:sp>
            <p:nvSpPr>
              <p:cNvPr id="451" name=""/>
              <p:cNvSpPr/>
              <p:nvPr/>
            </p:nvSpPr>
            <p:spPr>
              <a:xfrm>
                <a:off x="4762080" y="2752560"/>
                <a:ext cx="2514600" cy="25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661640" y="2678760"/>
                <a:ext cx="273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pplication viewpoi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4738680" y="3125160"/>
              <a:ext cx="3916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UDP provides </a:t>
              </a:r>
              <a:r>
                <a:rPr b="0" i="1" lang="en-US" sz="20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nreliable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trans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of groups of bytes (“datagrams”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i="1" lang="en-US" sz="2000" spc="-1" strike="noStrike">
                  <a:solidFill>
                    <a:srgbClr val="3333cc"/>
                  </a:solidFill>
                  <a:latin typeface="Comic Sans MS"/>
                </a:rPr>
                <a:t>between client and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3A21-E243-4ECC-BA0D-D9BD3CD540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ent/server socket interaction: UDP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276200" y="3324240"/>
            <a:ext cx="5437800" cy="2546280"/>
            <a:chOff x="1276200" y="3324240"/>
            <a:chExt cx="5437800" cy="2546280"/>
          </a:xfrm>
        </p:grpSpPr>
        <p:sp>
          <p:nvSpPr>
            <p:cNvPr id="456" name=""/>
            <p:cNvSpPr/>
            <p:nvPr/>
          </p:nvSpPr>
          <p:spPr>
            <a:xfrm>
              <a:off x="1276200" y="3324240"/>
              <a:ext cx="876600" cy="2543040"/>
            </a:xfrm>
            <a:custGeom>
              <a:avLst/>
              <a:gdLst/>
              <a:ahLst/>
              <a:rect l="l" t="t" r="r" b="b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68480" y="5350320"/>
              <a:ext cx="114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520" y="5267160"/>
              <a:ext cx="0" cy="324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81760" y="1313280"/>
            <a:ext cx="34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unning 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529240" y="3933720"/>
            <a:ext cx="1381680" cy="1355760"/>
            <a:chOff x="5529240" y="3933720"/>
            <a:chExt cx="1381680" cy="1355760"/>
          </a:xfrm>
        </p:grpSpPr>
        <p:sp>
          <p:nvSpPr>
            <p:cNvPr id="461" name=""/>
            <p:cNvSpPr/>
            <p:nvPr/>
          </p:nvSpPr>
          <p:spPr>
            <a:xfrm>
              <a:off x="5529240" y="4769280"/>
              <a:ext cx="138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ply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34040" y="3933720"/>
              <a:ext cx="0" cy="828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000240" y="1332360"/>
            <a:ext cx="5534640" cy="2596680"/>
            <a:chOff x="3000240" y="1332360"/>
            <a:chExt cx="5534640" cy="2596680"/>
          </a:xfrm>
        </p:grpSpPr>
        <p:grpSp>
          <p:nvGrpSpPr>
            <p:cNvPr id="464" name=""/>
            <p:cNvGrpSpPr/>
            <p:nvPr/>
          </p:nvGrpSpPr>
          <p:grpSpPr>
            <a:xfrm>
              <a:off x="5375880" y="2205360"/>
              <a:ext cx="1642680" cy="664560"/>
              <a:chOff x="5375880" y="2205360"/>
              <a:chExt cx="1642680" cy="664560"/>
            </a:xfrm>
          </p:grpSpPr>
          <p:sp>
            <p:nvSpPr>
              <p:cNvPr id="465" name=""/>
              <p:cNvSpPr/>
              <p:nvPr/>
            </p:nvSpPr>
            <p:spPr>
              <a:xfrm>
                <a:off x="5375880" y="2205360"/>
                <a:ext cx="129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89920" y="234972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client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5259240" y="133236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3360" y="3195720"/>
              <a:ext cx="316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, address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, port=x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datagram reques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ing 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client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299240" y="2079720"/>
            <a:ext cx="1704240" cy="2152440"/>
            <a:chOff x="1299240" y="2079720"/>
            <a:chExt cx="1704240" cy="2152440"/>
          </a:xfrm>
        </p:grpSpPr>
        <p:grpSp>
          <p:nvGrpSpPr>
            <p:cNvPr id="472" name=""/>
            <p:cNvGrpSpPr/>
            <p:nvPr/>
          </p:nvGrpSpPr>
          <p:grpSpPr>
            <a:xfrm>
              <a:off x="1299240" y="2079720"/>
              <a:ext cx="1642320" cy="1133280"/>
              <a:chOff x="1299240" y="2079720"/>
              <a:chExt cx="1642320" cy="1133280"/>
            </a:xfrm>
          </p:grpSpPr>
          <p:sp>
            <p:nvSpPr>
              <p:cNvPr id="473" name=""/>
              <p:cNvSpPr/>
              <p:nvPr/>
            </p:nvSpPr>
            <p:spPr>
              <a:xfrm>
                <a:off x="1299240" y="2079720"/>
                <a:ext cx="1590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12920" y="2692800"/>
                <a:ext cx="1628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serverSocket =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0000"/>
                    </a:solidFill>
                    <a:latin typeface="Arial"/>
                  </a:rPr>
                  <a:t>DatagramSocket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038320" y="3171960"/>
              <a:ext cx="0" cy="581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13000" y="3711960"/>
              <a:ext cx="1590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423440" y="4229280"/>
            <a:ext cx="3977280" cy="1360800"/>
            <a:chOff x="1423440" y="4229280"/>
            <a:chExt cx="3977280" cy="1360800"/>
          </a:xfrm>
        </p:grpSpPr>
        <p:sp>
          <p:nvSpPr>
            <p:cNvPr id="478" name=""/>
            <p:cNvSpPr/>
            <p:nvPr/>
          </p:nvSpPr>
          <p:spPr>
            <a:xfrm>
              <a:off x="1423440" y="4430520"/>
              <a:ext cx="1443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server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ying 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st addres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rt umb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66760" y="4229280"/>
              <a:ext cx="0" cy="314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62440" y="4714920"/>
              <a:ext cx="2438280" cy="28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3B6-D2C0-4FA3-B24A-3570229EF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OP3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zation ph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action phase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al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847800"/>
            <a:ext cx="371520" cy="1457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62600" y="2428920"/>
            <a:ext cx="371520" cy="389556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D0C-1FAA-42EF-BF9A-8BAB255CE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lication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7640" y="2028600"/>
            <a:ext cx="381024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service requirem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ility, bandwidth, del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-server paradig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transp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-oriented, reliable: TC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reliable, datagrams: UD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7581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r study of network apps now (almost) complet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4772160" y="2124000"/>
            <a:ext cx="39621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, po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tcp, udp so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21C-0CAA-47F4-9994-47B18AE0BE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lication: Summary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2161800"/>
            <a:ext cx="380988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requests info or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sponds with data, status c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s: fields giving info about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: info being communic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2600" y="1390680"/>
            <a:ext cx="7581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ost importantly: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learned abou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4667400" y="2400480"/>
            <a:ext cx="39621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ol vs. data ms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based, out-of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ized vs. decentraliz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vs. stat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vs. unreliable msg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at network e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: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85D-0AF8-4B1B-86F3-EFAD43FB21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ransport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47680" y="13716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principles behind transport layer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lexing/demultiplex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gestion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tiation and implementation i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 laye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xing/de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less transport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ciples of reliable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-oriented transport: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le transf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manage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ciples of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FD7-3E30-458F-ACBE-58369C1CB6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port services and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 logical communi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tween app’ processes running on different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 protocols run in end system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ransport vs network layer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network lay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transport lay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transfer between process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es on, enhances, network layer servic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506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510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519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529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538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560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561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3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564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6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567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571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580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601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607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611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615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621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625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629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635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639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643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653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657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667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0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671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677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681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685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695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699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709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714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722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730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736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742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748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754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760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FC8-DCC0-4AEE-91AA-79153BF6B5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port-layer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rnet transport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, in-order unicast delivery (TC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ges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setu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(“best-effort”), unordered unicast or multicast delivery: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s not availabl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width guarante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le multicas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774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778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782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791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801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810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2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815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19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832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833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4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5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836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7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8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839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843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852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873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879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2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883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6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887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893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897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0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901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907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911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4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915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921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925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929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935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2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943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949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953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957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963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967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971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977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981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4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4692600" y="1533600"/>
            <a:ext cx="814320" cy="1007640"/>
            <a:chOff x="4692600" y="1533600"/>
            <a:chExt cx="814320" cy="1007640"/>
          </a:xfrm>
        </p:grpSpPr>
        <p:sp>
          <p:nvSpPr>
            <p:cNvPr id="986" name=""/>
            <p:cNvSpPr/>
            <p:nvPr/>
          </p:nvSpPr>
          <p:spPr>
            <a:xfrm>
              <a:off x="4790880" y="153828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757400" y="156204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762440" y="173844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692600" y="153360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757400" y="1905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767120" y="20430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67120" y="21812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7816680" y="4419720"/>
            <a:ext cx="814320" cy="1007640"/>
            <a:chOff x="7816680" y="4419720"/>
            <a:chExt cx="814320" cy="1007640"/>
          </a:xfrm>
        </p:grpSpPr>
        <p:sp>
          <p:nvSpPr>
            <p:cNvPr id="994" name=""/>
            <p:cNvSpPr/>
            <p:nvPr/>
          </p:nvSpPr>
          <p:spPr>
            <a:xfrm>
              <a:off x="7914960" y="4424400"/>
              <a:ext cx="67644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81480" y="4448160"/>
              <a:ext cx="69084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886520" y="4624560"/>
              <a:ext cx="67608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816680" y="4419720"/>
              <a:ext cx="8143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81480" y="479124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91200" y="492912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891200" y="50673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7155000" y="3538440"/>
            <a:ext cx="814320" cy="703080"/>
            <a:chOff x="7155000" y="3538440"/>
            <a:chExt cx="814320" cy="703080"/>
          </a:xfrm>
        </p:grpSpPr>
        <p:sp>
          <p:nvSpPr>
            <p:cNvPr id="1002" name=""/>
            <p:cNvSpPr/>
            <p:nvPr/>
          </p:nvSpPr>
          <p:spPr>
            <a:xfrm>
              <a:off x="7257960" y="36954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15120" y="37288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55000" y="35384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10440" y="40334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19800" y="38811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688160" y="2957400"/>
            <a:ext cx="814320" cy="703080"/>
            <a:chOff x="7688160" y="2957400"/>
            <a:chExt cx="814320" cy="703080"/>
          </a:xfrm>
        </p:grpSpPr>
        <p:sp>
          <p:nvSpPr>
            <p:cNvPr id="1008" name=""/>
            <p:cNvSpPr/>
            <p:nvPr/>
          </p:nvSpPr>
          <p:spPr>
            <a:xfrm>
              <a:off x="7791120" y="31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48280" y="31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688160" y="29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43600" y="34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52960" y="33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802560" y="2652840"/>
            <a:ext cx="814320" cy="703080"/>
            <a:chOff x="6802560" y="2652840"/>
            <a:chExt cx="814320" cy="703080"/>
          </a:xfrm>
        </p:grpSpPr>
        <p:sp>
          <p:nvSpPr>
            <p:cNvPr id="1014" name=""/>
            <p:cNvSpPr/>
            <p:nvPr/>
          </p:nvSpPr>
          <p:spPr>
            <a:xfrm>
              <a:off x="6905520" y="2809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62680" y="2843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02560" y="2652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858000" y="3147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67360" y="2995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6735600" y="1881360"/>
            <a:ext cx="814320" cy="703080"/>
            <a:chOff x="6735600" y="1881360"/>
            <a:chExt cx="814320" cy="703080"/>
          </a:xfrm>
        </p:grpSpPr>
        <p:sp>
          <p:nvSpPr>
            <p:cNvPr id="1020" name=""/>
            <p:cNvSpPr/>
            <p:nvPr/>
          </p:nvSpPr>
          <p:spPr>
            <a:xfrm>
              <a:off x="6838560" y="20383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795720" y="20718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735600" y="18813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791040" y="23763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800400" y="22240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5802480" y="2166840"/>
            <a:ext cx="814320" cy="703080"/>
            <a:chOff x="5802480" y="2166840"/>
            <a:chExt cx="814320" cy="703080"/>
          </a:xfrm>
        </p:grpSpPr>
        <p:sp>
          <p:nvSpPr>
            <p:cNvPr id="1026" name=""/>
            <p:cNvSpPr/>
            <p:nvPr/>
          </p:nvSpPr>
          <p:spPr>
            <a:xfrm>
              <a:off x="5905440" y="23238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862600" y="23572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802480" y="21668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857920" y="26618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67280" y="25095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5244840" y="1634760"/>
            <a:ext cx="2787120" cy="3137400"/>
            <a:chOff x="5244840" y="1634760"/>
            <a:chExt cx="2787120" cy="3137400"/>
          </a:xfrm>
        </p:grpSpPr>
        <p:sp>
          <p:nvSpPr>
            <p:cNvPr id="1032" name=""/>
            <p:cNvSpPr/>
            <p:nvPr/>
          </p:nvSpPr>
          <p:spPr>
            <a:xfrm rot="2937600">
              <a:off x="5113440" y="3066480"/>
              <a:ext cx="304812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rot="2937600">
              <a:off x="5357160" y="307044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rot="2937600">
              <a:off x="5326200" y="1731600"/>
              <a:ext cx="44784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 rot="2937000">
              <a:off x="7502400" y="4256280"/>
              <a:ext cx="447480" cy="41940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765-8533-4C10-B1FC-5B9C75418E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6953040" y="4483080"/>
            <a:ext cx="1105920" cy="1212480"/>
            <a:chOff x="6953040" y="4483080"/>
            <a:chExt cx="1105920" cy="1212480"/>
          </a:xfrm>
        </p:grpSpPr>
        <p:sp>
          <p:nvSpPr>
            <p:cNvPr id="1037" name=""/>
            <p:cNvSpPr/>
            <p:nvPr/>
          </p:nvSpPr>
          <p:spPr>
            <a:xfrm>
              <a:off x="7056720" y="4483080"/>
              <a:ext cx="973080" cy="1161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21080" y="4534200"/>
              <a:ext cx="972000" cy="1161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7017120" y="477864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7031160" y="500400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031160" y="5218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7013520" y="5452920"/>
              <a:ext cx="961560" cy="4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53040" y="4538520"/>
              <a:ext cx="1105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6927840" y="4178160"/>
            <a:ext cx="743040" cy="439920"/>
            <a:chOff x="6927840" y="4178160"/>
            <a:chExt cx="743040" cy="439920"/>
          </a:xfrm>
        </p:grpSpPr>
        <p:sp>
          <p:nvSpPr>
            <p:cNvPr id="1045" name=""/>
            <p:cNvSpPr/>
            <p:nvPr/>
          </p:nvSpPr>
          <p:spPr>
            <a:xfrm>
              <a:off x="6927840" y="41781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089840" y="42735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7570440" y="40593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4329360" y="3816360"/>
            <a:ext cx="1232280" cy="1308240"/>
            <a:chOff x="4329360" y="3816360"/>
            <a:chExt cx="1232280" cy="1308240"/>
          </a:xfrm>
        </p:grpSpPr>
        <p:sp>
          <p:nvSpPr>
            <p:cNvPr id="1049" name=""/>
            <p:cNvSpPr/>
            <p:nvPr/>
          </p:nvSpPr>
          <p:spPr>
            <a:xfrm>
              <a:off x="4425120" y="3816360"/>
              <a:ext cx="112752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383720" y="3871800"/>
              <a:ext cx="112608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4379400" y="4134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395240" y="43779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395240" y="46098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374720" y="486216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329360" y="385128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xing/demultiplex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99960" y="1467000"/>
            <a:ext cx="3810240" cy="18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all: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seg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unit of data exchanged between transport layer enti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k.a TPDU: transport protocol data un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4330440" y="301140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434960" y="4873680"/>
            <a:ext cx="673200" cy="19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441440" y="5113440"/>
            <a:ext cx="679320" cy="19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366920" y="483084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481040" y="486576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1143000" y="5081760"/>
            <a:ext cx="331560" cy="306360"/>
            <a:chOff x="1143000" y="5081760"/>
            <a:chExt cx="331560" cy="306360"/>
          </a:xfrm>
        </p:grpSpPr>
        <p:sp>
          <p:nvSpPr>
            <p:cNvPr id="1064" name=""/>
            <p:cNvSpPr/>
            <p:nvPr/>
          </p:nvSpPr>
          <p:spPr>
            <a:xfrm>
              <a:off x="1203120" y="5113080"/>
              <a:ext cx="24120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43000" y="508176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8920" y="5111640"/>
              <a:ext cx="21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4657680" y="1598760"/>
            <a:ext cx="3454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multiplex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iv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d segment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ct app lay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2000" y="1571760"/>
            <a:ext cx="3753000" cy="1143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380240" y="506556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49480" y="474984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671480" y="4876920"/>
            <a:ext cx="0" cy="193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657440" y="4873680"/>
            <a:ext cx="4381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2100240" y="4530600"/>
            <a:ext cx="1232280" cy="1308240"/>
            <a:chOff x="2100240" y="4530600"/>
            <a:chExt cx="1232280" cy="1308240"/>
          </a:xfrm>
        </p:grpSpPr>
        <p:sp>
          <p:nvSpPr>
            <p:cNvPr id="1074" name=""/>
            <p:cNvSpPr/>
            <p:nvPr/>
          </p:nvSpPr>
          <p:spPr>
            <a:xfrm>
              <a:off x="2196000" y="4530600"/>
              <a:ext cx="1127880" cy="1252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154600" y="4586040"/>
              <a:ext cx="1126440" cy="1252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2150280" y="48492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2166120" y="509220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2166120" y="5324040"/>
              <a:ext cx="111456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145600" y="5576400"/>
              <a:ext cx="11142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00240" y="4565520"/>
              <a:ext cx="1232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"/>
          <p:cNvSpPr/>
          <p:nvPr/>
        </p:nvSpPr>
        <p:spPr>
          <a:xfrm>
            <a:off x="2227680" y="40402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2098800" y="4330800"/>
            <a:ext cx="742680" cy="439560"/>
            <a:chOff x="2098800" y="4330800"/>
            <a:chExt cx="742680" cy="439560"/>
          </a:xfrm>
        </p:grpSpPr>
        <p:sp>
          <p:nvSpPr>
            <p:cNvPr id="1083" name=""/>
            <p:cNvSpPr/>
            <p:nvPr/>
          </p:nvSpPr>
          <p:spPr>
            <a:xfrm>
              <a:off x="2098800" y="43308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60440" y="44258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2397240" y="3919680"/>
            <a:ext cx="2385720" cy="2081160"/>
          </a:xfrm>
          <a:custGeom>
            <a:avLst/>
            <a:gdLst/>
            <a:ahLst/>
            <a:rect l="l" t="t" r="r" b="b"/>
            <a:pathLst>
              <a:path w="1503" h="1311">
                <a:moveTo>
                  <a:pt x="0" y="502"/>
                </a:moveTo>
                <a:lnTo>
                  <a:pt x="0" y="1311"/>
                </a:lnTo>
                <a:lnTo>
                  <a:pt x="1503" y="1308"/>
                </a:lnTo>
                <a:lnTo>
                  <a:pt x="1502" y="237"/>
                </a:lnTo>
                <a:lnTo>
                  <a:pt x="140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4051440" y="3483000"/>
            <a:ext cx="742680" cy="439560"/>
            <a:chOff x="4051440" y="3483000"/>
            <a:chExt cx="742680" cy="439560"/>
          </a:xfrm>
        </p:grpSpPr>
        <p:sp>
          <p:nvSpPr>
            <p:cNvPr id="1087" name=""/>
            <p:cNvSpPr/>
            <p:nvPr/>
          </p:nvSpPr>
          <p:spPr>
            <a:xfrm>
              <a:off x="4051440" y="3483000"/>
              <a:ext cx="742680" cy="43956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213080" y="3578040"/>
              <a:ext cx="437760" cy="19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886280" y="3843360"/>
            <a:ext cx="2428920" cy="1995480"/>
          </a:xfrm>
          <a:custGeom>
            <a:avLst/>
            <a:gdLst/>
            <a:ahLst/>
            <a:rect l="l" t="t" r="r" b="b"/>
            <a:pathLst>
              <a:path w="1530" h="1257">
                <a:moveTo>
                  <a:pt x="1525" y="458"/>
                </a:moveTo>
                <a:lnTo>
                  <a:pt x="1530" y="1257"/>
                </a:lnTo>
                <a:lnTo>
                  <a:pt x="0" y="1257"/>
                </a:lnTo>
                <a:lnTo>
                  <a:pt x="0" y="235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4994280" y="3492360"/>
            <a:ext cx="743040" cy="439920"/>
            <a:chOff x="4994280" y="3492360"/>
            <a:chExt cx="743040" cy="439920"/>
          </a:xfrm>
        </p:grpSpPr>
        <p:sp>
          <p:nvSpPr>
            <p:cNvPr id="1091" name=""/>
            <p:cNvSpPr/>
            <p:nvPr/>
          </p:nvSpPr>
          <p:spPr>
            <a:xfrm>
              <a:off x="4994280" y="3492360"/>
              <a:ext cx="743040" cy="439920"/>
            </a:xfrm>
            <a:custGeom>
              <a:avLst/>
              <a:gdLst/>
              <a:ahLst/>
              <a:rect l="l" t="t" r="r" b="b"/>
              <a:pathLst>
                <a:path w="468" h="277">
                  <a:moveTo>
                    <a:pt x="184" y="2"/>
                  </a:moveTo>
                  <a:cubicBezTo>
                    <a:pt x="144" y="3"/>
                    <a:pt x="122" y="15"/>
                    <a:pt x="94" y="20"/>
                  </a:cubicBezTo>
                  <a:cubicBezTo>
                    <a:pt x="66" y="25"/>
                    <a:pt x="30" y="16"/>
                    <a:pt x="15" y="35"/>
                  </a:cubicBezTo>
                  <a:cubicBezTo>
                    <a:pt x="0" y="54"/>
                    <a:pt x="1" y="109"/>
                    <a:pt x="4" y="133"/>
                  </a:cubicBezTo>
                  <a:cubicBezTo>
                    <a:pt x="7" y="157"/>
                    <a:pt x="17" y="163"/>
                    <a:pt x="34" y="179"/>
                  </a:cubicBezTo>
                  <a:cubicBezTo>
                    <a:pt x="51" y="195"/>
                    <a:pt x="75" y="217"/>
                    <a:pt x="106" y="230"/>
                  </a:cubicBezTo>
                  <a:cubicBezTo>
                    <a:pt x="137" y="243"/>
                    <a:pt x="166" y="255"/>
                    <a:pt x="220" y="258"/>
                  </a:cubicBezTo>
                  <a:cubicBezTo>
                    <a:pt x="274" y="261"/>
                    <a:pt x="393" y="277"/>
                    <a:pt x="431" y="248"/>
                  </a:cubicBezTo>
                  <a:cubicBezTo>
                    <a:pt x="468" y="220"/>
                    <a:pt x="447" y="125"/>
                    <a:pt x="445" y="87"/>
                  </a:cubicBezTo>
                  <a:cubicBezTo>
                    <a:pt x="444" y="48"/>
                    <a:pt x="450" y="31"/>
                    <a:pt x="420" y="17"/>
                  </a:cubicBezTo>
                  <a:cubicBezTo>
                    <a:pt x="389" y="2"/>
                    <a:pt x="277" y="0"/>
                    <a:pt x="263" y="0"/>
                  </a:cubicBezTo>
                  <a:cubicBezTo>
                    <a:pt x="249" y="0"/>
                    <a:pt x="347" y="14"/>
                    <a:pt x="334" y="14"/>
                  </a:cubicBezTo>
                  <a:cubicBezTo>
                    <a:pt x="321" y="14"/>
                    <a:pt x="215" y="4"/>
                    <a:pt x="184" y="2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156280" y="3587760"/>
              <a:ext cx="438120" cy="1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3722400" y="325440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608080" y="33256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181160" y="4962600"/>
            <a:ext cx="209520" cy="9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" y="401652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285920" y="4362480"/>
            <a:ext cx="247680" cy="48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657440" y="3800520"/>
            <a:ext cx="190440" cy="105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073160" y="34354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pplication-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0B0-D629-46EF-89D5-49658F2F02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exing/demultiplex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561600" y="3114720"/>
            <a:ext cx="380988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xing/demultiplex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sender, receiver port numbers, IP addr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urce, dest port #s in each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all: well-known port numbers for specific appli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"/>
          <p:cNvSpPr/>
          <p:nvPr/>
        </p:nvSpPr>
        <p:spPr>
          <a:xfrm>
            <a:off x="641520" y="1541520"/>
            <a:ext cx="365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ing data from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 processes, envelo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with header (later us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emultiplex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9200" y="1476360"/>
            <a:ext cx="3610080" cy="141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123960" y="3951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695560" y="286056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394240" y="551808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693000" y="1265400"/>
            <a:ext cx="1738080" cy="398880"/>
            <a:chOff x="693000" y="1265400"/>
            <a:chExt cx="1738080" cy="398880"/>
          </a:xfrm>
        </p:grpSpPr>
        <p:sp>
          <p:nvSpPr>
            <p:cNvPr id="1118" name=""/>
            <p:cNvSpPr/>
            <p:nvPr/>
          </p:nvSpPr>
          <p:spPr>
            <a:xfrm>
              <a:off x="743040" y="1295280"/>
              <a:ext cx="1590480" cy="33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3000" y="1265400"/>
              <a:ext cx="17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ultiplexing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EE1-BEA3-4214-8EE6-35FAEA6002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4105440" y="463860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305840" y="2914560"/>
            <a:ext cx="143820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724360" y="2914560"/>
            <a:ext cx="1438560" cy="1409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704960" y="254304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657440" y="1438200"/>
            <a:ext cx="14382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8088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xing/demultiplexing: exampl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523800" y="2112840"/>
            <a:ext cx="787320" cy="625680"/>
          </a:xfrm>
          <a:prstGeom prst="rect">
            <a:avLst/>
          </a:prstGeom>
          <a:ln w="0">
            <a:noFill/>
          </a:ln>
        </p:spPr>
      </p:pic>
      <p:grpSp>
        <p:nvGrpSpPr>
          <p:cNvPr id="1127" name=""/>
          <p:cNvGrpSpPr/>
          <p:nvPr/>
        </p:nvGrpSpPr>
        <p:grpSpPr>
          <a:xfrm>
            <a:off x="3389400" y="2093760"/>
            <a:ext cx="407520" cy="742320"/>
            <a:chOff x="3389400" y="2093760"/>
            <a:chExt cx="407520" cy="742320"/>
          </a:xfrm>
        </p:grpSpPr>
        <p:sp>
          <p:nvSpPr>
            <p:cNvPr id="1128" name=""/>
            <p:cNvSpPr/>
            <p:nvPr/>
          </p:nvSpPr>
          <p:spPr>
            <a:xfrm>
              <a:off x="3389400" y="266328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594240" y="2099520"/>
              <a:ext cx="189360" cy="5695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91920" y="2260800"/>
              <a:ext cx="257760" cy="5695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389400" y="2093760"/>
              <a:ext cx="407520" cy="172800"/>
            </a:xfrm>
            <a:prstGeom prst="parallelogram">
              <a:avLst>
                <a:gd name="adj" fmla="val 9085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96920" y="2105280"/>
              <a:ext cx="0" cy="5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649680" y="2663280"/>
              <a:ext cx="14652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423600" y="2334960"/>
              <a:ext cx="170280" cy="32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448440" y="2432880"/>
              <a:ext cx="130320" cy="11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"/>
          <p:cNvSpPr/>
          <p:nvPr/>
        </p:nvSpPr>
        <p:spPr>
          <a:xfrm>
            <a:off x="576000" y="16606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46120" y="164160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362240" y="2200320"/>
            <a:ext cx="19620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62400" y="1436760"/>
            <a:ext cx="1495080" cy="992160"/>
            <a:chOff x="1562400" y="1436760"/>
            <a:chExt cx="1495080" cy="992160"/>
          </a:xfrm>
        </p:grpSpPr>
        <p:sp>
          <p:nvSpPr>
            <p:cNvPr id="1140" name=""/>
            <p:cNvSpPr/>
            <p:nvPr/>
          </p:nvSpPr>
          <p:spPr>
            <a:xfrm>
              <a:off x="1609560" y="151452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62400" y="1436760"/>
              <a:ext cx="149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609560" y="175248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19280" y="197172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>
            <a:off x="1380960" y="2657520"/>
            <a:ext cx="1962360" cy="9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574280" y="2522520"/>
            <a:ext cx="1564560" cy="992160"/>
            <a:chOff x="1574280" y="2522520"/>
            <a:chExt cx="1564560" cy="992160"/>
          </a:xfrm>
        </p:grpSpPr>
        <p:sp>
          <p:nvSpPr>
            <p:cNvPr id="1146" name=""/>
            <p:cNvSpPr/>
            <p:nvPr/>
          </p:nvSpPr>
          <p:spPr>
            <a:xfrm>
              <a:off x="1657440" y="2600280"/>
              <a:ext cx="143856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574280" y="2522520"/>
              <a:ext cx="156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57440" y="283824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67160" y="305748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763920" y="36133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rt use: simple telnet 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2"/>
          <a:stretch/>
        </p:blipFill>
        <p:spPr>
          <a:xfrm>
            <a:off x="2800440" y="5132520"/>
            <a:ext cx="787320" cy="625320"/>
          </a:xfrm>
          <a:prstGeom prst="rect">
            <a:avLst/>
          </a:prstGeom>
          <a:ln w="0">
            <a:noFill/>
          </a:ln>
        </p:spPr>
      </p:pic>
      <p:grpSp>
        <p:nvGrpSpPr>
          <p:cNvPr id="1152" name=""/>
          <p:cNvGrpSpPr/>
          <p:nvPr/>
        </p:nvGrpSpPr>
        <p:grpSpPr>
          <a:xfrm>
            <a:off x="6799320" y="4713120"/>
            <a:ext cx="540720" cy="923400"/>
            <a:chOff x="6799320" y="4713120"/>
            <a:chExt cx="540720" cy="923400"/>
          </a:xfrm>
        </p:grpSpPr>
        <p:sp>
          <p:nvSpPr>
            <p:cNvPr id="1153" name=""/>
            <p:cNvSpPr/>
            <p:nvPr/>
          </p:nvSpPr>
          <p:spPr>
            <a:xfrm>
              <a:off x="6799320" y="542160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071480" y="4720320"/>
              <a:ext cx="251640" cy="708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802920" y="4920840"/>
              <a:ext cx="342360" cy="708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799320" y="4713120"/>
              <a:ext cx="540720" cy="214920"/>
            </a:xfrm>
            <a:prstGeom prst="parallelogram">
              <a:avLst>
                <a:gd name="adj" fmla="val 9692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340040" y="4727520"/>
              <a:ext cx="0" cy="69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7145280" y="5421600"/>
              <a:ext cx="19440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845040" y="5013360"/>
              <a:ext cx="226440" cy="40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877800" y="5135040"/>
              <a:ext cx="17280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1382400" y="507996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456320" y="4803840"/>
            <a:ext cx="116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591000" y="5153040"/>
            <a:ext cx="3181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3"/>
          <a:stretch/>
        </p:blipFill>
        <p:spPr>
          <a:xfrm>
            <a:off x="6734160" y="2084400"/>
            <a:ext cx="787320" cy="6253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6456240" y="144144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334280" y="2733840"/>
            <a:ext cx="0" cy="1933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6953400" y="2733840"/>
            <a:ext cx="9360" cy="19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7199280" y="2913120"/>
            <a:ext cx="1519200" cy="1469520"/>
            <a:chOff x="7199280" y="2913120"/>
            <a:chExt cx="1519200" cy="1469520"/>
          </a:xfrm>
        </p:grpSpPr>
        <p:sp>
          <p:nvSpPr>
            <p:cNvPr id="1169" name=""/>
            <p:cNvSpPr/>
            <p:nvPr/>
          </p:nvSpPr>
          <p:spPr>
            <a:xfrm>
              <a:off x="7257960" y="297000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99280" y="291312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257960" y="318600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267320" y="3447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277040" y="37051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257960" y="393372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5627520" y="2903400"/>
            <a:ext cx="1519560" cy="1470240"/>
            <a:chOff x="5627520" y="2903400"/>
            <a:chExt cx="1519560" cy="1470240"/>
          </a:xfrm>
        </p:grpSpPr>
        <p:sp>
          <p:nvSpPr>
            <p:cNvPr id="1176" name=""/>
            <p:cNvSpPr/>
            <p:nvPr/>
          </p:nvSpPr>
          <p:spPr>
            <a:xfrm>
              <a:off x="5686560" y="2960640"/>
              <a:ext cx="1438200" cy="1413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627520" y="2903400"/>
              <a:ext cx="1519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86560" y="317664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695920" y="3438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05640" y="36957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86560" y="3924360"/>
              <a:ext cx="143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6050160" y="567072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ort use: Web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3989520" y="4637160"/>
            <a:ext cx="1519200" cy="1469520"/>
            <a:chOff x="3989520" y="4637160"/>
            <a:chExt cx="1519200" cy="1469520"/>
          </a:xfrm>
        </p:grpSpPr>
        <p:sp>
          <p:nvSpPr>
            <p:cNvPr id="1184" name=""/>
            <p:cNvSpPr/>
            <p:nvPr/>
          </p:nvSpPr>
          <p:spPr>
            <a:xfrm>
              <a:off x="4048200" y="4694040"/>
              <a:ext cx="1437840" cy="141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989520" y="4637160"/>
              <a:ext cx="151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IP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 IP: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ource port: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. port: 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048200" y="491004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57560" y="5171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067280" y="54291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048200" y="5657760"/>
              <a:ext cx="143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F31-ED0A-44A5-B171-12743A0A44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User Datagram Protocol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[RFC 768]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rills,” “bare bones” Internet transpor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” service, UDP segments may b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ivered out of order to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connectionles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handshaking between UDP sender,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UDP segment handled independently of oth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52720" y="1781280"/>
            <a:ext cx="380988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y is there a UD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nection establishment (which can add dela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: no connection state at sender,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segment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congestion control: UDP can blast away as fast as des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"/>
          <p:cNvSpPr/>
          <p:nvPr/>
        </p:nvSpPr>
        <p:spPr>
          <a:xfrm>
            <a:off x="4591080" y="1638360"/>
            <a:ext cx="4048200" cy="3838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16B-28AE-46F4-A407-61B790F0F2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UDP: mo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2840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 used for streaming multimedia ap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 toler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te sensi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UDP uses (why?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transfer over UDP: add reliability at application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-specific error recov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76160" y="21178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075080" y="21178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48440" y="28954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435000" y="166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114600" y="3951360"/>
            <a:ext cx="152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670360" y="55180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6905520" y="250524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20320" y="2508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155360" y="24987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516120" y="2212920"/>
            <a:ext cx="15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,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tes of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981680" y="2543040"/>
            <a:ext cx="714240" cy="14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95D-D54B-4FFD-A018-8F943AFAA3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Domain Name Syste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SN, name, Passport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 address (32 bit) - used for addressing data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”, e.g., gaia.cs.umass.edu - used by hum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 between IP addresses and name 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52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main Name Syste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distributed data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mplemented in </a:t>
            </a: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hierarchy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 many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name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, routers, name servers to communicate to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solv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mes (address/name transla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</a:t>
            </a: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core Internet function implemented as application-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at network’s “ed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700-C5BB-4DEF-9B71-468AFD4B3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UDP checksu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: addition (1’s complement sum) of segment cont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 - no error detected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ut maybe errors nonethle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e later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ct “errors” (e.g., flipped bits) in transmitted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0C9E-B0B2-4023-BD8A-6D8B15B928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iples of Reliable data transf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333080"/>
            <a:ext cx="7658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ant in app., transport, link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-10 list of important networking topic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acteristics of unreliable channel will determine complexity of reliable data transfer protocol (rd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3E9-DF6C-4C17-8FE0-620453D213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liable data transfer: getting start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1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1002240" y="3112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175520" y="312264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226" name="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7" name="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231" name="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2" name="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233" name="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5" name="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236" name="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238" name="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0" name="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241" name="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2" name="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243" name="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649-7C54-4430-824C-DF80E4573F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liable data transfer: getting started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14080" y="1304640"/>
            <a:ext cx="7257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’l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ly develop sender, receiver sides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only unidirectional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control info will flow on both direction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finite state machines (FSM)  to specify sender, rece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085560" y="4619520"/>
            <a:ext cx="895680" cy="942840"/>
            <a:chOff x="3085560" y="4619520"/>
            <a:chExt cx="895680" cy="942840"/>
          </a:xfrm>
        </p:grpSpPr>
        <p:sp>
          <p:nvSpPr>
            <p:cNvPr id="1248" name=""/>
            <p:cNvSpPr/>
            <p:nvPr/>
          </p:nvSpPr>
          <p:spPr>
            <a:xfrm>
              <a:off x="3171600" y="4619520"/>
              <a:ext cx="80964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095640" y="468612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085560" y="4827240"/>
              <a:ext cx="77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7838280" y="4724280"/>
            <a:ext cx="895680" cy="942840"/>
            <a:chOff x="7838280" y="4724280"/>
            <a:chExt cx="895680" cy="942840"/>
          </a:xfrm>
        </p:grpSpPr>
        <p:sp>
          <p:nvSpPr>
            <p:cNvPr id="1253" name=""/>
            <p:cNvSpPr/>
            <p:nvPr/>
          </p:nvSpPr>
          <p:spPr>
            <a:xfrm>
              <a:off x="7924320" y="4724280"/>
              <a:ext cx="809640" cy="876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848360" y="4790880"/>
              <a:ext cx="809640" cy="876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38280" y="4932000"/>
              <a:ext cx="77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4109040" y="401328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29120" y="430848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n in this “state”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4581360" y="5108400"/>
            <a:ext cx="971280" cy="672840"/>
            <a:chOff x="4581360" y="5108400"/>
            <a:chExt cx="971280" cy="672840"/>
          </a:xfrm>
        </p:grpSpPr>
        <p:sp>
          <p:nvSpPr>
            <p:cNvPr id="1264" name=""/>
            <p:cNvSpPr/>
            <p:nvPr/>
          </p:nvSpPr>
          <p:spPr>
            <a:xfrm>
              <a:off x="4654080" y="51084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ev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02240" y="5412960"/>
              <a:ext cx="95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81360" y="5457600"/>
              <a:ext cx="942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128-3BB3-42CA-812A-202411B8C3F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dt1.0: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reliable transfer over a reliable channel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42880" y="142848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lying channel perfectly reli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bit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loss of 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arate FSMs for sender, 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ends data into underlying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read data from underlying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923760" y="4233960"/>
            <a:ext cx="6820200" cy="144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2C7-9BFC-4FBB-9007-5EE5DCD441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dt2.0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nnel with bit error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42840" y="133344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derlying channel may flip bits in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all: UDP checksum to detect bit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stion: how to recover from erro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acknowledgements (ACKs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 explicitly tells sender that pkt received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negative acknowledgements (NAKs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r explicitly tells sender that pkt had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retransmits pkt on receipt of N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man scenarios using ACKs, NA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feedback: control msgs (ACK,NAK) rcvr-&gt;s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B39-85F3-41C2-80AB-A6CB89959E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FSM specifica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"/>
          <a:stretch/>
        </p:blipFill>
        <p:spPr>
          <a:xfrm>
            <a:off x="21420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BB4-3CA9-40CD-801D-6BB687EA0E9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in action (no errors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21420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279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280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96040" y="28098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73120" y="2011320"/>
            <a:ext cx="85680" cy="857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14600" y="2881440"/>
            <a:ext cx="3276720" cy="15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800680" y="4410000"/>
            <a:ext cx="95400" cy="10954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74640" y="2886120"/>
            <a:ext cx="18525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flipH="1" flipV="1">
            <a:off x="2704680" y="4638240"/>
            <a:ext cx="3057480" cy="857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33280" y="3005280"/>
            <a:ext cx="9810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856800" y="4638600"/>
            <a:ext cx="176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5E0-2C9D-4150-8988-D43388E89C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0: in action (error scenario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223920" y="1962000"/>
            <a:ext cx="5083200" cy="271152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5857920" y="1509840"/>
            <a:ext cx="2020680" cy="405288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1086840" y="56754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916960" y="5675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ceiver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96040" y="28098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3120" y="2011320"/>
            <a:ext cx="85680" cy="8571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2514600" y="1585440"/>
            <a:ext cx="322884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724360" y="1581120"/>
            <a:ext cx="1051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7960" y="3000240"/>
            <a:ext cx="98136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4640" y="2886120"/>
            <a:ext cx="185256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3381480" y="2362320"/>
            <a:ext cx="2342880" cy="723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019240" y="3038400"/>
            <a:ext cx="9810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33280" y="3005280"/>
            <a:ext cx="9810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856800" y="4638600"/>
            <a:ext cx="1762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286080" y="3114720"/>
            <a:ext cx="104760" cy="7999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43320" y="3929040"/>
            <a:ext cx="2486160" cy="495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38840" y="4400640"/>
            <a:ext cx="95400" cy="1085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 flipV="1">
            <a:off x="2676600" y="4647960"/>
            <a:ext cx="316224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C31-7B66-4AB8-8FF4-5CD90BE331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0 has a fatal flaw!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happens if ACK/NAK corrup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doesn’t know what happened at receiver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’t just retransmit: possible dupl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 to d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ACKs/NAKs receiver’s ACK/NAK? What if sender ACK/NAK los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t, but this might cause retransmission of correctly received pkt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ndling duplicat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add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quence numb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each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retransmits current pkt if ACK/NAK garbl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discards (doesn’t deliver up) duplicate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"/>
          <p:cNvSpPr/>
          <p:nvPr/>
        </p:nvSpPr>
        <p:spPr>
          <a:xfrm>
            <a:off x="4974840" y="4818240"/>
            <a:ext cx="330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ends one packe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waits for recei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896000" y="4686480"/>
            <a:ext cx="3466800" cy="1238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4967640" y="4522680"/>
            <a:ext cx="1793160" cy="398880"/>
            <a:chOff x="4967640" y="4522680"/>
            <a:chExt cx="1793160" cy="398880"/>
          </a:xfrm>
        </p:grpSpPr>
        <p:sp>
          <p:nvSpPr>
            <p:cNvPr id="1321" name=""/>
            <p:cNvSpPr/>
            <p:nvPr/>
          </p:nvSpPr>
          <p:spPr>
            <a:xfrm>
              <a:off x="5038560" y="4590720"/>
              <a:ext cx="16480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967640" y="4522680"/>
              <a:ext cx="179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op and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DDF-39B4-4C76-A794-D555106701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name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10160" y="1466640"/>
            <a:ext cx="420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erver has all name-to-IP address mappi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name serv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ISP, company has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local (default)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DNS query first goes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tative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a host: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ores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at host’s IP address,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perform name/address translation for that host’s n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6280" y="15048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y not centralize D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esn’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cal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2BF-E3EF-425A-BDE5-1D0427178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33360" y="237600"/>
            <a:ext cx="82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sender, handles garbled ACK/NA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24" name="" descr=""/>
          <p:cNvPicPr/>
          <p:nvPr/>
        </p:nvPicPr>
        <p:blipFill>
          <a:blip r:embed="rId1"/>
          <a:stretch/>
        </p:blipFill>
        <p:spPr>
          <a:xfrm>
            <a:off x="399960" y="1271520"/>
            <a:ext cx="7944120" cy="513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238E-0867-4506-96C0-DA152E420B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18680" y="22824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2.1: receiver, handles garbled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CK/NAK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26" name="" descr=""/>
          <p:cNvPicPr/>
          <p:nvPr/>
        </p:nvPicPr>
        <p:blipFill>
          <a:blip r:embed="rId1"/>
          <a:stretch/>
        </p:blipFill>
        <p:spPr>
          <a:xfrm>
            <a:off x="347760" y="1419120"/>
            <a:ext cx="8547120" cy="447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AB4-0336-4631-9610-66512FD8408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dt2.1: discuss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 # added to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eq. #’s (0,1) will suffice. 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heck if received ACK/NAK corrupt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ice as many st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must “remember” whether “current” pkt has 0 or 1 seq.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check if received packet is duplic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 indicates whether 0 or 1 is expected pkt seq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receiver ca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now if its last ACK/NAK received OK at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799-117E-4BA9-97BD-C218DF2941E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2.2: a NAK-free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e functionality as rdt2.1, using NAK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ead of NAK, receiver sends ACK for last pkt received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mus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xplicit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clude seq # of pkt being ACK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plicate ACK at sender results in same action as NAK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transmit current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2" name="" descr=""/>
          <p:cNvPicPr/>
          <p:nvPr/>
        </p:nvPicPr>
        <p:blipFill>
          <a:blip r:embed="rId1"/>
          <a:stretch/>
        </p:blipFill>
        <p:spPr>
          <a:xfrm>
            <a:off x="4335480" y="2033640"/>
            <a:ext cx="4467240" cy="3898800"/>
          </a:xfrm>
          <a:prstGeom prst="rect">
            <a:avLst/>
          </a:prstGeom>
          <a:ln w="0">
            <a:noFill/>
          </a:ln>
        </p:spPr>
      </p:pic>
      <p:sp>
        <p:nvSpPr>
          <p:cNvPr id="1333" name=""/>
          <p:cNvSpPr/>
          <p:nvPr/>
        </p:nvSpPr>
        <p:spPr>
          <a:xfrm>
            <a:off x="6994080" y="1370160"/>
            <a:ext cx="11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4895640" y="2600280"/>
            <a:ext cx="1228680" cy="1962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4905360" y="3152880"/>
            <a:ext cx="2571840" cy="14000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4914720" y="3524400"/>
            <a:ext cx="2971800" cy="10191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4914720" y="4400640"/>
            <a:ext cx="3181320" cy="15552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663080" y="4282920"/>
            <a:ext cx="2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5CC-2750-4111-976A-145BBAC7CA1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dt3.0: channels with errors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nd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lo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w assump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derlying channel can also lose packets (data or AC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, seq. #, ACKs, retransmissions will be of help, but not enoug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to deal with los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aits until certain data or ACK lost, then retransm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uck: drawbac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pproach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 waits “reasonable” amount of time for ACK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ts if no ACK received in this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pkt (or ACK) just delayed (not lost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ssion will be  duplicate, but use of seq. #’s already handles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must specify seq # of pkt being A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countdown ti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3A9-77F6-4923-911A-8AA3CE116F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send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43" name="" descr=""/>
          <p:cNvPicPr/>
          <p:nvPr/>
        </p:nvPicPr>
        <p:blipFill>
          <a:blip r:embed="rId1"/>
          <a:stretch/>
        </p:blipFill>
        <p:spPr>
          <a:xfrm>
            <a:off x="1800360" y="1000080"/>
            <a:ext cx="61340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580F-1E57-42F5-A166-FD5D77B3FC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380880" y="1486080"/>
            <a:ext cx="8428320" cy="43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F48-6640-4F74-9B56-F50C61B9E2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dt3.0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47" name="" descr=""/>
          <p:cNvPicPr/>
          <p:nvPr/>
        </p:nvPicPr>
        <p:blipFill>
          <a:blip r:embed="rId1"/>
          <a:stretch/>
        </p:blipFill>
        <p:spPr>
          <a:xfrm>
            <a:off x="657360" y="1523880"/>
            <a:ext cx="8218440" cy="425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443-A062-4ADF-9F77-EA839D9F3DB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erformance of rdt3.0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72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dt3.0 works, but performance st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1 Gbps link, 15 ms e-e prop. delay, 1KB packe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868400" y="2722680"/>
            <a:ext cx="4744800" cy="722880"/>
            <a:chOff x="1868400" y="2722680"/>
            <a:chExt cx="4744800" cy="722880"/>
          </a:xfrm>
        </p:grpSpPr>
        <p:sp>
          <p:nvSpPr>
            <p:cNvPr id="1351" name=""/>
            <p:cNvSpPr/>
            <p:nvPr/>
          </p:nvSpPr>
          <p:spPr>
            <a:xfrm>
              <a:off x="1868400" y="2856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00160" y="300384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953080" y="2875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416760" y="2722680"/>
              <a:ext cx="109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kb/pk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346920" y="3046680"/>
              <a:ext cx="16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**9 b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937400" y="288468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8 micro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438720" y="306720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914760" y="3494160"/>
            <a:ext cx="7652520" cy="731880"/>
            <a:chOff x="914760" y="3494160"/>
            <a:chExt cx="7652520" cy="731880"/>
          </a:xfrm>
        </p:grpSpPr>
        <p:sp>
          <p:nvSpPr>
            <p:cNvPr id="1359" name=""/>
            <p:cNvSpPr/>
            <p:nvPr/>
          </p:nvSpPr>
          <p:spPr>
            <a:xfrm>
              <a:off x="914760" y="3684600"/>
              <a:ext cx="212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Utiliz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= U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15040" y="3656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579640" y="3494160"/>
              <a:ext cx="1671120" cy="731880"/>
              <a:chOff x="5579640" y="3494160"/>
              <a:chExt cx="1671120" cy="731880"/>
            </a:xfrm>
          </p:grpSpPr>
          <p:sp>
            <p:nvSpPr>
              <p:cNvPr id="1362" name=""/>
              <p:cNvSpPr/>
              <p:nvPr/>
            </p:nvSpPr>
            <p:spPr>
              <a:xfrm>
                <a:off x="5693040" y="3494160"/>
                <a:ext cx="146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8 micro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579640" y="3827160"/>
                <a:ext cx="1671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30.016 ms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762880" y="386676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5" name=""/>
            <p:cNvSpPr/>
            <p:nvPr/>
          </p:nvSpPr>
          <p:spPr>
            <a:xfrm>
              <a:off x="2845080" y="3503520"/>
              <a:ext cx="266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raction of 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nder busy se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228440" y="366552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= 0.000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771480" y="44100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KB pkt every 30 msec -&gt; 33kB/sec throughput over 1 Gbps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360" indent="-162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protocol limits use of physical resourc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867-D784-44AC-91AB-4F4227E3753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ipelined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ipelin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 allows multiple, “in-flight”, yet-to-be-acknowledged pk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ge of sequence numbers must be increa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ing at sender and/or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generic forms of pipelined protocol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o-Back-N, selective repe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1" name="" descr=""/>
          <p:cNvPicPr/>
          <p:nvPr/>
        </p:nvPicPr>
        <p:blipFill>
          <a:blip r:embed="rId1"/>
          <a:stretch/>
        </p:blipFill>
        <p:spPr>
          <a:xfrm>
            <a:off x="1652760" y="2890800"/>
            <a:ext cx="610524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512-637A-46C1-BE45-F50F2C616B2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Root name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05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by local name server that can not resolve 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ot name serve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s authoritative name server if name mapping not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s mapp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mapping to local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~ dozen root name servers worldw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38680" y="1743120"/>
            <a:ext cx="5095800" cy="38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4DF-8B3E-4C9F-BEF5-3B32F5B59F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o-Back-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-bit seq # in pkt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dow” of up to N, consecutive unack’ed pkts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738360" y="275256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1375" name=""/>
          <p:cNvSpPr/>
          <p:nvPr/>
        </p:nvSpPr>
        <p:spPr>
          <a:xfrm>
            <a:off x="476280" y="463860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(n): ACKs all pkts up to, including seq # n - “cumulative AC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deceive duplicate ACKs (see recei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r for each in-flight 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imeout(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transmit pkt n and all higher seq # pkts in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AA6-FDF9-4AF9-BCA5-7BC9D2C862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sender extended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457200" y="1504800"/>
            <a:ext cx="8163000" cy="38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CBF-555F-42F0-AE25-DD53004DCEB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receiver extended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79" name="" descr=""/>
          <p:cNvPicPr/>
          <p:nvPr/>
        </p:nvPicPr>
        <p:blipFill>
          <a:blip r:embed="rId1"/>
          <a:stretch/>
        </p:blipFill>
        <p:spPr>
          <a:xfrm>
            <a:off x="878040" y="1425600"/>
            <a:ext cx="8016840" cy="1542960"/>
          </a:xfrm>
          <a:prstGeom prst="rect">
            <a:avLst/>
          </a:prstGeom>
          <a:ln w="0">
            <a:noFill/>
          </a:ln>
        </p:spPr>
      </p:pic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47280" y="3085920"/>
            <a:ext cx="7829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 si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K-only: always send ACK for correctly-received pkt with highes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-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q #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generate duplicate A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only re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-of-order pk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ard (don’t buffer) -&gt;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receiver buffe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 pkt with highest in-order seq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9D7-A484-48A8-9971-917A42633C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54288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BN in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2500200" y="482760"/>
            <a:ext cx="5972400" cy="57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E765-E009-4BB2-A0C8-D8C13CA612F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dividu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knowledges all correctly received pk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 pkts, as needed, for eventual in-order delivery to upper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only resends pkts for which ACK not recei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timer for each unACKed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wind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onsecutive seq #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ain limits seq #s of sent, unACKed pk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A4F-D6C6-40C7-B990-4B13A1D195A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: sender, receiver window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585-77D8-4A44-9473-095DF1705F6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 from above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ext available seq # in window, send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out(n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end pkt n, restart ti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K(n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sendbase,sendbase+N]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pkt n as recei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 smallest unACKed pkt, advance window base to next unACKed seq #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691920" y="1208160"/>
            <a:ext cx="1174320" cy="459720"/>
            <a:chOff x="691920" y="1208160"/>
            <a:chExt cx="1174320" cy="459720"/>
          </a:xfrm>
        </p:grpSpPr>
        <p:sp>
          <p:nvSpPr>
            <p:cNvPr id="1391" name=""/>
            <p:cNvSpPr/>
            <p:nvPr/>
          </p:nvSpPr>
          <p:spPr>
            <a:xfrm>
              <a:off x="77184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1920" y="120816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3" name="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kt n in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rcvbase, rcvbase+N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ACK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-of-order: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order: deliver (also deliver buffered, in-order pkts), advance window to next not-yet-received 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kt n in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rcvbase-N,rcvbase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therwise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gn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5204160" y="1179360"/>
            <a:ext cx="1331280" cy="459720"/>
            <a:chOff x="5204160" y="1179360"/>
            <a:chExt cx="1331280" cy="459720"/>
          </a:xfrm>
        </p:grpSpPr>
        <p:sp>
          <p:nvSpPr>
            <p:cNvPr id="1396" name=""/>
            <p:cNvSpPr/>
            <p:nvPr/>
          </p:nvSpPr>
          <p:spPr>
            <a:xfrm>
              <a:off x="5219640" y="1295280"/>
              <a:ext cx="1304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204160" y="1179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rece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7C7-8BF8-4EA2-842A-1AA82E42B57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957240" y="1319040"/>
            <a:ext cx="726768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0BF-7C41-4308-8CCB-FACBD75235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: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dilem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 #’s: 0, 1, 2,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dow size=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sees no difference in two scenari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orrectly passes duplicate data as new in (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at relationship between seq # size and window siz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4424400" y="324000"/>
            <a:ext cx="4226040" cy="60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282-FC19-46D5-86F1-98CA2536B50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imple DNS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dm.unife.i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s IP address o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xpfe.fe.infn.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its local DNS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unife.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unife.i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s root name server, if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ot name server contacts authoritative name server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.fe.infn.it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f necessar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03720" y="4635360"/>
            <a:ext cx="833400" cy="638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68080" y="525132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m.unife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09680" y="5345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xpfe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970680" y="4597560"/>
            <a:ext cx="833400" cy="6379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265720" y="2570040"/>
            <a:ext cx="369720" cy="657000"/>
            <a:chOff x="5265720" y="2570040"/>
            <a:chExt cx="369720" cy="657000"/>
          </a:xfrm>
        </p:grpSpPr>
        <p:sp>
          <p:nvSpPr>
            <p:cNvPr id="141" name=""/>
            <p:cNvSpPr/>
            <p:nvPr/>
          </p:nvSpPr>
          <p:spPr>
            <a:xfrm>
              <a:off x="5265720" y="307512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2920" y="257436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67880" y="271728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65720" y="257004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35440" y="258048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501880" y="3075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7400" y="278388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19720" y="287172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791320" y="73656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17800" y="340848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15040" y="325728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29160" y="156168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34160" y="174312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819480" y="157140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19600" y="1771560"/>
            <a:ext cx="733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05480" y="3286080"/>
            <a:ext cx="936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03160" y="3384720"/>
            <a:ext cx="2081160" cy="611640"/>
            <a:chOff x="4403160" y="3384720"/>
            <a:chExt cx="2081160" cy="611640"/>
          </a:xfrm>
        </p:grpSpPr>
        <p:sp>
          <p:nvSpPr>
            <p:cNvPr id="158" name=""/>
            <p:cNvSpPr/>
            <p:nvPr/>
          </p:nvSpPr>
          <p:spPr>
            <a:xfrm>
              <a:off x="4505400" y="345744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03160" y="338472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unife.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027760" y="41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7100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4000" y="202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4880" y="177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42160" y="210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61280" y="415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380280" y="1150920"/>
            <a:ext cx="369360" cy="657000"/>
            <a:chOff x="6380280" y="1150920"/>
            <a:chExt cx="369360" cy="657000"/>
          </a:xfrm>
        </p:grpSpPr>
        <p:sp>
          <p:nvSpPr>
            <p:cNvPr id="167" name=""/>
            <p:cNvSpPr/>
            <p:nvPr/>
          </p:nvSpPr>
          <p:spPr>
            <a:xfrm>
              <a:off x="6380280" y="16560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67480" y="11552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82440" y="12981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80280" y="11509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49640" y="11613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6616080" y="16560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11960" y="13647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34280" y="14526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209000" y="2579760"/>
            <a:ext cx="369360" cy="656280"/>
            <a:chOff x="7209000" y="2579760"/>
            <a:chExt cx="369360" cy="656280"/>
          </a:xfrm>
        </p:grpSpPr>
        <p:sp>
          <p:nvSpPr>
            <p:cNvPr id="176" name=""/>
            <p:cNvSpPr/>
            <p:nvPr/>
          </p:nvSpPr>
          <p:spPr>
            <a:xfrm>
              <a:off x="7209000" y="308448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6200" y="25840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11160" y="272700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09000" y="257976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78360" y="25902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444800" y="30844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40680" y="279360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63000" y="28814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DA0-B751-4DD5-8A14-C6AAC7BA4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not know authoritative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know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intermediate name 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o to contact to find authoritative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967920" y="505152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m.unife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6320" y="584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xpfe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191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591160" y="565200"/>
            <a:ext cx="201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34000" y="1571760"/>
            <a:ext cx="561960" cy="799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19680" y="1399680"/>
            <a:ext cx="647640" cy="933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419440" y="160020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17160" y="3232080"/>
            <a:ext cx="2081160" cy="611640"/>
            <a:chOff x="3917160" y="3232080"/>
            <a:chExt cx="2081160" cy="611640"/>
          </a:xfrm>
        </p:grpSpPr>
        <p:sp>
          <p:nvSpPr>
            <p:cNvPr id="207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17160" y="323208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unife.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13840" y="185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060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4400" y="373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13800" y="1569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216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225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234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246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infn.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799600" y="189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9EC-8C3C-40B9-B84A-F2EA77EF1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iterated queri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316224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ursive que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ts burden of name resolution on contacted name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vy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terated que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ed server replies with name of server to co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don’t know this name, but ask this serve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818240" y="4473720"/>
            <a:ext cx="833400" cy="637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967920" y="5051520"/>
            <a:ext cx="1881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m.unife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76320" y="584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xpfe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942240" y="5273640"/>
            <a:ext cx="833400" cy="63828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5065560" y="2398680"/>
            <a:ext cx="369720" cy="657000"/>
            <a:chOff x="5065560" y="2398680"/>
            <a:chExt cx="369720" cy="657000"/>
          </a:xfrm>
        </p:grpSpPr>
        <p:sp>
          <p:nvSpPr>
            <p:cNvPr id="257" name=""/>
            <p:cNvSpPr/>
            <p:nvPr/>
          </p:nvSpPr>
          <p:spPr>
            <a:xfrm>
              <a:off x="5065560" y="290376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52760" y="240300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67720" y="2545920"/>
              <a:ext cx="23436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65560" y="2398680"/>
              <a:ext cx="369720" cy="151920"/>
            </a:xfrm>
            <a:prstGeom prst="parallelogram">
              <a:avLst>
                <a:gd name="adj" fmla="val 9375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5280" y="240912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301720" y="290376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97240" y="2612520"/>
              <a:ext cx="15552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19560" y="270036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619600" y="650880"/>
            <a:ext cx="201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ot name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114880" y="3085920"/>
            <a:ext cx="0" cy="131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229360" y="1390320"/>
            <a:ext cx="914400" cy="97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514840" y="2552760"/>
            <a:ext cx="14860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514480" y="2724120"/>
            <a:ext cx="1419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438520" y="1619280"/>
            <a:ext cx="73332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05320" y="3114720"/>
            <a:ext cx="9720" cy="1324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917160" y="3232080"/>
            <a:ext cx="2081160" cy="611640"/>
            <a:chOff x="3917160" y="3232080"/>
            <a:chExt cx="2081160" cy="611640"/>
          </a:xfrm>
        </p:grpSpPr>
        <p:sp>
          <p:nvSpPr>
            <p:cNvPr id="273" name=""/>
            <p:cNvSpPr/>
            <p:nvPr/>
          </p:nvSpPr>
          <p:spPr>
            <a:xfrm>
              <a:off x="4019400" y="330480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17160" y="3232080"/>
              <a:ext cx="2081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 nam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unife.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827960" y="3941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840" y="160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08960" y="184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23240" y="2255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94920" y="376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425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180120" y="979560"/>
            <a:ext cx="369720" cy="656280"/>
            <a:chOff x="6180120" y="979560"/>
            <a:chExt cx="369720" cy="656280"/>
          </a:xfrm>
        </p:grpSpPr>
        <p:sp>
          <p:nvSpPr>
            <p:cNvPr id="282" name=""/>
            <p:cNvSpPr/>
            <p:nvPr/>
          </p:nvSpPr>
          <p:spPr>
            <a:xfrm>
              <a:off x="6180120" y="148428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67320" y="98388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82280" y="1126800"/>
              <a:ext cx="23436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80120" y="979560"/>
              <a:ext cx="369720" cy="151560"/>
            </a:xfrm>
            <a:prstGeom prst="parallelogram">
              <a:avLst>
                <a:gd name="adj" fmla="val 939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49840" y="99000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416280" y="148428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11800" y="1193400"/>
              <a:ext cx="15552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34120" y="128124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008840" y="2408400"/>
            <a:ext cx="369360" cy="656280"/>
            <a:chOff x="7008840" y="2408400"/>
            <a:chExt cx="369360" cy="656280"/>
          </a:xfrm>
        </p:grpSpPr>
        <p:sp>
          <p:nvSpPr>
            <p:cNvPr id="291" name=""/>
            <p:cNvSpPr/>
            <p:nvPr/>
          </p:nvSpPr>
          <p:spPr>
            <a:xfrm>
              <a:off x="7008840" y="291312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96040" y="2412720"/>
              <a:ext cx="169920" cy="5043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11000" y="2555640"/>
              <a:ext cx="234000" cy="5047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8840" y="2408400"/>
              <a:ext cx="369360" cy="151560"/>
            </a:xfrm>
            <a:prstGeom prst="parallelogram">
              <a:avLst>
                <a:gd name="adj" fmla="val 9388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78200" y="241884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4640" y="291312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40520" y="2622240"/>
              <a:ext cx="155160" cy="290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62840" y="271008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989760" y="4027320"/>
            <a:ext cx="369360" cy="657000"/>
            <a:chOff x="6989760" y="4027320"/>
            <a:chExt cx="369360" cy="657000"/>
          </a:xfrm>
        </p:grpSpPr>
        <p:sp>
          <p:nvSpPr>
            <p:cNvPr id="300" name=""/>
            <p:cNvSpPr/>
            <p:nvPr/>
          </p:nvSpPr>
          <p:spPr>
            <a:xfrm>
              <a:off x="6989760" y="453240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76960" y="4031640"/>
              <a:ext cx="169920" cy="5047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91920" y="4174560"/>
              <a:ext cx="234000" cy="505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89760" y="4027320"/>
              <a:ext cx="369360" cy="151920"/>
            </a:xfrm>
            <a:prstGeom prst="parallelogram">
              <a:avLst>
                <a:gd name="adj" fmla="val 9366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59120" y="4037760"/>
              <a:ext cx="0" cy="49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225560" y="4532400"/>
              <a:ext cx="13284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21440" y="4241160"/>
              <a:ext cx="155160" cy="291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43760" y="4329000"/>
              <a:ext cx="117720" cy="10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055920" y="4599000"/>
            <a:ext cx="26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uthoritative 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ns.fe.infn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95960" y="3114720"/>
            <a:ext cx="9720" cy="92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286760" y="3124080"/>
            <a:ext cx="0" cy="866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6960" y="3255840"/>
            <a:ext cx="2657160" cy="580680"/>
            <a:chOff x="6096960" y="3255840"/>
            <a:chExt cx="2657160" cy="580680"/>
          </a:xfrm>
        </p:grpSpPr>
        <p:sp>
          <p:nvSpPr>
            <p:cNvPr id="312" name=""/>
            <p:cNvSpPr/>
            <p:nvPr/>
          </p:nvSpPr>
          <p:spPr>
            <a:xfrm>
              <a:off x="6201000" y="3333600"/>
              <a:ext cx="2400120" cy="43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6960" y="3255840"/>
              <a:ext cx="265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mediate nam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ns.infn.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161400" y="277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80200" y="3960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57760" y="1666800"/>
            <a:ext cx="1013040" cy="266760"/>
          </a:xfrm>
          <a:custGeom>
            <a:avLst/>
            <a:gdLst/>
            <a:ahLst/>
            <a:rect l="l" t="t" r="r" b="b"/>
            <a:pathLst>
              <a:path w="638" h="168">
                <a:moveTo>
                  <a:pt x="304" y="108"/>
                </a:moveTo>
                <a:cubicBezTo>
                  <a:pt x="332" y="42"/>
                  <a:pt x="308" y="46"/>
                  <a:pt x="284" y="30"/>
                </a:cubicBezTo>
                <a:cubicBezTo>
                  <a:pt x="260" y="14"/>
                  <a:pt x="83" y="0"/>
                  <a:pt x="54" y="26"/>
                </a:cubicBezTo>
                <a:cubicBezTo>
                  <a:pt x="25" y="52"/>
                  <a:pt x="0" y="144"/>
                  <a:pt x="54" y="152"/>
                </a:cubicBezTo>
                <a:cubicBezTo>
                  <a:pt x="108" y="160"/>
                  <a:pt x="215" y="168"/>
                  <a:pt x="240" y="164"/>
                </a:cubicBezTo>
                <a:cubicBezTo>
                  <a:pt x="265" y="160"/>
                  <a:pt x="292" y="134"/>
                  <a:pt x="306" y="118"/>
                </a:cubicBezTo>
                <a:cubicBezTo>
                  <a:pt x="320" y="102"/>
                  <a:pt x="586" y="36"/>
                  <a:pt x="638" y="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32640" y="1495440"/>
            <a:ext cx="174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terate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80B-8B8C-43F4-8011-0837C928C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NS: caching and updating record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8840" y="1438200"/>
            <a:ext cx="75150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(any) name server learns mapping, i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ach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pp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che entries timeout (disappear) after some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date/notify mechanisms under design by IET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 213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://www.ietf.org/html.charters/dnsind-charter.htm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9A08-DCC8-43D4-9DC7-270C563785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4-27T13:00:41Z</dcterms:modified>
  <cp:revision>81</cp:revision>
  <dc:subject/>
  <dc:title>Part I: Introduction</dc:title>
</cp:coreProperties>
</file>