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C21B-9801-4400-B7FB-FEF79434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A50-AEB6-4363-8FE1-AF28A42F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6F9-DB36-452E-9CB3-7C65A3D3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6A6-E86E-455F-ABEC-19CFA95C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D6E-85B9-4701-B514-759A636F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A74-A0FE-4870-9444-6B1D3513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25C-1304-4743-A599-05558143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6DC-84A0-4609-8471-545EA1AB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FF1-F615-48CE-915B-D3371CE8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207-A298-4133-A0D5-77FF9B26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4A5-6D36-4683-822A-AC845370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D13-2E8A-436D-931E-63526458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3440" y="6400800"/>
            <a:ext cx="778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 Lay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C36D5807-213A-443A-BDBA-E46B52E1D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4.wmf"/><Relationship Id="rId14" Type="http://schemas.openxmlformats.org/officeDocument/2006/relationships/image" Target="../media/image5.wmf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etwork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Chapter goal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 principles behind network layer servic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ing (path selecti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ling with sca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a router wor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vanced topics: IPv6, multica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tiation and implementation in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14440" y="13716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verview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layer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ing principle: path sel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routing protocols reliable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a-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-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’s inside a rout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cast ro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B64-20A9-4AF2-B67A-6DC67EB734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ing Algorithm classifica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05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lobal or decentralized informati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loba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routers have complete topology, link cost inf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state” algorith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ecentralized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 knows physically-connected neighbors, link costs to neighb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erative process of computation, exchange of info with neighb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ance vector” algorith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3840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ic or dynami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ic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s change slowly over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ynamic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s change more quick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iodic up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response to link cost 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BC8-A561-458C-B2E2-5A902AAC77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ink-State Routing Algorithm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jkstra’s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 topology, link costs known to all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omplished via “link state broadcast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nodes have same inf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s least cost paths from one node (‘source”) to all other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outing t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at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erative: after k iterations, know least cost path to k dest.’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(i,j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ink cost from node i to j. cost infinite if not direct neighb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(v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urrent value of cost of path from source to dest. 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(v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edecessor node along path from source to v, that is next 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t of nodes whose least cost path definitively kn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098-834F-48FF-9CC3-050E8E1721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jsktra’s Algorithm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1133640" y="1459080"/>
            <a:ext cx="611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itializ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N = {A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for all nodes 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   if v adjacent t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     then D(v) = c(A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    else D(v) = inf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  find w not in N such that D(w) is a minim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 add w to 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update D(v) for all v adjacent to w and not in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    D(v) = min( D(v), D(w) + c(w,v)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   /* new cost to v is either old cost to v or kn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    shortest path cost to w plus cost from w to v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til all nodes in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0120" y="3543480"/>
            <a:ext cx="799920" cy="2885760"/>
          </a:xfrm>
          <a:custGeom>
            <a:avLst/>
            <a:gdLst/>
            <a:ahLst/>
            <a:rect l="l" t="t" r="r" b="b"/>
            <a:pathLst>
              <a:path w="504" h="1818">
                <a:moveTo>
                  <a:pt x="504" y="1596"/>
                </a:moveTo>
                <a:cubicBezTo>
                  <a:pt x="444" y="1728"/>
                  <a:pt x="240" y="1818"/>
                  <a:pt x="120" y="1602"/>
                </a:cubicBezTo>
                <a:cubicBezTo>
                  <a:pt x="0" y="1386"/>
                  <a:pt x="48" y="444"/>
                  <a:pt x="90" y="192"/>
                </a:cubicBezTo>
                <a:cubicBezTo>
                  <a:pt x="162" y="0"/>
                  <a:pt x="294" y="84"/>
                  <a:pt x="396" y="14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789F-C809-48DD-BF90-C05FA1954F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jkstra’s algorithm: examp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6" name=""/>
          <p:cNvSpPr/>
          <p:nvPr/>
        </p:nvSpPr>
        <p:spPr>
          <a:xfrm>
            <a:off x="241200" y="1506600"/>
            <a:ext cx="70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055160" y="1515960"/>
            <a:ext cx="121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414160" y="1496880"/>
            <a:ext cx="125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B),p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665880" y="1501920"/>
            <a:ext cx="128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C),p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942080" y="1496880"/>
            <a:ext cx="128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D),p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267240" y="1501920"/>
            <a:ext cx="12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E),p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47400" y="1515960"/>
            <a:ext cx="12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F),p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1800" y="1857240"/>
            <a:ext cx="850608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9120" y="2162160"/>
            <a:ext cx="8296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38200" y="2457360"/>
            <a:ext cx="826776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47560" y="2766960"/>
            <a:ext cx="825372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57280" y="3071880"/>
            <a:ext cx="826776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1680" y="3386160"/>
            <a:ext cx="826272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2657520" y="3995640"/>
            <a:ext cx="3571920" cy="2236680"/>
            <a:chOff x="2657520" y="3995640"/>
            <a:chExt cx="3571920" cy="2236680"/>
          </a:xfrm>
        </p:grpSpPr>
        <p:sp>
          <p:nvSpPr>
            <p:cNvPr id="910" name=""/>
            <p:cNvSpPr/>
            <p:nvPr/>
          </p:nvSpPr>
          <p:spPr>
            <a:xfrm>
              <a:off x="2657520" y="3995640"/>
              <a:ext cx="3571920" cy="2236680"/>
            </a:xfrm>
            <a:custGeom>
              <a:avLst/>
              <a:gdLst/>
              <a:ahLst/>
              <a:rect l="l" t="t" r="r" b="b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191040" y="4867200"/>
              <a:ext cx="542880" cy="2952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778120" y="525132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778120" y="52401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75280" y="52401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778120" y="52401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773440" y="51465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530880" y="58654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530880" y="58543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27680" y="58543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530880" y="58543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525840" y="576072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24400" y="47703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24400" y="47592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21200" y="47592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524400" y="4759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19720" y="46652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608720" y="4763880"/>
              <a:ext cx="4953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608720" y="47527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04080" y="47527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608720" y="4752720"/>
              <a:ext cx="4903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13400" y="46638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624560" y="58608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624560" y="58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121360" y="58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624560" y="58496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619880" y="57560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521320" y="531936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21320" y="5308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18480" y="5308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21320" y="5308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16640" y="52146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72240" y="4910040"/>
              <a:ext cx="1440" cy="828360"/>
            </a:xfrm>
            <a:custGeom>
              <a:avLst/>
              <a:gdLst/>
              <a:ahLst/>
              <a:rect l="l" t="t" r="r" b="b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772080" y="4919400"/>
              <a:ext cx="1440" cy="852480"/>
            </a:xfrm>
            <a:custGeom>
              <a:avLst/>
              <a:gdLst/>
              <a:ahLst/>
              <a:rect l="l" t="t" r="r" b="b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33800" y="4895640"/>
              <a:ext cx="800280" cy="952560"/>
            </a:xfrm>
            <a:custGeom>
              <a:avLst/>
              <a:gdLst/>
              <a:ahLst/>
              <a:rect l="l" t="t" r="r" b="b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124600" y="5447880"/>
              <a:ext cx="581040" cy="428760"/>
            </a:xfrm>
            <a:custGeom>
              <a:avLst/>
              <a:gdLst/>
              <a:ahLst/>
              <a:rect l="l" t="t" r="r" b="b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43520" y="5895720"/>
              <a:ext cx="581040" cy="144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05360" y="5381280"/>
              <a:ext cx="438120" cy="419040"/>
            </a:xfrm>
            <a:custGeom>
              <a:avLst/>
              <a:gdLst/>
              <a:ahLst/>
              <a:rect l="l" t="t" r="r" b="b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33800" y="4800240"/>
              <a:ext cx="581040" cy="180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05520" y="4795560"/>
              <a:ext cx="628560" cy="423720"/>
            </a:xfrm>
            <a:custGeom>
              <a:avLst/>
              <a:gdLst/>
              <a:ahLst/>
              <a:rect l="l" t="t" r="r" b="b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014640" y="4114440"/>
              <a:ext cx="1762200" cy="1024200"/>
            </a:xfrm>
            <a:custGeom>
              <a:avLst/>
              <a:gdLst/>
              <a:ahLst/>
              <a:rect l="l" t="t" r="r" b="b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1" name=""/>
            <p:cNvGrpSpPr/>
            <p:nvPr/>
          </p:nvGrpSpPr>
          <p:grpSpPr>
            <a:xfrm>
              <a:off x="2846880" y="5070240"/>
              <a:ext cx="343800" cy="398880"/>
              <a:chOff x="2846880" y="5070240"/>
              <a:chExt cx="343800" cy="398880"/>
            </a:xfrm>
          </p:grpSpPr>
          <p:sp>
            <p:nvSpPr>
              <p:cNvPr id="952" name=""/>
              <p:cNvSpPr/>
              <p:nvPr/>
            </p:nvSpPr>
            <p:spPr>
              <a:xfrm>
                <a:off x="2899440" y="516672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846880" y="50702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4713840" y="5679720"/>
              <a:ext cx="322560" cy="398880"/>
              <a:chOff x="4713840" y="5679720"/>
              <a:chExt cx="322560" cy="398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756680" y="577656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13840" y="567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3611520" y="5675040"/>
              <a:ext cx="366480" cy="398880"/>
              <a:chOff x="3611520" y="5675040"/>
              <a:chExt cx="366480" cy="398880"/>
            </a:xfrm>
          </p:grpSpPr>
          <p:sp>
            <p:nvSpPr>
              <p:cNvPr id="958" name=""/>
              <p:cNvSpPr/>
              <p:nvPr/>
            </p:nvSpPr>
            <p:spPr>
              <a:xfrm>
                <a:off x="3675600" y="577152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611520" y="567504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4694760" y="4584600"/>
              <a:ext cx="342360" cy="398880"/>
              <a:chOff x="4694760" y="4584600"/>
              <a:chExt cx="342360" cy="398880"/>
            </a:xfrm>
          </p:grpSpPr>
          <p:sp>
            <p:nvSpPr>
              <p:cNvPr id="961" name=""/>
              <p:cNvSpPr/>
              <p:nvPr/>
            </p:nvSpPr>
            <p:spPr>
              <a:xfrm>
                <a:off x="4747680" y="468108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694760" y="45846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3607560" y="4584600"/>
              <a:ext cx="346680" cy="398880"/>
              <a:chOff x="3607560" y="4584600"/>
              <a:chExt cx="346680" cy="398880"/>
            </a:xfrm>
          </p:grpSpPr>
          <p:sp>
            <p:nvSpPr>
              <p:cNvPr id="964" name=""/>
              <p:cNvSpPr/>
              <p:nvPr/>
            </p:nvSpPr>
            <p:spPr>
              <a:xfrm>
                <a:off x="3661560" y="468108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607560" y="45846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5627520" y="5136840"/>
              <a:ext cx="313200" cy="398880"/>
              <a:chOff x="5627520" y="5136840"/>
              <a:chExt cx="313200" cy="398880"/>
            </a:xfrm>
          </p:grpSpPr>
          <p:sp>
            <p:nvSpPr>
              <p:cNvPr id="967" name=""/>
              <p:cNvSpPr/>
              <p:nvPr/>
            </p:nvSpPr>
            <p:spPr>
              <a:xfrm>
                <a:off x="5666760" y="523368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627520" y="513684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3182760" y="478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735000" y="5136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43800" y="5474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44840" y="5284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44040" y="5846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815360" y="5165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387760" y="5584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344920" y="473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78160" y="4493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620880" y="4070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3095640" y="5362560"/>
            <a:ext cx="447840" cy="447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4038480" y="5896080"/>
            <a:ext cx="581040" cy="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3191040" y="4905360"/>
            <a:ext cx="495000" cy="25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4857840" y="4905000"/>
            <a:ext cx="0" cy="84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5124600" y="5438520"/>
            <a:ext cx="609480" cy="447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71360" y="202896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71360" y="230508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62000" y="263844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71360" y="294336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81080" y="3247920"/>
            <a:ext cx="51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121-E50D-455C-A728-E9801F2A75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7" dur="1" fill="hold"/>
                                  <p:tgtEl>
                                    <p:spTgt spid="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jkstra’s algorithm, discuss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61600" y="13716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gorithm complex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iteration: need to check all nodes, w, not in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*(n+1)/2 comparisons: O(n**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efficient implementations possible: O(nlog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scillations possib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link cost = amount of carried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"/>
          <p:cNvSpPr/>
          <p:nvPr/>
        </p:nvSpPr>
        <p:spPr>
          <a:xfrm>
            <a:off x="446040" y="4272120"/>
            <a:ext cx="1971720" cy="1355400"/>
          </a:xfrm>
          <a:custGeom>
            <a:avLst/>
            <a:gdLst/>
            <a:ahLst/>
            <a:rect l="l" t="t" r="r" b="b"/>
            <a:pathLst>
              <a:path w="1242" h="854">
                <a:moveTo>
                  <a:pt x="1" y="381"/>
                </a:moveTo>
                <a:cubicBezTo>
                  <a:pt x="0" y="296"/>
                  <a:pt x="88" y="222"/>
                  <a:pt x="169" y="162"/>
                </a:cubicBezTo>
                <a:cubicBezTo>
                  <a:pt x="250" y="102"/>
                  <a:pt x="378" y="40"/>
                  <a:pt x="487" y="18"/>
                </a:cubicBezTo>
                <a:cubicBezTo>
                  <a:pt x="616" y="6"/>
                  <a:pt x="685" y="0"/>
                  <a:pt x="823" y="30"/>
                </a:cubicBezTo>
                <a:cubicBezTo>
                  <a:pt x="961" y="60"/>
                  <a:pt x="1121" y="165"/>
                  <a:pt x="1183" y="261"/>
                </a:cubicBezTo>
                <a:cubicBezTo>
                  <a:pt x="1242" y="357"/>
                  <a:pt x="1219" y="523"/>
                  <a:pt x="1177" y="609"/>
                </a:cubicBezTo>
                <a:cubicBezTo>
                  <a:pt x="1135" y="695"/>
                  <a:pt x="1049" y="742"/>
                  <a:pt x="928" y="780"/>
                </a:cubicBezTo>
                <a:cubicBezTo>
                  <a:pt x="807" y="818"/>
                  <a:pt x="573" y="854"/>
                  <a:pt x="448" y="837"/>
                </a:cubicBezTo>
                <a:cubicBezTo>
                  <a:pt x="323" y="820"/>
                  <a:pt x="252" y="751"/>
                  <a:pt x="178" y="675"/>
                </a:cubicBezTo>
                <a:cubicBezTo>
                  <a:pt x="104" y="599"/>
                  <a:pt x="2" y="466"/>
                  <a:pt x="1" y="381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7800" y="4610160"/>
            <a:ext cx="390600" cy="20952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1154160" y="4299120"/>
            <a:ext cx="501480" cy="398880"/>
            <a:chOff x="1154160" y="4299120"/>
            <a:chExt cx="501480" cy="398880"/>
          </a:xfrm>
        </p:grpSpPr>
        <p:sp>
          <p:nvSpPr>
            <p:cNvPr id="994" name=""/>
            <p:cNvSpPr/>
            <p:nvPr/>
          </p:nvSpPr>
          <p:spPr>
            <a:xfrm>
              <a:off x="1158840" y="4479840"/>
              <a:ext cx="49680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58840" y="44686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655640" y="44686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158840" y="4468680"/>
              <a:ext cx="492120" cy="78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154160" y="43750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1227240" y="4299120"/>
              <a:ext cx="343800" cy="398880"/>
              <a:chOff x="1227240" y="4299120"/>
              <a:chExt cx="343800" cy="398880"/>
            </a:xfrm>
          </p:grpSpPr>
          <p:sp>
            <p:nvSpPr>
              <p:cNvPr id="1000" name=""/>
              <p:cNvSpPr/>
              <p:nvPr/>
            </p:nvSpPr>
            <p:spPr>
              <a:xfrm>
                <a:off x="1279800" y="439560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227240" y="429912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2" name=""/>
          <p:cNvGrpSpPr/>
          <p:nvPr/>
        </p:nvGrpSpPr>
        <p:grpSpPr>
          <a:xfrm>
            <a:off x="506520" y="4703760"/>
            <a:ext cx="501480" cy="398880"/>
            <a:chOff x="506520" y="4703760"/>
            <a:chExt cx="501480" cy="398880"/>
          </a:xfrm>
        </p:grpSpPr>
        <p:sp>
          <p:nvSpPr>
            <p:cNvPr id="1003" name=""/>
            <p:cNvSpPr/>
            <p:nvPr/>
          </p:nvSpPr>
          <p:spPr>
            <a:xfrm>
              <a:off x="511200" y="48942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1200" y="48830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008000" y="48830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1200" y="48830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6520" y="47894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"/>
            <p:cNvGrpSpPr/>
            <p:nvPr/>
          </p:nvGrpSpPr>
          <p:grpSpPr>
            <a:xfrm>
              <a:off x="592200" y="4703760"/>
              <a:ext cx="366480" cy="398880"/>
              <a:chOff x="592200" y="4703760"/>
              <a:chExt cx="366480" cy="398880"/>
            </a:xfrm>
          </p:grpSpPr>
          <p:sp>
            <p:nvSpPr>
              <p:cNvPr id="1009" name=""/>
              <p:cNvSpPr/>
              <p:nvPr/>
            </p:nvSpPr>
            <p:spPr>
              <a:xfrm>
                <a:off x="656280" y="480024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92200" y="47037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1" name=""/>
          <p:cNvGrpSpPr/>
          <p:nvPr/>
        </p:nvGrpSpPr>
        <p:grpSpPr>
          <a:xfrm>
            <a:off x="1141560" y="5165640"/>
            <a:ext cx="500040" cy="398880"/>
            <a:chOff x="1141560" y="5165640"/>
            <a:chExt cx="500040" cy="398880"/>
          </a:xfrm>
        </p:grpSpPr>
        <p:grpSp>
          <p:nvGrpSpPr>
            <p:cNvPr id="1012" name=""/>
            <p:cNvGrpSpPr/>
            <p:nvPr/>
          </p:nvGrpSpPr>
          <p:grpSpPr>
            <a:xfrm>
              <a:off x="1141560" y="5245200"/>
              <a:ext cx="500040" cy="228600"/>
              <a:chOff x="1141560" y="5245200"/>
              <a:chExt cx="500040" cy="228600"/>
            </a:xfrm>
          </p:grpSpPr>
          <p:sp>
            <p:nvSpPr>
              <p:cNvPr id="1013" name=""/>
              <p:cNvSpPr/>
              <p:nvPr/>
            </p:nvSpPr>
            <p:spPr>
              <a:xfrm>
                <a:off x="1141560" y="5345280"/>
                <a:ext cx="49536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141560" y="5334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36920" y="5334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141560" y="5334120"/>
                <a:ext cx="49068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146600" y="5245200"/>
                <a:ext cx="4950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1227600" y="5165640"/>
              <a:ext cx="342360" cy="398880"/>
              <a:chOff x="1227600" y="5165640"/>
              <a:chExt cx="342360" cy="398880"/>
            </a:xfrm>
          </p:grpSpPr>
          <p:sp>
            <p:nvSpPr>
              <p:cNvPr id="1019" name=""/>
              <p:cNvSpPr/>
              <p:nvPr/>
            </p:nvSpPr>
            <p:spPr>
              <a:xfrm>
                <a:off x="1280520" y="526248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227600" y="51656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1" name=""/>
          <p:cNvGrpSpPr/>
          <p:nvPr/>
        </p:nvGrpSpPr>
        <p:grpSpPr>
          <a:xfrm>
            <a:off x="1795320" y="4718160"/>
            <a:ext cx="501840" cy="398880"/>
            <a:chOff x="1795320" y="4718160"/>
            <a:chExt cx="501840" cy="398880"/>
          </a:xfrm>
        </p:grpSpPr>
        <p:sp>
          <p:nvSpPr>
            <p:cNvPr id="1022" name=""/>
            <p:cNvSpPr/>
            <p:nvPr/>
          </p:nvSpPr>
          <p:spPr>
            <a:xfrm>
              <a:off x="1800360" y="4903560"/>
              <a:ext cx="496800" cy="128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800360" y="48924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297160" y="48924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800360" y="4892400"/>
              <a:ext cx="4921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795320" y="4798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1883160" y="4718160"/>
              <a:ext cx="346680" cy="398880"/>
              <a:chOff x="1883160" y="4718160"/>
              <a:chExt cx="346680" cy="398880"/>
            </a:xfrm>
          </p:grpSpPr>
          <p:sp>
            <p:nvSpPr>
              <p:cNvPr id="1028" name=""/>
              <p:cNvSpPr/>
              <p:nvPr/>
            </p:nvSpPr>
            <p:spPr>
              <a:xfrm>
                <a:off x="1937160" y="481464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883160" y="471816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0" name=""/>
          <p:cNvSpPr/>
          <p:nvPr/>
        </p:nvSpPr>
        <p:spPr>
          <a:xfrm>
            <a:off x="834120" y="44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1532880" y="4610160"/>
            <a:ext cx="338040" cy="2048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 flipV="1">
            <a:off x="1547640" y="5023800"/>
            <a:ext cx="31464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909720" y="5014800"/>
            <a:ext cx="323640" cy="2476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629360" y="447048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69680" y="50180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98120" y="50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380960" y="5481360"/>
            <a:ext cx="0" cy="399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136160" y="5694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 flipV="1">
            <a:off x="561600" y="5014800"/>
            <a:ext cx="4680" cy="338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7720" y="5308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2081160" y="5047920"/>
            <a:ext cx="0" cy="428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921320" y="5413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 flipV="1">
            <a:off x="1451880" y="498096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999360" y="4991040"/>
            <a:ext cx="304920" cy="2192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083960" y="4822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426680" y="480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685960" y="4319640"/>
            <a:ext cx="1944720" cy="1355760"/>
            <a:chOff x="2685960" y="4319640"/>
            <a:chExt cx="1944720" cy="1355760"/>
          </a:xfrm>
        </p:grpSpPr>
        <p:sp>
          <p:nvSpPr>
            <p:cNvPr id="1048" name=""/>
            <p:cNvSpPr/>
            <p:nvPr/>
          </p:nvSpPr>
          <p:spPr>
            <a:xfrm>
              <a:off x="2685960" y="4319640"/>
              <a:ext cx="1944720" cy="1355760"/>
            </a:xfrm>
            <a:custGeom>
              <a:avLst/>
              <a:gdLst/>
              <a:ahLst/>
              <a:rect l="l" t="t" r="r" b="b"/>
              <a:pathLst>
                <a:path w="1225" h="854">
                  <a:moveTo>
                    <a:pt x="0" y="387"/>
                  </a:moveTo>
                  <a:cubicBezTo>
                    <a:pt x="0" y="243"/>
                    <a:pt x="87" y="223"/>
                    <a:pt x="168" y="162"/>
                  </a:cubicBezTo>
                  <a:cubicBezTo>
                    <a:pt x="249" y="101"/>
                    <a:pt x="377" y="40"/>
                    <a:pt x="486" y="18"/>
                  </a:cubicBezTo>
                  <a:cubicBezTo>
                    <a:pt x="615" y="6"/>
                    <a:pt x="684" y="0"/>
                    <a:pt x="822" y="30"/>
                  </a:cubicBezTo>
                  <a:cubicBezTo>
                    <a:pt x="960" y="60"/>
                    <a:pt x="1099" y="169"/>
                    <a:pt x="1152" y="267"/>
                  </a:cubicBezTo>
                  <a:cubicBezTo>
                    <a:pt x="1213" y="351"/>
                    <a:pt x="1225" y="452"/>
                    <a:pt x="1188" y="537"/>
                  </a:cubicBezTo>
                  <a:cubicBezTo>
                    <a:pt x="1151" y="622"/>
                    <a:pt x="1050" y="730"/>
                    <a:pt x="927" y="780"/>
                  </a:cubicBezTo>
                  <a:cubicBezTo>
                    <a:pt x="804" y="830"/>
                    <a:pt x="572" y="854"/>
                    <a:pt x="447" y="837"/>
                  </a:cubicBezTo>
                  <a:cubicBezTo>
                    <a:pt x="322" y="820"/>
                    <a:pt x="251" y="750"/>
                    <a:pt x="177" y="675"/>
                  </a:cubicBezTo>
                  <a:cubicBezTo>
                    <a:pt x="103" y="600"/>
                    <a:pt x="0" y="531"/>
                    <a:pt x="0" y="38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085920" y="4658040"/>
              <a:ext cx="390600" cy="20952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3392280" y="4346640"/>
              <a:ext cx="501480" cy="398880"/>
              <a:chOff x="3392280" y="4346640"/>
              <a:chExt cx="501480" cy="398880"/>
            </a:xfrm>
          </p:grpSpPr>
          <p:sp>
            <p:nvSpPr>
              <p:cNvPr id="1051" name=""/>
              <p:cNvSpPr/>
              <p:nvPr/>
            </p:nvSpPr>
            <p:spPr>
              <a:xfrm>
                <a:off x="3396960" y="452736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96960" y="45162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893760" y="45162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396960" y="4516200"/>
                <a:ext cx="492120" cy="78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392280" y="44226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6" name=""/>
              <p:cNvGrpSpPr/>
              <p:nvPr/>
            </p:nvGrpSpPr>
            <p:grpSpPr>
              <a:xfrm>
                <a:off x="3465360" y="4346640"/>
                <a:ext cx="343800" cy="398880"/>
                <a:chOff x="3465360" y="4346640"/>
                <a:chExt cx="343800" cy="39888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3517920" y="4443120"/>
                  <a:ext cx="22572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465360" y="434664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9" name=""/>
            <p:cNvGrpSpPr/>
            <p:nvPr/>
          </p:nvGrpSpPr>
          <p:grpSpPr>
            <a:xfrm>
              <a:off x="2744640" y="4751640"/>
              <a:ext cx="501480" cy="398880"/>
              <a:chOff x="2744640" y="4751640"/>
              <a:chExt cx="501480" cy="398880"/>
            </a:xfrm>
          </p:grpSpPr>
          <p:sp>
            <p:nvSpPr>
              <p:cNvPr id="1060" name=""/>
              <p:cNvSpPr/>
              <p:nvPr/>
            </p:nvSpPr>
            <p:spPr>
              <a:xfrm>
                <a:off x="2749320" y="49420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749320" y="4930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246120" y="4930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749320" y="49309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744640" y="4837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5" name=""/>
              <p:cNvGrpSpPr/>
              <p:nvPr/>
            </p:nvGrpSpPr>
            <p:grpSpPr>
              <a:xfrm>
                <a:off x="2830320" y="4751640"/>
                <a:ext cx="366480" cy="398880"/>
                <a:chOff x="2830320" y="4751640"/>
                <a:chExt cx="366480" cy="39888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2894400" y="4848120"/>
                  <a:ext cx="22572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2830320" y="475164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"/>
            <p:cNvGrpSpPr/>
            <p:nvPr/>
          </p:nvGrpSpPr>
          <p:grpSpPr>
            <a:xfrm>
              <a:off x="3379680" y="5213520"/>
              <a:ext cx="500040" cy="398880"/>
              <a:chOff x="3379680" y="5213520"/>
              <a:chExt cx="500040" cy="39888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3379680" y="5292720"/>
                <a:ext cx="500040" cy="227880"/>
                <a:chOff x="3379680" y="5292720"/>
                <a:chExt cx="500040" cy="2278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3379680" y="5392440"/>
                  <a:ext cx="495360" cy="1281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379680" y="5381280"/>
                  <a:ext cx="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875040" y="5381280"/>
                  <a:ext cx="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379680" y="5381280"/>
                  <a:ext cx="490680" cy="7740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384720" y="5292720"/>
                  <a:ext cx="495000" cy="15048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5" name=""/>
              <p:cNvGrpSpPr/>
              <p:nvPr/>
            </p:nvGrpSpPr>
            <p:grpSpPr>
              <a:xfrm>
                <a:off x="3465720" y="5213520"/>
                <a:ext cx="342360" cy="398880"/>
                <a:chOff x="3465720" y="5213520"/>
                <a:chExt cx="342360" cy="39888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3518640" y="5310000"/>
                  <a:ext cx="2253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3465720" y="521352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"/>
            <p:cNvGrpSpPr/>
            <p:nvPr/>
          </p:nvGrpSpPr>
          <p:grpSpPr>
            <a:xfrm>
              <a:off x="4033800" y="4765680"/>
              <a:ext cx="501480" cy="398880"/>
              <a:chOff x="4033800" y="4765680"/>
              <a:chExt cx="501480" cy="398880"/>
            </a:xfrm>
          </p:grpSpPr>
          <p:sp>
            <p:nvSpPr>
              <p:cNvPr id="1079" name=""/>
              <p:cNvSpPr/>
              <p:nvPr/>
            </p:nvSpPr>
            <p:spPr>
              <a:xfrm>
                <a:off x="4038480" y="4951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038480" y="4940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535280" y="4940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038480" y="4940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033800" y="4846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4" name=""/>
              <p:cNvGrpSpPr/>
              <p:nvPr/>
            </p:nvGrpSpPr>
            <p:grpSpPr>
              <a:xfrm>
                <a:off x="4121280" y="4765680"/>
                <a:ext cx="346680" cy="398880"/>
                <a:chOff x="4121280" y="4765680"/>
                <a:chExt cx="346680" cy="39888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4175280" y="4862520"/>
                  <a:ext cx="2250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121280" y="4765680"/>
                  <a:ext cx="34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7" name=""/>
            <p:cNvSpPr/>
            <p:nvPr/>
          </p:nvSpPr>
          <p:spPr>
            <a:xfrm>
              <a:off x="2820600" y="44848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3771720" y="4658040"/>
              <a:ext cx="338400" cy="2044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H="1" flipV="1">
              <a:off x="3785400" y="5071680"/>
              <a:ext cx="314280" cy="2286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3147840" y="5062680"/>
              <a:ext cx="324000" cy="2476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996720" y="4518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908160" y="5065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036600" y="5089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 flipV="1">
              <a:off x="3690720" y="5028480"/>
              <a:ext cx="314640" cy="2286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238560" y="5038920"/>
              <a:ext cx="304560" cy="2188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40360" y="48610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664440" y="4851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4838760" y="4329000"/>
            <a:ext cx="1944720" cy="1355760"/>
          </a:xfrm>
          <a:custGeom>
            <a:avLst/>
            <a:gdLst/>
            <a:ahLst/>
            <a:rect l="l" t="t" r="r" b="b"/>
            <a:pathLst>
              <a:path w="1225" h="854">
                <a:moveTo>
                  <a:pt x="0" y="387"/>
                </a:moveTo>
                <a:cubicBezTo>
                  <a:pt x="0" y="243"/>
                  <a:pt x="87" y="223"/>
                  <a:pt x="168" y="162"/>
                </a:cubicBezTo>
                <a:cubicBezTo>
                  <a:pt x="249" y="101"/>
                  <a:pt x="377" y="40"/>
                  <a:pt x="486" y="18"/>
                </a:cubicBezTo>
                <a:cubicBezTo>
                  <a:pt x="615" y="6"/>
                  <a:pt x="684" y="0"/>
                  <a:pt x="822" y="30"/>
                </a:cubicBezTo>
                <a:cubicBezTo>
                  <a:pt x="960" y="60"/>
                  <a:pt x="1099" y="169"/>
                  <a:pt x="1152" y="267"/>
                </a:cubicBezTo>
                <a:cubicBezTo>
                  <a:pt x="1213" y="351"/>
                  <a:pt x="1225" y="452"/>
                  <a:pt x="1188" y="537"/>
                </a:cubicBezTo>
                <a:cubicBezTo>
                  <a:pt x="1151" y="622"/>
                  <a:pt x="1050" y="730"/>
                  <a:pt x="927" y="780"/>
                </a:cubicBezTo>
                <a:cubicBezTo>
                  <a:pt x="804" y="830"/>
                  <a:pt x="572" y="854"/>
                  <a:pt x="447" y="837"/>
                </a:cubicBezTo>
                <a:cubicBezTo>
                  <a:pt x="322" y="820"/>
                  <a:pt x="251" y="750"/>
                  <a:pt x="177" y="675"/>
                </a:cubicBezTo>
                <a:cubicBezTo>
                  <a:pt x="103" y="600"/>
                  <a:pt x="0" y="531"/>
                  <a:pt x="0" y="38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238720" y="4667400"/>
            <a:ext cx="390600" cy="20952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5545080" y="4356000"/>
            <a:ext cx="501480" cy="398880"/>
            <a:chOff x="5545080" y="4356000"/>
            <a:chExt cx="501480" cy="398880"/>
          </a:xfrm>
        </p:grpSpPr>
        <p:sp>
          <p:nvSpPr>
            <p:cNvPr id="1101" name=""/>
            <p:cNvSpPr/>
            <p:nvPr/>
          </p:nvSpPr>
          <p:spPr>
            <a:xfrm>
              <a:off x="5549760" y="4536720"/>
              <a:ext cx="49680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549760" y="45255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046560" y="45255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49760" y="4525560"/>
              <a:ext cx="492120" cy="78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45080" y="44319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6" name=""/>
            <p:cNvGrpSpPr/>
            <p:nvPr/>
          </p:nvGrpSpPr>
          <p:grpSpPr>
            <a:xfrm>
              <a:off x="5618160" y="4356000"/>
              <a:ext cx="343800" cy="398880"/>
              <a:chOff x="5618160" y="4356000"/>
              <a:chExt cx="343800" cy="398880"/>
            </a:xfrm>
          </p:grpSpPr>
          <p:sp>
            <p:nvSpPr>
              <p:cNvPr id="1107" name=""/>
              <p:cNvSpPr/>
              <p:nvPr/>
            </p:nvSpPr>
            <p:spPr>
              <a:xfrm>
                <a:off x="5670720" y="445248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618160" y="435600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9" name=""/>
          <p:cNvGrpSpPr/>
          <p:nvPr/>
        </p:nvGrpSpPr>
        <p:grpSpPr>
          <a:xfrm>
            <a:off x="4897440" y="4761000"/>
            <a:ext cx="501480" cy="398880"/>
            <a:chOff x="4897440" y="4761000"/>
            <a:chExt cx="501480" cy="398880"/>
          </a:xfrm>
        </p:grpSpPr>
        <p:sp>
          <p:nvSpPr>
            <p:cNvPr id="1110" name=""/>
            <p:cNvSpPr/>
            <p:nvPr/>
          </p:nvSpPr>
          <p:spPr>
            <a:xfrm>
              <a:off x="4902120" y="49514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02120" y="4940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98920" y="4940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902120" y="49402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897440" y="48466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4983120" y="4761000"/>
              <a:ext cx="366480" cy="398880"/>
              <a:chOff x="4983120" y="4761000"/>
              <a:chExt cx="366480" cy="398880"/>
            </a:xfrm>
          </p:grpSpPr>
          <p:sp>
            <p:nvSpPr>
              <p:cNvPr id="1116" name=""/>
              <p:cNvSpPr/>
              <p:nvPr/>
            </p:nvSpPr>
            <p:spPr>
              <a:xfrm>
                <a:off x="5047200" y="485748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983120" y="476100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8" name=""/>
          <p:cNvGrpSpPr/>
          <p:nvPr/>
        </p:nvGrpSpPr>
        <p:grpSpPr>
          <a:xfrm>
            <a:off x="5532480" y="5222880"/>
            <a:ext cx="500040" cy="398880"/>
            <a:chOff x="5532480" y="5222880"/>
            <a:chExt cx="500040" cy="398880"/>
          </a:xfrm>
        </p:grpSpPr>
        <p:grpSp>
          <p:nvGrpSpPr>
            <p:cNvPr id="1119" name=""/>
            <p:cNvGrpSpPr/>
            <p:nvPr/>
          </p:nvGrpSpPr>
          <p:grpSpPr>
            <a:xfrm>
              <a:off x="5532480" y="5302080"/>
              <a:ext cx="500040" cy="227880"/>
              <a:chOff x="5532480" y="5302080"/>
              <a:chExt cx="500040" cy="227880"/>
            </a:xfrm>
          </p:grpSpPr>
          <p:sp>
            <p:nvSpPr>
              <p:cNvPr id="1120" name=""/>
              <p:cNvSpPr/>
              <p:nvPr/>
            </p:nvSpPr>
            <p:spPr>
              <a:xfrm>
                <a:off x="5532480" y="5401800"/>
                <a:ext cx="495360" cy="128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532480" y="5390640"/>
                <a:ext cx="0" cy="7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027840" y="5390640"/>
                <a:ext cx="0" cy="7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532480" y="5390640"/>
                <a:ext cx="49068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537520" y="5302080"/>
                <a:ext cx="4950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5618520" y="5222880"/>
              <a:ext cx="342360" cy="398880"/>
              <a:chOff x="5618520" y="5222880"/>
              <a:chExt cx="342360" cy="398880"/>
            </a:xfrm>
          </p:grpSpPr>
          <p:sp>
            <p:nvSpPr>
              <p:cNvPr id="1126" name=""/>
              <p:cNvSpPr/>
              <p:nvPr/>
            </p:nvSpPr>
            <p:spPr>
              <a:xfrm>
                <a:off x="5671440" y="531936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618520" y="52228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8" name=""/>
          <p:cNvGrpSpPr/>
          <p:nvPr/>
        </p:nvGrpSpPr>
        <p:grpSpPr>
          <a:xfrm>
            <a:off x="6186600" y="4775040"/>
            <a:ext cx="501480" cy="398880"/>
            <a:chOff x="6186600" y="4775040"/>
            <a:chExt cx="501480" cy="398880"/>
          </a:xfrm>
        </p:grpSpPr>
        <p:sp>
          <p:nvSpPr>
            <p:cNvPr id="1129" name=""/>
            <p:cNvSpPr/>
            <p:nvPr/>
          </p:nvSpPr>
          <p:spPr>
            <a:xfrm>
              <a:off x="6191280" y="496080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191280" y="49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688080" y="49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91280" y="494964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86600" y="48560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6274080" y="4775040"/>
              <a:ext cx="346680" cy="398880"/>
              <a:chOff x="6274080" y="4775040"/>
              <a:chExt cx="346680" cy="398880"/>
            </a:xfrm>
          </p:grpSpPr>
          <p:sp>
            <p:nvSpPr>
              <p:cNvPr id="1135" name=""/>
              <p:cNvSpPr/>
              <p:nvPr/>
            </p:nvSpPr>
            <p:spPr>
              <a:xfrm>
                <a:off x="6328080" y="487188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74080" y="47750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7" name=""/>
          <p:cNvSpPr/>
          <p:nvPr/>
        </p:nvSpPr>
        <p:spPr>
          <a:xfrm>
            <a:off x="5103360" y="4494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5923800" y="4667400"/>
            <a:ext cx="338040" cy="2044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 flipV="1">
            <a:off x="5938200" y="508104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5300640" y="5072040"/>
            <a:ext cx="324000" cy="2476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21000" y="452772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931360" y="511344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188320" y="5099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5842800" y="503784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5390280" y="5048280"/>
            <a:ext cx="304920" cy="2188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522400" y="487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817960" y="486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6934320" y="4348080"/>
            <a:ext cx="1944720" cy="1355760"/>
            <a:chOff x="6934320" y="4348080"/>
            <a:chExt cx="1944720" cy="1355760"/>
          </a:xfrm>
        </p:grpSpPr>
        <p:sp>
          <p:nvSpPr>
            <p:cNvPr id="1149" name=""/>
            <p:cNvSpPr/>
            <p:nvPr/>
          </p:nvSpPr>
          <p:spPr>
            <a:xfrm>
              <a:off x="6934320" y="4348080"/>
              <a:ext cx="1944720" cy="1355760"/>
            </a:xfrm>
            <a:custGeom>
              <a:avLst/>
              <a:gdLst/>
              <a:ahLst/>
              <a:rect l="l" t="t" r="r" b="b"/>
              <a:pathLst>
                <a:path w="1225" h="854">
                  <a:moveTo>
                    <a:pt x="0" y="387"/>
                  </a:moveTo>
                  <a:cubicBezTo>
                    <a:pt x="0" y="243"/>
                    <a:pt x="87" y="223"/>
                    <a:pt x="168" y="162"/>
                  </a:cubicBezTo>
                  <a:cubicBezTo>
                    <a:pt x="249" y="101"/>
                    <a:pt x="377" y="40"/>
                    <a:pt x="486" y="18"/>
                  </a:cubicBezTo>
                  <a:cubicBezTo>
                    <a:pt x="615" y="6"/>
                    <a:pt x="684" y="0"/>
                    <a:pt x="822" y="30"/>
                  </a:cubicBezTo>
                  <a:cubicBezTo>
                    <a:pt x="960" y="60"/>
                    <a:pt x="1099" y="169"/>
                    <a:pt x="1152" y="267"/>
                  </a:cubicBezTo>
                  <a:cubicBezTo>
                    <a:pt x="1213" y="351"/>
                    <a:pt x="1225" y="452"/>
                    <a:pt x="1188" y="537"/>
                  </a:cubicBezTo>
                  <a:cubicBezTo>
                    <a:pt x="1151" y="622"/>
                    <a:pt x="1050" y="730"/>
                    <a:pt x="927" y="780"/>
                  </a:cubicBezTo>
                  <a:cubicBezTo>
                    <a:pt x="804" y="830"/>
                    <a:pt x="572" y="854"/>
                    <a:pt x="447" y="837"/>
                  </a:cubicBezTo>
                  <a:cubicBezTo>
                    <a:pt x="322" y="820"/>
                    <a:pt x="251" y="750"/>
                    <a:pt x="177" y="675"/>
                  </a:cubicBezTo>
                  <a:cubicBezTo>
                    <a:pt x="103" y="600"/>
                    <a:pt x="0" y="531"/>
                    <a:pt x="0" y="38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334280" y="4686480"/>
              <a:ext cx="390600" cy="20952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7640640" y="4375080"/>
              <a:ext cx="501480" cy="398880"/>
              <a:chOff x="7640640" y="4375080"/>
              <a:chExt cx="501480" cy="398880"/>
            </a:xfrm>
          </p:grpSpPr>
          <p:sp>
            <p:nvSpPr>
              <p:cNvPr id="1152" name=""/>
              <p:cNvSpPr/>
              <p:nvPr/>
            </p:nvSpPr>
            <p:spPr>
              <a:xfrm>
                <a:off x="7645320" y="455580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45320" y="45446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8142120" y="45446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45320" y="4544640"/>
                <a:ext cx="492120" cy="78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40640" y="44510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7" name=""/>
              <p:cNvGrpSpPr/>
              <p:nvPr/>
            </p:nvGrpSpPr>
            <p:grpSpPr>
              <a:xfrm>
                <a:off x="7713720" y="4375080"/>
                <a:ext cx="343800" cy="398880"/>
                <a:chOff x="7713720" y="4375080"/>
                <a:chExt cx="343800" cy="3988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7766280" y="4471560"/>
                  <a:ext cx="22572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7713720" y="437508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0" name=""/>
            <p:cNvGrpSpPr/>
            <p:nvPr/>
          </p:nvGrpSpPr>
          <p:grpSpPr>
            <a:xfrm>
              <a:off x="6993000" y="4780080"/>
              <a:ext cx="501480" cy="398880"/>
              <a:chOff x="6993000" y="4780080"/>
              <a:chExt cx="501480" cy="398880"/>
            </a:xfrm>
          </p:grpSpPr>
          <p:sp>
            <p:nvSpPr>
              <p:cNvPr id="1161" name=""/>
              <p:cNvSpPr/>
              <p:nvPr/>
            </p:nvSpPr>
            <p:spPr>
              <a:xfrm>
                <a:off x="6997680" y="49705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997680" y="49593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494480" y="49593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997680" y="49593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93000" y="48657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7078680" y="4780080"/>
                <a:ext cx="366480" cy="398880"/>
                <a:chOff x="7078680" y="4780080"/>
                <a:chExt cx="366480" cy="3988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7142760" y="4876560"/>
                  <a:ext cx="22572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078680" y="478008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9" name=""/>
            <p:cNvGrpSpPr/>
            <p:nvPr/>
          </p:nvGrpSpPr>
          <p:grpSpPr>
            <a:xfrm>
              <a:off x="7628040" y="5241960"/>
              <a:ext cx="500040" cy="398880"/>
              <a:chOff x="7628040" y="5241960"/>
              <a:chExt cx="500040" cy="398880"/>
            </a:xfrm>
          </p:grpSpPr>
          <p:grpSp>
            <p:nvGrpSpPr>
              <p:cNvPr id="1170" name=""/>
              <p:cNvGrpSpPr/>
              <p:nvPr/>
            </p:nvGrpSpPr>
            <p:grpSpPr>
              <a:xfrm>
                <a:off x="7628040" y="5321160"/>
                <a:ext cx="500040" cy="227880"/>
                <a:chOff x="7628040" y="5321160"/>
                <a:chExt cx="500040" cy="22788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7628040" y="5420880"/>
                  <a:ext cx="495360" cy="1281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7628040" y="5409720"/>
                  <a:ext cx="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8123400" y="5409720"/>
                  <a:ext cx="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7628040" y="5409720"/>
                  <a:ext cx="490680" cy="7740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7633080" y="5321160"/>
                  <a:ext cx="495000" cy="15048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7714080" y="5241960"/>
                <a:ext cx="342360" cy="398880"/>
                <a:chOff x="7714080" y="5241960"/>
                <a:chExt cx="342360" cy="39888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7767000" y="5338440"/>
                  <a:ext cx="2253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7714080" y="524196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9" name=""/>
            <p:cNvGrpSpPr/>
            <p:nvPr/>
          </p:nvGrpSpPr>
          <p:grpSpPr>
            <a:xfrm>
              <a:off x="8282160" y="4794120"/>
              <a:ext cx="501480" cy="398880"/>
              <a:chOff x="8282160" y="4794120"/>
              <a:chExt cx="501480" cy="398880"/>
            </a:xfrm>
          </p:grpSpPr>
          <p:sp>
            <p:nvSpPr>
              <p:cNvPr id="1180" name=""/>
              <p:cNvSpPr/>
              <p:nvPr/>
            </p:nvSpPr>
            <p:spPr>
              <a:xfrm>
                <a:off x="8286840" y="49798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286840" y="49687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783640" y="49687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8286840" y="49687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282160" y="48751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5" name=""/>
              <p:cNvGrpSpPr/>
              <p:nvPr/>
            </p:nvGrpSpPr>
            <p:grpSpPr>
              <a:xfrm>
                <a:off x="8369640" y="4794120"/>
                <a:ext cx="346680" cy="398880"/>
                <a:chOff x="8369640" y="4794120"/>
                <a:chExt cx="346680" cy="39888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8423640" y="4890960"/>
                  <a:ext cx="2250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8369640" y="4794120"/>
                  <a:ext cx="34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8" name=""/>
            <p:cNvSpPr/>
            <p:nvPr/>
          </p:nvSpPr>
          <p:spPr>
            <a:xfrm>
              <a:off x="7068960" y="451332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8020080" y="4686480"/>
              <a:ext cx="338400" cy="2044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8033760" y="5100120"/>
              <a:ext cx="314280" cy="2286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7396200" y="5091120"/>
              <a:ext cx="324000" cy="2476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45080" y="4546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156520" y="50943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284960" y="5118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 flipV="1">
              <a:off x="7939080" y="5056920"/>
              <a:ext cx="314640" cy="2286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7486920" y="5067360"/>
              <a:ext cx="304560" cy="2188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88720" y="488952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912800" y="4880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919440" y="59612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45800" y="5799240"/>
            <a:ext cx="175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865400" y="580860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855840" y="578952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3638520" y="55386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2971800" y="50814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4305240" y="508644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5138640" y="509112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5800680" y="55386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6462720" y="509112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248600" y="511020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7900920" y="555768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8553600" y="511956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BAE-1674-437A-8327-7148814892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Algorith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61600" y="1361880"/>
            <a:ext cx="3305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terativ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nues until no nodes exchange inf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elf-terminat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no “signal” to st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ynchrono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ne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xchange info/iterate in lock ste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istribute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communicate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directly-attached neighb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191120" y="1571760"/>
            <a:ext cx="4505040" cy="25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tance Table data struct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has its 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w for each possible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umn for each directly-attached neighbor to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in node X, for dest. Y via neighbor Z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4288320" y="4535640"/>
            <a:ext cx="4285080" cy="1359360"/>
            <a:chOff x="4288320" y="4535640"/>
            <a:chExt cx="4285080" cy="1359360"/>
          </a:xfrm>
        </p:grpSpPr>
        <p:grpSp>
          <p:nvGrpSpPr>
            <p:cNvPr id="1216" name=""/>
            <p:cNvGrpSpPr/>
            <p:nvPr/>
          </p:nvGrpSpPr>
          <p:grpSpPr>
            <a:xfrm>
              <a:off x="4288320" y="4841640"/>
              <a:ext cx="1163880" cy="600480"/>
              <a:chOff x="4288320" y="4841640"/>
              <a:chExt cx="1163880" cy="600480"/>
            </a:xfrm>
          </p:grpSpPr>
          <p:sp>
            <p:nvSpPr>
              <p:cNvPr id="1217" name=""/>
              <p:cNvSpPr/>
              <p:nvPr/>
            </p:nvSpPr>
            <p:spPr>
              <a:xfrm>
                <a:off x="4288320" y="4982400"/>
                <a:ext cx="116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 (Y,Z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508280" y="4841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"/>
            <p:cNvSpPr/>
            <p:nvPr/>
          </p:nvSpPr>
          <p:spPr>
            <a:xfrm>
              <a:off x="5800680" y="4535640"/>
              <a:ext cx="242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tanc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X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i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Z as next h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769720" y="5354280"/>
              <a:ext cx="28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(X,Z) + min  {D  (Y,w)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575120" y="527832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146720" y="5557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478840" y="4744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69480" y="5392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4257720" y="4438800"/>
            <a:ext cx="4438440" cy="159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4E7-73B6-443C-A4BA-FED5FE392A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stance Table: examp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971640" y="1542960"/>
            <a:ext cx="2789280" cy="1842840"/>
            <a:chOff x="971640" y="1542960"/>
            <a:chExt cx="2789280" cy="1842840"/>
          </a:xfrm>
        </p:grpSpPr>
        <p:sp>
          <p:nvSpPr>
            <p:cNvPr id="1228" name=""/>
            <p:cNvSpPr/>
            <p:nvPr/>
          </p:nvSpPr>
          <p:spPr>
            <a:xfrm>
              <a:off x="971640" y="1542960"/>
              <a:ext cx="2789280" cy="1825560"/>
            </a:xfrm>
            <a:custGeom>
              <a:avLst/>
              <a:gdLst/>
              <a:ahLst/>
              <a:rect l="l" t="t" r="r" b="b"/>
              <a:pathLst>
                <a:path w="1757" h="1150">
                  <a:moveTo>
                    <a:pt x="108" y="402"/>
                  </a:moveTo>
                  <a:cubicBezTo>
                    <a:pt x="161" y="324"/>
                    <a:pt x="275" y="278"/>
                    <a:pt x="390" y="216"/>
                  </a:cubicBezTo>
                  <a:cubicBezTo>
                    <a:pt x="505" y="154"/>
                    <a:pt x="642" y="54"/>
                    <a:pt x="801" y="27"/>
                  </a:cubicBezTo>
                  <a:cubicBezTo>
                    <a:pt x="960" y="0"/>
                    <a:pt x="1208" y="35"/>
                    <a:pt x="1341" y="54"/>
                  </a:cubicBezTo>
                  <a:cubicBezTo>
                    <a:pt x="1474" y="73"/>
                    <a:pt x="1548" y="68"/>
                    <a:pt x="1602" y="141"/>
                  </a:cubicBezTo>
                  <a:cubicBezTo>
                    <a:pt x="1656" y="214"/>
                    <a:pt x="1658" y="339"/>
                    <a:pt x="1665" y="489"/>
                  </a:cubicBezTo>
                  <a:cubicBezTo>
                    <a:pt x="1672" y="639"/>
                    <a:pt x="1757" y="938"/>
                    <a:pt x="1644" y="1044"/>
                  </a:cubicBezTo>
                  <a:cubicBezTo>
                    <a:pt x="1531" y="1150"/>
                    <a:pt x="1168" y="1121"/>
                    <a:pt x="984" y="1125"/>
                  </a:cubicBezTo>
                  <a:cubicBezTo>
                    <a:pt x="800" y="1129"/>
                    <a:pt x="692" y="1141"/>
                    <a:pt x="540" y="1068"/>
                  </a:cubicBezTo>
                  <a:cubicBezTo>
                    <a:pt x="388" y="995"/>
                    <a:pt x="144" y="795"/>
                    <a:pt x="72" y="684"/>
                  </a:cubicBezTo>
                  <a:cubicBezTo>
                    <a:pt x="0" y="573"/>
                    <a:pt x="55" y="480"/>
                    <a:pt x="108" y="40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533600" y="2038320"/>
              <a:ext cx="542880" cy="2952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121040" y="24224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121040" y="2411280"/>
              <a:ext cx="144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617840" y="2411280"/>
              <a:ext cx="144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121040" y="24112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116000" y="231768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66960" y="19414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66960" y="1930320"/>
              <a:ext cx="18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363760" y="1930320"/>
              <a:ext cx="18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866960" y="19303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62280" y="18367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951280" y="1935000"/>
              <a:ext cx="4953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951280" y="192384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446640" y="192384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951280" y="1923840"/>
              <a:ext cx="49068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955960" y="183492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214800" y="2081160"/>
              <a:ext cx="74520" cy="861840"/>
            </a:xfrm>
            <a:custGeom>
              <a:avLst/>
              <a:gdLst/>
              <a:ahLst/>
              <a:rect l="l" t="t" r="r" b="b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114640" y="2090520"/>
              <a:ext cx="1800" cy="852480"/>
            </a:xfrm>
            <a:custGeom>
              <a:avLst/>
              <a:gdLst/>
              <a:ahLst/>
              <a:rect l="l" t="t" r="r" b="b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386080" y="3066840"/>
              <a:ext cx="581040" cy="180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447920" y="2552400"/>
              <a:ext cx="438120" cy="419400"/>
            </a:xfrm>
            <a:custGeom>
              <a:avLst/>
              <a:gdLst/>
              <a:ahLst/>
              <a:rect l="l" t="t" r="r" b="b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376720" y="1971360"/>
              <a:ext cx="581040" cy="180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0" name=""/>
            <p:cNvGrpSpPr/>
            <p:nvPr/>
          </p:nvGrpSpPr>
          <p:grpSpPr>
            <a:xfrm>
              <a:off x="1189440" y="2241360"/>
              <a:ext cx="343800" cy="398880"/>
              <a:chOff x="1189440" y="2241360"/>
              <a:chExt cx="343800" cy="398880"/>
            </a:xfrm>
          </p:grpSpPr>
          <p:sp>
            <p:nvSpPr>
              <p:cNvPr id="1251" name=""/>
              <p:cNvSpPr/>
              <p:nvPr/>
            </p:nvSpPr>
            <p:spPr>
              <a:xfrm>
                <a:off x="1242000" y="2338200"/>
                <a:ext cx="22572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189440" y="224136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1876680" y="2832120"/>
              <a:ext cx="501480" cy="398880"/>
              <a:chOff x="1876680" y="2832120"/>
              <a:chExt cx="501480" cy="398880"/>
            </a:xfrm>
          </p:grpSpPr>
          <p:sp>
            <p:nvSpPr>
              <p:cNvPr id="1254" name=""/>
              <p:cNvSpPr/>
              <p:nvPr/>
            </p:nvSpPr>
            <p:spPr>
              <a:xfrm>
                <a:off x="1881360" y="3013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881360" y="3002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2378160" y="3002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881360" y="3002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876680" y="29080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9" name=""/>
              <p:cNvGrpSpPr/>
              <p:nvPr/>
            </p:nvGrpSpPr>
            <p:grpSpPr>
              <a:xfrm>
                <a:off x="1971000" y="2832120"/>
                <a:ext cx="322560" cy="398880"/>
                <a:chOff x="1971000" y="2832120"/>
                <a:chExt cx="322560" cy="39888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013840" y="2928600"/>
                  <a:ext cx="22500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1971000" y="283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2" name=""/>
            <p:cNvGrpSpPr/>
            <p:nvPr/>
          </p:nvGrpSpPr>
          <p:grpSpPr>
            <a:xfrm>
              <a:off x="2973600" y="2865240"/>
              <a:ext cx="501480" cy="398880"/>
              <a:chOff x="2973600" y="2865240"/>
              <a:chExt cx="501480" cy="398880"/>
            </a:xfrm>
          </p:grpSpPr>
          <p:sp>
            <p:nvSpPr>
              <p:cNvPr id="1263" name=""/>
              <p:cNvSpPr/>
              <p:nvPr/>
            </p:nvSpPr>
            <p:spPr>
              <a:xfrm>
                <a:off x="2978280" y="30556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978280" y="30445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3475080" y="30445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978280" y="30445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973600" y="2950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8" name=""/>
              <p:cNvGrpSpPr/>
              <p:nvPr/>
            </p:nvGrpSpPr>
            <p:grpSpPr>
              <a:xfrm>
                <a:off x="3059280" y="2865240"/>
                <a:ext cx="366480" cy="398880"/>
                <a:chOff x="3059280" y="2865240"/>
                <a:chExt cx="366480" cy="39888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3123360" y="2961720"/>
                  <a:ext cx="2253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3059280" y="286524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1" name=""/>
            <p:cNvGrpSpPr/>
            <p:nvPr/>
          </p:nvGrpSpPr>
          <p:grpSpPr>
            <a:xfrm>
              <a:off x="3037320" y="1755720"/>
              <a:ext cx="342360" cy="398880"/>
              <a:chOff x="3037320" y="1755720"/>
              <a:chExt cx="342360" cy="398880"/>
            </a:xfrm>
          </p:grpSpPr>
          <p:sp>
            <p:nvSpPr>
              <p:cNvPr id="1272" name=""/>
              <p:cNvSpPr/>
              <p:nvPr/>
            </p:nvSpPr>
            <p:spPr>
              <a:xfrm>
                <a:off x="3090240" y="185220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037320" y="1755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4" name=""/>
            <p:cNvGrpSpPr/>
            <p:nvPr/>
          </p:nvGrpSpPr>
          <p:grpSpPr>
            <a:xfrm>
              <a:off x="1950120" y="1755720"/>
              <a:ext cx="346680" cy="398880"/>
              <a:chOff x="1950120" y="1755720"/>
              <a:chExt cx="346680" cy="398880"/>
            </a:xfrm>
          </p:grpSpPr>
          <p:sp>
            <p:nvSpPr>
              <p:cNvPr id="1275" name=""/>
              <p:cNvSpPr/>
              <p:nvPr/>
            </p:nvSpPr>
            <p:spPr>
              <a:xfrm>
                <a:off x="2004120" y="185220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950120" y="175572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7" name=""/>
            <p:cNvSpPr/>
            <p:nvPr/>
          </p:nvSpPr>
          <p:spPr>
            <a:xfrm>
              <a:off x="1525320" y="1960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077920" y="2307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386720" y="2646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87320" y="301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520000" y="1665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34960" y="2298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5489640" y="1589040"/>
            <a:ext cx="3001680" cy="3687840"/>
            <a:chOff x="5489640" y="1589040"/>
            <a:chExt cx="3001680" cy="3687840"/>
          </a:xfrm>
        </p:grpSpPr>
        <p:sp>
          <p:nvSpPr>
            <p:cNvPr id="1284" name=""/>
            <p:cNvSpPr/>
            <p:nvPr/>
          </p:nvSpPr>
          <p:spPr>
            <a:xfrm>
              <a:off x="5565960" y="1859040"/>
              <a:ext cx="77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 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508800" y="1868400"/>
              <a:ext cx="383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096680" y="1878120"/>
              <a:ext cx="519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82200" y="1887480"/>
              <a:ext cx="40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71880" y="2409840"/>
              <a:ext cx="2514600" cy="97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438600" y="2067120"/>
              <a:ext cx="0" cy="3133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486480" y="261936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858080" y="337212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877160" y="409572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877160" y="482940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78360" y="1741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116040" y="158904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ost to destination v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16233000">
              <a:off x="5038560" y="38379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estin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89320" y="3525840"/>
            <a:ext cx="4303440" cy="1008360"/>
            <a:chOff x="589320" y="3525840"/>
            <a:chExt cx="4303440" cy="1008360"/>
          </a:xfrm>
        </p:grpSpPr>
        <p:grpSp>
          <p:nvGrpSpPr>
            <p:cNvPr id="1298" name=""/>
            <p:cNvGrpSpPr/>
            <p:nvPr/>
          </p:nvGrpSpPr>
          <p:grpSpPr>
            <a:xfrm>
              <a:off x="589320" y="3525840"/>
              <a:ext cx="1213920" cy="659880"/>
              <a:chOff x="589320" y="3525840"/>
              <a:chExt cx="1213920" cy="659880"/>
            </a:xfrm>
          </p:grpSpPr>
          <p:sp>
            <p:nvSpPr>
              <p:cNvPr id="1299" name=""/>
              <p:cNvSpPr/>
              <p:nvPr/>
            </p:nvSpPr>
            <p:spPr>
              <a:xfrm>
                <a:off x="589320" y="372600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 (C,D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86240" y="35258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2045160" y="3754440"/>
              <a:ext cx="284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(E,D) + min  {D  (C,w)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880080" y="3618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422880" y="3932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745280" y="3792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45280" y="41259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039040" y="413532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+2  =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606240" y="4392720"/>
            <a:ext cx="4281120" cy="1008000"/>
            <a:chOff x="606240" y="4392720"/>
            <a:chExt cx="4281120" cy="1008000"/>
          </a:xfrm>
        </p:grpSpPr>
        <p:grpSp>
          <p:nvGrpSpPr>
            <p:cNvPr id="1308" name=""/>
            <p:cNvGrpSpPr/>
            <p:nvPr/>
          </p:nvGrpSpPr>
          <p:grpSpPr>
            <a:xfrm>
              <a:off x="606240" y="4392720"/>
              <a:ext cx="1197360" cy="659520"/>
              <a:chOff x="606240" y="4392720"/>
              <a:chExt cx="1197360" cy="659520"/>
            </a:xfrm>
          </p:grpSpPr>
          <p:sp>
            <p:nvSpPr>
              <p:cNvPr id="1309" name=""/>
              <p:cNvSpPr/>
              <p:nvPr/>
            </p:nvSpPr>
            <p:spPr>
              <a:xfrm>
                <a:off x="606240" y="4592520"/>
                <a:ext cx="119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 (A,D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95600" y="43927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>
              <a:off x="2054880" y="4620960"/>
              <a:ext cx="283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(E,D) + min  {D  (A,w)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89440" y="44845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432240" y="4798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54640" y="46591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54640" y="49924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048400" y="50018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+3  =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623520" y="5278320"/>
            <a:ext cx="4258800" cy="1008360"/>
            <a:chOff x="623520" y="5278320"/>
            <a:chExt cx="4258800" cy="1008360"/>
          </a:xfrm>
        </p:grpSpPr>
        <p:grpSp>
          <p:nvGrpSpPr>
            <p:cNvPr id="1318" name=""/>
            <p:cNvGrpSpPr/>
            <p:nvPr/>
          </p:nvGrpSpPr>
          <p:grpSpPr>
            <a:xfrm>
              <a:off x="623520" y="5278320"/>
              <a:ext cx="1180440" cy="659880"/>
              <a:chOff x="623520" y="5278320"/>
              <a:chExt cx="1180440" cy="659880"/>
            </a:xfrm>
          </p:grpSpPr>
          <p:sp>
            <p:nvSpPr>
              <p:cNvPr id="1319" name=""/>
              <p:cNvSpPr/>
              <p:nvPr/>
            </p:nvSpPr>
            <p:spPr>
              <a:xfrm>
                <a:off x="623520" y="5478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 (A,B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05320" y="52783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2064960" y="5506920"/>
              <a:ext cx="28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(E,B) + min  {D  (A,w)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899160" y="5370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441960" y="56847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64360" y="5545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64360" y="5878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057760" y="588780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+6  = 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3088800" y="51274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o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31720" y="60706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o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B0E-352F-4D5A-9F6B-351B04DCBD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stance table gives routing tab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889200" y="1503360"/>
            <a:ext cx="3001680" cy="3687840"/>
            <a:chOff x="889200" y="1503360"/>
            <a:chExt cx="3001680" cy="3687840"/>
          </a:xfrm>
        </p:grpSpPr>
        <p:sp>
          <p:nvSpPr>
            <p:cNvPr id="1331" name=""/>
            <p:cNvSpPr/>
            <p:nvPr/>
          </p:nvSpPr>
          <p:spPr>
            <a:xfrm>
              <a:off x="965520" y="1773360"/>
              <a:ext cx="77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 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908360" y="1782720"/>
              <a:ext cx="383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496240" y="1792440"/>
              <a:ext cx="519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281760" y="1801800"/>
              <a:ext cx="40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171440" y="2324160"/>
              <a:ext cx="2514600" cy="97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38160" y="1981440"/>
              <a:ext cx="0" cy="3133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86040" y="253368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257640" y="328644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276720" y="401004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276720" y="474372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177920" y="165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515600" y="150336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ost to destination v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16233000">
              <a:off x="438120" y="37522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estin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5196600" y="1811160"/>
            <a:ext cx="4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875560" y="1811160"/>
            <a:ext cx="65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029200" y="2362320"/>
            <a:ext cx="25146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695920" y="2019240"/>
            <a:ext cx="0" cy="3133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754240" y="171288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utgoing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o use,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rot="16233000">
            <a:off x="4295880" y="3790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640160" y="5627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245920" y="558972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895560" y="5848200"/>
            <a:ext cx="1219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9BE-DD9B-44A5-A40D-85A8F329C2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: over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561960" y="1361880"/>
            <a:ext cx="3781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terative, asynchronou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ocal iteration caused by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link cost chan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ssage from neighbor: its least cost path change from neighb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istribute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notifies neighbor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en its least cost path to any destination 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ighbors then notify their neighbors if necessa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5" name=""/>
          <p:cNvGrpSpPr/>
          <p:nvPr/>
        </p:nvGrpSpPr>
        <p:grpSpPr>
          <a:xfrm>
            <a:off x="5229360" y="1762200"/>
            <a:ext cx="3552840" cy="4339080"/>
            <a:chOff x="5229360" y="1762200"/>
            <a:chExt cx="3552840" cy="4339080"/>
          </a:xfrm>
        </p:grpSpPr>
        <p:sp>
          <p:nvSpPr>
            <p:cNvPr id="1356" name=""/>
            <p:cNvSpPr/>
            <p:nvPr/>
          </p:nvSpPr>
          <p:spPr>
            <a:xfrm>
              <a:off x="5258160" y="1762200"/>
              <a:ext cx="3524040" cy="43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wai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for (change in local link cost of msg from neighb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recompu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tance 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f least cost path to any dest has changed,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notif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ighbo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801120" y="3066840"/>
              <a:ext cx="0" cy="590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791400" y="4086000"/>
              <a:ext cx="0" cy="590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229360" y="2171520"/>
              <a:ext cx="1552680" cy="3580920"/>
            </a:xfrm>
            <a:custGeom>
              <a:avLst/>
              <a:gdLst/>
              <a:ahLst/>
              <a:rect l="l" t="t" r="r" b="b"/>
              <a:pathLst>
                <a:path w="978" h="2256">
                  <a:moveTo>
                    <a:pt x="960" y="2010"/>
                  </a:moveTo>
                  <a:lnTo>
                    <a:pt x="961" y="2256"/>
                  </a:lnTo>
                  <a:lnTo>
                    <a:pt x="0" y="2256"/>
                  </a:lnTo>
                  <a:lnTo>
                    <a:pt x="0" y="0"/>
                  </a:lnTo>
                  <a:lnTo>
                    <a:pt x="978" y="0"/>
                  </a:lnTo>
                  <a:lnTo>
                    <a:pt x="978" y="155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4854240" y="13795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ch n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CC6-BC60-4D63-AABC-345F2A137E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: link cost chang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961920" y="1514520"/>
            <a:ext cx="381024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ink cost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news travels f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d news travels slow - “count to infinity”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5754600" y="1708200"/>
            <a:ext cx="2184480" cy="1314360"/>
            <a:chOff x="5754600" y="1708200"/>
            <a:chExt cx="2184480" cy="1314360"/>
          </a:xfrm>
        </p:grpSpPr>
        <p:sp>
          <p:nvSpPr>
            <p:cNvPr id="1364" name=""/>
            <p:cNvSpPr/>
            <p:nvPr/>
          </p:nvSpPr>
          <p:spPr>
            <a:xfrm>
              <a:off x="5754600" y="1809720"/>
              <a:ext cx="2184480" cy="1212840"/>
            </a:xfrm>
            <a:custGeom>
              <a:avLst/>
              <a:gdLst/>
              <a:ahLst/>
              <a:rect l="l" t="t" r="r" b="b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24480" y="2229120"/>
              <a:ext cx="352440" cy="285480"/>
            </a:xfrm>
            <a:custGeom>
              <a:avLst/>
              <a:gdLst/>
              <a:ahLst/>
              <a:rect l="l" t="t" r="r" b="b"/>
              <a:pathLst>
                <a:path w="222" h="180">
                  <a:moveTo>
                    <a:pt x="0" y="180"/>
                  </a:moveTo>
                  <a:lnTo>
                    <a:pt x="2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11920" y="26035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911920" y="259236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408720" y="259236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11920" y="25923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907240" y="24987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967440" y="2229120"/>
              <a:ext cx="343080" cy="299880"/>
            </a:xfrm>
            <a:custGeom>
              <a:avLst/>
              <a:gdLst/>
              <a:ahLst/>
              <a:rect l="l" t="t" r="r" b="b"/>
              <a:pathLst>
                <a:path w="216" h="189">
                  <a:moveTo>
                    <a:pt x="0" y="0"/>
                  </a:moveTo>
                  <a:lnTo>
                    <a:pt x="216" y="1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415200" y="2648160"/>
              <a:ext cx="857160" cy="4680"/>
            </a:xfrm>
            <a:custGeom>
              <a:avLst/>
              <a:gdLst/>
              <a:ahLst/>
              <a:rect l="l" t="t" r="r" b="b"/>
              <a:pathLst>
                <a:path w="540" h="3">
                  <a:moveTo>
                    <a:pt x="540" y="3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3" name=""/>
            <p:cNvGrpSpPr/>
            <p:nvPr/>
          </p:nvGrpSpPr>
          <p:grpSpPr>
            <a:xfrm>
              <a:off x="5986440" y="2422800"/>
              <a:ext cx="330120" cy="398880"/>
              <a:chOff x="5986440" y="2422800"/>
              <a:chExt cx="330120" cy="398880"/>
            </a:xfrm>
          </p:grpSpPr>
          <p:sp>
            <p:nvSpPr>
              <p:cNvPr id="1374" name=""/>
              <p:cNvSpPr/>
              <p:nvPr/>
            </p:nvSpPr>
            <p:spPr>
              <a:xfrm>
                <a:off x="6032880" y="251928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986440" y="2422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6" name=""/>
            <p:cNvGrpSpPr/>
            <p:nvPr/>
          </p:nvGrpSpPr>
          <p:grpSpPr>
            <a:xfrm>
              <a:off x="7248600" y="2441520"/>
              <a:ext cx="501480" cy="398880"/>
              <a:chOff x="7248600" y="2441520"/>
              <a:chExt cx="501480" cy="398880"/>
            </a:xfrm>
          </p:grpSpPr>
          <p:sp>
            <p:nvSpPr>
              <p:cNvPr id="1377" name=""/>
              <p:cNvSpPr/>
              <p:nvPr/>
            </p:nvSpPr>
            <p:spPr>
              <a:xfrm>
                <a:off x="7253280" y="26226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253280" y="26114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750080" y="26114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253280" y="26114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248600" y="25174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2" name=""/>
              <p:cNvGrpSpPr/>
              <p:nvPr/>
            </p:nvGrpSpPr>
            <p:grpSpPr>
              <a:xfrm>
                <a:off x="7341480" y="2441520"/>
                <a:ext cx="326880" cy="398880"/>
                <a:chOff x="7341480" y="2441520"/>
                <a:chExt cx="326880" cy="39888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7385760" y="2538000"/>
                  <a:ext cx="2253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7341480" y="244152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5" name=""/>
            <p:cNvSpPr/>
            <p:nvPr/>
          </p:nvSpPr>
          <p:spPr>
            <a:xfrm>
              <a:off x="7082280" y="2108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244920" y="2103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31920" y="26323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6581880" y="1927440"/>
              <a:ext cx="501480" cy="398880"/>
              <a:chOff x="6581880" y="1927440"/>
              <a:chExt cx="501480" cy="398880"/>
            </a:xfrm>
          </p:grpSpPr>
          <p:sp>
            <p:nvSpPr>
              <p:cNvPr id="1389" name=""/>
              <p:cNvSpPr/>
              <p:nvPr/>
            </p:nvSpPr>
            <p:spPr>
              <a:xfrm>
                <a:off x="6586560" y="21085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586560" y="20973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083360" y="20973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586560" y="20973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581880" y="2003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4" name=""/>
              <p:cNvGrpSpPr/>
              <p:nvPr/>
            </p:nvGrpSpPr>
            <p:grpSpPr>
              <a:xfrm>
                <a:off x="6674760" y="1927440"/>
                <a:ext cx="325440" cy="398880"/>
                <a:chOff x="6674760" y="1927440"/>
                <a:chExt cx="325440" cy="3988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6719040" y="2023920"/>
                  <a:ext cx="2253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674760" y="1927440"/>
                  <a:ext cx="325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97" name=""/>
            <p:cNvSpPr/>
            <p:nvPr/>
          </p:nvSpPr>
          <p:spPr>
            <a:xfrm>
              <a:off x="6017400" y="1708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 flipV="1">
              <a:off x="6267600" y="2019240"/>
              <a:ext cx="209520" cy="36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9" name="" descr=""/>
          <p:cNvPicPr/>
          <p:nvPr/>
        </p:nvPicPr>
        <p:blipFill>
          <a:blip r:embed="rId1"/>
          <a:stretch/>
        </p:blipFill>
        <p:spPr>
          <a:xfrm>
            <a:off x="614520" y="3254400"/>
            <a:ext cx="7292880" cy="3017880"/>
          </a:xfrm>
          <a:prstGeom prst="rect">
            <a:avLst/>
          </a:prstGeom>
          <a:ln w="0">
            <a:noFill/>
          </a:ln>
        </p:spPr>
      </p:pic>
      <p:sp>
        <p:nvSpPr>
          <p:cNvPr id="1400" name=""/>
          <p:cNvSpPr/>
          <p:nvPr/>
        </p:nvSpPr>
        <p:spPr>
          <a:xfrm>
            <a:off x="7512120" y="3436920"/>
            <a:ext cx="11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contin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4F5-68AB-4ABB-A78C-533227B715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Network layer function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08636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 packet from sending to receiving hos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layer protocols in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st, ro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ree important func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path determin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ute taken by packets from source to dest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outing algorith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switch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ve packets from router’s input to appropriate router outp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all setup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ome network architectures require router call setup along path before data fl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58" name="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62" name="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71" name="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81" name="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95" name="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6278400" y="450360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664240" y="44928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7464600" y="36655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6127920" y="3746520"/>
            <a:ext cx="203040" cy="2397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113" name="" descr=""/>
            <p:cNvPicPr/>
            <p:nvPr/>
          </p:nvPicPr>
          <p:blipFill>
            <a:blip r:embed="rId11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2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116" name="" descr=""/>
            <p:cNvPicPr/>
            <p:nvPr/>
          </p:nvPicPr>
          <p:blipFill>
            <a:blip r:embed="rId13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14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119" name="" descr=""/>
            <p:cNvPicPr/>
            <p:nvPr/>
          </p:nvPicPr>
          <p:blipFill>
            <a:blip r:embed="rId15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123" name="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132" name="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153" name="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159" name="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163" name="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167" name="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173" name="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177" name="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181" name="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187" name="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191" name="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195" name="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205" name="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209" name="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215" name="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219" name="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223" name="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233" name="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237" name="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247" name="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" name="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251" name="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257" name="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261" name="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807160" y="1909800"/>
            <a:ext cx="2809800" cy="2974680"/>
            <a:chOff x="5807160" y="1909800"/>
            <a:chExt cx="2809800" cy="2974680"/>
          </a:xfrm>
        </p:grpSpPr>
        <p:grpSp>
          <p:nvGrpSpPr>
            <p:cNvPr id="266" name=""/>
            <p:cNvGrpSpPr/>
            <p:nvPr/>
          </p:nvGrpSpPr>
          <p:grpSpPr>
            <a:xfrm>
              <a:off x="5892840" y="3672000"/>
              <a:ext cx="814320" cy="703080"/>
              <a:chOff x="5892840" y="3672000"/>
              <a:chExt cx="814320" cy="703080"/>
            </a:xfrm>
          </p:grpSpPr>
          <p:sp>
            <p:nvSpPr>
              <p:cNvPr id="267" name=""/>
              <p:cNvSpPr/>
              <p:nvPr/>
            </p:nvSpPr>
            <p:spPr>
              <a:xfrm>
                <a:off x="6089760" y="4310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6329520" y="4142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069240" y="4023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69240" y="4011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66040" y="4011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069240" y="4011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64200" y="3918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6183360" y="3951000"/>
                <a:ext cx="247320" cy="87840"/>
                <a:chOff x="6183360" y="3951000"/>
                <a:chExt cx="247320" cy="87840"/>
              </a:xfrm>
            </p:grpSpPr>
            <p:sp>
              <p:nvSpPr>
                <p:cNvPr id="275" name=""/>
                <p:cNvSpPr/>
                <p:nvPr/>
              </p:nvSpPr>
              <p:spPr>
                <a:xfrm flipV="1">
                  <a:off x="6183360" y="3951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352920" y="4038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264720" y="3953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183360" y="3949560"/>
                <a:ext cx="247320" cy="89280"/>
                <a:chOff x="6183360" y="3949560"/>
                <a:chExt cx="247320" cy="892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183360" y="4037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352920" y="3949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6264720" y="3949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5986440" y="3829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943600" y="3862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38920" y="4167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948280" y="4015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38920" y="386748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92840" y="3672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6764400" y="2652840"/>
              <a:ext cx="814320" cy="703080"/>
              <a:chOff x="6764400" y="2652840"/>
              <a:chExt cx="814320" cy="703080"/>
            </a:xfrm>
          </p:grpSpPr>
          <p:sp>
            <p:nvSpPr>
              <p:cNvPr id="289" name=""/>
              <p:cNvSpPr/>
              <p:nvPr/>
            </p:nvSpPr>
            <p:spPr>
              <a:xfrm>
                <a:off x="6961320" y="32911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7201080" y="31230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40800" y="30038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40800" y="2992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437600" y="2992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40800" y="29926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935760" y="28990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7054920" y="2931840"/>
                <a:ext cx="247320" cy="87840"/>
                <a:chOff x="7054920" y="2931840"/>
                <a:chExt cx="247320" cy="8784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7054920" y="29318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224480" y="3019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136280" y="29340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054920" y="2930400"/>
                <a:ext cx="247320" cy="89280"/>
                <a:chOff x="7054920" y="2930400"/>
                <a:chExt cx="247320" cy="89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054920" y="30178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224480" y="29304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7136280" y="29304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6858000" y="28101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15160" y="28436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10480" y="31482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819840" y="2995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810480" y="284832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64400" y="26528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778800" y="1909800"/>
              <a:ext cx="814320" cy="703080"/>
              <a:chOff x="6778800" y="1909800"/>
              <a:chExt cx="814320" cy="703080"/>
            </a:xfrm>
          </p:grpSpPr>
          <p:sp>
            <p:nvSpPr>
              <p:cNvPr id="311" name=""/>
              <p:cNvSpPr/>
              <p:nvPr/>
            </p:nvSpPr>
            <p:spPr>
              <a:xfrm>
                <a:off x="6975720" y="25480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7215480" y="23799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955200" y="22608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55200" y="22496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52000" y="22496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955200" y="22496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950160" y="21560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7069320" y="2188800"/>
                <a:ext cx="247320" cy="87840"/>
                <a:chOff x="7069320" y="2188800"/>
                <a:chExt cx="247320" cy="87840"/>
              </a:xfrm>
            </p:grpSpPr>
            <p:sp>
              <p:nvSpPr>
                <p:cNvPr id="319" name=""/>
                <p:cNvSpPr/>
                <p:nvPr/>
              </p:nvSpPr>
              <p:spPr>
                <a:xfrm flipV="1">
                  <a:off x="7069320" y="21888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238880" y="22766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150680" y="21909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069320" y="2187360"/>
                <a:ext cx="247320" cy="89280"/>
                <a:chOff x="7069320" y="2187360"/>
                <a:chExt cx="247320" cy="892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069320" y="22748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238880" y="21873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7150680" y="21873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6872400" y="20671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29560" y="21006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824880" y="2405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834240" y="22528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24880" y="210528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78800" y="19098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107120" y="3557520"/>
              <a:ext cx="814320" cy="703080"/>
              <a:chOff x="7107120" y="3557520"/>
              <a:chExt cx="814320" cy="703080"/>
            </a:xfrm>
          </p:grpSpPr>
          <p:sp>
            <p:nvSpPr>
              <p:cNvPr id="333" name=""/>
              <p:cNvSpPr/>
              <p:nvPr/>
            </p:nvSpPr>
            <p:spPr>
              <a:xfrm>
                <a:off x="7304040" y="41958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7543800" y="40276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283520" y="39085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283520" y="38973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780320" y="38973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283520" y="38973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278480" y="38037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7397640" y="3836520"/>
                <a:ext cx="247320" cy="87840"/>
                <a:chOff x="7397640" y="3836520"/>
                <a:chExt cx="247320" cy="87840"/>
              </a:xfrm>
            </p:grpSpPr>
            <p:sp>
              <p:nvSpPr>
                <p:cNvPr id="341" name=""/>
                <p:cNvSpPr/>
                <p:nvPr/>
              </p:nvSpPr>
              <p:spPr>
                <a:xfrm flipV="1">
                  <a:off x="7397640" y="38365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67200" y="39243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479000" y="38386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7397640" y="3835080"/>
                <a:ext cx="247320" cy="89280"/>
                <a:chOff x="7397640" y="3835080"/>
                <a:chExt cx="247320" cy="892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7397640" y="39225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567200" y="383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7479000" y="38350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7200720" y="37148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57880" y="37483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53200" y="40528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162560" y="3900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153200" y="375300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107120" y="35575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7597800" y="2952720"/>
              <a:ext cx="814320" cy="703080"/>
              <a:chOff x="7597800" y="2952720"/>
              <a:chExt cx="814320" cy="703080"/>
            </a:xfrm>
          </p:grpSpPr>
          <p:sp>
            <p:nvSpPr>
              <p:cNvPr id="355" name=""/>
              <p:cNvSpPr/>
              <p:nvPr/>
            </p:nvSpPr>
            <p:spPr>
              <a:xfrm>
                <a:off x="7794720" y="35910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8034480" y="34228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74200" y="33037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774200" y="32925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71000" y="32925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74200" y="32925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69160" y="31989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7888320" y="3231720"/>
                <a:ext cx="247320" cy="87840"/>
                <a:chOff x="7888320" y="3231720"/>
                <a:chExt cx="247320" cy="87840"/>
              </a:xfrm>
            </p:grpSpPr>
            <p:sp>
              <p:nvSpPr>
                <p:cNvPr id="363" name=""/>
                <p:cNvSpPr/>
                <p:nvPr/>
              </p:nvSpPr>
              <p:spPr>
                <a:xfrm flipV="1">
                  <a:off x="7888320" y="32317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057880" y="3319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969680" y="32338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7888320" y="3230280"/>
                <a:ext cx="247320" cy="89280"/>
                <a:chOff x="7888320" y="3230280"/>
                <a:chExt cx="247320" cy="892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888320" y="33177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057880" y="32302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969680" y="32302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7691400" y="31100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48560" y="31435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43880" y="34480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53240" y="32958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43880" y="314820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97800" y="29527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7802640" y="2100240"/>
              <a:ext cx="814320" cy="703080"/>
              <a:chOff x="7802640" y="2100240"/>
              <a:chExt cx="814320" cy="703080"/>
            </a:xfrm>
          </p:grpSpPr>
          <p:sp>
            <p:nvSpPr>
              <p:cNvPr id="377" name=""/>
              <p:cNvSpPr/>
              <p:nvPr/>
            </p:nvSpPr>
            <p:spPr>
              <a:xfrm>
                <a:off x="7999560" y="2738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8239320" y="2570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979040" y="2451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979040" y="2440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75840" y="2440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79040" y="2440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74000" y="2346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8093160" y="2379240"/>
                <a:ext cx="247320" cy="87840"/>
                <a:chOff x="8093160" y="2379240"/>
                <a:chExt cx="247320" cy="87840"/>
              </a:xfrm>
            </p:grpSpPr>
            <p:sp>
              <p:nvSpPr>
                <p:cNvPr id="385" name=""/>
                <p:cNvSpPr/>
                <p:nvPr/>
              </p:nvSpPr>
              <p:spPr>
                <a:xfrm flipV="1">
                  <a:off x="8093160" y="2379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262720" y="2467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174520" y="2381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8093160" y="2377800"/>
                <a:ext cx="247320" cy="89280"/>
                <a:chOff x="8093160" y="2377800"/>
                <a:chExt cx="247320" cy="892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8093160" y="2465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262720" y="2377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8174520" y="2377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"/>
              <p:cNvSpPr/>
              <p:nvPr/>
            </p:nvSpPr>
            <p:spPr>
              <a:xfrm>
                <a:off x="7896240" y="2257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853400" y="2291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848720" y="2595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858080" y="2443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848720" y="229572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802640" y="2100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6649920" y="4181400"/>
              <a:ext cx="814320" cy="703080"/>
              <a:chOff x="6649920" y="4181400"/>
              <a:chExt cx="814320" cy="703080"/>
            </a:xfrm>
          </p:grpSpPr>
          <p:sp>
            <p:nvSpPr>
              <p:cNvPr id="399" name=""/>
              <p:cNvSpPr/>
              <p:nvPr/>
            </p:nvSpPr>
            <p:spPr>
              <a:xfrm>
                <a:off x="6846840" y="48196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7086600" y="46515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26320" y="45324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26320" y="45212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23120" y="45212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826320" y="45212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821280" y="44276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6940440" y="4460400"/>
                <a:ext cx="247320" cy="87840"/>
                <a:chOff x="6940440" y="4460400"/>
                <a:chExt cx="247320" cy="87840"/>
              </a:xfrm>
            </p:grpSpPr>
            <p:sp>
              <p:nvSpPr>
                <p:cNvPr id="407" name=""/>
                <p:cNvSpPr/>
                <p:nvPr/>
              </p:nvSpPr>
              <p:spPr>
                <a:xfrm flipV="1">
                  <a:off x="6940440" y="44604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110000" y="45482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7021800" y="44625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6940440" y="4458960"/>
                <a:ext cx="247320" cy="89280"/>
                <a:chOff x="6940440" y="4458960"/>
                <a:chExt cx="247320" cy="8928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6940440" y="45464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110000" y="4458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7021800" y="44589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>
                <a:off x="6743520" y="43387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700680" y="43722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6000" y="46767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05360" y="45244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6000" y="437688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649920" y="41814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5807160" y="2076480"/>
              <a:ext cx="814320" cy="703080"/>
              <a:chOff x="5807160" y="2076480"/>
              <a:chExt cx="814320" cy="703080"/>
            </a:xfrm>
          </p:grpSpPr>
          <p:sp>
            <p:nvSpPr>
              <p:cNvPr id="421" name=""/>
              <p:cNvSpPr/>
              <p:nvPr/>
            </p:nvSpPr>
            <p:spPr>
              <a:xfrm>
                <a:off x="6004080" y="271476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6243840" y="254664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983560" y="24274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983560" y="2416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80360" y="2416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983560" y="24163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78520" y="232272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6097680" y="2355480"/>
                <a:ext cx="247320" cy="87840"/>
                <a:chOff x="6097680" y="2355480"/>
                <a:chExt cx="247320" cy="87840"/>
              </a:xfrm>
            </p:grpSpPr>
            <p:sp>
              <p:nvSpPr>
                <p:cNvPr id="429" name=""/>
                <p:cNvSpPr/>
                <p:nvPr/>
              </p:nvSpPr>
              <p:spPr>
                <a:xfrm flipV="1">
                  <a:off x="6097680" y="23554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267240" y="244332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179040" y="235764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6097680" y="2354040"/>
                <a:ext cx="247320" cy="89280"/>
                <a:chOff x="6097680" y="2354040"/>
                <a:chExt cx="247320" cy="892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097680" y="24415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267240" y="2354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V="1">
                  <a:off x="6179040" y="235404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5900760" y="223380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57920" y="226728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53240" y="2571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62600" y="24195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53240" y="227196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07160" y="207648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4692600" y="1538280"/>
            <a:ext cx="3767040" cy="3936600"/>
            <a:chOff x="4692600" y="1538280"/>
            <a:chExt cx="3767040" cy="3936600"/>
          </a:xfrm>
        </p:grpSpPr>
        <p:grpSp>
          <p:nvGrpSpPr>
            <p:cNvPr id="443" name=""/>
            <p:cNvGrpSpPr/>
            <p:nvPr/>
          </p:nvGrpSpPr>
          <p:grpSpPr>
            <a:xfrm>
              <a:off x="4692600" y="1538280"/>
              <a:ext cx="814320" cy="1022040"/>
              <a:chOff x="4692600" y="1538280"/>
              <a:chExt cx="814320" cy="1022040"/>
            </a:xfrm>
          </p:grpSpPr>
          <p:sp>
            <p:nvSpPr>
              <p:cNvPr id="444" name=""/>
              <p:cNvSpPr/>
              <p:nvPr/>
            </p:nvSpPr>
            <p:spPr>
              <a:xfrm>
                <a:off x="4791240" y="153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57760" y="156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62440" y="1881360"/>
                <a:ext cx="68580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692600" y="15526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757760" y="189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767120" y="204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67120" y="218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67120" y="173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7645320" y="4452840"/>
              <a:ext cx="814320" cy="1022040"/>
              <a:chOff x="7645320" y="4452840"/>
              <a:chExt cx="814320" cy="1022040"/>
            </a:xfrm>
          </p:grpSpPr>
          <p:sp>
            <p:nvSpPr>
              <p:cNvPr id="453" name=""/>
              <p:cNvSpPr/>
              <p:nvPr/>
            </p:nvSpPr>
            <p:spPr>
              <a:xfrm>
                <a:off x="7743960" y="445284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710480" y="447660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715160" y="4795920"/>
                <a:ext cx="68580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645320" y="44672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710480" y="48099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719840" y="4962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719840" y="50958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19840" y="464796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89E-5C3C-4126-940A-49BC6E0DDA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Comparison of LS and DV algorithm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23800" y="129528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ssage complex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n nodes, E links, O(nE) msgs sent eac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V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hange between neighbors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gence time v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ed of Converg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(n**2) algorithm requires O(nE) ms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have oscill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convergence time v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be routing loo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nt-to-infinity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743000" y="1295280"/>
            <a:ext cx="401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obustne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at happens if router malfunction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 can advertise incorrect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node computes only its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V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V node can advertise incorrect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node’s table used by other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error propagate thru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a-AS and Inter-AS rou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CEA-E47A-4668-B61F-2C24EBC401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ierarchical Rout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542520" y="3466800"/>
            <a:ext cx="3809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al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50 million destina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’t store all dest’s in routing table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ing table exchange would swamp links!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447800" y="3466800"/>
            <a:ext cx="401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dministrative autonom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= network of networ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etwork admin may want to control routing in its ow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2028960" y="1419120"/>
            <a:ext cx="654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r routing study thus far - ide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routers iden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“fla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ue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00D-A2E2-4950-9448-7DC8441A67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ierarchical Rout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42520" y="1495080"/>
            <a:ext cx="380988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gregate routers into regions,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“autonomous systems” (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in same AS run same routing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ra-AS” rout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to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s in different A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run different intra-AS routing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076720" y="1942920"/>
            <a:ext cx="34768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routers in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 intra-AS routing protocol with all other routers in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ls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sponsible for routing to destinations outside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inter-AS rout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tocol with other gateway ro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"/>
          <p:cNvSpPr/>
          <p:nvPr/>
        </p:nvSpPr>
        <p:spPr>
          <a:xfrm>
            <a:off x="4971960" y="1666800"/>
            <a:ext cx="3676680" cy="389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5085360" y="1398600"/>
            <a:ext cx="2520000" cy="459720"/>
            <a:chOff x="5085360" y="1398600"/>
            <a:chExt cx="2520000" cy="459720"/>
          </a:xfrm>
        </p:grpSpPr>
        <p:sp>
          <p:nvSpPr>
            <p:cNvPr id="1413" name=""/>
            <p:cNvSpPr/>
            <p:nvPr/>
          </p:nvSpPr>
          <p:spPr>
            <a:xfrm>
              <a:off x="5114520" y="1495440"/>
              <a:ext cx="241920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85360" y="1398600"/>
              <a:ext cx="25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ateway rou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01CD-6D67-48AC-B18F-6B6464C25A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etwork service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85560" y="164772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at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service mo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“channel” transporting packets from sender to receiv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anteed bandwidth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rvation of inter-packet timing (no jitter)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s-free deliver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-order deliver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gestion feedback to send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0" y="302256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80320" y="350820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08680" y="394668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72280" y="353232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01400" y="2189160"/>
            <a:ext cx="2797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ion provid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network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6165800">
            <a:off x="14400" y="45406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rvice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97E-E38C-4D6C-81D5-393E758524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3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Virtual circui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7280" y="3495240"/>
            <a:ext cx="76201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 setup, teardown for each call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can f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acket carrie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C identifi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not destination host I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uter on source-dest path s maintain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for each passing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port-layer connection only involved two end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, router resources (bandwidth, buffers) may be </a:t>
            </a: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allocate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V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get circuit-like per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875880" y="1504800"/>
            <a:ext cx="7743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-to-dest path behaves much like telephone circui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-w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actions along source-to-dest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666720" y="1457280"/>
            <a:ext cx="7677360" cy="168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423-E1F6-4B30-AACE-5313F9D236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Virtual circuits: signaling protocol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040" y="1685520"/>
            <a:ext cx="653436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setup, maintain  teardown V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ATM, frame-relay, X.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used in today’s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3371760" y="4782960"/>
            <a:ext cx="2847960" cy="1481400"/>
          </a:xfrm>
          <a:custGeom>
            <a:avLst/>
            <a:gdLst/>
            <a:ahLst/>
            <a:rect l="l" t="t" r="r" b="b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40040" y="5311800"/>
            <a:ext cx="15778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10040" y="5076720"/>
            <a:ext cx="542880" cy="29556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516480" y="5251320"/>
            <a:ext cx="501480" cy="233280"/>
            <a:chOff x="3516480" y="5251320"/>
            <a:chExt cx="501480" cy="233280"/>
          </a:xfrm>
        </p:grpSpPr>
        <p:sp>
          <p:nvSpPr>
            <p:cNvPr id="479" name=""/>
            <p:cNvSpPr/>
            <p:nvPr/>
          </p:nvSpPr>
          <p:spPr>
            <a:xfrm>
              <a:off x="3520440" y="535536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20440" y="53445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17960" y="53445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20440" y="534456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16480" y="52513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636000" y="5284080"/>
              <a:ext cx="246240" cy="88560"/>
              <a:chOff x="3636000" y="5284080"/>
              <a:chExt cx="246240" cy="88560"/>
            </a:xfrm>
          </p:grpSpPr>
          <p:sp>
            <p:nvSpPr>
              <p:cNvPr id="485" name=""/>
              <p:cNvSpPr/>
              <p:nvPr/>
            </p:nvSpPr>
            <p:spPr>
              <a:xfrm flipV="1">
                <a:off x="3636000" y="5284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4840" y="5372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717000" y="52862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636000" y="5283000"/>
              <a:ext cx="246240" cy="88560"/>
              <a:chOff x="3636000" y="5283000"/>
              <a:chExt cx="246240" cy="88560"/>
            </a:xfrm>
          </p:grpSpPr>
          <p:sp>
            <p:nvSpPr>
              <p:cNvPr id="489" name=""/>
              <p:cNvSpPr/>
              <p:nvPr/>
            </p:nvSpPr>
            <p:spPr>
              <a:xfrm>
                <a:off x="3636000" y="5369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804840" y="5283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717000" y="52830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2" name=""/>
          <p:cNvGrpSpPr/>
          <p:nvPr/>
        </p:nvGrpSpPr>
        <p:grpSpPr>
          <a:xfrm>
            <a:off x="3868560" y="5889600"/>
            <a:ext cx="501840" cy="232920"/>
            <a:chOff x="3868560" y="5889600"/>
            <a:chExt cx="501840" cy="232920"/>
          </a:xfrm>
        </p:grpSpPr>
        <p:sp>
          <p:nvSpPr>
            <p:cNvPr id="493" name=""/>
            <p:cNvSpPr/>
            <p:nvPr/>
          </p:nvSpPr>
          <p:spPr>
            <a:xfrm>
              <a:off x="3872520" y="59936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72520" y="5982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70400" y="5982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72520" y="59824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8560" y="58896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3988080" y="5922360"/>
              <a:ext cx="246240" cy="88200"/>
              <a:chOff x="3988080" y="5922360"/>
              <a:chExt cx="246240" cy="88200"/>
            </a:xfrm>
          </p:grpSpPr>
          <p:sp>
            <p:nvSpPr>
              <p:cNvPr id="499" name=""/>
              <p:cNvSpPr/>
              <p:nvPr/>
            </p:nvSpPr>
            <p:spPr>
              <a:xfrm flipV="1">
                <a:off x="3988080" y="5922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156920" y="6010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69080" y="5924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3988080" y="5921640"/>
              <a:ext cx="246240" cy="88200"/>
              <a:chOff x="3988080" y="5921640"/>
              <a:chExt cx="246240" cy="88200"/>
            </a:xfrm>
          </p:grpSpPr>
          <p:sp>
            <p:nvSpPr>
              <p:cNvPr id="503" name=""/>
              <p:cNvSpPr/>
              <p:nvPr/>
            </p:nvSpPr>
            <p:spPr>
              <a:xfrm>
                <a:off x="3988080" y="6008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56920" y="5921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4069080" y="5921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4543560" y="4946760"/>
            <a:ext cx="501480" cy="232920"/>
            <a:chOff x="4543560" y="4946760"/>
            <a:chExt cx="501480" cy="232920"/>
          </a:xfrm>
        </p:grpSpPr>
        <p:sp>
          <p:nvSpPr>
            <p:cNvPr id="507" name=""/>
            <p:cNvSpPr/>
            <p:nvPr/>
          </p:nvSpPr>
          <p:spPr>
            <a:xfrm>
              <a:off x="4547520" y="50508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47520" y="5039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45040" y="5039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47520" y="50396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43560" y="49467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4663080" y="4979520"/>
              <a:ext cx="246240" cy="88200"/>
              <a:chOff x="4663080" y="4979520"/>
              <a:chExt cx="246240" cy="88200"/>
            </a:xfrm>
          </p:grpSpPr>
          <p:sp>
            <p:nvSpPr>
              <p:cNvPr id="513" name=""/>
              <p:cNvSpPr/>
              <p:nvPr/>
            </p:nvSpPr>
            <p:spPr>
              <a:xfrm flipV="1">
                <a:off x="4663080" y="4979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31920" y="5067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744080" y="4981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4663080" y="4978800"/>
              <a:ext cx="246240" cy="88200"/>
              <a:chOff x="4663080" y="4978800"/>
              <a:chExt cx="246240" cy="88200"/>
            </a:xfrm>
          </p:grpSpPr>
          <p:sp>
            <p:nvSpPr>
              <p:cNvPr id="517" name=""/>
              <p:cNvSpPr/>
              <p:nvPr/>
            </p:nvSpPr>
            <p:spPr>
              <a:xfrm>
                <a:off x="4663080" y="5065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831920" y="4978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4744080" y="4978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4465800" y="5611680"/>
            <a:ext cx="500040" cy="233280"/>
            <a:chOff x="4465800" y="5611680"/>
            <a:chExt cx="500040" cy="233280"/>
          </a:xfrm>
        </p:grpSpPr>
        <p:sp>
          <p:nvSpPr>
            <p:cNvPr id="521" name=""/>
            <p:cNvSpPr/>
            <p:nvPr/>
          </p:nvSpPr>
          <p:spPr>
            <a:xfrm>
              <a:off x="4469760" y="571572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69760" y="57049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65840" y="57049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69760" y="570492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65800" y="561168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4584960" y="5644440"/>
              <a:ext cx="245520" cy="88560"/>
              <a:chOff x="4584960" y="5644440"/>
              <a:chExt cx="245520" cy="8856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4584960" y="56444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753440" y="57330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665600" y="564660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4584960" y="5643360"/>
              <a:ext cx="245520" cy="88560"/>
              <a:chOff x="4584960" y="5643360"/>
              <a:chExt cx="245520" cy="88560"/>
            </a:xfrm>
          </p:grpSpPr>
          <p:sp>
            <p:nvSpPr>
              <p:cNvPr id="531" name=""/>
              <p:cNvSpPr/>
              <p:nvPr/>
            </p:nvSpPr>
            <p:spPr>
              <a:xfrm>
                <a:off x="4584960" y="57301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753440" y="56433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4665600" y="564336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4" name=""/>
          <p:cNvGrpSpPr/>
          <p:nvPr/>
        </p:nvGrpSpPr>
        <p:grpSpPr>
          <a:xfrm>
            <a:off x="5100480" y="5908680"/>
            <a:ext cx="501840" cy="232920"/>
            <a:chOff x="5100480" y="5908680"/>
            <a:chExt cx="501840" cy="232920"/>
          </a:xfrm>
        </p:grpSpPr>
        <p:sp>
          <p:nvSpPr>
            <p:cNvPr id="535" name=""/>
            <p:cNvSpPr/>
            <p:nvPr/>
          </p:nvSpPr>
          <p:spPr>
            <a:xfrm>
              <a:off x="5104440" y="60127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04440" y="6001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02320" y="6001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04440" y="60015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00480" y="59086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220000" y="5941440"/>
              <a:ext cx="246240" cy="88200"/>
              <a:chOff x="5220000" y="5941440"/>
              <a:chExt cx="246240" cy="88200"/>
            </a:xfrm>
          </p:grpSpPr>
          <p:sp>
            <p:nvSpPr>
              <p:cNvPr id="541" name=""/>
              <p:cNvSpPr/>
              <p:nvPr/>
            </p:nvSpPr>
            <p:spPr>
              <a:xfrm flipV="1">
                <a:off x="5220000" y="5941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388840" y="6029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301000" y="5943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5220000" y="5940720"/>
              <a:ext cx="246240" cy="88200"/>
              <a:chOff x="5220000" y="5940720"/>
              <a:chExt cx="246240" cy="88200"/>
            </a:xfrm>
          </p:grpSpPr>
          <p:sp>
            <p:nvSpPr>
              <p:cNvPr id="545" name=""/>
              <p:cNvSpPr/>
              <p:nvPr/>
            </p:nvSpPr>
            <p:spPr>
              <a:xfrm>
                <a:off x="5220000" y="6027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388840" y="5940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5301000" y="5940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5545080" y="5253120"/>
            <a:ext cx="501840" cy="232920"/>
            <a:chOff x="5545080" y="5253120"/>
            <a:chExt cx="501840" cy="232920"/>
          </a:xfrm>
        </p:grpSpPr>
        <p:sp>
          <p:nvSpPr>
            <p:cNvPr id="549" name=""/>
            <p:cNvSpPr/>
            <p:nvPr/>
          </p:nvSpPr>
          <p:spPr>
            <a:xfrm>
              <a:off x="5549040" y="535716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49040" y="5346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46920" y="5346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49040" y="534600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45080" y="525312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5664600" y="5285880"/>
              <a:ext cx="246240" cy="88200"/>
              <a:chOff x="5664600" y="5285880"/>
              <a:chExt cx="246240" cy="88200"/>
            </a:xfrm>
          </p:grpSpPr>
          <p:sp>
            <p:nvSpPr>
              <p:cNvPr id="555" name=""/>
              <p:cNvSpPr/>
              <p:nvPr/>
            </p:nvSpPr>
            <p:spPr>
              <a:xfrm flipV="1">
                <a:off x="5664600" y="5285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33440" y="53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745600" y="52880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664600" y="5285160"/>
              <a:ext cx="246240" cy="88200"/>
              <a:chOff x="5664600" y="5285160"/>
              <a:chExt cx="246240" cy="88200"/>
            </a:xfrm>
          </p:grpSpPr>
          <p:sp>
            <p:nvSpPr>
              <p:cNvPr id="559" name=""/>
              <p:cNvSpPr/>
              <p:nvPr/>
            </p:nvSpPr>
            <p:spPr>
              <a:xfrm>
                <a:off x="5664600" y="5371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33440" y="528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5745600" y="52851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498600" y="3446640"/>
            <a:ext cx="1566360" cy="1989000"/>
            <a:chOff x="498600" y="3446640"/>
            <a:chExt cx="1566360" cy="1989000"/>
          </a:xfrm>
        </p:grpSpPr>
        <p:pic>
          <p:nvPicPr>
            <p:cNvPr id="563" name="" descr=""/>
            <p:cNvPicPr/>
            <p:nvPr/>
          </p:nvPicPr>
          <p:blipFill>
            <a:blip r:embed="rId1"/>
            <a:stretch/>
          </p:blipFill>
          <p:spPr>
            <a:xfrm>
              <a:off x="1093680" y="3446640"/>
              <a:ext cx="528120" cy="41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4" name=""/>
            <p:cNvGrpSpPr/>
            <p:nvPr/>
          </p:nvGrpSpPr>
          <p:grpSpPr>
            <a:xfrm>
              <a:off x="498600" y="3789000"/>
              <a:ext cx="1566360" cy="1646640"/>
              <a:chOff x="498600" y="3789000"/>
              <a:chExt cx="1566360" cy="1646640"/>
            </a:xfrm>
          </p:grpSpPr>
          <p:sp>
            <p:nvSpPr>
              <p:cNvPr id="565" name=""/>
              <p:cNvSpPr/>
              <p:nvPr/>
            </p:nvSpPr>
            <p:spPr>
              <a:xfrm>
                <a:off x="688320" y="3789000"/>
                <a:ext cx="1300320" cy="15192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23880" y="3835440"/>
                <a:ext cx="1328040" cy="156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32880" y="4460400"/>
                <a:ext cx="1319040" cy="335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8600" y="3817080"/>
                <a:ext cx="1566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23880" y="4487760"/>
                <a:ext cx="132804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41880" y="478656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1880" y="504756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41880" y="4170960"/>
                <a:ext cx="13287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5051520" y="5070600"/>
            <a:ext cx="504720" cy="307800"/>
          </a:xfrm>
          <a:custGeom>
            <a:avLst/>
            <a:gdLst/>
            <a:ahLst/>
            <a:rect l="l" t="t" r="r" b="b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86280" y="5462640"/>
            <a:ext cx="480960" cy="237960"/>
          </a:xfrm>
          <a:custGeom>
            <a:avLst/>
            <a:gdLst/>
            <a:ahLst/>
            <a:rect l="l" t="t" r="r" b="b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33800" y="5438880"/>
            <a:ext cx="628920" cy="247680"/>
          </a:xfrm>
          <a:custGeom>
            <a:avLst/>
            <a:gdLst/>
            <a:ahLst/>
            <a:rect l="l" t="t" r="r" b="b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600880" y="5492880"/>
            <a:ext cx="206280" cy="507960"/>
          </a:xfrm>
          <a:custGeom>
            <a:avLst/>
            <a:gdLst/>
            <a:ahLst/>
            <a:rect l="l" t="t" r="r" b="b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65720" y="6026040"/>
            <a:ext cx="736560" cy="74880"/>
          </a:xfrm>
          <a:custGeom>
            <a:avLst/>
            <a:gdLst/>
            <a:ahLst/>
            <a:rect l="l" t="t" r="r" b="b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28960" y="5486400"/>
            <a:ext cx="193680" cy="425520"/>
          </a:xfrm>
          <a:custGeom>
            <a:avLst/>
            <a:gdLst/>
            <a:ahLst/>
            <a:rect l="l" t="t" r="r" b="b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7280280" y="3618000"/>
            <a:ext cx="1566360" cy="1989360"/>
            <a:chOff x="7280280" y="3618000"/>
            <a:chExt cx="1566360" cy="198936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tretch/>
          </p:blipFill>
          <p:spPr>
            <a:xfrm>
              <a:off x="7875360" y="3618000"/>
              <a:ext cx="528120" cy="41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1" name=""/>
            <p:cNvGrpSpPr/>
            <p:nvPr/>
          </p:nvGrpSpPr>
          <p:grpSpPr>
            <a:xfrm>
              <a:off x="7280280" y="3960720"/>
              <a:ext cx="1566360" cy="1646640"/>
              <a:chOff x="7280280" y="3960720"/>
              <a:chExt cx="1566360" cy="1646640"/>
            </a:xfrm>
          </p:grpSpPr>
          <p:sp>
            <p:nvSpPr>
              <p:cNvPr id="582" name=""/>
              <p:cNvSpPr/>
              <p:nvPr/>
            </p:nvSpPr>
            <p:spPr>
              <a:xfrm>
                <a:off x="7470000" y="3960720"/>
                <a:ext cx="1300320" cy="15195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405560" y="4007160"/>
                <a:ext cx="1328040" cy="156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414560" y="4632120"/>
                <a:ext cx="1319040" cy="335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280280" y="3988800"/>
                <a:ext cx="1566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405560" y="4659840"/>
                <a:ext cx="132804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423560" y="495864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423560" y="521964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423560" y="4342680"/>
                <a:ext cx="13287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0" name=""/>
          <p:cNvSpPr/>
          <p:nvPr/>
        </p:nvSpPr>
        <p:spPr>
          <a:xfrm flipH="1">
            <a:off x="6022440" y="5406480"/>
            <a:ext cx="140364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57680" y="46512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. Initiate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57400" y="5000760"/>
            <a:ext cx="5305320" cy="861840"/>
          </a:xfrm>
          <a:custGeom>
            <a:avLst/>
            <a:gdLst/>
            <a:ahLst/>
            <a:rect l="l" t="t" r="r" b="b"/>
            <a:pathLst>
              <a:path w="3342" h="543">
                <a:moveTo>
                  <a:pt x="0" y="0"/>
                </a:moveTo>
                <a:lnTo>
                  <a:pt x="3" y="234"/>
                </a:lnTo>
                <a:lnTo>
                  <a:pt x="939" y="234"/>
                </a:lnTo>
                <a:lnTo>
                  <a:pt x="1617" y="543"/>
                </a:lnTo>
                <a:lnTo>
                  <a:pt x="1818" y="543"/>
                </a:lnTo>
                <a:lnTo>
                  <a:pt x="2364" y="300"/>
                </a:lnTo>
                <a:lnTo>
                  <a:pt x="3342" y="306"/>
                </a:lnTo>
                <a:lnTo>
                  <a:pt x="3336" y="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09520" y="47181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. incoming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802840" y="43848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. Accept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162160" y="4648320"/>
            <a:ext cx="5057640" cy="1123920"/>
          </a:xfrm>
          <a:custGeom>
            <a:avLst/>
            <a:gdLst/>
            <a:ahLst/>
            <a:rect l="l" t="t" r="r" b="b"/>
            <a:pathLst>
              <a:path w="3186" h="708">
                <a:moveTo>
                  <a:pt x="0" y="12"/>
                </a:moveTo>
                <a:lnTo>
                  <a:pt x="0" y="381"/>
                </a:lnTo>
                <a:lnTo>
                  <a:pt x="882" y="384"/>
                </a:lnTo>
                <a:lnTo>
                  <a:pt x="1551" y="708"/>
                </a:lnTo>
                <a:lnTo>
                  <a:pt x="1742" y="708"/>
                </a:lnTo>
                <a:lnTo>
                  <a:pt x="2273" y="476"/>
                </a:lnTo>
                <a:lnTo>
                  <a:pt x="3186" y="470"/>
                </a:lnTo>
                <a:lnTo>
                  <a:pt x="318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81360" y="436572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. Call 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17720" y="40608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5. Data flow be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14200" y="401328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6. Receiv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28760" y="4324320"/>
            <a:ext cx="4896000" cy="1343160"/>
          </a:xfrm>
          <a:custGeom>
            <a:avLst/>
            <a:gdLst/>
            <a:ahLst/>
            <a:rect l="l" t="t" r="r" b="b"/>
            <a:pathLst>
              <a:path w="3084" h="846">
                <a:moveTo>
                  <a:pt x="0" y="18"/>
                </a:moveTo>
                <a:lnTo>
                  <a:pt x="0" y="531"/>
                </a:lnTo>
                <a:lnTo>
                  <a:pt x="846" y="534"/>
                </a:lnTo>
                <a:lnTo>
                  <a:pt x="1485" y="846"/>
                </a:lnTo>
                <a:lnTo>
                  <a:pt x="1698" y="843"/>
                </a:lnTo>
                <a:lnTo>
                  <a:pt x="2238" y="633"/>
                </a:lnTo>
                <a:lnTo>
                  <a:pt x="3084" y="633"/>
                </a:lnTo>
                <a:lnTo>
                  <a:pt x="3081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3514680" y="5241960"/>
            <a:ext cx="2530440" cy="600120"/>
            <a:chOff x="3514680" y="5241960"/>
            <a:chExt cx="2530440" cy="600120"/>
          </a:xfrm>
        </p:grpSpPr>
        <p:grpSp>
          <p:nvGrpSpPr>
            <p:cNvPr id="601" name=""/>
            <p:cNvGrpSpPr/>
            <p:nvPr/>
          </p:nvGrpSpPr>
          <p:grpSpPr>
            <a:xfrm>
              <a:off x="3514680" y="5241960"/>
              <a:ext cx="501840" cy="233280"/>
              <a:chOff x="3514680" y="5241960"/>
              <a:chExt cx="501840" cy="233280"/>
            </a:xfrm>
          </p:grpSpPr>
          <p:sp>
            <p:nvSpPr>
              <p:cNvPr id="602" name=""/>
              <p:cNvSpPr/>
              <p:nvPr/>
            </p:nvSpPr>
            <p:spPr>
              <a:xfrm>
                <a:off x="3519720" y="5346720"/>
                <a:ext cx="496800" cy="128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519720" y="53355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16520" y="53355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519720" y="5335560"/>
                <a:ext cx="492120" cy="77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514680" y="5241960"/>
                <a:ext cx="497160" cy="1508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3633840" y="5274720"/>
                <a:ext cx="247320" cy="87840"/>
                <a:chOff x="3633840" y="5274720"/>
                <a:chExt cx="247320" cy="87840"/>
              </a:xfrm>
            </p:grpSpPr>
            <p:sp>
              <p:nvSpPr>
                <p:cNvPr id="608" name=""/>
                <p:cNvSpPr/>
                <p:nvPr/>
              </p:nvSpPr>
              <p:spPr>
                <a:xfrm flipV="1">
                  <a:off x="3633840" y="52747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803400" y="5362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715200" y="52768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3633840" y="5273280"/>
                <a:ext cx="247320" cy="89280"/>
                <a:chOff x="3633840" y="5273280"/>
                <a:chExt cx="247320" cy="892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3633840" y="53607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3803400" y="52732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V="1">
                  <a:off x="3715200" y="52732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5" name=""/>
            <p:cNvGrpSpPr/>
            <p:nvPr/>
          </p:nvGrpSpPr>
          <p:grpSpPr>
            <a:xfrm>
              <a:off x="4457880" y="5608800"/>
              <a:ext cx="501480" cy="233280"/>
              <a:chOff x="4457880" y="5608800"/>
              <a:chExt cx="501480" cy="233280"/>
            </a:xfrm>
          </p:grpSpPr>
          <p:sp>
            <p:nvSpPr>
              <p:cNvPr id="616" name=""/>
              <p:cNvSpPr/>
              <p:nvPr/>
            </p:nvSpPr>
            <p:spPr>
              <a:xfrm>
                <a:off x="4462560" y="5713560"/>
                <a:ext cx="496440" cy="128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462560" y="57024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959360" y="57024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462560" y="5702400"/>
                <a:ext cx="491760" cy="77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457880" y="5608800"/>
                <a:ext cx="496800" cy="1508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1" name=""/>
              <p:cNvGrpSpPr/>
              <p:nvPr/>
            </p:nvGrpSpPr>
            <p:grpSpPr>
              <a:xfrm>
                <a:off x="4576680" y="5641560"/>
                <a:ext cx="246600" cy="87840"/>
                <a:chOff x="4576680" y="5641560"/>
                <a:chExt cx="246600" cy="87840"/>
              </a:xfrm>
            </p:grpSpPr>
            <p:sp>
              <p:nvSpPr>
                <p:cNvPr id="622" name=""/>
                <p:cNvSpPr/>
                <p:nvPr/>
              </p:nvSpPr>
              <p:spPr>
                <a:xfrm flipV="1">
                  <a:off x="4576680" y="56415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745880" y="5729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4657680" y="56437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4576680" y="5640120"/>
                <a:ext cx="246600" cy="89280"/>
                <a:chOff x="4576680" y="5640120"/>
                <a:chExt cx="246600" cy="89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4576680" y="5727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745880" y="564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 flipV="1">
                  <a:off x="4657680" y="56401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5543640" y="5241960"/>
              <a:ext cx="501480" cy="233280"/>
              <a:chOff x="5543640" y="5241960"/>
              <a:chExt cx="501480" cy="233280"/>
            </a:xfrm>
          </p:grpSpPr>
          <p:sp>
            <p:nvSpPr>
              <p:cNvPr id="630" name=""/>
              <p:cNvSpPr/>
              <p:nvPr/>
            </p:nvSpPr>
            <p:spPr>
              <a:xfrm>
                <a:off x="5548320" y="5346720"/>
                <a:ext cx="496440" cy="128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48320" y="53355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045120" y="53355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48320" y="5335560"/>
                <a:ext cx="491760" cy="77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543640" y="5241960"/>
                <a:ext cx="496800" cy="1508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5662440" y="5274720"/>
                <a:ext cx="246600" cy="87840"/>
                <a:chOff x="5662440" y="5274720"/>
                <a:chExt cx="246600" cy="87840"/>
              </a:xfrm>
            </p:grpSpPr>
            <p:sp>
              <p:nvSpPr>
                <p:cNvPr id="636" name=""/>
                <p:cNvSpPr/>
                <p:nvPr/>
              </p:nvSpPr>
              <p:spPr>
                <a:xfrm flipV="1">
                  <a:off x="5662440" y="5274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831640" y="5362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43440" y="527688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5662440" y="5273280"/>
                <a:ext cx="246600" cy="89280"/>
                <a:chOff x="5662440" y="5273280"/>
                <a:chExt cx="246600" cy="8928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5662440" y="5360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831640" y="5273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5743440" y="527328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090-9B62-4BBD-83B1-2AEF2CAD99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atagram network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Internet model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81040" y="1333440"/>
            <a:ext cx="778176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all setup at network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: no state about end-to-end conn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network-level concept of “connection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s typically routed using destination host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s between same source-dest pair may take different pa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3352680" y="5078520"/>
            <a:ext cx="2847960" cy="1481040"/>
          </a:xfrm>
          <a:custGeom>
            <a:avLst/>
            <a:gdLst/>
            <a:ahLst/>
            <a:rect l="l" t="t" r="r" b="b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20960" y="5607000"/>
            <a:ext cx="15778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90960" y="5372280"/>
            <a:ext cx="542880" cy="2952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497400" y="5546880"/>
            <a:ext cx="501480" cy="232920"/>
            <a:chOff x="3497400" y="5546880"/>
            <a:chExt cx="501480" cy="232920"/>
          </a:xfrm>
        </p:grpSpPr>
        <p:sp>
          <p:nvSpPr>
            <p:cNvPr id="649" name=""/>
            <p:cNvSpPr/>
            <p:nvPr/>
          </p:nvSpPr>
          <p:spPr>
            <a:xfrm>
              <a:off x="3501360" y="56509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01360" y="5639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998880" y="5639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501360" y="563976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97400" y="5546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3616920" y="5579640"/>
              <a:ext cx="246240" cy="88200"/>
              <a:chOff x="3616920" y="5579640"/>
              <a:chExt cx="246240" cy="88200"/>
            </a:xfrm>
          </p:grpSpPr>
          <p:sp>
            <p:nvSpPr>
              <p:cNvPr id="655" name=""/>
              <p:cNvSpPr/>
              <p:nvPr/>
            </p:nvSpPr>
            <p:spPr>
              <a:xfrm flipV="1">
                <a:off x="3616920" y="5579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785760" y="5667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697920" y="5581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3616920" y="5578920"/>
              <a:ext cx="246240" cy="88200"/>
              <a:chOff x="3616920" y="5578920"/>
              <a:chExt cx="246240" cy="88200"/>
            </a:xfrm>
          </p:grpSpPr>
          <p:sp>
            <p:nvSpPr>
              <p:cNvPr id="659" name=""/>
              <p:cNvSpPr/>
              <p:nvPr/>
            </p:nvSpPr>
            <p:spPr>
              <a:xfrm>
                <a:off x="3616920" y="566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785760" y="557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3697920" y="5578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3849840" y="6184800"/>
            <a:ext cx="501480" cy="233280"/>
            <a:chOff x="3849840" y="6184800"/>
            <a:chExt cx="501480" cy="233280"/>
          </a:xfrm>
        </p:grpSpPr>
        <p:sp>
          <p:nvSpPr>
            <p:cNvPr id="663" name=""/>
            <p:cNvSpPr/>
            <p:nvPr/>
          </p:nvSpPr>
          <p:spPr>
            <a:xfrm>
              <a:off x="3853800" y="628884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53800" y="6278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51320" y="6278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3800" y="62780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49840" y="61848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3969360" y="6217560"/>
              <a:ext cx="246240" cy="88560"/>
              <a:chOff x="3969360" y="6217560"/>
              <a:chExt cx="246240" cy="885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969360" y="6217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138200" y="6306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050360" y="6219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3969360" y="6216480"/>
              <a:ext cx="246240" cy="88560"/>
              <a:chOff x="3969360" y="6216480"/>
              <a:chExt cx="246240" cy="88560"/>
            </a:xfrm>
          </p:grpSpPr>
          <p:sp>
            <p:nvSpPr>
              <p:cNvPr id="673" name=""/>
              <p:cNvSpPr/>
              <p:nvPr/>
            </p:nvSpPr>
            <p:spPr>
              <a:xfrm>
                <a:off x="3969360" y="6303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138200" y="6216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4050360" y="6216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6" name=""/>
          <p:cNvGrpSpPr/>
          <p:nvPr/>
        </p:nvGrpSpPr>
        <p:grpSpPr>
          <a:xfrm>
            <a:off x="4524480" y="5241960"/>
            <a:ext cx="501480" cy="232920"/>
            <a:chOff x="4524480" y="5241960"/>
            <a:chExt cx="501480" cy="232920"/>
          </a:xfrm>
        </p:grpSpPr>
        <p:sp>
          <p:nvSpPr>
            <p:cNvPr id="677" name=""/>
            <p:cNvSpPr/>
            <p:nvPr/>
          </p:nvSpPr>
          <p:spPr>
            <a:xfrm>
              <a:off x="4528440" y="53460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28440" y="5334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025960" y="5334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28440" y="53348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24480" y="52419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4644000" y="5274720"/>
              <a:ext cx="246240" cy="88200"/>
              <a:chOff x="4644000" y="5274720"/>
              <a:chExt cx="246240" cy="88200"/>
            </a:xfrm>
          </p:grpSpPr>
          <p:sp>
            <p:nvSpPr>
              <p:cNvPr id="683" name=""/>
              <p:cNvSpPr/>
              <p:nvPr/>
            </p:nvSpPr>
            <p:spPr>
              <a:xfrm flipV="1">
                <a:off x="4644000" y="527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12840" y="5362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25000" y="527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4644000" y="5274000"/>
              <a:ext cx="246240" cy="88200"/>
              <a:chOff x="4644000" y="5274000"/>
              <a:chExt cx="246240" cy="88200"/>
            </a:xfrm>
          </p:grpSpPr>
          <p:sp>
            <p:nvSpPr>
              <p:cNvPr id="687" name=""/>
              <p:cNvSpPr/>
              <p:nvPr/>
            </p:nvSpPr>
            <p:spPr>
              <a:xfrm>
                <a:off x="4644000" y="5360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812840" y="527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725000" y="5274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446720" y="5907240"/>
            <a:ext cx="500040" cy="232920"/>
            <a:chOff x="4446720" y="5907240"/>
            <a:chExt cx="500040" cy="232920"/>
          </a:xfrm>
        </p:grpSpPr>
        <p:sp>
          <p:nvSpPr>
            <p:cNvPr id="691" name=""/>
            <p:cNvSpPr/>
            <p:nvPr/>
          </p:nvSpPr>
          <p:spPr>
            <a:xfrm>
              <a:off x="4450680" y="601128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50680" y="60001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46760" y="60001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50680" y="600012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46720" y="590724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4565880" y="5940000"/>
              <a:ext cx="245520" cy="88200"/>
              <a:chOff x="4565880" y="5940000"/>
              <a:chExt cx="245520" cy="88200"/>
            </a:xfrm>
          </p:grpSpPr>
          <p:sp>
            <p:nvSpPr>
              <p:cNvPr id="697" name=""/>
              <p:cNvSpPr/>
              <p:nvPr/>
            </p:nvSpPr>
            <p:spPr>
              <a:xfrm flipV="1">
                <a:off x="4565880" y="5940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734360" y="60282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646520" y="5942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4565880" y="5939280"/>
              <a:ext cx="245520" cy="88200"/>
              <a:chOff x="4565880" y="5939280"/>
              <a:chExt cx="245520" cy="88200"/>
            </a:xfrm>
          </p:grpSpPr>
          <p:sp>
            <p:nvSpPr>
              <p:cNvPr id="701" name=""/>
              <p:cNvSpPr/>
              <p:nvPr/>
            </p:nvSpPr>
            <p:spPr>
              <a:xfrm>
                <a:off x="4565880" y="60256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734360" y="59392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646520" y="59392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4" name=""/>
          <p:cNvGrpSpPr/>
          <p:nvPr/>
        </p:nvGrpSpPr>
        <p:grpSpPr>
          <a:xfrm>
            <a:off x="5081760" y="6203880"/>
            <a:ext cx="501480" cy="232920"/>
            <a:chOff x="5081760" y="6203880"/>
            <a:chExt cx="501480" cy="232920"/>
          </a:xfrm>
        </p:grpSpPr>
        <p:sp>
          <p:nvSpPr>
            <p:cNvPr id="705" name=""/>
            <p:cNvSpPr/>
            <p:nvPr/>
          </p:nvSpPr>
          <p:spPr>
            <a:xfrm>
              <a:off x="5085720" y="63079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5720" y="6296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583240" y="6296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85720" y="629676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81760" y="6203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5201280" y="6236640"/>
              <a:ext cx="246240" cy="88200"/>
              <a:chOff x="5201280" y="6236640"/>
              <a:chExt cx="246240" cy="88200"/>
            </a:xfrm>
          </p:grpSpPr>
          <p:sp>
            <p:nvSpPr>
              <p:cNvPr id="711" name=""/>
              <p:cNvSpPr/>
              <p:nvPr/>
            </p:nvSpPr>
            <p:spPr>
              <a:xfrm flipV="1">
                <a:off x="5201280" y="6236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370120" y="6324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282280" y="6238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5201280" y="6235920"/>
              <a:ext cx="246240" cy="88200"/>
              <a:chOff x="5201280" y="6235920"/>
              <a:chExt cx="246240" cy="88200"/>
            </a:xfrm>
          </p:grpSpPr>
          <p:sp>
            <p:nvSpPr>
              <p:cNvPr id="715" name=""/>
              <p:cNvSpPr/>
              <p:nvPr/>
            </p:nvSpPr>
            <p:spPr>
              <a:xfrm>
                <a:off x="5201280" y="632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370120" y="6235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5282280" y="6235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8" name=""/>
          <p:cNvGrpSpPr/>
          <p:nvPr/>
        </p:nvGrpSpPr>
        <p:grpSpPr>
          <a:xfrm>
            <a:off x="5526000" y="5548320"/>
            <a:ext cx="501840" cy="232920"/>
            <a:chOff x="5526000" y="5548320"/>
            <a:chExt cx="501840" cy="232920"/>
          </a:xfrm>
        </p:grpSpPr>
        <p:sp>
          <p:nvSpPr>
            <p:cNvPr id="719" name=""/>
            <p:cNvSpPr/>
            <p:nvPr/>
          </p:nvSpPr>
          <p:spPr>
            <a:xfrm>
              <a:off x="5529960" y="565236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29960" y="5641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27840" y="5641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29960" y="564120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526000" y="554832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645520" y="5581080"/>
              <a:ext cx="246240" cy="88200"/>
              <a:chOff x="5645520" y="5581080"/>
              <a:chExt cx="246240" cy="88200"/>
            </a:xfrm>
          </p:grpSpPr>
          <p:sp>
            <p:nvSpPr>
              <p:cNvPr id="725" name=""/>
              <p:cNvSpPr/>
              <p:nvPr/>
            </p:nvSpPr>
            <p:spPr>
              <a:xfrm flipV="1">
                <a:off x="5645520" y="5581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14360" y="5669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726520" y="5583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5645520" y="5580360"/>
              <a:ext cx="246240" cy="88200"/>
              <a:chOff x="5645520" y="5580360"/>
              <a:chExt cx="246240" cy="88200"/>
            </a:xfrm>
          </p:grpSpPr>
          <p:sp>
            <p:nvSpPr>
              <p:cNvPr id="729" name=""/>
              <p:cNvSpPr/>
              <p:nvPr/>
            </p:nvSpPr>
            <p:spPr>
              <a:xfrm>
                <a:off x="5645520" y="5666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814360" y="5580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726520" y="5580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479520" y="3741840"/>
            <a:ext cx="1566360" cy="1989360"/>
            <a:chOff x="479520" y="3741840"/>
            <a:chExt cx="1566360" cy="1989360"/>
          </a:xfrm>
        </p:grpSpPr>
        <p:pic>
          <p:nvPicPr>
            <p:cNvPr id="733" name="" descr=""/>
            <p:cNvPicPr/>
            <p:nvPr/>
          </p:nvPicPr>
          <p:blipFill>
            <a:blip r:embed="rId1"/>
            <a:stretch/>
          </p:blipFill>
          <p:spPr>
            <a:xfrm>
              <a:off x="1074600" y="3741840"/>
              <a:ext cx="528120" cy="41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4" name=""/>
            <p:cNvGrpSpPr/>
            <p:nvPr/>
          </p:nvGrpSpPr>
          <p:grpSpPr>
            <a:xfrm>
              <a:off x="479520" y="4084560"/>
              <a:ext cx="1566360" cy="1646640"/>
              <a:chOff x="479520" y="4084560"/>
              <a:chExt cx="1566360" cy="1646640"/>
            </a:xfrm>
          </p:grpSpPr>
          <p:sp>
            <p:nvSpPr>
              <p:cNvPr id="735" name=""/>
              <p:cNvSpPr/>
              <p:nvPr/>
            </p:nvSpPr>
            <p:spPr>
              <a:xfrm>
                <a:off x="669240" y="4084560"/>
                <a:ext cx="1300320" cy="15195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04800" y="4131000"/>
                <a:ext cx="1328040" cy="156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13800" y="4755960"/>
                <a:ext cx="1319040" cy="335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79520" y="4112640"/>
                <a:ext cx="1566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04800" y="4783680"/>
                <a:ext cx="132804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22800" y="508248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22800" y="534348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22800" y="4466520"/>
                <a:ext cx="13287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3" name=""/>
          <p:cNvSpPr/>
          <p:nvPr/>
        </p:nvSpPr>
        <p:spPr>
          <a:xfrm>
            <a:off x="5032440" y="5365800"/>
            <a:ext cx="504720" cy="307800"/>
          </a:xfrm>
          <a:custGeom>
            <a:avLst/>
            <a:gdLst/>
            <a:ahLst/>
            <a:rect l="l" t="t" r="r" b="b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7200" y="5757840"/>
            <a:ext cx="480960" cy="238320"/>
          </a:xfrm>
          <a:custGeom>
            <a:avLst/>
            <a:gdLst/>
            <a:ahLst/>
            <a:rect l="l" t="t" r="r" b="b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15080" y="5734080"/>
            <a:ext cx="628560" cy="247680"/>
          </a:xfrm>
          <a:custGeom>
            <a:avLst/>
            <a:gdLst/>
            <a:ahLst/>
            <a:rect l="l" t="t" r="r" b="b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81800" y="5788080"/>
            <a:ext cx="206280" cy="507960"/>
          </a:xfrm>
          <a:custGeom>
            <a:avLst/>
            <a:gdLst/>
            <a:ahLst/>
            <a:rect l="l" t="t" r="r" b="b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46640" y="6321600"/>
            <a:ext cx="736560" cy="74520"/>
          </a:xfrm>
          <a:custGeom>
            <a:avLst/>
            <a:gdLst/>
            <a:ahLst/>
            <a:rect l="l" t="t" r="r" b="b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09880" y="5781600"/>
            <a:ext cx="193680" cy="425520"/>
          </a:xfrm>
          <a:custGeom>
            <a:avLst/>
            <a:gdLst/>
            <a:ahLst/>
            <a:rect l="l" t="t" r="r" b="b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7261200" y="3913200"/>
            <a:ext cx="1566360" cy="1989360"/>
            <a:chOff x="7261200" y="3913200"/>
            <a:chExt cx="1566360" cy="1989360"/>
          </a:xfrm>
        </p:grpSpPr>
        <p:pic>
          <p:nvPicPr>
            <p:cNvPr id="750" name="" descr=""/>
            <p:cNvPicPr/>
            <p:nvPr/>
          </p:nvPicPr>
          <p:blipFill>
            <a:blip r:embed="rId2"/>
            <a:stretch/>
          </p:blipFill>
          <p:spPr>
            <a:xfrm>
              <a:off x="7856280" y="3913200"/>
              <a:ext cx="528120" cy="41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1" name=""/>
            <p:cNvGrpSpPr/>
            <p:nvPr/>
          </p:nvGrpSpPr>
          <p:grpSpPr>
            <a:xfrm>
              <a:off x="7261200" y="4255920"/>
              <a:ext cx="1566360" cy="1646640"/>
              <a:chOff x="7261200" y="4255920"/>
              <a:chExt cx="1566360" cy="1646640"/>
            </a:xfrm>
          </p:grpSpPr>
          <p:sp>
            <p:nvSpPr>
              <p:cNvPr id="752" name=""/>
              <p:cNvSpPr/>
              <p:nvPr/>
            </p:nvSpPr>
            <p:spPr>
              <a:xfrm>
                <a:off x="7450920" y="4255920"/>
                <a:ext cx="1300320" cy="15195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386480" y="4302360"/>
                <a:ext cx="1328040" cy="156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395480" y="4927320"/>
                <a:ext cx="1319040" cy="335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261200" y="4284000"/>
                <a:ext cx="1566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386480" y="4955040"/>
                <a:ext cx="132804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404480" y="525384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404480" y="551484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404480" y="4637880"/>
                <a:ext cx="13287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 flipH="1">
            <a:off x="6004080" y="5701680"/>
            <a:ext cx="14032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994040" y="49467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. Se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28600" y="50133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. Receiv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028960" y="4915080"/>
            <a:ext cx="304560" cy="657000"/>
          </a:xfrm>
          <a:custGeom>
            <a:avLst/>
            <a:gdLst/>
            <a:ahLst/>
            <a:rect l="l" t="t" r="r" b="b"/>
            <a:pathLst>
              <a:path w="192" h="414">
                <a:moveTo>
                  <a:pt x="0" y="0"/>
                </a:moveTo>
                <a:lnTo>
                  <a:pt x="0" y="414"/>
                </a:lnTo>
                <a:lnTo>
                  <a:pt x="192" y="40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662880" y="5357880"/>
            <a:ext cx="609480" cy="295200"/>
          </a:xfrm>
          <a:custGeom>
            <a:avLst/>
            <a:gdLst/>
            <a:ahLst/>
            <a:rect l="l" t="t" r="r" b="b"/>
            <a:pathLst>
              <a:path w="384" h="186">
                <a:moveTo>
                  <a:pt x="0" y="186"/>
                </a:moveTo>
                <a:lnTo>
                  <a:pt x="384" y="186"/>
                </a:lnTo>
                <a:lnTo>
                  <a:pt x="384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2386080" y="5353200"/>
            <a:ext cx="361440" cy="261360"/>
            <a:chOff x="2386080" y="5353200"/>
            <a:chExt cx="361440" cy="261360"/>
          </a:xfrm>
        </p:grpSpPr>
        <p:sp>
          <p:nvSpPr>
            <p:cNvPr id="766" name=""/>
            <p:cNvSpPr/>
            <p:nvPr/>
          </p:nvSpPr>
          <p:spPr>
            <a:xfrm>
              <a:off x="2409480" y="5353200"/>
              <a:ext cx="16164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386080" y="5376960"/>
              <a:ext cx="161640" cy="237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47720" y="550080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3176640" y="5357880"/>
            <a:ext cx="361440" cy="261360"/>
            <a:chOff x="3176640" y="5357880"/>
            <a:chExt cx="361440" cy="261360"/>
          </a:xfrm>
        </p:grpSpPr>
        <p:sp>
          <p:nvSpPr>
            <p:cNvPr id="770" name=""/>
            <p:cNvSpPr/>
            <p:nvPr/>
          </p:nvSpPr>
          <p:spPr>
            <a:xfrm>
              <a:off x="3200040" y="5357880"/>
              <a:ext cx="16164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76640" y="5381640"/>
              <a:ext cx="161640" cy="237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38280" y="550548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5048280" y="5248440"/>
            <a:ext cx="361440" cy="261360"/>
            <a:chOff x="5048280" y="5248440"/>
            <a:chExt cx="361440" cy="261360"/>
          </a:xfrm>
        </p:grpSpPr>
        <p:sp>
          <p:nvSpPr>
            <p:cNvPr id="774" name=""/>
            <p:cNvSpPr/>
            <p:nvPr/>
          </p:nvSpPr>
          <p:spPr>
            <a:xfrm>
              <a:off x="5071680" y="5248440"/>
              <a:ext cx="16164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048280" y="5272200"/>
              <a:ext cx="161640" cy="237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09920" y="539604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4524480" y="6186600"/>
            <a:ext cx="361440" cy="261360"/>
            <a:chOff x="4524480" y="6186600"/>
            <a:chExt cx="361440" cy="261360"/>
          </a:xfrm>
        </p:grpSpPr>
        <p:sp>
          <p:nvSpPr>
            <p:cNvPr id="778" name=""/>
            <p:cNvSpPr/>
            <p:nvPr/>
          </p:nvSpPr>
          <p:spPr>
            <a:xfrm>
              <a:off x="4547880" y="6186600"/>
              <a:ext cx="16164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24480" y="6210360"/>
              <a:ext cx="161640" cy="237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86120" y="633420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105440" y="5710320"/>
            <a:ext cx="361440" cy="261360"/>
            <a:chOff x="4105440" y="5710320"/>
            <a:chExt cx="361440" cy="261360"/>
          </a:xfrm>
        </p:grpSpPr>
        <p:sp>
          <p:nvSpPr>
            <p:cNvPr id="782" name=""/>
            <p:cNvSpPr/>
            <p:nvPr/>
          </p:nvSpPr>
          <p:spPr>
            <a:xfrm>
              <a:off x="4128840" y="5710320"/>
              <a:ext cx="16164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105440" y="5734080"/>
              <a:ext cx="161640" cy="237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67080" y="585792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6458040" y="5433840"/>
            <a:ext cx="361440" cy="262080"/>
            <a:chOff x="6458040" y="5433840"/>
            <a:chExt cx="361440" cy="262080"/>
          </a:xfrm>
        </p:grpSpPr>
        <p:sp>
          <p:nvSpPr>
            <p:cNvPr id="786" name=""/>
            <p:cNvSpPr/>
            <p:nvPr/>
          </p:nvSpPr>
          <p:spPr>
            <a:xfrm>
              <a:off x="6481440" y="5433840"/>
              <a:ext cx="161640" cy="238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58040" y="5457960"/>
              <a:ext cx="161640" cy="237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19680" y="558180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73A-EB66-436A-A59C-D5D9133241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layer service models: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9680" y="2324160"/>
            <a:ext cx="842940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14440" y="3057480"/>
            <a:ext cx="842940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1960" y="3676680"/>
            <a:ext cx="842976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1960" y="43052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71680" y="4886280"/>
            <a:ext cx="842940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47840" y="5457960"/>
            <a:ext cx="7781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70F-8F27-4EB6-9182-AA9D9C5343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gram or VC network: why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42880" y="147636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exchange among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astic” service, no strict timing req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rt” end systems (comp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dapt, perform control, error recove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inside network, complexity at “edg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link typ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t characte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form service diffic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05040" y="155232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olved from telepho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uman conversatio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ict timing, reliability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for guaranteed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mb” end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eph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exity inside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70A-E193-454B-B7CC-841EAC66B9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85640" y="3076200"/>
            <a:ext cx="381024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abstraction for routing algorith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nodes are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edges are physical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cost: delay, $ cost, or congestion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558720" y="1789200"/>
            <a:ext cx="371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termine “good”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equence of routers) thr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from source to d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1680" y="1571760"/>
            <a:ext cx="3695400" cy="1257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681480" y="1332000"/>
            <a:ext cx="2590200" cy="459720"/>
            <a:chOff x="681480" y="1332000"/>
            <a:chExt cx="2590200" cy="459720"/>
          </a:xfrm>
        </p:grpSpPr>
        <p:sp>
          <p:nvSpPr>
            <p:cNvPr id="813" name=""/>
            <p:cNvSpPr/>
            <p:nvPr/>
          </p:nvSpPr>
          <p:spPr>
            <a:xfrm>
              <a:off x="780840" y="1390680"/>
              <a:ext cx="23526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1480" y="1332000"/>
              <a:ext cx="25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outing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019840" y="1700280"/>
            <a:ext cx="3571560" cy="2236680"/>
            <a:chOff x="5019840" y="1700280"/>
            <a:chExt cx="3571560" cy="2236680"/>
          </a:xfrm>
        </p:grpSpPr>
        <p:sp>
          <p:nvSpPr>
            <p:cNvPr id="816" name=""/>
            <p:cNvSpPr/>
            <p:nvPr/>
          </p:nvSpPr>
          <p:spPr>
            <a:xfrm>
              <a:off x="5019840" y="1700280"/>
              <a:ext cx="3571560" cy="2236680"/>
            </a:xfrm>
            <a:custGeom>
              <a:avLst/>
              <a:gdLst/>
              <a:ahLst/>
              <a:rect l="l" t="t" r="r" b="b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53000" y="2571840"/>
              <a:ext cx="542520" cy="2952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40080" y="29559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140080" y="29448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637240" y="29448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40080" y="294480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35400" y="285120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892840" y="357012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892840" y="3558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89640" y="3558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92840" y="355896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887800" y="34653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886360" y="247500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886360" y="2463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383160" y="2463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86360" y="246384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881680" y="236988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70680" y="2468520"/>
              <a:ext cx="4950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70680" y="24573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4573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970680" y="2457360"/>
              <a:ext cx="4899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975360" y="2368440"/>
              <a:ext cx="4950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986520" y="356544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986520" y="3554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83320" y="3554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986520" y="355428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981840" y="346068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83280" y="30240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883280" y="30128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380440" y="30128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883280" y="301284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78600" y="291924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34200" y="2614680"/>
              <a:ext cx="1080" cy="828360"/>
            </a:xfrm>
            <a:custGeom>
              <a:avLst/>
              <a:gdLst/>
              <a:ahLst/>
              <a:rect l="l" t="t" r="r" b="b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34040" y="2624040"/>
              <a:ext cx="1080" cy="852480"/>
            </a:xfrm>
            <a:custGeom>
              <a:avLst/>
              <a:gdLst/>
              <a:ahLst/>
              <a:rect l="l" t="t" r="r" b="b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395760" y="2600280"/>
              <a:ext cx="799920" cy="952560"/>
            </a:xfrm>
            <a:custGeom>
              <a:avLst/>
              <a:gdLst/>
              <a:ahLst/>
              <a:rect l="l" t="t" r="r" b="b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86560" y="3152520"/>
              <a:ext cx="580680" cy="428760"/>
            </a:xfrm>
            <a:custGeom>
              <a:avLst/>
              <a:gdLst/>
              <a:ahLst/>
              <a:rect l="l" t="t" r="r" b="b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5480" y="3600360"/>
              <a:ext cx="580680" cy="144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67320" y="3085920"/>
              <a:ext cx="437760" cy="419040"/>
            </a:xfrm>
            <a:custGeom>
              <a:avLst/>
              <a:gdLst/>
              <a:ahLst/>
              <a:rect l="l" t="t" r="r" b="b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95760" y="2504880"/>
              <a:ext cx="580680" cy="180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67480" y="2500200"/>
              <a:ext cx="628200" cy="423720"/>
            </a:xfrm>
            <a:custGeom>
              <a:avLst/>
              <a:gdLst/>
              <a:ahLst/>
              <a:rect l="l" t="t" r="r" b="b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76600" y="1819080"/>
              <a:ext cx="1761840" cy="1024200"/>
            </a:xfrm>
            <a:custGeom>
              <a:avLst/>
              <a:gdLst/>
              <a:ahLst/>
              <a:rect l="l" t="t" r="r" b="b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5208480" y="2774880"/>
              <a:ext cx="343800" cy="398880"/>
              <a:chOff x="5208480" y="2774880"/>
              <a:chExt cx="343800" cy="398880"/>
            </a:xfrm>
          </p:grpSpPr>
          <p:sp>
            <p:nvSpPr>
              <p:cNvPr id="858" name=""/>
              <p:cNvSpPr/>
              <p:nvPr/>
            </p:nvSpPr>
            <p:spPr>
              <a:xfrm>
                <a:off x="5261400" y="287136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208480" y="27748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7075800" y="3384360"/>
              <a:ext cx="322560" cy="398880"/>
              <a:chOff x="7075800" y="3384360"/>
              <a:chExt cx="322560" cy="398880"/>
            </a:xfrm>
          </p:grpSpPr>
          <p:sp>
            <p:nvSpPr>
              <p:cNvPr id="861" name=""/>
              <p:cNvSpPr/>
              <p:nvPr/>
            </p:nvSpPr>
            <p:spPr>
              <a:xfrm>
                <a:off x="7118640" y="348120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075800" y="3384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"/>
            <p:cNvGrpSpPr/>
            <p:nvPr/>
          </p:nvGrpSpPr>
          <p:grpSpPr>
            <a:xfrm>
              <a:off x="5973480" y="3379680"/>
              <a:ext cx="366480" cy="398880"/>
              <a:chOff x="5973480" y="3379680"/>
              <a:chExt cx="366480" cy="398880"/>
            </a:xfrm>
          </p:grpSpPr>
          <p:sp>
            <p:nvSpPr>
              <p:cNvPr id="864" name=""/>
              <p:cNvSpPr/>
              <p:nvPr/>
            </p:nvSpPr>
            <p:spPr>
              <a:xfrm>
                <a:off x="6037560" y="347616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973480" y="337968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"/>
            <p:cNvGrpSpPr/>
            <p:nvPr/>
          </p:nvGrpSpPr>
          <p:grpSpPr>
            <a:xfrm>
              <a:off x="7056720" y="2289240"/>
              <a:ext cx="342360" cy="398880"/>
              <a:chOff x="7056720" y="2289240"/>
              <a:chExt cx="342360" cy="398880"/>
            </a:xfrm>
          </p:grpSpPr>
          <p:sp>
            <p:nvSpPr>
              <p:cNvPr id="867" name=""/>
              <p:cNvSpPr/>
              <p:nvPr/>
            </p:nvSpPr>
            <p:spPr>
              <a:xfrm>
                <a:off x="7109280" y="238572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056720" y="22892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5969520" y="2289240"/>
              <a:ext cx="346680" cy="398880"/>
              <a:chOff x="5969520" y="2289240"/>
              <a:chExt cx="346680" cy="398880"/>
            </a:xfrm>
          </p:grpSpPr>
          <p:sp>
            <p:nvSpPr>
              <p:cNvPr id="870" name=""/>
              <p:cNvSpPr/>
              <p:nvPr/>
            </p:nvSpPr>
            <p:spPr>
              <a:xfrm>
                <a:off x="6023520" y="238572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69520" y="22892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"/>
            <p:cNvGrpSpPr/>
            <p:nvPr/>
          </p:nvGrpSpPr>
          <p:grpSpPr>
            <a:xfrm>
              <a:off x="7989480" y="2841480"/>
              <a:ext cx="313200" cy="398880"/>
              <a:chOff x="7989480" y="2841480"/>
              <a:chExt cx="313200" cy="398880"/>
            </a:xfrm>
          </p:grpSpPr>
          <p:sp>
            <p:nvSpPr>
              <p:cNvPr id="873" name=""/>
              <p:cNvSpPr/>
              <p:nvPr/>
            </p:nvSpPr>
            <p:spPr>
              <a:xfrm>
                <a:off x="8028720" y="293832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989480" y="284148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5544360" y="249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96960" y="2841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05760" y="317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06440" y="298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606000" y="3551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77320" y="2870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749360" y="3289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706520" y="2436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539760" y="2198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982480" y="177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4876920" y="4295880"/>
            <a:ext cx="3809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” 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means minimum cos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def’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E2D-0086-43F8-8D48-314F15D1EC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5-20T12:06:22Z</dcterms:modified>
  <cp:revision>130</cp:revision>
  <dc:subject/>
  <dc:title>Part I: Introduction</dc:title>
</cp:coreProperties>
</file>