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895320" y="6326280"/>
            <a:ext cx="74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5: Ethernet Swit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it-IT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etwork securit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67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Foundation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secur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yptograph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integ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 distribution and certif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curity in pract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 layer: secure e-m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 layer: Internet commerce, SSL, 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layer: IP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ublic Key Cryptograph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456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symmetric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key cryp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s sender, receiver know shared secret 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 how to agree on key in first place (particularly if never “met”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4519440" y="1635120"/>
            <a:ext cx="36561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ublic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key crypt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cally different approach [Diffie-Hellman76, RSA78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, receiver do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are secre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ryption key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known to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 all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yption key private (known only to recei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ublic key cryptograph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32040" y="2420640"/>
            <a:ext cx="3657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gure 7.7 goes 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27200" y="1581120"/>
            <a:ext cx="780408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ublic key encryption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095200" y="2122560"/>
            <a:ext cx="49165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d ( ) and e ( ) such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177280" y="2922480"/>
            <a:ext cx="2728800" cy="731160"/>
            <a:chOff x="2177280" y="2922480"/>
            <a:chExt cx="2728800" cy="731160"/>
          </a:xfrm>
        </p:grpSpPr>
        <p:sp>
          <p:nvSpPr>
            <p:cNvPr id="220" name=""/>
            <p:cNvSpPr/>
            <p:nvPr/>
          </p:nvSpPr>
          <p:spPr>
            <a:xfrm>
              <a:off x="2177280" y="2922480"/>
              <a:ext cx="27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d  (e  (m))  =  m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73880" y="319392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69160" y="317196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996280" y="2401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21720" y="2367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18200" y="200196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89520" y="201312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087640" y="3871800"/>
            <a:ext cx="5468760" cy="1215360"/>
            <a:chOff x="2087640" y="3871800"/>
            <a:chExt cx="5468760" cy="1215360"/>
          </a:xfrm>
        </p:grpSpPr>
        <p:sp>
          <p:nvSpPr>
            <p:cNvPr id="228" name=""/>
            <p:cNvSpPr/>
            <p:nvPr/>
          </p:nvSpPr>
          <p:spPr>
            <a:xfrm>
              <a:off x="2087640" y="3871800"/>
              <a:ext cx="54687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ed public and private key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6080" indent="-226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or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 ( )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nd </a:t>
              </a: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(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74480" y="40258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4200" y="4038480"/>
              <a:ext cx="333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75080" y="46274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4602240"/>
              <a:ext cx="3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07960" y="1547640"/>
            <a:ext cx="55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inter-related requir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468440" y="2336760"/>
            <a:ext cx="552600" cy="533160"/>
            <a:chOff x="1468440" y="2336760"/>
            <a:chExt cx="552600" cy="533160"/>
          </a:xfrm>
        </p:grpSpPr>
        <p:sp>
          <p:nvSpPr>
            <p:cNvPr id="235" name=""/>
            <p:cNvSpPr/>
            <p:nvPr/>
          </p:nvSpPr>
          <p:spPr>
            <a:xfrm>
              <a:off x="1468440" y="2352600"/>
              <a:ext cx="55260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71760" y="2336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490760" y="3841920"/>
            <a:ext cx="552240" cy="533160"/>
            <a:chOff x="1490760" y="3841920"/>
            <a:chExt cx="552240" cy="533160"/>
          </a:xfrm>
        </p:grpSpPr>
        <p:sp>
          <p:nvSpPr>
            <p:cNvPr id="238" name=""/>
            <p:cNvSpPr/>
            <p:nvPr/>
          </p:nvSpPr>
          <p:spPr>
            <a:xfrm>
              <a:off x="1490760" y="3857760"/>
              <a:ext cx="552240" cy="517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93360" y="3841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05160" y="5403960"/>
            <a:ext cx="67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S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ivest, Shamir, Adlema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Choosing key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537120" y="1476360"/>
            <a:ext cx="60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ose two large prime number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, q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.g., 1024 bits 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920" y="2462040"/>
            <a:ext cx="471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put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= pq,  z = (p-1)(q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320" y="3132000"/>
            <a:ext cx="73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os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e&lt;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has no common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z.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“relatively prime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5240" y="41212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ose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h tha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 exactly divisible by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4000" y="4851360"/>
            <a:ext cx="56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,e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y i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,d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SA: Encryption, decryp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564840" y="1500120"/>
            <a:ext cx="62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Given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,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,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s computed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60960" y="2179800"/>
            <a:ext cx="8379720" cy="967680"/>
            <a:chOff x="660960" y="2179800"/>
            <a:chExt cx="8379720" cy="967680"/>
          </a:xfrm>
        </p:grpSpPr>
        <p:sp>
          <p:nvSpPr>
            <p:cNvPr id="250" name=""/>
            <p:cNvSpPr/>
            <p:nvPr/>
          </p:nvSpPr>
          <p:spPr>
            <a:xfrm>
              <a:off x="660960" y="2179800"/>
              <a:ext cx="549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1.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o encrypt bit pattern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, comp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917640" y="2571840"/>
              <a:ext cx="2303280" cy="575640"/>
              <a:chOff x="917640" y="2571840"/>
              <a:chExt cx="2303280" cy="575640"/>
            </a:xfrm>
          </p:grpSpPr>
          <p:sp>
            <p:nvSpPr>
              <p:cNvPr id="252" name=""/>
              <p:cNvSpPr/>
              <p:nvPr/>
            </p:nvSpPr>
            <p:spPr>
              <a:xfrm>
                <a:off x="917640" y="2687760"/>
                <a:ext cx="23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Comic Sans MS"/>
                  </a:rPr>
                  <a:t>c = m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mod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Comic Sans MS"/>
                  </a:rPr>
                  <a:t>  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77320" y="2571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106800" y="2502000"/>
              <a:ext cx="5933880" cy="632880"/>
              <a:chOff x="3106800" y="2502000"/>
              <a:chExt cx="5933880" cy="632880"/>
            </a:xfrm>
          </p:grpSpPr>
          <p:sp>
            <p:nvSpPr>
              <p:cNvPr id="255" name=""/>
              <p:cNvSpPr/>
              <p:nvPr/>
            </p:nvSpPr>
            <p:spPr>
              <a:xfrm>
                <a:off x="3106800" y="2675160"/>
                <a:ext cx="593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(i.e., remainder wh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  is divided by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36440" y="250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"/>
          <p:cNvSpPr/>
          <p:nvPr/>
        </p:nvSpPr>
        <p:spPr>
          <a:xfrm>
            <a:off x="727920" y="344952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decrypt received bit pattern,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mp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7640" y="3841920"/>
            <a:ext cx="2303280" cy="575280"/>
            <a:chOff x="917640" y="3841920"/>
            <a:chExt cx="2303280" cy="575280"/>
          </a:xfrm>
        </p:grpSpPr>
        <p:sp>
          <p:nvSpPr>
            <p:cNvPr id="259" name=""/>
            <p:cNvSpPr/>
            <p:nvPr/>
          </p:nvSpPr>
          <p:spPr>
            <a:xfrm>
              <a:off x="917640" y="395748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omic Sans MS"/>
                </a:rPr>
                <a:t>m = c   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mod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Comic Sans MS"/>
                </a:rPr>
                <a:t> 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65080" y="3841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096360" y="393372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.e., remainder whe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is divided by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94240" y="37958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98440" y="4786200"/>
            <a:ext cx="6256440" cy="1128960"/>
            <a:chOff x="1198440" y="4786200"/>
            <a:chExt cx="6256440" cy="1128960"/>
          </a:xfrm>
        </p:grpSpPr>
        <p:grpSp>
          <p:nvGrpSpPr>
            <p:cNvPr id="264" name=""/>
            <p:cNvGrpSpPr/>
            <p:nvPr/>
          </p:nvGrpSpPr>
          <p:grpSpPr>
            <a:xfrm>
              <a:off x="2965320" y="4923000"/>
              <a:ext cx="3935160" cy="621360"/>
              <a:chOff x="2965320" y="4923000"/>
              <a:chExt cx="3935160" cy="621360"/>
            </a:xfrm>
          </p:grpSpPr>
          <p:sp>
            <p:nvSpPr>
              <p:cNvPr id="265" name=""/>
              <p:cNvSpPr/>
              <p:nvPr/>
            </p:nvSpPr>
            <p:spPr>
              <a:xfrm>
                <a:off x="2965320" y="5082840"/>
                <a:ext cx="27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m  =  (m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od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 n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63040" y="4955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08440" y="5084640"/>
                <a:ext cx="129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od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  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79560" y="4923000"/>
                <a:ext cx="35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479600" y="4910040"/>
              <a:ext cx="15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Mag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happen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98440" y="4786200"/>
              <a:ext cx="6256440" cy="112896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SA example: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533880" y="1300320"/>
            <a:ext cx="58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b choose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=5, q=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The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n=35, z=2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94720" y="1724040"/>
            <a:ext cx="50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=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s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, 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latively prim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=2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o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d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xactly divisible by 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4520" y="33354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79480" y="331164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36960" y="3321000"/>
            <a:ext cx="4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0680" y="3179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449040" y="3191040"/>
            <a:ext cx="2107080" cy="588240"/>
            <a:chOff x="6449040" y="3191040"/>
            <a:chExt cx="2107080" cy="588240"/>
          </a:xfrm>
        </p:grpSpPr>
        <p:sp>
          <p:nvSpPr>
            <p:cNvPr id="279" name=""/>
            <p:cNvSpPr/>
            <p:nvPr/>
          </p:nvSpPr>
          <p:spPr>
            <a:xfrm>
              <a:off x="6449040" y="331956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 = m  mod 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07920" y="3191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69160" y="380988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15400" y="3832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90200" y="3824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24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10960" y="3822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7680" y="47322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798160" y="4657680"/>
            <a:ext cx="2107080" cy="588240"/>
            <a:chOff x="5798160" y="4657680"/>
            <a:chExt cx="2107080" cy="588240"/>
          </a:xfrm>
        </p:grpSpPr>
        <p:sp>
          <p:nvSpPr>
            <p:cNvPr id="287" name=""/>
            <p:cNvSpPr/>
            <p:nvPr/>
          </p:nvSpPr>
          <p:spPr>
            <a:xfrm>
              <a:off x="5798160" y="478620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m = c  mod  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49480" y="46576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981800" y="5159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52120" y="5268960"/>
            <a:ext cx="325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48196857210675091509141182522307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82600" y="5172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67720" y="4587840"/>
            <a:ext cx="509400" cy="613800"/>
            <a:chOff x="3267720" y="4587840"/>
            <a:chExt cx="509400" cy="613800"/>
          </a:xfrm>
        </p:grpSpPr>
        <p:sp>
          <p:nvSpPr>
            <p:cNvPr id="293" name=""/>
            <p:cNvSpPr/>
            <p:nvPr/>
          </p:nvSpPr>
          <p:spPr>
            <a:xfrm>
              <a:off x="3267720" y="47419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08840" y="458784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7909200" y="476892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3840" y="524340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2840" y="36036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cry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0800" y="4896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cry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31880" y="3218040"/>
            <a:ext cx="7213680" cy="3263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ob wants Alice to “prove” her identity to hi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566640" y="26542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 ap1.0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ays “I am Alic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978280" y="4836960"/>
            <a:ext cx="561960" cy="944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: another tr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546120" y="145260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 ap2.0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ays “I am Alice” and sends h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along to “prove”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95160" y="2620800"/>
            <a:ext cx="7988400" cy="3453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V="1">
            <a:off x="1724040" y="4218120"/>
            <a:ext cx="1801800" cy="1017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: another tr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937800" y="1452600"/>
            <a:ext cx="75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 ap3.0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ays “I am Alice” and sends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password to “prove”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988920" y="2517840"/>
            <a:ext cx="7169400" cy="35654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 flipV="1">
            <a:off x="3390840" y="3862440"/>
            <a:ext cx="399960" cy="1077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659040" y="3909960"/>
            <a:ext cx="292320" cy="1060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64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: yet another tr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503640" y="1393920"/>
            <a:ext cx="758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 ap3.1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says “I am Alice” and sends 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cryp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cret password to “prove”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7200" y="2424240"/>
            <a:ext cx="7995960" cy="39765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576840" y="39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461600" y="2984400"/>
            <a:ext cx="2174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 am A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ncrypt(passwo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06680" y="3832200"/>
            <a:ext cx="444600" cy="123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589200" y="3927600"/>
            <a:ext cx="454320" cy="1149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Friends and enemies: Alice, Bob, Trudy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79400" y="451620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ll-known in network security wor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, Alice (lovers!) want to communicate “securely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dy, the “intruder” may intercept, delete, add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103200" y="279864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.1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6280" y="1332000"/>
            <a:ext cx="5600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: yet another tr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67640" y="1370160"/>
            <a:ext cx="40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playback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44560" y="385920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.11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160" y="1873080"/>
            <a:ext cx="68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nce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(R) used only once in a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680" y="2390760"/>
            <a:ext cx="85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p4.0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prove Alice “live”, Bob sends Alic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R.  A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return R, encrypted with shared secre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363680" y="3465360"/>
            <a:ext cx="59007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44560" y="385920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.12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: ap5.0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44680" y="145728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4.0 requires shared symmetric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: how do Bob, Alice agree on 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we authenticate using public key techniqu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p5.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 nonce, public key cryptograp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670040" y="3502080"/>
            <a:ext cx="5157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57160" y="31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.14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ap5.0: security hole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57280" y="129204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 (woman) in the middle attac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udy poses as Alice (to Bob) and as Bob (to Ali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566720" y="2268360"/>
            <a:ext cx="6483600" cy="4165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86880" y="5943600"/>
            <a:ext cx="29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“certified” pub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s (more later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917880" y="4184640"/>
            <a:ext cx="5043600" cy="20606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gital Signatures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9720" y="136512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graphic technique analogous to hand-written signatur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(Bob) digitally signs document,  establishing he is document owner/creato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Verifiable, non forgetab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ipient (Alice) can verify that Bob, and no one else, signed docu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84520" y="14364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imple digital signature for message 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 encrypts m with his public key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creating signed message,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b sends m and 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) to Ali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25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Digital Signatures (more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5600" y="11826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se Alice receives msg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digital signatu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verifie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igned by Bob by applying Bob’s public ke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) th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heck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) ) = 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) ) =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whoever sign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ust have used Bob’s private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464000" y="1209600"/>
            <a:ext cx="438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ice thus verifies tha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 sign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one else sign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b signed m and not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n-repudia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 can tak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signatu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(m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ourt and prove that Bob sign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Message Diges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56920" y="1837800"/>
            <a:ext cx="391644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ationally expensive to public-key-encrypt long messag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ixed-length,easy to compute digital signature, “fingerprint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 hash function H 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get fixed size message digest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(m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3360" y="2104560"/>
            <a:ext cx="3810240" cy="34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ash function propertie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ny-to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s fixed-size msg digest (fingerpri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message digest x, computationally infeasible to find m such that x = H(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ationally infeasible to find any two messages m and m’ such that H(m) = H(m’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751280" y="231840"/>
            <a:ext cx="369576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Digital signature = Signed message digest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20560" y="1303200"/>
            <a:ext cx="381024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ob sends digitally signed messag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424040" y="1377720"/>
            <a:ext cx="38098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lice verifies signature and integrity of digitally signed messag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515880" y="2173320"/>
            <a:ext cx="3649680" cy="39733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4600440" y="2433600"/>
            <a:ext cx="38577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Hash Function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6480" y="148248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rnet checksum would make a poor message dige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easy to find two messages with same checksu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190760" y="1423800"/>
            <a:ext cx="458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MD5 hash function widely used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s 128-bit message digest in 4-step proces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bitrary 128-bit string x, appears difficult to construct msg m whose MD5 hash is equal to 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HA-1 is also us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 stand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60-bit message dig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rusted Intermediarie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38098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do two entities establish shared secret key over networ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sted key distribution center (KDC) acting as intermediary between ent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365360" y="1339560"/>
            <a:ext cx="39402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Alice obtains Bob’s public key (from web site, e-mail, diskette), how does she know it is Bob’s public key, not Trudy’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sted certification authority (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Key Distribution Center (KDC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79080" y="1241280"/>
            <a:ext cx="395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,Bob need shared symmetric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D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rver shares different secret key with each registered us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ice, Bob know own symmetric keys,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A-K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KD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for communicating with KD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4546440" y="3809880"/>
            <a:ext cx="459756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ce communicates with KDC, gets session key R1, and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KD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ce sends Bo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B-KD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,R1), Bob extracts 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ice, Bob now share the symmetric key R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738680" y="1268280"/>
            <a:ext cx="37036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What is network security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cre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ly sender, intended receiver should “understand” msg cont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encrypts ms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decrypts ms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uthent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, receiver want to confirm identity of each oth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ssage Integ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, receiver want to ensure message not altered (in transit, or afterwards) without det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Certification Authorities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47560" y="1349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rtification authority (CA) binds public key to particular entity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Entity (person, router, etc.) can register its public key with 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ty provides “proof of identity” to C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 creates certificate binding entity to public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rtificate digitally signed by 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2400" y="4022280"/>
            <a:ext cx="4257720" cy="23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hen Alice wants Bob’s public ke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ets Bob’s certificate (Bob or elsewher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pply CA’s public key to Bob’s certificate, get Bob’s public 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329080" y="614520"/>
            <a:ext cx="3311640" cy="33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e-mail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20840" y="4513320"/>
            <a:ext cx="68086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es random symmetric private key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s message wi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encrypts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Bob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s both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) and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37920" y="1327320"/>
            <a:ext cx="80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send secret e-mail message, m, to B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69920" y="1952640"/>
            <a:ext cx="70135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ecure e-mail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517680" y="1359000"/>
            <a:ext cx="74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sender authentication message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040" y="5183280"/>
            <a:ext cx="83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digitally signs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s both message (in the clear) and digital sign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00120" y="2335320"/>
            <a:ext cx="8190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Secure e-mail (continued)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40000" y="1314360"/>
            <a:ext cx="81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ice wants to provide secrecy, sender authentic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message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74800" y="5508720"/>
            <a:ext cx="75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ice uses both her private key, Bob’s public k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70120" y="2259000"/>
            <a:ext cx="75261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retty good privacy (PGP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160" y="1898280"/>
            <a:ext cx="380988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e-mail encryption scheme, a de-facto standar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symmetric key cryptography, public key cryptography, hash function, and digital signature as describ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ecrecy, sender authentication, integr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406760" y="2134800"/>
            <a:ext cx="4205520" cy="3605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BEGIN PGP SIGNED MESSAG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h: SHA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ob:My husband is out of town tonight.Passionately yours, Ali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BEGIN PGP SIGNATUR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sion: PGP 5.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set: noconv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yhHJRHhGJGhgg/12EpJ+lo8gE4vB3mqJhFEvZP9t6n7G6m5Gw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END PGP SIGNATURE---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4482000" y="1647720"/>
            <a:ext cx="29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GP signed mess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Secure sockets layer (SSL)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18760" y="16747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GP provides security for a specific network ap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 works at transport layer. Provides security to any TCP-based app using SSL servic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: used between WWW browsers, servers for I-commerce (shttp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SL security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 authent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encryp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authentication (option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495680" y="1339560"/>
            <a:ext cx="38102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er authentica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SL-enabled browser includes public keys for trusted CA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wser requests server certificate, issued by trusted CA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rowser uses CA’s public key to extract server’s public key from certificat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Visit your browser’s security menu to see its trusted C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5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SSL (continued)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49360" y="1158840"/>
            <a:ext cx="3892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crypted SSL sess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generates symmetric session key, encrypts it with server’s public key, sends encrypted key to serv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ing its private key, server decrypts session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, server agree that future msgs will be encryp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data sent into TCP socket (by client or server)  encrypted with session ke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73240" y="1244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SL: basis of IETF Transport Layer Security (TL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SL can be used for non-Web applications, e.g., IMA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ent authentication can be done with client certificat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Secure electronic transactions (SET)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8240" y="13777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esigned for payment-card transactions over Int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rovides security services among 3 player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’s ba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must have certific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T specifies legal meanings of certifica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ortionment of liabilities for transa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54000" y="138888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ustomer’s card number passed to merchant’s bank without merchant ever seeing number in plain tex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vents merchants from stealing, leaking payment card numb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ree software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wser wal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hant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quirer gate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e text for description of SET transac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psec: Network Layer Securit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4040" y="1376280"/>
            <a:ext cx="408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-layer secrecy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nding host encrypts the data in IP datagr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and UDP segments; ICMP and SNMP messag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-layer authentic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stination host can authenticate source IP addr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wo principle protocol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uthentication header (AH)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capsulation security payload (ESP)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7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or both AH and ESP, source, destination handshak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network-layer logical channel called a service agreement (S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ach SA unidirectiona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niquely determined by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curity protocol (AH or ES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IP addr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-bit connection 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ESP Protocol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82320"/>
            <a:ext cx="44100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ecrecy, host authentication, data integr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, ESP trailer encryp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header field is in ESP trail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20840" y="1352520"/>
            <a:ext cx="380988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P authentication field is similar to AH authentication fie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= 50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201680" y="4205160"/>
            <a:ext cx="725976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ernet security threa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4800" y="12459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acket sniff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adcast med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iscuous NIC reads all packets passing 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ead all unencrypted data (e.g. password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: C sniffs B’s packe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40560" y="5361120"/>
            <a:ext cx="668160" cy="52992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251080" y="3930480"/>
            <a:ext cx="383760" cy="723240"/>
            <a:chOff x="2251080" y="3930480"/>
            <a:chExt cx="383760" cy="723240"/>
          </a:xfrm>
        </p:grpSpPr>
        <p:sp>
          <p:nvSpPr>
            <p:cNvPr id="51" name=""/>
            <p:cNvSpPr/>
            <p:nvPr/>
          </p:nvSpPr>
          <p:spPr>
            <a:xfrm>
              <a:off x="2251080" y="448668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45480" y="3935160"/>
              <a:ext cx="176400" cy="55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53240" y="4092840"/>
              <a:ext cx="243000" cy="55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51080" y="393048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34840" y="394200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496240" y="4486680"/>
              <a:ext cx="1378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3840" y="4165920"/>
              <a:ext cx="161280" cy="320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07240" y="4262760"/>
              <a:ext cx="12240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205080" y="5421240"/>
            <a:ext cx="642600" cy="328320"/>
            <a:chOff x="3205080" y="5421240"/>
            <a:chExt cx="642600" cy="328320"/>
          </a:xfrm>
        </p:grpSpPr>
        <p:sp>
          <p:nvSpPr>
            <p:cNvPr id="60" name=""/>
            <p:cNvSpPr/>
            <p:nvPr/>
          </p:nvSpPr>
          <p:spPr>
            <a:xfrm>
              <a:off x="3210120" y="5567760"/>
              <a:ext cx="637560" cy="18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10120" y="5552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47680" y="5552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10120" y="5552280"/>
              <a:ext cx="631800" cy="11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5080" y="5421240"/>
              <a:ext cx="637200" cy="212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358440" y="5467680"/>
              <a:ext cx="315360" cy="124200"/>
              <a:chOff x="3358440" y="5467680"/>
              <a:chExt cx="315360" cy="12420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3358440" y="546768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74800" y="559188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462120" y="547056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358440" y="5466240"/>
              <a:ext cx="315360" cy="124200"/>
              <a:chOff x="3358440" y="5466240"/>
              <a:chExt cx="315360" cy="124200"/>
            </a:xfrm>
          </p:grpSpPr>
          <p:sp>
            <p:nvSpPr>
              <p:cNvPr id="70" name=""/>
              <p:cNvSpPr/>
              <p:nvPr/>
            </p:nvSpPr>
            <p:spPr>
              <a:xfrm>
                <a:off x="3358440" y="558792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74800" y="546624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3462120" y="546624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82960" y="3992400"/>
            <a:ext cx="668520" cy="530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351160" y="4656240"/>
            <a:ext cx="4587840" cy="728640"/>
          </a:xfrm>
          <a:custGeom>
            <a:avLst/>
            <a:gdLst/>
            <a:ahLst/>
            <a:rect l="l" t="t" r="r" b="b"/>
            <a:pathLst>
              <a:path w="2620" h="459">
                <a:moveTo>
                  <a:pt x="2" y="0"/>
                </a:moveTo>
                <a:lnTo>
                  <a:pt x="0" y="253"/>
                </a:lnTo>
                <a:lnTo>
                  <a:pt x="2620" y="253"/>
                </a:lnTo>
                <a:lnTo>
                  <a:pt x="2620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4525920"/>
            <a:ext cx="4680" cy="522360"/>
          </a:xfrm>
          <a:custGeom>
            <a:avLst/>
            <a:gdLst/>
            <a:ahLst/>
            <a:rect l="l" t="t" r="r" b="b"/>
            <a:pathLst>
              <a:path w="3" h="329">
                <a:moveTo>
                  <a:pt x="0" y="329"/>
                </a:moveTo>
                <a:lnTo>
                  <a:pt x="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525840" y="5047920"/>
            <a:ext cx="0" cy="3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44920" y="5758920"/>
            <a:ext cx="0" cy="2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13680" y="3944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82440" y="5408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0640" y="3922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179960" y="5175360"/>
            <a:ext cx="2295360" cy="337320"/>
            <a:chOff x="4179960" y="5175360"/>
            <a:chExt cx="2295360" cy="337320"/>
          </a:xfrm>
        </p:grpSpPr>
        <p:sp>
          <p:nvSpPr>
            <p:cNvPr id="82" name=""/>
            <p:cNvSpPr/>
            <p:nvPr/>
          </p:nvSpPr>
          <p:spPr>
            <a:xfrm>
              <a:off x="4251240" y="5213520"/>
              <a:ext cx="21528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61000" y="52232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98920" y="522792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13480" y="522792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79960" y="5175360"/>
              <a:ext cx="22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c:B dest:A     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148280" y="5130720"/>
            <a:ext cx="2635200" cy="241560"/>
          </a:xfrm>
          <a:custGeom>
            <a:avLst/>
            <a:gdLst/>
            <a:ahLst/>
            <a:rect l="l" t="t" r="r" b="b"/>
            <a:pathLst>
              <a:path w="1660" h="152">
                <a:moveTo>
                  <a:pt x="1660" y="152"/>
                </a:moveTo>
                <a:lnTo>
                  <a:pt x="1660" y="0"/>
                </a:lnTo>
                <a:lnTo>
                  <a:pt x="0" y="4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291280" y="4527360"/>
            <a:ext cx="0" cy="60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</a:rPr>
              <a:t>Authentication Header (AH) Protocol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5240" y="1318680"/>
            <a:ext cx="3809880" cy="35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vides source host authentication, data integrity, but not secrec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H header inserted between IP header and IP data fie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field = 5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mediate routers process datagrams as usu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22680" y="1185840"/>
            <a:ext cx="41976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H header includ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on identifi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hentication data: signed message digest, calculated over original IP datagram, providing source authentication, data integri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header field: specifies type of data (TCP, UDP, ICMP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117440" y="4646520"/>
            <a:ext cx="705168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Network Security (summary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140004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asic techniques…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(symmetric and publ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 integ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. used in many different security scena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ema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transport (SS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ernet security threa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4800" y="12459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IP Spoof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generate “raw” IP packets directly from application, putting any value into IP source address fiel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can’t tell if source is spoof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: C pretends to be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45320" y="5549760"/>
            <a:ext cx="66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355840" y="4119480"/>
            <a:ext cx="383760" cy="723240"/>
            <a:chOff x="2355840" y="4119480"/>
            <a:chExt cx="383760" cy="723240"/>
          </a:xfrm>
        </p:grpSpPr>
        <p:sp>
          <p:nvSpPr>
            <p:cNvPr id="93" name=""/>
            <p:cNvSpPr/>
            <p:nvPr/>
          </p:nvSpPr>
          <p:spPr>
            <a:xfrm>
              <a:off x="2355840" y="467568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50240" y="4124160"/>
              <a:ext cx="176400" cy="55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58000" y="4281840"/>
              <a:ext cx="243000" cy="55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55840" y="411948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39600" y="413100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601000" y="4675680"/>
              <a:ext cx="1378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88600" y="4354920"/>
              <a:ext cx="161280" cy="320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12000" y="4451760"/>
              <a:ext cx="12240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309840" y="5610240"/>
            <a:ext cx="642600" cy="328320"/>
            <a:chOff x="3309840" y="5610240"/>
            <a:chExt cx="642600" cy="328320"/>
          </a:xfrm>
        </p:grpSpPr>
        <p:sp>
          <p:nvSpPr>
            <p:cNvPr id="102" name=""/>
            <p:cNvSpPr/>
            <p:nvPr/>
          </p:nvSpPr>
          <p:spPr>
            <a:xfrm>
              <a:off x="3314880" y="5756760"/>
              <a:ext cx="637560" cy="181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14880" y="5741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52440" y="574128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5741280"/>
              <a:ext cx="631800" cy="111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09840" y="5610240"/>
              <a:ext cx="637200" cy="2120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3463200" y="5656680"/>
              <a:ext cx="315360" cy="124200"/>
              <a:chOff x="3463200" y="5656680"/>
              <a:chExt cx="315360" cy="124200"/>
            </a:xfrm>
          </p:grpSpPr>
          <p:sp>
            <p:nvSpPr>
              <p:cNvPr id="108" name=""/>
              <p:cNvSpPr/>
              <p:nvPr/>
            </p:nvSpPr>
            <p:spPr>
              <a:xfrm flipV="1">
                <a:off x="3463200" y="565668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9560" y="578088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66880" y="565956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63200" y="5655240"/>
              <a:ext cx="315360" cy="124200"/>
              <a:chOff x="3463200" y="5655240"/>
              <a:chExt cx="315360" cy="124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463200" y="577692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9560" y="565524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566880" y="565524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88080" y="4181400"/>
            <a:ext cx="668160" cy="53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55920" y="4844880"/>
            <a:ext cx="4587840" cy="729000"/>
          </a:xfrm>
          <a:custGeom>
            <a:avLst/>
            <a:gdLst/>
            <a:ahLst/>
            <a:rect l="l" t="t" r="r" b="b"/>
            <a:pathLst>
              <a:path w="2620" h="459">
                <a:moveTo>
                  <a:pt x="2" y="0"/>
                </a:moveTo>
                <a:lnTo>
                  <a:pt x="0" y="253"/>
                </a:lnTo>
                <a:lnTo>
                  <a:pt x="2620" y="253"/>
                </a:lnTo>
                <a:lnTo>
                  <a:pt x="2620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8040" y="4714920"/>
            <a:ext cx="4680" cy="522360"/>
          </a:xfrm>
          <a:custGeom>
            <a:avLst/>
            <a:gdLst/>
            <a:ahLst/>
            <a:rect l="l" t="t" r="r" b="b"/>
            <a:pathLst>
              <a:path w="3" h="329">
                <a:moveTo>
                  <a:pt x="0" y="329"/>
                </a:moveTo>
                <a:lnTo>
                  <a:pt x="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30600" y="5237280"/>
            <a:ext cx="0" cy="37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649680" y="5947920"/>
            <a:ext cx="0" cy="2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18440" y="413388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87200" y="559764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5400" y="41115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5280" y="4692600"/>
            <a:ext cx="2967120" cy="704880"/>
          </a:xfrm>
          <a:custGeom>
            <a:avLst/>
            <a:gdLst/>
            <a:ahLst/>
            <a:rect l="l" t="t" r="r" b="b"/>
            <a:pathLst>
              <a:path w="1869" h="444">
                <a:moveTo>
                  <a:pt x="1869" y="0"/>
                </a:moveTo>
                <a:lnTo>
                  <a:pt x="1869" y="444"/>
                </a:lnTo>
                <a:lnTo>
                  <a:pt x="0" y="444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932200" y="5175360"/>
            <a:ext cx="2295360" cy="337320"/>
            <a:chOff x="2932200" y="5175360"/>
            <a:chExt cx="2295360" cy="337320"/>
          </a:xfrm>
        </p:grpSpPr>
        <p:sp>
          <p:nvSpPr>
            <p:cNvPr id="125" name=""/>
            <p:cNvSpPr/>
            <p:nvPr/>
          </p:nvSpPr>
          <p:spPr>
            <a:xfrm>
              <a:off x="3003480" y="5213520"/>
              <a:ext cx="21528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13240" y="52232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51160" y="522792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65720" y="522792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32200" y="5175360"/>
              <a:ext cx="22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rc: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est:A     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ernet security threa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4800" y="12459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enial of service (DOS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od of maliciously generated packets “swamp” recei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tributed DOS (DDOS): multiple coordinated sources swamp receiv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, C and remote host SYN-attack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45320" y="5432400"/>
            <a:ext cx="668160" cy="5302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2355840" y="4002120"/>
            <a:ext cx="383760" cy="723240"/>
            <a:chOff x="2355840" y="4002120"/>
            <a:chExt cx="383760" cy="723240"/>
          </a:xfrm>
        </p:grpSpPr>
        <p:sp>
          <p:nvSpPr>
            <p:cNvPr id="134" name=""/>
            <p:cNvSpPr/>
            <p:nvPr/>
          </p:nvSpPr>
          <p:spPr>
            <a:xfrm>
              <a:off x="2355840" y="455832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4006800"/>
              <a:ext cx="176400" cy="55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58000" y="4164480"/>
              <a:ext cx="243000" cy="5562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5840" y="4002120"/>
              <a:ext cx="383760" cy="167040"/>
            </a:xfrm>
            <a:prstGeom prst="parallelogram">
              <a:avLst>
                <a:gd name="adj" fmla="val 8850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39600" y="4013640"/>
              <a:ext cx="0" cy="54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601000" y="4558320"/>
              <a:ext cx="137880" cy="16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88600" y="4237560"/>
              <a:ext cx="161280" cy="320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12000" y="4334400"/>
              <a:ext cx="122400" cy="11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09840" y="5492880"/>
            <a:ext cx="642600" cy="327600"/>
            <a:chOff x="3309840" y="5492880"/>
            <a:chExt cx="642600" cy="327600"/>
          </a:xfrm>
        </p:grpSpPr>
        <p:sp>
          <p:nvSpPr>
            <p:cNvPr id="143" name=""/>
            <p:cNvSpPr/>
            <p:nvPr/>
          </p:nvSpPr>
          <p:spPr>
            <a:xfrm>
              <a:off x="3314880" y="5639040"/>
              <a:ext cx="637560" cy="181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14880" y="562392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2440" y="562392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14880" y="5623920"/>
              <a:ext cx="631800" cy="110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09840" y="5492880"/>
              <a:ext cx="637200" cy="211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463200" y="5539320"/>
              <a:ext cx="315360" cy="124200"/>
              <a:chOff x="3463200" y="5539320"/>
              <a:chExt cx="315360" cy="12420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3463200" y="553932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79560" y="566352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66880" y="554220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463200" y="5537880"/>
              <a:ext cx="315360" cy="124200"/>
              <a:chOff x="3463200" y="5537880"/>
              <a:chExt cx="315360" cy="124200"/>
            </a:xfrm>
          </p:grpSpPr>
          <p:sp>
            <p:nvSpPr>
              <p:cNvPr id="153" name=""/>
              <p:cNvSpPr/>
              <p:nvPr/>
            </p:nvSpPr>
            <p:spPr>
              <a:xfrm>
                <a:off x="3463200" y="5659560"/>
                <a:ext cx="11232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79560" y="5537880"/>
                <a:ext cx="9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566880" y="5537880"/>
                <a:ext cx="117000" cy="12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88080" y="4064040"/>
            <a:ext cx="668160" cy="530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55920" y="4727520"/>
            <a:ext cx="4587840" cy="728640"/>
          </a:xfrm>
          <a:custGeom>
            <a:avLst/>
            <a:gdLst/>
            <a:ahLst/>
            <a:rect l="l" t="t" r="r" b="b"/>
            <a:pathLst>
              <a:path w="2620" h="459">
                <a:moveTo>
                  <a:pt x="2" y="0"/>
                </a:moveTo>
                <a:lnTo>
                  <a:pt x="0" y="253"/>
                </a:lnTo>
                <a:lnTo>
                  <a:pt x="2620" y="253"/>
                </a:lnTo>
                <a:lnTo>
                  <a:pt x="2620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88040" y="4597560"/>
            <a:ext cx="4680" cy="522000"/>
          </a:xfrm>
          <a:custGeom>
            <a:avLst/>
            <a:gdLst/>
            <a:ahLst/>
            <a:rect l="l" t="t" r="r" b="b"/>
            <a:pathLst>
              <a:path w="3" h="329">
                <a:moveTo>
                  <a:pt x="0" y="329"/>
                </a:moveTo>
                <a:lnTo>
                  <a:pt x="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630600" y="5119200"/>
            <a:ext cx="0" cy="3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649680" y="583092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8440" y="40165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87200" y="54799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95400" y="39942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25600" y="4575240"/>
            <a:ext cx="3106800" cy="704880"/>
          </a:xfrm>
          <a:custGeom>
            <a:avLst/>
            <a:gdLst/>
            <a:ahLst/>
            <a:rect l="l" t="t" r="r" b="b"/>
            <a:pathLst>
              <a:path w="1957" h="444">
                <a:moveTo>
                  <a:pt x="1957" y="0"/>
                </a:moveTo>
                <a:lnTo>
                  <a:pt x="1957" y="444"/>
                </a:lnTo>
                <a:lnTo>
                  <a:pt x="0" y="435"/>
                </a:lnTo>
                <a:lnTo>
                  <a:pt x="0" y="12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51600" y="4643280"/>
            <a:ext cx="652320" cy="337320"/>
            <a:chOff x="5151600" y="4643280"/>
            <a:chExt cx="652320" cy="337320"/>
          </a:xfrm>
        </p:grpSpPr>
        <p:sp>
          <p:nvSpPr>
            <p:cNvPr id="166" name=""/>
            <p:cNvSpPr/>
            <p:nvPr/>
          </p:nvSpPr>
          <p:spPr>
            <a:xfrm>
              <a:off x="5199120" y="4671720"/>
              <a:ext cx="5475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51600" y="464328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746600" y="5143680"/>
            <a:ext cx="652320" cy="337320"/>
            <a:chOff x="4746600" y="5143680"/>
            <a:chExt cx="652320" cy="337320"/>
          </a:xfrm>
        </p:grpSpPr>
        <p:sp>
          <p:nvSpPr>
            <p:cNvPr id="169" name=""/>
            <p:cNvSpPr/>
            <p:nvPr/>
          </p:nvSpPr>
          <p:spPr>
            <a:xfrm>
              <a:off x="4794120" y="5171760"/>
              <a:ext cx="547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46600" y="514368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855960" y="5143680"/>
            <a:ext cx="652320" cy="337320"/>
            <a:chOff x="3855960" y="5143680"/>
            <a:chExt cx="652320" cy="337320"/>
          </a:xfrm>
        </p:grpSpPr>
        <p:sp>
          <p:nvSpPr>
            <p:cNvPr id="172" name=""/>
            <p:cNvSpPr/>
            <p:nvPr/>
          </p:nvSpPr>
          <p:spPr>
            <a:xfrm>
              <a:off x="3903480" y="5171760"/>
              <a:ext cx="547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5960" y="514368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965320" y="5143680"/>
            <a:ext cx="652320" cy="337320"/>
            <a:chOff x="2965320" y="5143680"/>
            <a:chExt cx="652320" cy="337320"/>
          </a:xfrm>
        </p:grpSpPr>
        <p:sp>
          <p:nvSpPr>
            <p:cNvPr id="175" name=""/>
            <p:cNvSpPr/>
            <p:nvPr/>
          </p:nvSpPr>
          <p:spPr>
            <a:xfrm>
              <a:off x="3012840" y="5171760"/>
              <a:ext cx="54756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5320" y="514368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535120" y="4784760"/>
            <a:ext cx="1271880" cy="1838160"/>
          </a:xfrm>
          <a:custGeom>
            <a:avLst/>
            <a:gdLst/>
            <a:ahLst/>
            <a:rect l="l" t="t" r="r" b="b"/>
            <a:pathLst>
              <a:path w="801" h="1158">
                <a:moveTo>
                  <a:pt x="801" y="1158"/>
                </a:moveTo>
                <a:lnTo>
                  <a:pt x="798" y="165"/>
                </a:lnTo>
                <a:lnTo>
                  <a:pt x="3" y="16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675240" y="6215040"/>
            <a:ext cx="652320" cy="337320"/>
            <a:chOff x="3675240" y="6215040"/>
            <a:chExt cx="652320" cy="337320"/>
          </a:xfrm>
        </p:grpSpPr>
        <p:sp>
          <p:nvSpPr>
            <p:cNvPr id="179" name=""/>
            <p:cNvSpPr/>
            <p:nvPr/>
          </p:nvSpPr>
          <p:spPr>
            <a:xfrm>
              <a:off x="3722760" y="6243480"/>
              <a:ext cx="5475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5240" y="621504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660840" y="5896080"/>
            <a:ext cx="652320" cy="337320"/>
            <a:chOff x="3660840" y="5896080"/>
            <a:chExt cx="652320" cy="337320"/>
          </a:xfrm>
        </p:grpSpPr>
        <p:sp>
          <p:nvSpPr>
            <p:cNvPr id="182" name=""/>
            <p:cNvSpPr/>
            <p:nvPr/>
          </p:nvSpPr>
          <p:spPr>
            <a:xfrm>
              <a:off x="3708360" y="5924520"/>
              <a:ext cx="5475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0840" y="589608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670120" y="4767120"/>
            <a:ext cx="652320" cy="337320"/>
            <a:chOff x="2670120" y="4767120"/>
            <a:chExt cx="652320" cy="337320"/>
          </a:xfrm>
        </p:grpSpPr>
        <p:sp>
          <p:nvSpPr>
            <p:cNvPr id="185" name=""/>
            <p:cNvSpPr/>
            <p:nvPr/>
          </p:nvSpPr>
          <p:spPr>
            <a:xfrm>
              <a:off x="2717640" y="4795560"/>
              <a:ext cx="547560" cy="27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70120" y="4767120"/>
              <a:ext cx="65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Y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he language of cryptograph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200" y="5116680"/>
            <a:ext cx="82184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ymmetric 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rypto: sender, receiver keys identica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ublic-ke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rypto: encrypt ke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decrypt key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ecret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2984040" y="255276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.3 go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63840" y="1496880"/>
            <a:ext cx="6138720" cy="3113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97440" y="144144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34440" y="1452600"/>
            <a:ext cx="1229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14560" y="1909800"/>
            <a:ext cx="1390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367080" y="1405080"/>
            <a:ext cx="509040" cy="609840"/>
            <a:chOff x="3367080" y="1405080"/>
            <a:chExt cx="509040" cy="609840"/>
          </a:xfrm>
        </p:grpSpPr>
        <p:sp>
          <p:nvSpPr>
            <p:cNvPr id="195" name=""/>
            <p:cNvSpPr/>
            <p:nvPr/>
          </p:nvSpPr>
          <p:spPr>
            <a:xfrm>
              <a:off x="3367080" y="140508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32320" y="16160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494320" y="1380960"/>
            <a:ext cx="510840" cy="609840"/>
            <a:chOff x="5494320" y="1380960"/>
            <a:chExt cx="510840" cy="609840"/>
          </a:xfrm>
        </p:grpSpPr>
        <p:sp>
          <p:nvSpPr>
            <p:cNvPr id="198" name=""/>
            <p:cNvSpPr/>
            <p:nvPr/>
          </p:nvSpPr>
          <p:spPr>
            <a:xfrm>
              <a:off x="5494320" y="1380960"/>
              <a:ext cx="369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58480" y="15919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ymmetric key cryptography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4680" y="1398240"/>
            <a:ext cx="8076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ubstitution ciph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bstituting one thing for ano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oalphabetic cipher: substitute one letter for anoth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441800" y="23302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 abcdefghijklmnopqrstuvw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8360" y="311004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 mnbvcxzasdfghjklpoiuytrew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440" y="2739960"/>
            <a:ext cx="0" cy="493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2703600"/>
            <a:ext cx="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88960" y="3881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laintext: bob. i love you. a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33080" y="430704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iphertext: nkn. s gktc wky. mgs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5120" y="38163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ymmetric key crypto: DE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8440" y="1330200"/>
            <a:ext cx="8278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S: Data Encryption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 encryption standard [NIST 1993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6-bit symmetric key, 64 bit plaintext in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secure is D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 Challenge: 56-bit-key-encrypted phrase  (“Strong cryptography makes the world a safer place”) decrypted (brute force) in 4 mon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known “backdoor” decryption approa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ing DES more sec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hree keys sequentially (3-DES) on each dat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cipher-block cha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cp:lastPrinted>2000-11-12T20:22:22Z</cp:lastPrinted>
  <dcterms:modified xsi:type="dcterms:W3CDTF">2004-06-15T12:39:11Z</dcterms:modified>
  <cp:revision>189</cp:revision>
  <dc:subject/>
  <dc:title>Part I: Introduction</dc:title>
</cp:coreProperties>
</file>