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13.wmf" ContentType="image/x-wmf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11F0-641B-4038-863E-637B61A3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F14-D000-4EC0-9BED-F1DB09C3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50E-BBC9-41DE-84EF-0B8858E6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B52-9ABB-4F1C-835A-A4EDAA08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4D4-D585-4D03-B616-FB6E01EB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589-38C4-441E-81A0-1963B9DA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7823-8A96-4646-80A6-8F161AD6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5395-9B25-4009-90D7-207C278B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00F-3152-446F-B85D-E0063CE7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934-7511-4F8D-9708-16BD8F86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AC66-2A67-4DFB-AF90-0F2399A0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B68-E0E6-47FF-BDDC-3BC4ABAF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2520" y="6400800"/>
            <a:ext cx="778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taLink Laye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rose, Ross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ernet e reti di calcol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a-</a:t>
            </a:r>
            <a:fld id="{CC31221E-EA41-4AFA-9610-E775F1775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EEE 802.11 Wireless LA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160" y="1339560"/>
            <a:ext cx="817236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reless LANs: untethered (often mobile) network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EEE 802.11 standard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C protoc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licensed frequency spectrum: 900Mhz,  2.4G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60800" y="3398760"/>
            <a:ext cx="3768840" cy="2133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6120" y="3206880"/>
            <a:ext cx="454968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SS’s combined to form distribution system (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Basic Service Set (BSS)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(a.k.a. “cell”) contai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wireless h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access point (AP)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base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0601-5903-4EB6-99C5-351CFD4202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Comic Sans MS"/>
              </a:rPr>
              <a:t>PPP non-requirements</a:t>
            </a:r>
            <a:endParaRPr b="0" lang="en-US" sz="4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8440" y="158544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error correction/recov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flow contr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 of order delivery OK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need to support multipoint links (e.g., poll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808920" y="3908520"/>
            <a:ext cx="777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rror recovery, flow control, data re-orde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ll relegated to higher layers!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DA26-BE1C-4A38-9D19-810A0AEDFA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PP Data Fram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la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imiter (fram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ddres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does nothing (only one optio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tr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oes nothing; in the future possible multiple control fiel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toc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pper layer protocol to which frame delivered (eg, PPP-LCP, IP, IPCP, etc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6840" y="4557600"/>
            <a:ext cx="7210440" cy="15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58D8-1A35-4268-BA5C-0F4D6DFC7C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PP Data Fram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fo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pper layer data being carri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eck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cyclic redundancy check for error det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16120" y="2941560"/>
            <a:ext cx="7210440" cy="15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F32-A3A6-498F-BFB2-FA40709C78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synchronous Transfer Mode: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96104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980s/1990’s standard for high-spe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55Mbps to 622 Mbps and higher)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Broadband Integrated Service Digital Netwo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chitec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ntegrated, end-end transport of carry voice, video,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eting timing/QoS requirements of voice, video (versus Internet best-effort mode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 generation” telephony: technical roots in telephone wor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packet-switch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fixed length packets, called “cells”) using 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virtual circu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9758-95B9-4052-A2FD-8510BF9CD7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architecture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9760" y="3632040"/>
            <a:ext cx="796104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daptation layer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nly at edge of ATM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 segmentation/reassemb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ghly analagous to Internet transport 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M lay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“network” 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ll switching, rou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46120" y="1027080"/>
            <a:ext cx="6094440" cy="24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3E00-2B05-4D31-BEFB-9E3E6459A6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:  network or link layer?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85840"/>
            <a:ext cx="455760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Vis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d-to-end transport: “ATM from desktop to desktop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 network technolog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Realit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sed to connect IP backbone routers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 over ATM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 as switched link layer, connecting IP 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327560" y="1628640"/>
            <a:ext cx="4403520" cy="386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B22B-A763-4AA6-8F95-1A1100DA31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Adaptation Layer (AAL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aptation Lay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AAL): “adapts” upper layers (IP or native ATM applications)  to ATM layer be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L present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in end syste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not in switch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L layer segment (header/trailer fields, data) fragmented across multiple ATM cell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alogy: TCP segment in many IP pack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60480" y="4492800"/>
            <a:ext cx="542916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5B8C-C895-4251-9D45-B068CD5D93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Adaption Layer (AAL) [more]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339560"/>
            <a:ext cx="94060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versions of AAL layers, depending on ATM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rvice cla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AL1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CBR (Constant Bit Rate) services, e.g. circuit emul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AL2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VBR (Variable Bit Rate) services, e.g., MPEG vide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AL5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data (eg, IP datagram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13040" y="4022640"/>
            <a:ext cx="6524640" cy="2835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54760" y="501660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AL P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6600" y="603252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TM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26520" y="40878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Use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5CCB-FD19-4D8F-AA8F-C9B92B8ED5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2880" y="1440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Lay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8640" y="94248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rvic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ansport cells across ATM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alagous to IP network 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y different services than IP network 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299160" y="2511360"/>
            <a:ext cx="1540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56600" y="2511360"/>
            <a:ext cx="1311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90040" y="2806560"/>
            <a:ext cx="1540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3328920"/>
            <a:ext cx="8429760" cy="9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4720" y="4062240"/>
            <a:ext cx="842976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2600" y="4681440"/>
            <a:ext cx="842940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2600" y="5310360"/>
            <a:ext cx="842940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1960" y="5891040"/>
            <a:ext cx="842976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91160" y="2806560"/>
            <a:ext cx="72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4400" y="2816280"/>
            <a:ext cx="83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73720" y="2816280"/>
            <a:ext cx="944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70920" y="2530440"/>
            <a:ext cx="148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(infer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lo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60560" y="237960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81480" y="2805120"/>
            <a:ext cx="37335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4342-1BC9-4FA3-8F13-246C0823D1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Layer: Virtual Circuit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339560"/>
            <a:ext cx="873288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C transpor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lls carried on VC from source to d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 setup, teardown for each call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ata can f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packet carries VC identifier (not destination I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witch on source-dest path maintain “state” for each passing conn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,switch resources (bandwidth, buffers) may b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llocat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VC: to get circuit-like perf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rmanent VCs (PVC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ng lasting conne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ly: “permanent” route between IP 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witched VCs (SVC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amically set up on per-call ba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A6D-7335-4789-82F3-DE74D378EB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d Hoc Network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63044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d hoc network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EEE 802.11 stations can dynamically form network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 withou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ica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ptop” meeting in conference room, c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connection of “personal” devic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ETF MANE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obile Ad hoc Network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ing grou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08640" y="4068720"/>
            <a:ext cx="2371680" cy="22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60E6-9947-4B62-98F4-7623C30C5D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VC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6760" y="1600200"/>
            <a:ext cx="8572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dvantages of ATM VC approa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oS performance guarantee for connection mapped to VC (bandwidth, delay, delay jitt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rawbacks of ATM VC approa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efficient support of datagram traf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PVC between each source/dest pair, does not scale (N*2 connections needed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VC introduces call setup latency, processing overhead for short lived conne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0D6E-C2C0-40B2-BD3F-E47AED31BB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Layer: ATM cel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-byte ATM cell hea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8-byte pay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?: small payload -&gt; short cell-creation delay for digitized vo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lfway between 32 and 64 (compromise!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27080" y="3722760"/>
            <a:ext cx="5276880" cy="809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39960" y="5052960"/>
            <a:ext cx="5361120" cy="1582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0600" y="4003560"/>
            <a:ext cx="15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ell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1840" y="514044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Cell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B725-CD47-4D76-B8DA-DF6ECC3122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cell head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VCI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irtual channel 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T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yload type (e.g. RM cell versus data cell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LP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ll Loss Priority b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P = 1 implies low priority cell, can be discarded if conges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EC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eader Error Checks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yclic redundancy che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19360" y="5187960"/>
            <a:ext cx="527688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667-C441-452D-8F0D-8CCFCD86D8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Physical Layer (more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1562040"/>
            <a:ext cx="8877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w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eces (sublayers) of physical lay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ansmission Convergence Sublayer (TCS)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dapts ATM layer above to PMD sublayer be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hysical Medium Dependen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pends on physical medium being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CS Func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der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checksum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tion: 8 bits CR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ll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eline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“unstructured” PMD sublayer, transmission of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idle cel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hen no data cells to s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664-0A94-404D-A46A-57DE8BC938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Physical Lay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hysical Medium Dependent (PMD) sublay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ONET/SDH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ansmission frame structure (like a container carrying bits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t synchronization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width partitions (TDM)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ral speeds: OC1 = 51.84 Mbps; OC3 = 155.52 Mbps; OC12 = 622.08 M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I/T3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transmission frame structure (old telephone hierarchy): 1.5 Mbps/ 45 Mb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unstructu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just cells (busy/idl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E4D4-23F5-4F9D-8B3E-18A7CA2460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-Over-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88600" y="1077840"/>
            <a:ext cx="335916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assic IP on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“networks” (e.g., LAN segmen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C (802.3) and IP addre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73280" y="3152880"/>
            <a:ext cx="2479320" cy="3260160"/>
            <a:chOff x="773280" y="3152880"/>
            <a:chExt cx="2479320" cy="3260160"/>
          </a:xfrm>
        </p:grpSpPr>
        <p:sp>
          <p:nvSpPr>
            <p:cNvPr id="133" name=""/>
            <p:cNvSpPr/>
            <p:nvPr/>
          </p:nvSpPr>
          <p:spPr>
            <a:xfrm>
              <a:off x="1628640" y="5553360"/>
              <a:ext cx="1623960" cy="403200"/>
            </a:xfrm>
            <a:custGeom>
              <a:avLst/>
              <a:gdLst/>
              <a:ahLst/>
              <a:rect l="l" t="t" r="r" b="b"/>
              <a:pathLst>
                <a:path w="824" h="187">
                  <a:moveTo>
                    <a:pt x="333" y="184"/>
                  </a:moveTo>
                  <a:cubicBezTo>
                    <a:pt x="189" y="187"/>
                    <a:pt x="84" y="183"/>
                    <a:pt x="42" y="164"/>
                  </a:cubicBezTo>
                  <a:cubicBezTo>
                    <a:pt x="0" y="144"/>
                    <a:pt x="40" y="79"/>
                    <a:pt x="80" y="64"/>
                  </a:cubicBezTo>
                  <a:cubicBezTo>
                    <a:pt x="119" y="50"/>
                    <a:pt x="217" y="74"/>
                    <a:pt x="281" y="76"/>
                  </a:cubicBezTo>
                  <a:cubicBezTo>
                    <a:pt x="345" y="78"/>
                    <a:pt x="431" y="85"/>
                    <a:pt x="466" y="74"/>
                  </a:cubicBezTo>
                  <a:cubicBezTo>
                    <a:pt x="501" y="63"/>
                    <a:pt x="476" y="16"/>
                    <a:pt x="493" y="8"/>
                  </a:cubicBezTo>
                  <a:cubicBezTo>
                    <a:pt x="510" y="0"/>
                    <a:pt x="557" y="12"/>
                    <a:pt x="568" y="23"/>
                  </a:cubicBezTo>
                  <a:cubicBezTo>
                    <a:pt x="579" y="34"/>
                    <a:pt x="529" y="63"/>
                    <a:pt x="559" y="74"/>
                  </a:cubicBezTo>
                  <a:cubicBezTo>
                    <a:pt x="589" y="85"/>
                    <a:pt x="719" y="70"/>
                    <a:pt x="751" y="86"/>
                  </a:cubicBezTo>
                  <a:cubicBezTo>
                    <a:pt x="783" y="102"/>
                    <a:pt x="824" y="154"/>
                    <a:pt x="754" y="170"/>
                  </a:cubicBezTo>
                  <a:cubicBezTo>
                    <a:pt x="684" y="186"/>
                    <a:pt x="421" y="181"/>
                    <a:pt x="333" y="184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44880" y="3279600"/>
              <a:ext cx="648360" cy="2290680"/>
            </a:xfrm>
            <a:custGeom>
              <a:avLst/>
              <a:gdLst/>
              <a:ahLst/>
              <a:rect l="l" t="t" r="r" b="b"/>
              <a:pathLst>
                <a:path w="329" h="1063">
                  <a:moveTo>
                    <a:pt x="24" y="340"/>
                  </a:moveTo>
                  <a:cubicBezTo>
                    <a:pt x="22" y="215"/>
                    <a:pt x="27" y="98"/>
                    <a:pt x="48" y="49"/>
                  </a:cubicBezTo>
                  <a:cubicBezTo>
                    <a:pt x="69" y="0"/>
                    <a:pt x="109" y="42"/>
                    <a:pt x="150" y="43"/>
                  </a:cubicBezTo>
                  <a:cubicBezTo>
                    <a:pt x="191" y="44"/>
                    <a:pt x="271" y="46"/>
                    <a:pt x="297" y="55"/>
                  </a:cubicBezTo>
                  <a:cubicBezTo>
                    <a:pt x="323" y="64"/>
                    <a:pt x="329" y="83"/>
                    <a:pt x="306" y="94"/>
                  </a:cubicBezTo>
                  <a:cubicBezTo>
                    <a:pt x="283" y="105"/>
                    <a:pt x="185" y="92"/>
                    <a:pt x="156" y="124"/>
                  </a:cubicBezTo>
                  <a:cubicBezTo>
                    <a:pt x="127" y="156"/>
                    <a:pt x="135" y="209"/>
                    <a:pt x="132" y="289"/>
                  </a:cubicBezTo>
                  <a:cubicBezTo>
                    <a:pt x="129" y="369"/>
                    <a:pt x="137" y="501"/>
                    <a:pt x="135" y="607"/>
                  </a:cubicBezTo>
                  <a:cubicBezTo>
                    <a:pt x="133" y="713"/>
                    <a:pt x="112" y="866"/>
                    <a:pt x="120" y="925"/>
                  </a:cubicBezTo>
                  <a:cubicBezTo>
                    <a:pt x="128" y="984"/>
                    <a:pt x="181" y="947"/>
                    <a:pt x="186" y="964"/>
                  </a:cubicBezTo>
                  <a:cubicBezTo>
                    <a:pt x="191" y="981"/>
                    <a:pt x="180" y="1029"/>
                    <a:pt x="153" y="1027"/>
                  </a:cubicBezTo>
                  <a:cubicBezTo>
                    <a:pt x="126" y="1025"/>
                    <a:pt x="42" y="1063"/>
                    <a:pt x="21" y="949"/>
                  </a:cubicBezTo>
                  <a:cubicBezTo>
                    <a:pt x="0" y="835"/>
                    <a:pt x="23" y="467"/>
                    <a:pt x="24" y="34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83400" y="3695760"/>
              <a:ext cx="287640" cy="1868400"/>
            </a:xfrm>
            <a:custGeom>
              <a:avLst/>
              <a:gdLst/>
              <a:ahLst/>
              <a:rect l="l" t="t" r="r" b="b"/>
              <a:pathLst>
                <a:path w="146" h="867">
                  <a:moveTo>
                    <a:pt x="2" y="333"/>
                  </a:moveTo>
                  <a:cubicBezTo>
                    <a:pt x="0" y="208"/>
                    <a:pt x="6" y="84"/>
                    <a:pt x="26" y="42"/>
                  </a:cubicBezTo>
                  <a:cubicBezTo>
                    <a:pt x="46" y="0"/>
                    <a:pt x="106" y="23"/>
                    <a:pt x="125" y="81"/>
                  </a:cubicBezTo>
                  <a:cubicBezTo>
                    <a:pt x="144" y="139"/>
                    <a:pt x="140" y="306"/>
                    <a:pt x="143" y="393"/>
                  </a:cubicBezTo>
                  <a:cubicBezTo>
                    <a:pt x="146" y="480"/>
                    <a:pt x="145" y="538"/>
                    <a:pt x="140" y="603"/>
                  </a:cubicBezTo>
                  <a:cubicBezTo>
                    <a:pt x="135" y="668"/>
                    <a:pt x="127" y="755"/>
                    <a:pt x="110" y="786"/>
                  </a:cubicBezTo>
                  <a:cubicBezTo>
                    <a:pt x="93" y="817"/>
                    <a:pt x="56" y="867"/>
                    <a:pt x="38" y="792"/>
                  </a:cubicBezTo>
                  <a:cubicBezTo>
                    <a:pt x="20" y="717"/>
                    <a:pt x="4" y="458"/>
                    <a:pt x="2" y="33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456280" y="5262480"/>
              <a:ext cx="622440" cy="316080"/>
              <a:chOff x="2456280" y="5262480"/>
              <a:chExt cx="622440" cy="316080"/>
            </a:xfrm>
          </p:grpSpPr>
          <p:sp>
            <p:nvSpPr>
              <p:cNvPr id="137" name=""/>
              <p:cNvSpPr/>
              <p:nvPr/>
            </p:nvSpPr>
            <p:spPr>
              <a:xfrm>
                <a:off x="2461320" y="5403600"/>
                <a:ext cx="617400" cy="174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461320" y="5388840"/>
                <a:ext cx="0" cy="10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78720" y="5388840"/>
                <a:ext cx="0" cy="10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461320" y="5388840"/>
                <a:ext cx="612000" cy="106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456280" y="5262480"/>
                <a:ext cx="617040" cy="2041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604600" y="5307480"/>
                <a:ext cx="305640" cy="119160"/>
                <a:chOff x="2604600" y="5307480"/>
                <a:chExt cx="305640" cy="119160"/>
              </a:xfrm>
            </p:grpSpPr>
            <p:sp>
              <p:nvSpPr>
                <p:cNvPr id="143" name=""/>
                <p:cNvSpPr/>
                <p:nvPr/>
              </p:nvSpPr>
              <p:spPr>
                <a:xfrm flipV="1">
                  <a:off x="2604600" y="5307480"/>
                  <a:ext cx="108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814120" y="5426640"/>
                  <a:ext cx="9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705040" y="5309640"/>
                  <a:ext cx="113400" cy="11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2604600" y="5305320"/>
                <a:ext cx="305640" cy="119160"/>
                <a:chOff x="2604600" y="5305320"/>
                <a:chExt cx="305640" cy="1191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2604600" y="5422320"/>
                  <a:ext cx="108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14120" y="5305320"/>
                  <a:ext cx="9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2705040" y="5305680"/>
                  <a:ext cx="113400" cy="11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773280" y="3488400"/>
              <a:ext cx="524160" cy="4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800640" y="4962960"/>
              <a:ext cx="52416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"/>
            <a:stretch/>
          </p:blipFill>
          <p:spPr>
            <a:xfrm>
              <a:off x="2675160" y="3152880"/>
              <a:ext cx="52416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4"/>
            <a:stretch/>
          </p:blipFill>
          <p:spPr>
            <a:xfrm>
              <a:off x="1522080" y="5958720"/>
              <a:ext cx="524160" cy="4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281600" y="3844440"/>
              <a:ext cx="153720" cy="1447920"/>
            </a:xfrm>
            <a:custGeom>
              <a:avLst/>
              <a:gdLst/>
              <a:ahLst/>
              <a:rect l="l" t="t" r="r" b="b"/>
              <a:pathLst>
                <a:path w="51" h="672">
                  <a:moveTo>
                    <a:pt x="0" y="3"/>
                  </a:moveTo>
                  <a:lnTo>
                    <a:pt x="51" y="0"/>
                  </a:lnTo>
                  <a:lnTo>
                    <a:pt x="51" y="672"/>
                  </a:lnTo>
                  <a:lnTo>
                    <a:pt x="15" y="67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35320" y="4380840"/>
              <a:ext cx="12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86480" y="4206600"/>
              <a:ext cx="92880" cy="101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86480" y="4419360"/>
              <a:ext cx="9288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86480" y="4607280"/>
              <a:ext cx="92880" cy="101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553400" y="4212720"/>
              <a:ext cx="622440" cy="316080"/>
              <a:chOff x="1553400" y="4212720"/>
              <a:chExt cx="622440" cy="316080"/>
            </a:xfrm>
          </p:grpSpPr>
          <p:sp>
            <p:nvSpPr>
              <p:cNvPr id="160" name=""/>
              <p:cNvSpPr/>
              <p:nvPr/>
            </p:nvSpPr>
            <p:spPr>
              <a:xfrm>
                <a:off x="1558440" y="4353840"/>
                <a:ext cx="617400" cy="174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558440" y="4339080"/>
                <a:ext cx="0" cy="10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75840" y="4339080"/>
                <a:ext cx="0" cy="10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58440" y="4339080"/>
                <a:ext cx="612000" cy="106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53400" y="4212720"/>
                <a:ext cx="617040" cy="2041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1701720" y="4257720"/>
                <a:ext cx="305640" cy="119160"/>
                <a:chOff x="1701720" y="4257720"/>
                <a:chExt cx="305640" cy="119160"/>
              </a:xfrm>
            </p:grpSpPr>
            <p:sp>
              <p:nvSpPr>
                <p:cNvPr id="166" name=""/>
                <p:cNvSpPr/>
                <p:nvPr/>
              </p:nvSpPr>
              <p:spPr>
                <a:xfrm flipV="1">
                  <a:off x="1701720" y="4257720"/>
                  <a:ext cx="108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911240" y="4376880"/>
                  <a:ext cx="9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802160" y="4259880"/>
                  <a:ext cx="113400" cy="11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1701720" y="4255560"/>
                <a:ext cx="305640" cy="119160"/>
                <a:chOff x="1701720" y="4255560"/>
                <a:chExt cx="305640" cy="1191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701720" y="4372560"/>
                  <a:ext cx="108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911240" y="4255560"/>
                  <a:ext cx="9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V="1">
                  <a:off x="1802160" y="4255920"/>
                  <a:ext cx="113400" cy="11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3" name=""/>
            <p:cNvSpPr/>
            <p:nvPr/>
          </p:nvSpPr>
          <p:spPr>
            <a:xfrm>
              <a:off x="2300760" y="3437280"/>
              <a:ext cx="470880" cy="1978200"/>
            </a:xfrm>
            <a:custGeom>
              <a:avLst/>
              <a:gdLst/>
              <a:ahLst/>
              <a:rect l="l" t="t" r="r" b="b"/>
              <a:pathLst>
                <a:path w="239" h="918">
                  <a:moveTo>
                    <a:pt x="239" y="3"/>
                  </a:moveTo>
                  <a:lnTo>
                    <a:pt x="0" y="0"/>
                  </a:lnTo>
                  <a:lnTo>
                    <a:pt x="0" y="918"/>
                  </a:lnTo>
                  <a:lnTo>
                    <a:pt x="78" y="91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156400" y="4380840"/>
              <a:ext cx="12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2710440" y="5922000"/>
              <a:ext cx="524160" cy="45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6209600">
              <a:off x="2327040" y="5224680"/>
              <a:ext cx="167400" cy="1324080"/>
            </a:xfrm>
            <a:custGeom>
              <a:avLst/>
              <a:gdLst/>
              <a:ahLst/>
              <a:rect l="l" t="t" r="r" b="b"/>
              <a:pathLst>
                <a:path w="51" h="672">
                  <a:moveTo>
                    <a:pt x="0" y="3"/>
                  </a:moveTo>
                  <a:lnTo>
                    <a:pt x="51" y="0"/>
                  </a:lnTo>
                  <a:lnTo>
                    <a:pt x="51" y="672"/>
                  </a:lnTo>
                  <a:lnTo>
                    <a:pt x="15" y="67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656440" y="5583600"/>
              <a:ext cx="1440" cy="21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587840" y="673200"/>
            <a:ext cx="3722760" cy="35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P over AT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lace “network” (e.g., LAN segment) with ATM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 addresses, 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78360" y="5537160"/>
            <a:ext cx="1624320" cy="403200"/>
          </a:xfrm>
          <a:custGeom>
            <a:avLst/>
            <a:gdLst/>
            <a:ahLst/>
            <a:rect l="l" t="t" r="r" b="b"/>
            <a:pathLst>
              <a:path w="824" h="187">
                <a:moveTo>
                  <a:pt x="333" y="184"/>
                </a:moveTo>
                <a:cubicBezTo>
                  <a:pt x="189" y="187"/>
                  <a:pt x="84" y="183"/>
                  <a:pt x="42" y="164"/>
                </a:cubicBezTo>
                <a:cubicBezTo>
                  <a:pt x="0" y="144"/>
                  <a:pt x="40" y="79"/>
                  <a:pt x="80" y="64"/>
                </a:cubicBezTo>
                <a:cubicBezTo>
                  <a:pt x="119" y="50"/>
                  <a:pt x="217" y="74"/>
                  <a:pt x="281" y="76"/>
                </a:cubicBezTo>
                <a:cubicBezTo>
                  <a:pt x="345" y="78"/>
                  <a:pt x="431" y="85"/>
                  <a:pt x="466" y="74"/>
                </a:cubicBezTo>
                <a:cubicBezTo>
                  <a:pt x="501" y="63"/>
                  <a:pt x="476" y="16"/>
                  <a:pt x="493" y="8"/>
                </a:cubicBezTo>
                <a:cubicBezTo>
                  <a:pt x="510" y="0"/>
                  <a:pt x="557" y="12"/>
                  <a:pt x="568" y="23"/>
                </a:cubicBezTo>
                <a:cubicBezTo>
                  <a:pt x="579" y="34"/>
                  <a:pt x="529" y="63"/>
                  <a:pt x="559" y="74"/>
                </a:cubicBezTo>
                <a:cubicBezTo>
                  <a:pt x="589" y="85"/>
                  <a:pt x="719" y="70"/>
                  <a:pt x="751" y="86"/>
                </a:cubicBezTo>
                <a:cubicBezTo>
                  <a:pt x="783" y="102"/>
                  <a:pt x="824" y="154"/>
                  <a:pt x="754" y="170"/>
                </a:cubicBezTo>
                <a:cubicBezTo>
                  <a:pt x="684" y="186"/>
                  <a:pt x="421" y="181"/>
                  <a:pt x="333" y="18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53200" y="3505320"/>
            <a:ext cx="1500120" cy="1806480"/>
          </a:xfrm>
          <a:custGeom>
            <a:avLst/>
            <a:gdLst/>
            <a:ahLst/>
            <a:rect l="l" t="t" r="r" b="b"/>
            <a:pathLst>
              <a:path w="945" h="1138">
                <a:moveTo>
                  <a:pt x="18" y="525"/>
                </a:moveTo>
                <a:cubicBezTo>
                  <a:pt x="44" y="497"/>
                  <a:pt x="135" y="488"/>
                  <a:pt x="192" y="429"/>
                </a:cubicBezTo>
                <a:cubicBezTo>
                  <a:pt x="249" y="370"/>
                  <a:pt x="306" y="239"/>
                  <a:pt x="357" y="174"/>
                </a:cubicBezTo>
                <a:cubicBezTo>
                  <a:pt x="408" y="109"/>
                  <a:pt x="457" y="64"/>
                  <a:pt x="498" y="39"/>
                </a:cubicBezTo>
                <a:cubicBezTo>
                  <a:pt x="539" y="14"/>
                  <a:pt x="589" y="0"/>
                  <a:pt x="600" y="27"/>
                </a:cubicBezTo>
                <a:cubicBezTo>
                  <a:pt x="611" y="54"/>
                  <a:pt x="521" y="182"/>
                  <a:pt x="567" y="201"/>
                </a:cubicBezTo>
                <a:cubicBezTo>
                  <a:pt x="613" y="220"/>
                  <a:pt x="815" y="95"/>
                  <a:pt x="876" y="144"/>
                </a:cubicBezTo>
                <a:cubicBezTo>
                  <a:pt x="937" y="193"/>
                  <a:pt x="926" y="366"/>
                  <a:pt x="930" y="495"/>
                </a:cubicBezTo>
                <a:cubicBezTo>
                  <a:pt x="934" y="624"/>
                  <a:pt x="945" y="830"/>
                  <a:pt x="903" y="921"/>
                </a:cubicBezTo>
                <a:cubicBezTo>
                  <a:pt x="861" y="1012"/>
                  <a:pt x="729" y="1007"/>
                  <a:pt x="678" y="1041"/>
                </a:cubicBezTo>
                <a:cubicBezTo>
                  <a:pt x="627" y="1075"/>
                  <a:pt x="621" y="1118"/>
                  <a:pt x="594" y="1128"/>
                </a:cubicBezTo>
                <a:cubicBezTo>
                  <a:pt x="567" y="1138"/>
                  <a:pt x="522" y="1115"/>
                  <a:pt x="513" y="1101"/>
                </a:cubicBezTo>
                <a:cubicBezTo>
                  <a:pt x="504" y="1087"/>
                  <a:pt x="545" y="1055"/>
                  <a:pt x="537" y="1041"/>
                </a:cubicBezTo>
                <a:cubicBezTo>
                  <a:pt x="529" y="1027"/>
                  <a:pt x="491" y="1038"/>
                  <a:pt x="462" y="1014"/>
                </a:cubicBezTo>
                <a:cubicBezTo>
                  <a:pt x="433" y="990"/>
                  <a:pt x="383" y="944"/>
                  <a:pt x="360" y="897"/>
                </a:cubicBezTo>
                <a:cubicBezTo>
                  <a:pt x="337" y="850"/>
                  <a:pt x="341" y="776"/>
                  <a:pt x="321" y="729"/>
                </a:cubicBezTo>
                <a:cubicBezTo>
                  <a:pt x="301" y="682"/>
                  <a:pt x="284" y="633"/>
                  <a:pt x="237" y="612"/>
                </a:cubicBezTo>
                <a:cubicBezTo>
                  <a:pt x="190" y="591"/>
                  <a:pt x="72" y="614"/>
                  <a:pt x="36" y="600"/>
                </a:cubicBezTo>
                <a:cubicBezTo>
                  <a:pt x="0" y="586"/>
                  <a:pt x="3" y="549"/>
                  <a:pt x="18" y="525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33840" y="3679920"/>
            <a:ext cx="287640" cy="1868400"/>
          </a:xfrm>
          <a:custGeom>
            <a:avLst/>
            <a:gdLst/>
            <a:ahLst/>
            <a:rect l="l" t="t" r="r" b="b"/>
            <a:pathLst>
              <a:path w="146" h="867">
                <a:moveTo>
                  <a:pt x="2" y="333"/>
                </a:moveTo>
                <a:cubicBezTo>
                  <a:pt x="0" y="208"/>
                  <a:pt x="6" y="84"/>
                  <a:pt x="26" y="42"/>
                </a:cubicBezTo>
                <a:cubicBezTo>
                  <a:pt x="46" y="0"/>
                  <a:pt x="106" y="23"/>
                  <a:pt x="125" y="81"/>
                </a:cubicBezTo>
                <a:cubicBezTo>
                  <a:pt x="144" y="139"/>
                  <a:pt x="140" y="306"/>
                  <a:pt x="143" y="393"/>
                </a:cubicBezTo>
                <a:cubicBezTo>
                  <a:pt x="146" y="480"/>
                  <a:pt x="145" y="538"/>
                  <a:pt x="140" y="603"/>
                </a:cubicBezTo>
                <a:cubicBezTo>
                  <a:pt x="135" y="668"/>
                  <a:pt x="127" y="755"/>
                  <a:pt x="110" y="786"/>
                </a:cubicBezTo>
                <a:cubicBezTo>
                  <a:pt x="93" y="817"/>
                  <a:pt x="56" y="867"/>
                  <a:pt x="38" y="792"/>
                </a:cubicBezTo>
                <a:cubicBezTo>
                  <a:pt x="20" y="717"/>
                  <a:pt x="4" y="458"/>
                  <a:pt x="2" y="33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605640" y="5246640"/>
            <a:ext cx="623520" cy="317160"/>
            <a:chOff x="6605640" y="5246640"/>
            <a:chExt cx="623520" cy="317160"/>
          </a:xfrm>
        </p:grpSpPr>
        <p:sp>
          <p:nvSpPr>
            <p:cNvPr id="183" name=""/>
            <p:cNvSpPr/>
            <p:nvPr/>
          </p:nvSpPr>
          <p:spPr>
            <a:xfrm>
              <a:off x="6610680" y="5388120"/>
              <a:ext cx="618480" cy="175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10680" y="537336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29160" y="537336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10680" y="5373360"/>
              <a:ext cx="613080" cy="107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05640" y="5246640"/>
              <a:ext cx="618120" cy="204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754320" y="5291640"/>
              <a:ext cx="306000" cy="119520"/>
              <a:chOff x="6754320" y="5291640"/>
              <a:chExt cx="306000" cy="119520"/>
            </a:xfrm>
          </p:grpSpPr>
          <p:sp>
            <p:nvSpPr>
              <p:cNvPr id="189" name=""/>
              <p:cNvSpPr/>
              <p:nvPr/>
            </p:nvSpPr>
            <p:spPr>
              <a:xfrm flipV="1">
                <a:off x="6754320" y="529164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64200" y="541116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855120" y="529380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6754320" y="5290200"/>
              <a:ext cx="306000" cy="119520"/>
              <a:chOff x="6754320" y="5290200"/>
              <a:chExt cx="306000" cy="119520"/>
            </a:xfrm>
          </p:grpSpPr>
          <p:sp>
            <p:nvSpPr>
              <p:cNvPr id="193" name=""/>
              <p:cNvSpPr/>
              <p:nvPr/>
            </p:nvSpPr>
            <p:spPr>
              <a:xfrm>
                <a:off x="6754320" y="540756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964200" y="529020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6855120" y="529056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4923000" y="3473280"/>
            <a:ext cx="523800" cy="454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4950000" y="4946760"/>
            <a:ext cx="525240" cy="455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6824520" y="3137040"/>
            <a:ext cx="524160" cy="453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9"/>
          <a:stretch/>
        </p:blipFill>
        <p:spPr>
          <a:xfrm>
            <a:off x="5672160" y="5943600"/>
            <a:ext cx="523800" cy="4539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430960" y="3828960"/>
            <a:ext cx="153720" cy="14479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84680" y="4365720"/>
            <a:ext cx="1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35480" y="419112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35480" y="440388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5480" y="459108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703840" y="4197240"/>
            <a:ext cx="622080" cy="315720"/>
            <a:chOff x="5703840" y="4197240"/>
            <a:chExt cx="622080" cy="315720"/>
          </a:xfrm>
        </p:grpSpPr>
        <p:sp>
          <p:nvSpPr>
            <p:cNvPr id="206" name=""/>
            <p:cNvSpPr/>
            <p:nvPr/>
          </p:nvSpPr>
          <p:spPr>
            <a:xfrm>
              <a:off x="5708880" y="4338000"/>
              <a:ext cx="617040" cy="174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08880" y="432324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25920" y="432324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08880" y="4323240"/>
              <a:ext cx="611640" cy="106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03840" y="4197240"/>
              <a:ext cx="616680" cy="204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852160" y="4242240"/>
              <a:ext cx="305640" cy="119160"/>
              <a:chOff x="5852160" y="4242240"/>
              <a:chExt cx="305640" cy="119160"/>
            </a:xfrm>
          </p:grpSpPr>
          <p:sp>
            <p:nvSpPr>
              <p:cNvPr id="212" name=""/>
              <p:cNvSpPr/>
              <p:nvPr/>
            </p:nvSpPr>
            <p:spPr>
              <a:xfrm flipV="1">
                <a:off x="5852160" y="424224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61680" y="436140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952600" y="4244400"/>
                <a:ext cx="11340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5852160" y="4240080"/>
              <a:ext cx="305640" cy="119160"/>
              <a:chOff x="5852160" y="4240080"/>
              <a:chExt cx="305640" cy="119160"/>
            </a:xfrm>
          </p:grpSpPr>
          <p:sp>
            <p:nvSpPr>
              <p:cNvPr id="216" name=""/>
              <p:cNvSpPr/>
              <p:nvPr/>
            </p:nvSpPr>
            <p:spPr>
              <a:xfrm>
                <a:off x="5852160" y="435708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061680" y="424008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5952600" y="4240440"/>
                <a:ext cx="11340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6310440" y="4205160"/>
            <a:ext cx="433440" cy="18576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0"/>
          <a:stretch/>
        </p:blipFill>
        <p:spPr>
          <a:xfrm>
            <a:off x="6861240" y="5905440"/>
            <a:ext cx="523800" cy="4557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16209600">
            <a:off x="6476760" y="5209920"/>
            <a:ext cx="168120" cy="13237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807240" y="556740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738840" y="3830760"/>
            <a:ext cx="554040" cy="468360"/>
            <a:chOff x="6738840" y="3830760"/>
            <a:chExt cx="554040" cy="468360"/>
          </a:xfrm>
        </p:grpSpPr>
        <p:sp>
          <p:nvSpPr>
            <p:cNvPr id="224" name=""/>
            <p:cNvSpPr/>
            <p:nvPr/>
          </p:nvSpPr>
          <p:spPr>
            <a:xfrm>
              <a:off x="6859800" y="383544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40640" y="390204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6807240" y="4032000"/>
              <a:ext cx="304560" cy="119160"/>
              <a:chOff x="6807240" y="4032000"/>
              <a:chExt cx="304560" cy="119160"/>
            </a:xfrm>
          </p:grpSpPr>
          <p:sp>
            <p:nvSpPr>
              <p:cNvPr id="227" name=""/>
              <p:cNvSpPr/>
              <p:nvPr/>
            </p:nvSpPr>
            <p:spPr>
              <a:xfrm>
                <a:off x="6807240" y="414900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016040" y="403200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6907320" y="403236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6802560" y="4024440"/>
              <a:ext cx="303840" cy="119160"/>
              <a:chOff x="6802560" y="4024440"/>
              <a:chExt cx="303840" cy="11916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6802560" y="402444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11000" y="414360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902640" y="402660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6738840" y="383076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62920" y="383076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16760" y="4643280"/>
            <a:ext cx="554040" cy="468360"/>
            <a:chOff x="7016760" y="4643280"/>
            <a:chExt cx="554040" cy="468360"/>
          </a:xfrm>
        </p:grpSpPr>
        <p:sp>
          <p:nvSpPr>
            <p:cNvPr id="237" name=""/>
            <p:cNvSpPr/>
            <p:nvPr/>
          </p:nvSpPr>
          <p:spPr>
            <a:xfrm>
              <a:off x="7137720" y="464796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18560" y="471456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7085160" y="4844520"/>
              <a:ext cx="304560" cy="119160"/>
              <a:chOff x="7085160" y="4844520"/>
              <a:chExt cx="304560" cy="119160"/>
            </a:xfrm>
          </p:grpSpPr>
          <p:sp>
            <p:nvSpPr>
              <p:cNvPr id="240" name=""/>
              <p:cNvSpPr/>
              <p:nvPr/>
            </p:nvSpPr>
            <p:spPr>
              <a:xfrm>
                <a:off x="7085160" y="496152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293960" y="484452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7185240" y="484488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7080480" y="4836960"/>
              <a:ext cx="303840" cy="119160"/>
              <a:chOff x="7080480" y="4836960"/>
              <a:chExt cx="303840" cy="119160"/>
            </a:xfrm>
          </p:grpSpPr>
          <p:sp>
            <p:nvSpPr>
              <p:cNvPr id="244" name=""/>
              <p:cNvSpPr/>
              <p:nvPr/>
            </p:nvSpPr>
            <p:spPr>
              <a:xfrm flipV="1">
                <a:off x="7080480" y="483696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288920" y="495612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180560" y="483912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7016760" y="464328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40840" y="464328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7034040" y="3576600"/>
            <a:ext cx="100080" cy="24300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01000" y="5110200"/>
            <a:ext cx="123840" cy="16668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7067520" y="4305240"/>
            <a:ext cx="271440" cy="33804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893360" y="325296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577280" y="3611520"/>
            <a:ext cx="398160" cy="439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440" y="580248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258920" y="4927320"/>
            <a:ext cx="892080" cy="927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263600" y="5396040"/>
            <a:ext cx="141480" cy="452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257480" y="5738400"/>
            <a:ext cx="448920" cy="120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94520" y="582120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369040" y="5415120"/>
            <a:ext cx="141120" cy="452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362560" y="5757480"/>
            <a:ext cx="449280" cy="120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4252-7AB3-45CD-908B-CF8B16B3F5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-Over-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328680" y="1154160"/>
            <a:ext cx="3878280" cy="57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 datagrams into ATM AAL5 P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IP addresses to ATM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st like IP addresses to 802.3 MAC addres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53080" y="4145040"/>
            <a:ext cx="1623960" cy="403200"/>
          </a:xfrm>
          <a:custGeom>
            <a:avLst/>
            <a:gdLst/>
            <a:ahLst/>
            <a:rect l="l" t="t" r="r" b="b"/>
            <a:pathLst>
              <a:path w="824" h="187">
                <a:moveTo>
                  <a:pt x="333" y="184"/>
                </a:moveTo>
                <a:cubicBezTo>
                  <a:pt x="189" y="187"/>
                  <a:pt x="84" y="183"/>
                  <a:pt x="42" y="164"/>
                </a:cubicBezTo>
                <a:cubicBezTo>
                  <a:pt x="0" y="144"/>
                  <a:pt x="40" y="79"/>
                  <a:pt x="80" y="64"/>
                </a:cubicBezTo>
                <a:cubicBezTo>
                  <a:pt x="119" y="50"/>
                  <a:pt x="217" y="74"/>
                  <a:pt x="281" y="76"/>
                </a:cubicBezTo>
                <a:cubicBezTo>
                  <a:pt x="345" y="78"/>
                  <a:pt x="431" y="85"/>
                  <a:pt x="466" y="74"/>
                </a:cubicBezTo>
                <a:cubicBezTo>
                  <a:pt x="501" y="63"/>
                  <a:pt x="476" y="16"/>
                  <a:pt x="493" y="8"/>
                </a:cubicBezTo>
                <a:cubicBezTo>
                  <a:pt x="510" y="0"/>
                  <a:pt x="557" y="12"/>
                  <a:pt x="568" y="23"/>
                </a:cubicBezTo>
                <a:cubicBezTo>
                  <a:pt x="579" y="34"/>
                  <a:pt x="529" y="63"/>
                  <a:pt x="559" y="74"/>
                </a:cubicBezTo>
                <a:cubicBezTo>
                  <a:pt x="589" y="85"/>
                  <a:pt x="719" y="70"/>
                  <a:pt x="751" y="86"/>
                </a:cubicBezTo>
                <a:cubicBezTo>
                  <a:pt x="783" y="102"/>
                  <a:pt x="824" y="154"/>
                  <a:pt x="754" y="170"/>
                </a:cubicBezTo>
                <a:cubicBezTo>
                  <a:pt x="684" y="186"/>
                  <a:pt x="421" y="181"/>
                  <a:pt x="333" y="18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27920" y="2112840"/>
            <a:ext cx="1500120" cy="1806840"/>
          </a:xfrm>
          <a:custGeom>
            <a:avLst/>
            <a:gdLst/>
            <a:ahLst/>
            <a:rect l="l" t="t" r="r" b="b"/>
            <a:pathLst>
              <a:path w="945" h="1138">
                <a:moveTo>
                  <a:pt x="18" y="525"/>
                </a:moveTo>
                <a:cubicBezTo>
                  <a:pt x="44" y="497"/>
                  <a:pt x="135" y="488"/>
                  <a:pt x="192" y="429"/>
                </a:cubicBezTo>
                <a:cubicBezTo>
                  <a:pt x="249" y="370"/>
                  <a:pt x="306" y="239"/>
                  <a:pt x="357" y="174"/>
                </a:cubicBezTo>
                <a:cubicBezTo>
                  <a:pt x="408" y="109"/>
                  <a:pt x="457" y="64"/>
                  <a:pt x="498" y="39"/>
                </a:cubicBezTo>
                <a:cubicBezTo>
                  <a:pt x="539" y="14"/>
                  <a:pt x="589" y="0"/>
                  <a:pt x="600" y="27"/>
                </a:cubicBezTo>
                <a:cubicBezTo>
                  <a:pt x="611" y="54"/>
                  <a:pt x="521" y="182"/>
                  <a:pt x="567" y="201"/>
                </a:cubicBezTo>
                <a:cubicBezTo>
                  <a:pt x="613" y="220"/>
                  <a:pt x="815" y="95"/>
                  <a:pt x="876" y="144"/>
                </a:cubicBezTo>
                <a:cubicBezTo>
                  <a:pt x="937" y="193"/>
                  <a:pt x="926" y="366"/>
                  <a:pt x="930" y="495"/>
                </a:cubicBezTo>
                <a:cubicBezTo>
                  <a:pt x="934" y="624"/>
                  <a:pt x="945" y="830"/>
                  <a:pt x="903" y="921"/>
                </a:cubicBezTo>
                <a:cubicBezTo>
                  <a:pt x="861" y="1012"/>
                  <a:pt x="729" y="1007"/>
                  <a:pt x="678" y="1041"/>
                </a:cubicBezTo>
                <a:cubicBezTo>
                  <a:pt x="627" y="1075"/>
                  <a:pt x="621" y="1118"/>
                  <a:pt x="594" y="1128"/>
                </a:cubicBezTo>
                <a:cubicBezTo>
                  <a:pt x="567" y="1138"/>
                  <a:pt x="522" y="1115"/>
                  <a:pt x="513" y="1101"/>
                </a:cubicBezTo>
                <a:cubicBezTo>
                  <a:pt x="504" y="1087"/>
                  <a:pt x="545" y="1055"/>
                  <a:pt x="537" y="1041"/>
                </a:cubicBezTo>
                <a:cubicBezTo>
                  <a:pt x="529" y="1027"/>
                  <a:pt x="491" y="1038"/>
                  <a:pt x="462" y="1014"/>
                </a:cubicBezTo>
                <a:cubicBezTo>
                  <a:pt x="433" y="990"/>
                  <a:pt x="383" y="944"/>
                  <a:pt x="360" y="897"/>
                </a:cubicBezTo>
                <a:cubicBezTo>
                  <a:pt x="337" y="850"/>
                  <a:pt x="341" y="776"/>
                  <a:pt x="321" y="729"/>
                </a:cubicBezTo>
                <a:cubicBezTo>
                  <a:pt x="301" y="682"/>
                  <a:pt x="284" y="633"/>
                  <a:pt x="237" y="612"/>
                </a:cubicBezTo>
                <a:cubicBezTo>
                  <a:pt x="190" y="591"/>
                  <a:pt x="72" y="614"/>
                  <a:pt x="36" y="600"/>
                </a:cubicBezTo>
                <a:cubicBezTo>
                  <a:pt x="0" y="586"/>
                  <a:pt x="3" y="549"/>
                  <a:pt x="18" y="525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08560" y="2287440"/>
            <a:ext cx="287280" cy="1868760"/>
          </a:xfrm>
          <a:custGeom>
            <a:avLst/>
            <a:gdLst/>
            <a:ahLst/>
            <a:rect l="l" t="t" r="r" b="b"/>
            <a:pathLst>
              <a:path w="146" h="867">
                <a:moveTo>
                  <a:pt x="2" y="333"/>
                </a:moveTo>
                <a:cubicBezTo>
                  <a:pt x="0" y="208"/>
                  <a:pt x="6" y="84"/>
                  <a:pt x="26" y="42"/>
                </a:cubicBezTo>
                <a:cubicBezTo>
                  <a:pt x="46" y="0"/>
                  <a:pt x="106" y="23"/>
                  <a:pt x="125" y="81"/>
                </a:cubicBezTo>
                <a:cubicBezTo>
                  <a:pt x="144" y="139"/>
                  <a:pt x="140" y="306"/>
                  <a:pt x="143" y="393"/>
                </a:cubicBezTo>
                <a:cubicBezTo>
                  <a:pt x="146" y="480"/>
                  <a:pt x="145" y="538"/>
                  <a:pt x="140" y="603"/>
                </a:cubicBezTo>
                <a:cubicBezTo>
                  <a:pt x="135" y="668"/>
                  <a:pt x="127" y="755"/>
                  <a:pt x="110" y="786"/>
                </a:cubicBezTo>
                <a:cubicBezTo>
                  <a:pt x="93" y="817"/>
                  <a:pt x="56" y="867"/>
                  <a:pt x="38" y="792"/>
                </a:cubicBezTo>
                <a:cubicBezTo>
                  <a:pt x="20" y="717"/>
                  <a:pt x="4" y="458"/>
                  <a:pt x="2" y="33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480000" y="3854520"/>
            <a:ext cx="623880" cy="317160"/>
            <a:chOff x="6480000" y="3854520"/>
            <a:chExt cx="623880" cy="317160"/>
          </a:xfrm>
        </p:grpSpPr>
        <p:sp>
          <p:nvSpPr>
            <p:cNvPr id="267" name=""/>
            <p:cNvSpPr/>
            <p:nvPr/>
          </p:nvSpPr>
          <p:spPr>
            <a:xfrm>
              <a:off x="6485040" y="3996000"/>
              <a:ext cx="618840" cy="175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85040" y="398124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03880" y="398124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85040" y="3981240"/>
              <a:ext cx="613440" cy="107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80000" y="3854520"/>
              <a:ext cx="618480" cy="204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6628680" y="3899520"/>
              <a:ext cx="306000" cy="119520"/>
              <a:chOff x="6628680" y="3899520"/>
              <a:chExt cx="306000" cy="1195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6628680" y="389952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838560" y="401904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29480" y="390168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6628680" y="3898080"/>
              <a:ext cx="306000" cy="119520"/>
              <a:chOff x="6628680" y="3898080"/>
              <a:chExt cx="306000" cy="119520"/>
            </a:xfrm>
          </p:grpSpPr>
          <p:sp>
            <p:nvSpPr>
              <p:cNvPr id="277" name=""/>
              <p:cNvSpPr/>
              <p:nvPr/>
            </p:nvSpPr>
            <p:spPr>
              <a:xfrm>
                <a:off x="6628680" y="401544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838560" y="389808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6729480" y="389844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797360" y="2081160"/>
            <a:ext cx="523800" cy="4539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824360" y="3554280"/>
            <a:ext cx="525600" cy="4557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6699240" y="1744560"/>
            <a:ext cx="523800" cy="4539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5546880" y="4551480"/>
            <a:ext cx="523800" cy="453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305320" y="2436840"/>
            <a:ext cx="154080" cy="14479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59400" y="2973240"/>
            <a:ext cx="1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10200" y="2798640"/>
            <a:ext cx="93600" cy="101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10200" y="301140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10200" y="319896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578560" y="2805120"/>
            <a:ext cx="621720" cy="315720"/>
            <a:chOff x="5578560" y="2805120"/>
            <a:chExt cx="621720" cy="315720"/>
          </a:xfrm>
        </p:grpSpPr>
        <p:sp>
          <p:nvSpPr>
            <p:cNvPr id="290" name=""/>
            <p:cNvSpPr/>
            <p:nvPr/>
          </p:nvSpPr>
          <p:spPr>
            <a:xfrm>
              <a:off x="5583600" y="2945880"/>
              <a:ext cx="616680" cy="174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83600" y="293112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00280" y="293112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83600" y="2931120"/>
              <a:ext cx="611280" cy="106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78560" y="2805120"/>
              <a:ext cx="616320" cy="204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5726880" y="2850120"/>
              <a:ext cx="304920" cy="119160"/>
              <a:chOff x="5726880" y="2850120"/>
              <a:chExt cx="304920" cy="119160"/>
            </a:xfrm>
          </p:grpSpPr>
          <p:sp>
            <p:nvSpPr>
              <p:cNvPr id="296" name=""/>
              <p:cNvSpPr/>
              <p:nvPr/>
            </p:nvSpPr>
            <p:spPr>
              <a:xfrm flipV="1">
                <a:off x="5726880" y="285012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936040" y="296928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827320" y="285228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5726880" y="2847960"/>
              <a:ext cx="304920" cy="119160"/>
              <a:chOff x="5726880" y="2847960"/>
              <a:chExt cx="304920" cy="119160"/>
            </a:xfrm>
          </p:grpSpPr>
          <p:sp>
            <p:nvSpPr>
              <p:cNvPr id="300" name=""/>
              <p:cNvSpPr/>
              <p:nvPr/>
            </p:nvSpPr>
            <p:spPr>
              <a:xfrm>
                <a:off x="5726880" y="296496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936040" y="284796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5827320" y="284832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6184800" y="2813040"/>
            <a:ext cx="433440" cy="18576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735600" y="4513320"/>
            <a:ext cx="524160" cy="4554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 rot="16209600">
            <a:off x="6351480" y="3817440"/>
            <a:ext cx="168120" cy="132408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681960" y="417528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6613560" y="2438280"/>
            <a:ext cx="554040" cy="468360"/>
            <a:chOff x="6613560" y="2438280"/>
            <a:chExt cx="554040" cy="468360"/>
          </a:xfrm>
        </p:grpSpPr>
        <p:sp>
          <p:nvSpPr>
            <p:cNvPr id="308" name=""/>
            <p:cNvSpPr/>
            <p:nvPr/>
          </p:nvSpPr>
          <p:spPr>
            <a:xfrm>
              <a:off x="6734520" y="244296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615360" y="250956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681960" y="2639520"/>
              <a:ext cx="304560" cy="119160"/>
              <a:chOff x="6681960" y="2639520"/>
              <a:chExt cx="304560" cy="119160"/>
            </a:xfrm>
          </p:grpSpPr>
          <p:sp>
            <p:nvSpPr>
              <p:cNvPr id="311" name=""/>
              <p:cNvSpPr/>
              <p:nvPr/>
            </p:nvSpPr>
            <p:spPr>
              <a:xfrm>
                <a:off x="6681960" y="275652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890760" y="263952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6782040" y="263988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6677280" y="2631960"/>
              <a:ext cx="303840" cy="119160"/>
              <a:chOff x="6677280" y="2631960"/>
              <a:chExt cx="303840" cy="11916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6677280" y="263196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885720" y="275112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777360" y="263412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6613560" y="243828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37640" y="243828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891480" y="3251160"/>
            <a:ext cx="554040" cy="468360"/>
            <a:chOff x="6891480" y="3251160"/>
            <a:chExt cx="554040" cy="468360"/>
          </a:xfrm>
        </p:grpSpPr>
        <p:sp>
          <p:nvSpPr>
            <p:cNvPr id="321" name=""/>
            <p:cNvSpPr/>
            <p:nvPr/>
          </p:nvSpPr>
          <p:spPr>
            <a:xfrm>
              <a:off x="7012440" y="325584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93280" y="332244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6959880" y="3452400"/>
              <a:ext cx="304560" cy="119160"/>
              <a:chOff x="6959880" y="3452400"/>
              <a:chExt cx="304560" cy="119160"/>
            </a:xfrm>
          </p:grpSpPr>
          <p:sp>
            <p:nvSpPr>
              <p:cNvPr id="324" name=""/>
              <p:cNvSpPr/>
              <p:nvPr/>
            </p:nvSpPr>
            <p:spPr>
              <a:xfrm>
                <a:off x="6959880" y="356940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168680" y="345240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7059960" y="345276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955200" y="3444840"/>
              <a:ext cx="303840" cy="119160"/>
              <a:chOff x="6955200" y="3444840"/>
              <a:chExt cx="303840" cy="119160"/>
            </a:xfrm>
          </p:grpSpPr>
          <p:sp>
            <p:nvSpPr>
              <p:cNvPr id="328" name=""/>
              <p:cNvSpPr/>
              <p:nvPr/>
            </p:nvSpPr>
            <p:spPr>
              <a:xfrm flipV="1">
                <a:off x="6955200" y="344484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63640" y="356400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055280" y="344700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891480" y="325116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15560" y="325116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6908760" y="2184480"/>
            <a:ext cx="100080" cy="24264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75360" y="3718080"/>
            <a:ext cx="123840" cy="16668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942240" y="2913120"/>
            <a:ext cx="271440" cy="33804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768080" y="186048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451280" y="2219400"/>
            <a:ext cx="398520" cy="439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9240" y="442908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243400" y="4022280"/>
            <a:ext cx="141480" cy="452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237280" y="4365360"/>
            <a:ext cx="449280" cy="120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2BE5-0C48-4583-A1F3-28E54D62AD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atagram Journey in IP-over-ATM  Network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1444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 Source Hos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 layer finds mapping between IP, ATM dest address (using AR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ses datagram to AAL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L5 encapsulates data, segments to cells, passes to ATM lay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M network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ves cell along VC to desti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 Destination Hos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AL5  reassembles cells into original datag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CRC OK, datgram is passed to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795320" y="5253120"/>
            <a:ext cx="5429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F746-5E72-438F-857B-ECFF135AA8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RP in ATM Net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 network needs destination ATM addr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st like Ethernet needs destination Ethernet  addr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/ATM address translation done by ATM ARP (Address Resolution Protoco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P server in ATM network performs broadcast of ATM ARP translation request to all connected ATM de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sts can register their ATM addresses with server to avoid looku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302-7F30-4606-99FE-52FB0741F4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X.25 and Frame Rela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ike AT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de area network technologi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rtual circuit orient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ins in telephony wor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be used to carry IP datagra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thus be viewed as Link Layers by IP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6AE-CAFB-49A5-B2D1-8488E66D232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EEE 802.11 MAC Protocol: CSMA/C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7960" y="1639440"/>
            <a:ext cx="4562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802.11 CSMA: sen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- if sense channel id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DIF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 (Distr. Inter Frame Spac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ansmit entire fram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(no collision detecti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-i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nse channel bus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nary backof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802.11 CSMA receiv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received 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turn ACK after SIF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Short Inter Frame Spacing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91160" y="2627280"/>
            <a:ext cx="4162320" cy="27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BA6-5D49-4F21-BB86-1140B251FB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X.25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0" y="1314360"/>
            <a:ext cx="91440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.25 builds VC between source and destination for each user conne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er-hop control along pa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ror control (with retransmissions) on each hop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ant of the HDLC protocol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-hop flow control using credi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gestion arising at intermediate node propagates to previous node on pa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ck to source via  back pressu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9B04-088F-43B3-9E7A-267E0827E1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 versus X.25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.25: reliable in-sequence end-end delivery from end-to-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lligence in the network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P: unreliable, out-of-sequence end-end deliv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lligence in the endpoint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gabit routers: limited processing possi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00: IP wi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FA7-B2D0-48EE-962B-B36DBF57DC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14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rame Rela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14440" y="10857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ed in late ‘80s, widely deployed in the ‘90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me relay servi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error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-to-end congestion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063800" y="3382920"/>
            <a:ext cx="6402240" cy="25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918-1E18-439C-AE31-0BA16093A4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rame Relay (more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1339560"/>
            <a:ext cx="818964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ed t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rconn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rporate customer L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ly permanent VC’s: 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ip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carrying aggregate traffic between two rout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witched VC’s: as in AT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porate customer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leas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 service from public Frame Relay network (eg,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elecom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rint, AT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692360" y="4410000"/>
            <a:ext cx="4890960" cy="213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8CD-97E9-419F-9E4D-AB1AC9A0895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rame Relay -VC Rate Contro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1680" y="1390320"/>
            <a:ext cx="857232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d, “guaranteed” for each V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gotiated at VC set up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stomer pays based on C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 bit: Discard Eligibility b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ge FR switch measures traffic rate for each VC; marks DE b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= 0: high priority, rate compliant frame; deliver at “all cost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= 1: low priority, eligible for discard when conges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B9B-788C-40D5-9136-3E5DFF7C6D2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ummar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42720" y="1134720"/>
            <a:ext cx="8800920" cy="54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nciples behind data link layer servic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rror detection, corr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ing a broadcast channel: multiple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layer addressing, AR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ous link layer technolog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bs, bridges, switch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EEE 802.11 L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.25, Frame Re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urney down the protocol stack now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OV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308-5ECC-4977-BFCA-59B58C47215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EEE 802.11 MAC Protoco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1840" y="2498760"/>
            <a:ext cx="4162320" cy="2733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4456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802.11 CSMA Protocol: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NA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etwork Alloc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02.11 frame has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ansmission time fie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hers (hearing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a) defer access for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AV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ime uni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35E3-2975-4363-8DAE-B21CC92166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idden Terminal effec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26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idden terminal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, C cannot hear each 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stacles, signal attenu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isions at 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void collisions at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SMA/CA: CSMA wi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lision Avoid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52600" y="4381560"/>
            <a:ext cx="5667480" cy="2228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029360" y="5867280"/>
            <a:ext cx="747720" cy="200160"/>
          </a:xfrm>
          <a:prstGeom prst="leftArrow">
            <a:avLst>
              <a:gd name="adj1" fmla="val 50000"/>
              <a:gd name="adj2" fmla="val 93390"/>
            </a:avLst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58720" y="575136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00"/>
                </a:solidFill>
                <a:latin typeface="Comic Sans MS"/>
              </a:rPr>
              <a:t>Thres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7ACF-3D68-4F0E-B50A-B5158329F8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ollision Avoidance: RTS-CTS exchang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99000" y="2189160"/>
            <a:ext cx="4191120" cy="3048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60880" y="1238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7120" y="1550520"/>
            <a:ext cx="420984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SMA/C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explicit channel reserv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der: send shor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request to s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r: reply with shor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clear to s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S reserves channel for sender, notifying (possibly hidden) s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hidden station collision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760-A75C-48BD-A440-08FA7E4C37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ollision Avoidance: RTS-CTS exchang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99000" y="2365200"/>
            <a:ext cx="4191120" cy="3048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60880" y="1238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6960" y="1491840"/>
            <a:ext cx="45403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TS and CTS shor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isions less likely, of shorter du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 result similar to collision det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EEE 802.11 al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w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SMA/CA: reserv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ling from A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2627-51C3-49B6-B6D9-E57F38E568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oint to Point Data Link Contro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7120" y="144576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sender, one receiver, one link: easier than broadcast lin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Media Access Cont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need for explicit MAC addr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dialup link, ISDN 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pular  point-to-point DLC protocol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PP (point-to-point protoco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DLC: High level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a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k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trol (Data link used to be considered “high layer” in protocol stack!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78BF-0FDE-46C2-9970-6AE0F20FB0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PP Design Requirements [RFC 1557]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cket fram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capsulation of network-layer datagram in data link fram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ry network layer data of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n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layer protocol (not just IP)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t </a:t>
            </a:r>
            <a:r>
              <a:rPr b="0" i="1" lang="en-US" sz="2400" spc="-1" strike="noStrike">
                <a:solidFill>
                  <a:srgbClr val="009900"/>
                </a:solidFill>
                <a:latin typeface="Comic Sans MS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ility to demultiplex upwa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it transparenc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ust carry any bit pattern in the data fie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 detec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o correcti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nnection stat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tect, signal link failure to network lay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twork layer address negotia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dpoint can learn/configure each other’s network addr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E4F9-8BDC-4590-9521-ABE8A6BDC7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Eleonora Luppi</cp:lastModifiedBy>
  <cp:lastPrinted>2000-10-23T11:49:35Z</cp:lastPrinted>
  <dcterms:modified xsi:type="dcterms:W3CDTF">2004-06-10T13:01:01Z</dcterms:modified>
  <cp:revision>188</cp:revision>
  <dc:subject/>
  <dc:title>Part I: Introduction</dc:title>
</cp:coreProperties>
</file>