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BED-9F9A-4B2E-A43F-32AB1853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3E6-DF34-4D4B-B964-9DF6042C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01D-9490-4764-9FEA-78A55C69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45B-01A4-4554-89CB-C6D86F62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B0BA-A6ED-403B-9AC8-718F6C6E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D52-244B-4CCD-A301-70370C5F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F12-4E39-41D2-B127-A7B11243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4D63-7C2E-4A32-BABD-C0213F4C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3A1-8A86-439E-85D0-D4967853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F56-81B0-45B7-A2BD-1AA08665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3AE-EE5E-4B49-9492-8885B131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60B-4033-4C78-BE37-D0DA03D8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D1E-25FF-4E4F-988A-DF8DC1854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image" Target="../media/image2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cas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571400"/>
            <a:ext cx="846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 to now we have seen  protocols dealing with on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nder and on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eiver: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pplications need t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ne or more sender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municate with 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group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eleconference, automatic software update…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ultic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867-106A-41DC-BE96-D564B3AAE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w can we do it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 mode : n unicas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icit mode: a single datagram sent is replicated by rou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66840" y="131112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859880" y="173520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2040" y="353844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72240" y="3633840"/>
            <a:ext cx="432000" cy="54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624800" y="3373560"/>
            <a:ext cx="393840" cy="9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075520" y="3178080"/>
            <a:ext cx="208080" cy="409680"/>
            <a:chOff x="8075520" y="3178080"/>
            <a:chExt cx="208080" cy="409680"/>
          </a:xfrm>
        </p:grpSpPr>
        <p:sp>
          <p:nvSpPr>
            <p:cNvPr id="52" name=""/>
            <p:cNvSpPr/>
            <p:nvPr/>
          </p:nvSpPr>
          <p:spPr>
            <a:xfrm>
              <a:off x="8075520" y="34930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80640" y="31806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6600" y="32698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75520" y="31780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83600" y="31845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8208360" y="34930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093160" y="33112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105760" y="33660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048520" y="4008600"/>
            <a:ext cx="208080" cy="408960"/>
            <a:chOff x="8048520" y="4008600"/>
            <a:chExt cx="208080" cy="408960"/>
          </a:xfrm>
        </p:grpSpPr>
        <p:sp>
          <p:nvSpPr>
            <p:cNvPr id="61" name=""/>
            <p:cNvSpPr/>
            <p:nvPr/>
          </p:nvSpPr>
          <p:spPr>
            <a:xfrm>
              <a:off x="8048520" y="43232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3640" y="4011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049600" y="410040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48520" y="40086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56600" y="4015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8181360" y="4323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66160" y="414180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78760" y="4196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9400" y="2503440"/>
            <a:ext cx="757440" cy="22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92960" y="2854440"/>
            <a:ext cx="5871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7453080" y="1971720"/>
            <a:ext cx="43812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5140440" y="2406240"/>
            <a:ext cx="86040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40360" y="2557440"/>
            <a:ext cx="657360" cy="372960"/>
            <a:chOff x="5940360" y="2557440"/>
            <a:chExt cx="657360" cy="372960"/>
          </a:xfrm>
        </p:grpSpPr>
        <p:sp>
          <p:nvSpPr>
            <p:cNvPr id="75" name=""/>
            <p:cNvSpPr/>
            <p:nvPr/>
          </p:nvSpPr>
          <p:spPr>
            <a:xfrm>
              <a:off x="5940360" y="2557440"/>
              <a:ext cx="657360" cy="3729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6013440" y="2641320"/>
              <a:ext cx="490680" cy="224280"/>
              <a:chOff x="6013440" y="2641320"/>
              <a:chExt cx="490680" cy="224280"/>
            </a:xfrm>
          </p:grpSpPr>
          <p:sp>
            <p:nvSpPr>
              <p:cNvPr id="77" name=""/>
              <p:cNvSpPr/>
              <p:nvPr/>
            </p:nvSpPr>
            <p:spPr>
              <a:xfrm>
                <a:off x="6017400" y="2741400"/>
                <a:ext cx="486360" cy="124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7400" y="273060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04120" y="273060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7400" y="2730600"/>
                <a:ext cx="482040" cy="75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3440" y="2641320"/>
                <a:ext cx="486360" cy="14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6130440" y="2673000"/>
                <a:ext cx="240840" cy="84600"/>
                <a:chOff x="6130440" y="2673000"/>
                <a:chExt cx="240840" cy="84600"/>
              </a:xfrm>
            </p:grpSpPr>
            <p:sp>
              <p:nvSpPr>
                <p:cNvPr id="83" name=""/>
                <p:cNvSpPr/>
                <p:nvPr/>
              </p:nvSpPr>
              <p:spPr>
                <a:xfrm flipV="1">
                  <a:off x="6130440" y="267300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295680" y="275760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209640" y="267444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130440" y="2671560"/>
                <a:ext cx="240840" cy="84600"/>
                <a:chOff x="6130440" y="2671560"/>
                <a:chExt cx="240840" cy="84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30440" y="275472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295680" y="267156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6209640" y="267192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6950160" y="2157480"/>
            <a:ext cx="671400" cy="387360"/>
            <a:chOff x="6950160" y="2157480"/>
            <a:chExt cx="671400" cy="387360"/>
          </a:xfrm>
        </p:grpSpPr>
        <p:sp>
          <p:nvSpPr>
            <p:cNvPr id="91" name=""/>
            <p:cNvSpPr/>
            <p:nvPr/>
          </p:nvSpPr>
          <p:spPr>
            <a:xfrm>
              <a:off x="6950160" y="215748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024680" y="2244600"/>
              <a:ext cx="501120" cy="232920"/>
              <a:chOff x="7024680" y="2244600"/>
              <a:chExt cx="501120" cy="232920"/>
            </a:xfrm>
          </p:grpSpPr>
          <p:sp>
            <p:nvSpPr>
              <p:cNvPr id="93" name=""/>
              <p:cNvSpPr/>
              <p:nvPr/>
            </p:nvSpPr>
            <p:spPr>
              <a:xfrm>
                <a:off x="7028640" y="234864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28640" y="2337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525800" y="2337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28640" y="23374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024680" y="224460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7144200" y="2277360"/>
                <a:ext cx="245880" cy="88200"/>
                <a:chOff x="7144200" y="2277360"/>
                <a:chExt cx="245880" cy="8820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7144200" y="2277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312680" y="236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225200" y="2279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144200" y="2276640"/>
                <a:ext cx="245880" cy="88200"/>
                <a:chOff x="7144200" y="2276640"/>
                <a:chExt cx="245880" cy="882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144200" y="2363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312680" y="227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7225200" y="22766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6" name=""/>
          <p:cNvGrpSpPr/>
          <p:nvPr/>
        </p:nvGrpSpPr>
        <p:grpSpPr>
          <a:xfrm>
            <a:off x="7031160" y="3271680"/>
            <a:ext cx="671400" cy="387360"/>
            <a:chOff x="7031160" y="3271680"/>
            <a:chExt cx="671400" cy="387360"/>
          </a:xfrm>
        </p:grpSpPr>
        <p:sp>
          <p:nvSpPr>
            <p:cNvPr id="107" name=""/>
            <p:cNvSpPr/>
            <p:nvPr/>
          </p:nvSpPr>
          <p:spPr>
            <a:xfrm>
              <a:off x="7031160" y="327168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105680" y="3358800"/>
              <a:ext cx="501120" cy="232920"/>
              <a:chOff x="7105680" y="3358800"/>
              <a:chExt cx="501120" cy="232920"/>
            </a:xfrm>
          </p:grpSpPr>
          <p:sp>
            <p:nvSpPr>
              <p:cNvPr id="109" name=""/>
              <p:cNvSpPr/>
              <p:nvPr/>
            </p:nvSpPr>
            <p:spPr>
              <a:xfrm>
                <a:off x="7109640" y="346284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09640" y="3451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06800" y="3451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09640" y="34516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05680" y="335880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7225200" y="3391560"/>
                <a:ext cx="245880" cy="88200"/>
                <a:chOff x="7225200" y="3391560"/>
                <a:chExt cx="245880" cy="88200"/>
              </a:xfrm>
            </p:grpSpPr>
            <p:sp>
              <p:nvSpPr>
                <p:cNvPr id="115" name=""/>
                <p:cNvSpPr/>
                <p:nvPr/>
              </p:nvSpPr>
              <p:spPr>
                <a:xfrm flipV="1">
                  <a:off x="7225200" y="33915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393680" y="3479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306200" y="33937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225200" y="3390840"/>
                <a:ext cx="245880" cy="88200"/>
                <a:chOff x="7225200" y="3390840"/>
                <a:chExt cx="245880" cy="88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225200" y="3477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93680" y="3390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7306200" y="3390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"/>
          <p:cNvSpPr/>
          <p:nvPr/>
        </p:nvSpPr>
        <p:spPr>
          <a:xfrm>
            <a:off x="6602400" y="2873520"/>
            <a:ext cx="74916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197760" y="6002280"/>
            <a:ext cx="417240" cy="331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710480" y="5114880"/>
            <a:ext cx="431640" cy="54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734240" y="4869000"/>
            <a:ext cx="393840" cy="9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56600" y="4616280"/>
            <a:ext cx="208080" cy="409680"/>
            <a:chOff x="8256600" y="4616280"/>
            <a:chExt cx="208080" cy="409680"/>
          </a:xfrm>
        </p:grpSpPr>
        <p:sp>
          <p:nvSpPr>
            <p:cNvPr id="127" name=""/>
            <p:cNvSpPr/>
            <p:nvPr/>
          </p:nvSpPr>
          <p:spPr>
            <a:xfrm>
              <a:off x="8256600" y="4931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61720" y="4618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57680" y="4708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56600" y="4616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64680" y="4622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389440" y="4931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74240" y="4749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86840" y="4804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244000" y="5460840"/>
            <a:ext cx="207720" cy="409680"/>
            <a:chOff x="8244000" y="5460840"/>
            <a:chExt cx="207720" cy="409680"/>
          </a:xfrm>
        </p:grpSpPr>
        <p:sp>
          <p:nvSpPr>
            <p:cNvPr id="136" name=""/>
            <p:cNvSpPr/>
            <p:nvPr/>
          </p:nvSpPr>
          <p:spPr>
            <a:xfrm>
              <a:off x="8244000" y="577584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349120" y="5463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45080" y="555264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44000" y="546084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51720" y="5467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376480" y="57758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61640" y="559404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74240" y="5648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 flipV="1">
            <a:off x="5936760" y="4557600"/>
            <a:ext cx="27000" cy="5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45240" y="3006720"/>
            <a:ext cx="58752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30640" y="3902040"/>
            <a:ext cx="74952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58080" y="5467320"/>
            <a:ext cx="233280" cy="474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06960" y="2587320"/>
            <a:ext cx="86040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78640" y="4167360"/>
            <a:ext cx="657000" cy="372960"/>
            <a:chOff x="5678640" y="4167360"/>
            <a:chExt cx="657000" cy="372960"/>
          </a:xfrm>
        </p:grpSpPr>
        <p:sp>
          <p:nvSpPr>
            <p:cNvPr id="150" name=""/>
            <p:cNvSpPr/>
            <p:nvPr/>
          </p:nvSpPr>
          <p:spPr>
            <a:xfrm>
              <a:off x="5678640" y="4167360"/>
              <a:ext cx="657000" cy="3729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751720" y="4251240"/>
              <a:ext cx="490320" cy="224280"/>
              <a:chOff x="5751720" y="4251240"/>
              <a:chExt cx="490320" cy="224280"/>
            </a:xfrm>
          </p:grpSpPr>
          <p:sp>
            <p:nvSpPr>
              <p:cNvPr id="152" name=""/>
              <p:cNvSpPr/>
              <p:nvPr/>
            </p:nvSpPr>
            <p:spPr>
              <a:xfrm>
                <a:off x="5755680" y="4351320"/>
                <a:ext cx="486000" cy="124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55680" y="434052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242040" y="434052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755680" y="4340520"/>
                <a:ext cx="481680" cy="75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1720" y="4251240"/>
                <a:ext cx="486000" cy="14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868720" y="4282920"/>
                <a:ext cx="240480" cy="84600"/>
                <a:chOff x="5868720" y="4282920"/>
                <a:chExt cx="240480" cy="84600"/>
              </a:xfrm>
            </p:grpSpPr>
            <p:sp>
              <p:nvSpPr>
                <p:cNvPr id="158" name=""/>
                <p:cNvSpPr/>
                <p:nvPr/>
              </p:nvSpPr>
              <p:spPr>
                <a:xfrm flipV="1">
                  <a:off x="5868720" y="428292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33600" y="436752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947920" y="428436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868720" y="4281480"/>
                <a:ext cx="240480" cy="84600"/>
                <a:chOff x="5868720" y="4281480"/>
                <a:chExt cx="240480" cy="84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868720" y="436464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033600" y="428148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947920" y="428184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5" name=""/>
          <p:cNvGrpSpPr/>
          <p:nvPr/>
        </p:nvGrpSpPr>
        <p:grpSpPr>
          <a:xfrm>
            <a:off x="5745240" y="5095800"/>
            <a:ext cx="671400" cy="387360"/>
            <a:chOff x="5745240" y="5095800"/>
            <a:chExt cx="671400" cy="387360"/>
          </a:xfrm>
        </p:grpSpPr>
        <p:sp>
          <p:nvSpPr>
            <p:cNvPr id="166" name=""/>
            <p:cNvSpPr/>
            <p:nvPr/>
          </p:nvSpPr>
          <p:spPr>
            <a:xfrm>
              <a:off x="5745240" y="509580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819760" y="5182920"/>
              <a:ext cx="501120" cy="232920"/>
              <a:chOff x="5819760" y="5182920"/>
              <a:chExt cx="501120" cy="232920"/>
            </a:xfrm>
          </p:grpSpPr>
          <p:sp>
            <p:nvSpPr>
              <p:cNvPr id="168" name=""/>
              <p:cNvSpPr/>
              <p:nvPr/>
            </p:nvSpPr>
            <p:spPr>
              <a:xfrm>
                <a:off x="5823720" y="5286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23720" y="5275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20880" y="5275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23720" y="5275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9760" y="5182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5939280" y="5215680"/>
                <a:ext cx="245880" cy="88200"/>
                <a:chOff x="5939280" y="5215680"/>
                <a:chExt cx="245880" cy="88200"/>
              </a:xfrm>
            </p:grpSpPr>
            <p:sp>
              <p:nvSpPr>
                <p:cNvPr id="174" name=""/>
                <p:cNvSpPr/>
                <p:nvPr/>
              </p:nvSpPr>
              <p:spPr>
                <a:xfrm flipV="1">
                  <a:off x="5939280" y="5215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07760" y="5303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20280" y="5217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939280" y="5214960"/>
                <a:ext cx="245880" cy="88200"/>
                <a:chOff x="5939280" y="5214960"/>
                <a:chExt cx="245880" cy="882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939280" y="5301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107760" y="5214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6020280" y="5214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040520" y="4795920"/>
            <a:ext cx="671400" cy="387360"/>
            <a:chOff x="7040520" y="4795920"/>
            <a:chExt cx="671400" cy="387360"/>
          </a:xfrm>
        </p:grpSpPr>
        <p:sp>
          <p:nvSpPr>
            <p:cNvPr id="182" name=""/>
            <p:cNvSpPr/>
            <p:nvPr/>
          </p:nvSpPr>
          <p:spPr>
            <a:xfrm>
              <a:off x="7040520" y="4795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7115040" y="4883040"/>
              <a:ext cx="501120" cy="232920"/>
              <a:chOff x="7115040" y="4883040"/>
              <a:chExt cx="501120" cy="232920"/>
            </a:xfrm>
          </p:grpSpPr>
          <p:sp>
            <p:nvSpPr>
              <p:cNvPr id="184" name=""/>
              <p:cNvSpPr/>
              <p:nvPr/>
            </p:nvSpPr>
            <p:spPr>
              <a:xfrm>
                <a:off x="7119000" y="4987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19000" y="4975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16160" y="4975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19000" y="4975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5040" y="4883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7234560" y="4915800"/>
                <a:ext cx="245880" cy="88200"/>
                <a:chOff x="7234560" y="4915800"/>
                <a:chExt cx="245880" cy="88200"/>
              </a:xfrm>
            </p:grpSpPr>
            <p:sp>
              <p:nvSpPr>
                <p:cNvPr id="190" name=""/>
                <p:cNvSpPr/>
                <p:nvPr/>
              </p:nvSpPr>
              <p:spPr>
                <a:xfrm flipV="1">
                  <a:off x="7234560" y="4915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403040" y="5004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15560" y="4917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7234560" y="4915080"/>
                <a:ext cx="245880" cy="88200"/>
                <a:chOff x="7234560" y="4915080"/>
                <a:chExt cx="245880" cy="88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234560" y="5001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03040" y="4915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7315560" y="4915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" name=""/>
          <p:cNvSpPr/>
          <p:nvPr/>
        </p:nvSpPr>
        <p:spPr>
          <a:xfrm>
            <a:off x="6283440" y="4454640"/>
            <a:ext cx="74916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754520" y="23050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96B-8934-4177-A1A2-FA3365BB7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cast Address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360" y="1271520"/>
            <a:ext cx="423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cast addr. uses gli class D addr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very host has an unique unicast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net Group Management Protocol (IGMP) manages the communication of a single host linked to a router with multicast 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ulticast routers coordination needs a network-layer protocol for multicast routing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59520" y="3564000"/>
            <a:ext cx="546120" cy="1132920"/>
            <a:chOff x="5159520" y="3564000"/>
            <a:chExt cx="546120" cy="113292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159520" y="356400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flipV="1">
              <a:off x="5622840" y="386604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5159520" y="429192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 flipV="1">
              <a:off x="5622840" y="459864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302440" y="3981960"/>
              <a:ext cx="81000" cy="272160"/>
              <a:chOff x="5302440" y="3981960"/>
              <a:chExt cx="81000" cy="272160"/>
            </a:xfrm>
          </p:grpSpPr>
          <p:sp>
            <p:nvSpPr>
              <p:cNvPr id="208" name=""/>
              <p:cNvSpPr/>
              <p:nvPr/>
            </p:nvSpPr>
            <p:spPr>
              <a:xfrm>
                <a:off x="5302440" y="398196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05680" y="407988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08920" y="417780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699160" y="386244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8000" y="2297160"/>
            <a:ext cx="37332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951600" y="3078000"/>
            <a:ext cx="231840" cy="14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224" name="" descr=""/>
            <p:cNvPicPr/>
            <p:nvPr/>
          </p:nvPicPr>
          <p:blipFill>
            <a:blip r:embed="rId5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227" name="" descr=""/>
            <p:cNvPicPr/>
            <p:nvPr/>
          </p:nvPicPr>
          <p:blipFill>
            <a:blip r:embed="rId7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8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230" name="" descr=""/>
            <p:cNvPicPr/>
            <p:nvPr/>
          </p:nvPicPr>
          <p:blipFill>
            <a:blip r:embed="rId9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234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243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7818480" y="428904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78480" y="2360520"/>
            <a:ext cx="36828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256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262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266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270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276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280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284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290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294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298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304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308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0" y="2371680"/>
            <a:ext cx="1533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ulticast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26.17.30.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7327440" y="3254040"/>
            <a:ext cx="36036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826160" y="1716120"/>
            <a:ext cx="546120" cy="1132920"/>
            <a:chOff x="4826160" y="1716120"/>
            <a:chExt cx="546120" cy="1132920"/>
          </a:xfrm>
        </p:grpSpPr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4826160" y="171612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 flipV="1">
              <a:off x="5289480" y="201816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11"/>
            <a:stretch/>
          </p:blipFill>
          <p:spPr>
            <a:xfrm>
              <a:off x="4826160" y="244404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V="1">
              <a:off x="5289480" y="275076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969080" y="2134080"/>
              <a:ext cx="81000" cy="272160"/>
              <a:chOff x="4969080" y="2134080"/>
              <a:chExt cx="81000" cy="272160"/>
            </a:xfrm>
          </p:grpSpPr>
          <p:sp>
            <p:nvSpPr>
              <p:cNvPr id="320" name=""/>
              <p:cNvSpPr/>
              <p:nvPr/>
            </p:nvSpPr>
            <p:spPr>
              <a:xfrm>
                <a:off x="4969080" y="213408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2320" y="223200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5560" y="232992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5365800" y="201456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 flipV="1">
            <a:off x="6111720" y="3092040"/>
            <a:ext cx="654120" cy="9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A44-9084-4189-B720-36A26B25AB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27T12:27:39Z</dcterms:modified>
  <cp:revision>52</cp:revision>
  <dc:subject/>
  <dc:title>Part I: Introduction</dc:title>
</cp:coreProperties>
</file>