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4DD-0C8F-41CB-B998-8188FAB3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02E-3038-464C-91D8-7B3ED7F3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0EB-594A-4FD4-BDD5-BE12AFDF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7C3-DB38-4F8E-901D-80E51C9F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D5C4-A9F6-4A8B-AC64-EE023176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5E3-BB9E-4376-AA98-3561FCED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16A4-2D00-4948-88EB-72192F5B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42C-BD72-43DF-88E9-EBDFC4FF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9236-F3DB-4623-8F0E-CC3F5972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084-3DE5-43FB-BA21-444290A4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ABE-B2A6-4705-A472-0B31DA73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0657-5AE9-4753-A804-2A9E9F93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3440" y="6400800"/>
            <a:ext cx="778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work Lay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rose, Ross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ernet e reti di calcol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11BE2F80-6BB1-45C4-AB7F-A58B9E9B8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v6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1200" y="1401480"/>
            <a:ext cx="8205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itial motivation: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2-bit address space completely allocated by 2008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al motiv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der format helps speed processing/forwar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der changes to facilitate Q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“anycast” address: route to “best” of several replicated serv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Pv6 datagram form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xed-length 40 byte hea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 fragmentation allow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1DD0-BF2D-4359-BF8E-2B3DCCA05E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v6 Header (Cont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4680" y="3143160"/>
            <a:ext cx="4865400" cy="3279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0560" y="1359000"/>
            <a:ext cx="737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iorit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dentify priority among datagrams i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Flow Labe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entify datagrams in same “flow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ncept of“flow” not well defin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Next head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entify upper layer protocol for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F8D-2B30-441E-B3C9-62CD6EE38F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ther Changes from IPv4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Checksum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ved entirely to reduce processing time at each h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O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lowed, but outside of header, indicated by “Next Header” fie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ICMPv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ew version of ICM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 message types, e.g. “Packet Too Bi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ultica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roup management fun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01E-AC2D-4F77-AF6A-DD4C5C517D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ransition From IPv4 To IPv6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all routers can be upgraded simultane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“flag day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will the network operate with mixed IPv4 and IPv6 routers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proposed approach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Comic Sans MS"/>
              </a:rPr>
              <a:t>Dual Sta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some routers with dual stack (v6, v4) can “translate” between form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Comic Sans MS"/>
              </a:rPr>
              <a:t>Tunnel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Pv6 carried as payload in IPv4 datagram among IPv4 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A26-8A3C-4A64-83EF-7441F03F4C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ual Stack Approac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4520" y="1539720"/>
            <a:ext cx="8135640" cy="381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AA9-A54C-4A28-A386-1A8021D2BC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6960" y="16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unnel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39560" y="1117440"/>
            <a:ext cx="6083640" cy="5450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75520" y="2346480"/>
            <a:ext cx="36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IPv6 inside IPv4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33440" y="2398680"/>
            <a:ext cx="2246400" cy="693720"/>
          </a:xfrm>
          <a:custGeom>
            <a:avLst/>
            <a:gdLst/>
            <a:ahLst/>
            <a:rect l="l" t="t" r="r" b="b"/>
            <a:pathLst>
              <a:path w="1415" h="437">
                <a:moveTo>
                  <a:pt x="0" y="415"/>
                </a:moveTo>
                <a:lnTo>
                  <a:pt x="0" y="0"/>
                </a:lnTo>
                <a:lnTo>
                  <a:pt x="1415" y="0"/>
                </a:lnTo>
                <a:lnTo>
                  <a:pt x="1415" y="43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D97-71FF-42FC-9358-43F28D054E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cas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571400"/>
            <a:ext cx="8467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 to now we have seen  protocols dealing with on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nder and on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eceiver: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Comic Sans MS"/>
              </a:rPr>
              <a:t>unica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applications need tha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ne or more sender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unicate with a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group of receiv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eleconference, automatic software update…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ultica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FD1-CCD5-45DA-BDEE-770F5C15F5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ow can we do it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icit mode : n unicast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icit mode: a single datagram sent is replicated by router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66840" y="131112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859880" y="1735200"/>
            <a:ext cx="417240" cy="331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02040" y="3538440"/>
            <a:ext cx="416160" cy="330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72240" y="3633840"/>
            <a:ext cx="432000" cy="54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624800" y="3373560"/>
            <a:ext cx="393840" cy="9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8075520" y="3178080"/>
            <a:ext cx="208080" cy="409680"/>
            <a:chOff x="8075520" y="3178080"/>
            <a:chExt cx="208080" cy="409680"/>
          </a:xfrm>
        </p:grpSpPr>
        <p:sp>
          <p:nvSpPr>
            <p:cNvPr id="67" name=""/>
            <p:cNvSpPr/>
            <p:nvPr/>
          </p:nvSpPr>
          <p:spPr>
            <a:xfrm>
              <a:off x="8075520" y="34930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80640" y="318060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076600" y="326988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75520" y="31780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283600" y="31845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8208360" y="34930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093160" y="331128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05760" y="336600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8048520" y="4008600"/>
            <a:ext cx="208080" cy="408960"/>
            <a:chOff x="8048520" y="4008600"/>
            <a:chExt cx="208080" cy="408960"/>
          </a:xfrm>
        </p:grpSpPr>
        <p:sp>
          <p:nvSpPr>
            <p:cNvPr id="76" name=""/>
            <p:cNvSpPr/>
            <p:nvPr/>
          </p:nvSpPr>
          <p:spPr>
            <a:xfrm>
              <a:off x="8048520" y="432324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53640" y="401112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49600" y="410040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48520" y="400860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256600" y="401508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181360" y="432324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6160" y="414180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78760" y="419652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 flipV="1">
            <a:off x="6483240" y="2490840"/>
            <a:ext cx="459000" cy="20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9400" y="2503440"/>
            <a:ext cx="757440" cy="22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92960" y="2854440"/>
            <a:ext cx="587160" cy="523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453080" y="1971720"/>
            <a:ext cx="438120" cy="274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5140440" y="2406240"/>
            <a:ext cx="860400" cy="25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940360" y="2557440"/>
            <a:ext cx="657360" cy="372960"/>
            <a:chOff x="5940360" y="2557440"/>
            <a:chExt cx="657360" cy="372960"/>
          </a:xfrm>
        </p:grpSpPr>
        <p:sp>
          <p:nvSpPr>
            <p:cNvPr id="90" name=""/>
            <p:cNvSpPr/>
            <p:nvPr/>
          </p:nvSpPr>
          <p:spPr>
            <a:xfrm>
              <a:off x="5940360" y="2557440"/>
              <a:ext cx="657360" cy="3729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6013440" y="2641320"/>
              <a:ext cx="490680" cy="224280"/>
              <a:chOff x="6013440" y="2641320"/>
              <a:chExt cx="490680" cy="224280"/>
            </a:xfrm>
          </p:grpSpPr>
          <p:sp>
            <p:nvSpPr>
              <p:cNvPr id="92" name=""/>
              <p:cNvSpPr/>
              <p:nvPr/>
            </p:nvSpPr>
            <p:spPr>
              <a:xfrm>
                <a:off x="6017400" y="2741400"/>
                <a:ext cx="486360" cy="1242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017400" y="2730600"/>
                <a:ext cx="0" cy="7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504120" y="2730600"/>
                <a:ext cx="0" cy="7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017400" y="2730600"/>
                <a:ext cx="482040" cy="75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013440" y="2641320"/>
                <a:ext cx="486360" cy="144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6130440" y="2673000"/>
                <a:ext cx="240840" cy="84600"/>
                <a:chOff x="6130440" y="2673000"/>
                <a:chExt cx="240840" cy="84600"/>
              </a:xfrm>
            </p:grpSpPr>
            <p:sp>
              <p:nvSpPr>
                <p:cNvPr id="98" name=""/>
                <p:cNvSpPr/>
                <p:nvPr/>
              </p:nvSpPr>
              <p:spPr>
                <a:xfrm flipV="1">
                  <a:off x="6130440" y="2673000"/>
                  <a:ext cx="856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295680" y="2757600"/>
                  <a:ext cx="75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209640" y="2674440"/>
                  <a:ext cx="8928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6130440" y="2671560"/>
                <a:ext cx="240840" cy="84600"/>
                <a:chOff x="6130440" y="2671560"/>
                <a:chExt cx="240840" cy="846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6130440" y="2754720"/>
                  <a:ext cx="856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295680" y="2671560"/>
                  <a:ext cx="75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V="1">
                  <a:off x="6209640" y="2671920"/>
                  <a:ext cx="8928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5" name=""/>
          <p:cNvGrpSpPr/>
          <p:nvPr/>
        </p:nvGrpSpPr>
        <p:grpSpPr>
          <a:xfrm>
            <a:off x="6950160" y="2157480"/>
            <a:ext cx="671400" cy="387360"/>
            <a:chOff x="6950160" y="2157480"/>
            <a:chExt cx="671400" cy="387360"/>
          </a:xfrm>
        </p:grpSpPr>
        <p:sp>
          <p:nvSpPr>
            <p:cNvPr id="106" name=""/>
            <p:cNvSpPr/>
            <p:nvPr/>
          </p:nvSpPr>
          <p:spPr>
            <a:xfrm>
              <a:off x="6950160" y="215748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7024680" y="2244600"/>
              <a:ext cx="501120" cy="232920"/>
              <a:chOff x="7024680" y="2244600"/>
              <a:chExt cx="501120" cy="232920"/>
            </a:xfrm>
          </p:grpSpPr>
          <p:sp>
            <p:nvSpPr>
              <p:cNvPr id="108" name=""/>
              <p:cNvSpPr/>
              <p:nvPr/>
            </p:nvSpPr>
            <p:spPr>
              <a:xfrm>
                <a:off x="7028640" y="234864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28640" y="23374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25800" y="23374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28640" y="233748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24680" y="224460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7144200" y="2277360"/>
                <a:ext cx="245880" cy="88200"/>
                <a:chOff x="7144200" y="2277360"/>
                <a:chExt cx="245880" cy="88200"/>
              </a:xfrm>
            </p:grpSpPr>
            <p:sp>
              <p:nvSpPr>
                <p:cNvPr id="114" name=""/>
                <p:cNvSpPr/>
                <p:nvPr/>
              </p:nvSpPr>
              <p:spPr>
                <a:xfrm flipV="1">
                  <a:off x="7144200" y="22773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312680" y="2365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225200" y="22795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7144200" y="2276640"/>
                <a:ext cx="245880" cy="88200"/>
                <a:chOff x="7144200" y="2276640"/>
                <a:chExt cx="245880" cy="882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144200" y="23630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312680" y="2276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V="1">
                  <a:off x="7225200" y="22766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1" name=""/>
          <p:cNvGrpSpPr/>
          <p:nvPr/>
        </p:nvGrpSpPr>
        <p:grpSpPr>
          <a:xfrm>
            <a:off x="7031160" y="3271680"/>
            <a:ext cx="671400" cy="387360"/>
            <a:chOff x="7031160" y="3271680"/>
            <a:chExt cx="671400" cy="387360"/>
          </a:xfrm>
        </p:grpSpPr>
        <p:sp>
          <p:nvSpPr>
            <p:cNvPr id="122" name=""/>
            <p:cNvSpPr/>
            <p:nvPr/>
          </p:nvSpPr>
          <p:spPr>
            <a:xfrm>
              <a:off x="7031160" y="327168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7105680" y="3358800"/>
              <a:ext cx="501120" cy="232920"/>
              <a:chOff x="7105680" y="3358800"/>
              <a:chExt cx="501120" cy="232920"/>
            </a:xfrm>
          </p:grpSpPr>
          <p:sp>
            <p:nvSpPr>
              <p:cNvPr id="124" name=""/>
              <p:cNvSpPr/>
              <p:nvPr/>
            </p:nvSpPr>
            <p:spPr>
              <a:xfrm>
                <a:off x="7109640" y="346284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109640" y="34516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06800" y="34516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109640" y="345168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105680" y="335880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7225200" y="3391560"/>
                <a:ext cx="245880" cy="88200"/>
                <a:chOff x="7225200" y="3391560"/>
                <a:chExt cx="245880" cy="88200"/>
              </a:xfrm>
            </p:grpSpPr>
            <p:sp>
              <p:nvSpPr>
                <p:cNvPr id="130" name=""/>
                <p:cNvSpPr/>
                <p:nvPr/>
              </p:nvSpPr>
              <p:spPr>
                <a:xfrm flipV="1">
                  <a:off x="7225200" y="33915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393680" y="34797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306200" y="33937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7225200" y="3390840"/>
                <a:ext cx="245880" cy="88200"/>
                <a:chOff x="7225200" y="3390840"/>
                <a:chExt cx="245880" cy="882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225200" y="34772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393680" y="33908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V="1">
                  <a:off x="7306200" y="33908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7" name=""/>
          <p:cNvSpPr/>
          <p:nvPr/>
        </p:nvSpPr>
        <p:spPr>
          <a:xfrm>
            <a:off x="6602400" y="2873520"/>
            <a:ext cx="749160" cy="411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197760" y="6002280"/>
            <a:ext cx="417240" cy="331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710480" y="5114880"/>
            <a:ext cx="431640" cy="54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734240" y="4869000"/>
            <a:ext cx="393840" cy="9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256600" y="4616280"/>
            <a:ext cx="208080" cy="409680"/>
            <a:chOff x="8256600" y="4616280"/>
            <a:chExt cx="208080" cy="409680"/>
          </a:xfrm>
        </p:grpSpPr>
        <p:sp>
          <p:nvSpPr>
            <p:cNvPr id="142" name=""/>
            <p:cNvSpPr/>
            <p:nvPr/>
          </p:nvSpPr>
          <p:spPr>
            <a:xfrm>
              <a:off x="8256600" y="4931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61720" y="461880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57680" y="470808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6600" y="4616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464680" y="46227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8389440" y="49312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74240" y="474948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86840" y="480420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8244000" y="5460840"/>
            <a:ext cx="207720" cy="409680"/>
            <a:chOff x="8244000" y="5460840"/>
            <a:chExt cx="207720" cy="409680"/>
          </a:xfrm>
        </p:grpSpPr>
        <p:sp>
          <p:nvSpPr>
            <p:cNvPr id="151" name=""/>
            <p:cNvSpPr/>
            <p:nvPr/>
          </p:nvSpPr>
          <p:spPr>
            <a:xfrm>
              <a:off x="8244000" y="577584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49120" y="546336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45080" y="5552640"/>
              <a:ext cx="13140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244000" y="546084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51720" y="546732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8376480" y="577584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61640" y="5594040"/>
              <a:ext cx="8712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74240" y="56487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 flipH="1" flipV="1">
            <a:off x="5936760" y="4557600"/>
            <a:ext cx="27000" cy="565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45240" y="3006720"/>
            <a:ext cx="587520" cy="523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30640" y="3902040"/>
            <a:ext cx="749520" cy="411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58080" y="5467320"/>
            <a:ext cx="233280" cy="474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5106960" y="2587320"/>
            <a:ext cx="860400" cy="25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678640" y="4167360"/>
            <a:ext cx="657000" cy="372960"/>
            <a:chOff x="5678640" y="4167360"/>
            <a:chExt cx="657000" cy="372960"/>
          </a:xfrm>
        </p:grpSpPr>
        <p:sp>
          <p:nvSpPr>
            <p:cNvPr id="165" name=""/>
            <p:cNvSpPr/>
            <p:nvPr/>
          </p:nvSpPr>
          <p:spPr>
            <a:xfrm>
              <a:off x="5678640" y="4167360"/>
              <a:ext cx="657000" cy="3729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51720" y="4251240"/>
              <a:ext cx="490320" cy="224280"/>
              <a:chOff x="5751720" y="4251240"/>
              <a:chExt cx="490320" cy="224280"/>
            </a:xfrm>
          </p:grpSpPr>
          <p:sp>
            <p:nvSpPr>
              <p:cNvPr id="167" name=""/>
              <p:cNvSpPr/>
              <p:nvPr/>
            </p:nvSpPr>
            <p:spPr>
              <a:xfrm>
                <a:off x="5755680" y="4351320"/>
                <a:ext cx="486000" cy="1242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755680" y="4340520"/>
                <a:ext cx="0" cy="7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42040" y="4340520"/>
                <a:ext cx="0" cy="7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55680" y="4340520"/>
                <a:ext cx="481680" cy="75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51720" y="4251240"/>
                <a:ext cx="486000" cy="144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868720" y="4282920"/>
                <a:ext cx="240480" cy="84600"/>
                <a:chOff x="5868720" y="4282920"/>
                <a:chExt cx="240480" cy="84600"/>
              </a:xfrm>
            </p:grpSpPr>
            <p:sp>
              <p:nvSpPr>
                <p:cNvPr id="173" name=""/>
                <p:cNvSpPr/>
                <p:nvPr/>
              </p:nvSpPr>
              <p:spPr>
                <a:xfrm flipV="1">
                  <a:off x="5868720" y="4282920"/>
                  <a:ext cx="856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033600" y="4367520"/>
                  <a:ext cx="75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947920" y="4284360"/>
                  <a:ext cx="8928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5868720" y="4281480"/>
                <a:ext cx="240480" cy="84600"/>
                <a:chOff x="5868720" y="4281480"/>
                <a:chExt cx="240480" cy="846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868720" y="4364640"/>
                  <a:ext cx="856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033600" y="4281480"/>
                  <a:ext cx="75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5947920" y="4281840"/>
                  <a:ext cx="89280" cy="82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0" name=""/>
          <p:cNvGrpSpPr/>
          <p:nvPr/>
        </p:nvGrpSpPr>
        <p:grpSpPr>
          <a:xfrm>
            <a:off x="5745240" y="5095800"/>
            <a:ext cx="671400" cy="387360"/>
            <a:chOff x="5745240" y="5095800"/>
            <a:chExt cx="671400" cy="387360"/>
          </a:xfrm>
        </p:grpSpPr>
        <p:sp>
          <p:nvSpPr>
            <p:cNvPr id="181" name=""/>
            <p:cNvSpPr/>
            <p:nvPr/>
          </p:nvSpPr>
          <p:spPr>
            <a:xfrm>
              <a:off x="5745240" y="509580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5819760" y="5182920"/>
              <a:ext cx="501120" cy="232920"/>
              <a:chOff x="5819760" y="5182920"/>
              <a:chExt cx="501120" cy="232920"/>
            </a:xfrm>
          </p:grpSpPr>
          <p:sp>
            <p:nvSpPr>
              <p:cNvPr id="183" name=""/>
              <p:cNvSpPr/>
              <p:nvPr/>
            </p:nvSpPr>
            <p:spPr>
              <a:xfrm>
                <a:off x="5823720" y="528696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23720" y="52758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20880" y="52758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23720" y="527580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19760" y="518292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5939280" y="5215680"/>
                <a:ext cx="245880" cy="88200"/>
                <a:chOff x="5939280" y="5215680"/>
                <a:chExt cx="245880" cy="88200"/>
              </a:xfrm>
            </p:grpSpPr>
            <p:sp>
              <p:nvSpPr>
                <p:cNvPr id="189" name=""/>
                <p:cNvSpPr/>
                <p:nvPr/>
              </p:nvSpPr>
              <p:spPr>
                <a:xfrm flipV="1">
                  <a:off x="5939280" y="52156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107760" y="5303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020280" y="52178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5939280" y="5214960"/>
                <a:ext cx="245880" cy="88200"/>
                <a:chOff x="5939280" y="5214960"/>
                <a:chExt cx="245880" cy="882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939280" y="53013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107760" y="52149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V="1">
                  <a:off x="6020280" y="5214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6" name=""/>
          <p:cNvGrpSpPr/>
          <p:nvPr/>
        </p:nvGrpSpPr>
        <p:grpSpPr>
          <a:xfrm>
            <a:off x="7040520" y="4795920"/>
            <a:ext cx="671400" cy="387360"/>
            <a:chOff x="7040520" y="4795920"/>
            <a:chExt cx="671400" cy="387360"/>
          </a:xfrm>
        </p:grpSpPr>
        <p:sp>
          <p:nvSpPr>
            <p:cNvPr id="197" name=""/>
            <p:cNvSpPr/>
            <p:nvPr/>
          </p:nvSpPr>
          <p:spPr>
            <a:xfrm>
              <a:off x="7040520" y="47959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7115040" y="4883040"/>
              <a:ext cx="501120" cy="232920"/>
              <a:chOff x="7115040" y="4883040"/>
              <a:chExt cx="501120" cy="232920"/>
            </a:xfrm>
          </p:grpSpPr>
          <p:sp>
            <p:nvSpPr>
              <p:cNvPr id="199" name=""/>
              <p:cNvSpPr/>
              <p:nvPr/>
            </p:nvSpPr>
            <p:spPr>
              <a:xfrm>
                <a:off x="7119000" y="49870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119000" y="4975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16160" y="4975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119000" y="49759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115040" y="48830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7234560" y="4915800"/>
                <a:ext cx="245880" cy="88200"/>
                <a:chOff x="7234560" y="4915800"/>
                <a:chExt cx="245880" cy="8820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7234560" y="4915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403040" y="5004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315560" y="4917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7234560" y="4915080"/>
                <a:ext cx="245880" cy="88200"/>
                <a:chOff x="7234560" y="4915080"/>
                <a:chExt cx="245880" cy="882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7234560" y="50014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03040" y="4915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7315560" y="4915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2" name=""/>
          <p:cNvSpPr/>
          <p:nvPr/>
        </p:nvSpPr>
        <p:spPr>
          <a:xfrm>
            <a:off x="6283440" y="4454640"/>
            <a:ext cx="749160" cy="411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754520" y="230508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78C-5853-4DFD-BA02-D2835655ED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cast Address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0" y="1233360"/>
            <a:ext cx="4816440" cy="56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ulticast addr. uses  class D addre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very host has an unique unicast ad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ternet Group Management Protocol (IGMP) manages the communication of a single host linked to a router with multicast addr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ulticast routers coordination needs a network-layer protocol for multicast routing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6711840" y="1717560"/>
            <a:ext cx="2046240" cy="20494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159520" y="3564000"/>
            <a:ext cx="546120" cy="1132920"/>
            <a:chOff x="5159520" y="3564000"/>
            <a:chExt cx="546120" cy="113292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5159520" y="356400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 flipV="1">
              <a:off x="5622840" y="3866040"/>
              <a:ext cx="8280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5159520" y="429192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 flipV="1">
              <a:off x="5622840" y="4598640"/>
              <a:ext cx="82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5302440" y="3981960"/>
              <a:ext cx="81000" cy="272160"/>
              <a:chOff x="5302440" y="3981960"/>
              <a:chExt cx="81000" cy="272160"/>
            </a:xfrm>
          </p:grpSpPr>
          <p:sp>
            <p:nvSpPr>
              <p:cNvPr id="223" name=""/>
              <p:cNvSpPr/>
              <p:nvPr/>
            </p:nvSpPr>
            <p:spPr>
              <a:xfrm>
                <a:off x="5302440" y="3981960"/>
                <a:ext cx="74520" cy="766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5680" y="407988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308920" y="417780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699160" y="3862440"/>
              <a:ext cx="0" cy="73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132600" y="4756320"/>
            <a:ext cx="476280" cy="4060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5433840" y="4743360"/>
            <a:ext cx="473400" cy="403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rot="16200000">
            <a:off x="5906160" y="4872600"/>
            <a:ext cx="7632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6002280" y="4870440"/>
            <a:ext cx="7776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6090120" y="4875840"/>
            <a:ext cx="7632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421320" y="4690800"/>
            <a:ext cx="324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711760" y="4676760"/>
            <a:ext cx="0" cy="7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715000" y="4684680"/>
            <a:ext cx="71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691240" y="4225680"/>
            <a:ext cx="1062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18000" y="2297160"/>
            <a:ext cx="37332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951600" y="3078000"/>
            <a:ext cx="231840" cy="146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356520" y="5294160"/>
            <a:ext cx="462960" cy="522000"/>
            <a:chOff x="6356520" y="5294160"/>
            <a:chExt cx="462960" cy="522000"/>
          </a:xfrm>
        </p:grpSpPr>
        <p:pic>
          <p:nvPicPr>
            <p:cNvPr id="239" name="" descr=""/>
            <p:cNvPicPr/>
            <p:nvPr/>
          </p:nvPicPr>
          <p:blipFill>
            <a:blip r:embed="rId5"/>
            <a:stretch/>
          </p:blipFill>
          <p:spPr>
            <a:xfrm>
              <a:off x="6356520" y="5294160"/>
              <a:ext cx="43128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6"/>
            <a:stretch/>
          </p:blipFill>
          <p:spPr>
            <a:xfrm>
              <a:off x="6424560" y="5430960"/>
              <a:ext cx="394920" cy="38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"/>
          <p:cNvGrpSpPr/>
          <p:nvPr/>
        </p:nvGrpSpPr>
        <p:grpSpPr>
          <a:xfrm>
            <a:off x="7242120" y="5334120"/>
            <a:ext cx="461520" cy="521640"/>
            <a:chOff x="7242120" y="5334120"/>
            <a:chExt cx="461520" cy="521640"/>
          </a:xfrm>
        </p:grpSpPr>
        <p:pic>
          <p:nvPicPr>
            <p:cNvPr id="242" name="" descr=""/>
            <p:cNvPicPr/>
            <p:nvPr/>
          </p:nvPicPr>
          <p:blipFill>
            <a:blip r:embed="rId7"/>
            <a:stretch/>
          </p:blipFill>
          <p:spPr>
            <a:xfrm>
              <a:off x="7242120" y="5334120"/>
              <a:ext cx="42984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8"/>
            <a:stretch/>
          </p:blipFill>
          <p:spPr>
            <a:xfrm>
              <a:off x="7310160" y="5470920"/>
              <a:ext cx="393480" cy="38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4" name=""/>
          <p:cNvGrpSpPr/>
          <p:nvPr/>
        </p:nvGrpSpPr>
        <p:grpSpPr>
          <a:xfrm>
            <a:off x="6770520" y="4986360"/>
            <a:ext cx="432000" cy="460080"/>
            <a:chOff x="6770520" y="4986360"/>
            <a:chExt cx="432000" cy="460080"/>
          </a:xfrm>
        </p:grpSpPr>
        <p:pic>
          <p:nvPicPr>
            <p:cNvPr id="245" name="" descr=""/>
            <p:cNvPicPr/>
            <p:nvPr/>
          </p:nvPicPr>
          <p:blipFill>
            <a:blip r:embed="rId9"/>
            <a:stretch/>
          </p:blipFill>
          <p:spPr>
            <a:xfrm>
              <a:off x="6770520" y="4986360"/>
              <a:ext cx="43200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896160" y="5148000"/>
              <a:ext cx="304560" cy="298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118280" y="48672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939080" y="4162320"/>
            <a:ext cx="236520" cy="501480"/>
            <a:chOff x="7939080" y="4162320"/>
            <a:chExt cx="236520" cy="501480"/>
          </a:xfrm>
        </p:grpSpPr>
        <p:sp>
          <p:nvSpPr>
            <p:cNvPr id="249" name=""/>
            <p:cNvSpPr/>
            <p:nvPr/>
          </p:nvSpPr>
          <p:spPr>
            <a:xfrm>
              <a:off x="7939080" y="454788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058600" y="4165560"/>
              <a:ext cx="108720" cy="385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40160" y="4274640"/>
              <a:ext cx="149760" cy="385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39080" y="416232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5600" y="41702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8090280" y="4547880"/>
              <a:ext cx="8496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59240" y="4325760"/>
              <a:ext cx="99360" cy="22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73640" y="4392720"/>
              <a:ext cx="75240" cy="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924680" y="4707000"/>
            <a:ext cx="236520" cy="499680"/>
            <a:chOff x="7924680" y="4707000"/>
            <a:chExt cx="236520" cy="499680"/>
          </a:xfrm>
        </p:grpSpPr>
        <p:sp>
          <p:nvSpPr>
            <p:cNvPr id="258" name=""/>
            <p:cNvSpPr/>
            <p:nvPr/>
          </p:nvSpPr>
          <p:spPr>
            <a:xfrm>
              <a:off x="7924680" y="509112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44200" y="4710240"/>
              <a:ext cx="108720" cy="3837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25760" y="4818960"/>
              <a:ext cx="149760" cy="384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24680" y="470700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61200" y="471492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8075880" y="5091120"/>
              <a:ext cx="84960" cy="11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44840" y="4869720"/>
              <a:ext cx="99360" cy="221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959240" y="4936680"/>
              <a:ext cx="7524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 flipV="1">
            <a:off x="7818480" y="428904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842240" y="4991040"/>
            <a:ext cx="11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39000" y="440856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78480" y="2360520"/>
            <a:ext cx="368280" cy="9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797440" y="2198520"/>
            <a:ext cx="569880" cy="285480"/>
            <a:chOff x="5797440" y="2198520"/>
            <a:chExt cx="569880" cy="285480"/>
          </a:xfrm>
        </p:grpSpPr>
        <p:sp>
          <p:nvSpPr>
            <p:cNvPr id="271" name=""/>
            <p:cNvSpPr/>
            <p:nvPr/>
          </p:nvSpPr>
          <p:spPr>
            <a:xfrm>
              <a:off x="5801760" y="2325960"/>
              <a:ext cx="56520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0176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6732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01760" y="2312640"/>
              <a:ext cx="56016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97440" y="2198520"/>
              <a:ext cx="56484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5933160" y="2239200"/>
              <a:ext cx="279720" cy="107640"/>
              <a:chOff x="5933160" y="2239200"/>
              <a:chExt cx="279720" cy="107640"/>
            </a:xfrm>
          </p:grpSpPr>
          <p:sp>
            <p:nvSpPr>
              <p:cNvPr id="277" name=""/>
              <p:cNvSpPr/>
              <p:nvPr/>
            </p:nvSpPr>
            <p:spPr>
              <a:xfrm flipV="1">
                <a:off x="5933160" y="22392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125040" y="23468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024960" y="224136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5933160" y="2237400"/>
              <a:ext cx="279720" cy="107640"/>
              <a:chOff x="5933160" y="2237400"/>
              <a:chExt cx="279720" cy="107640"/>
            </a:xfrm>
          </p:grpSpPr>
          <p:sp>
            <p:nvSpPr>
              <p:cNvPr id="281" name=""/>
              <p:cNvSpPr/>
              <p:nvPr/>
            </p:nvSpPr>
            <p:spPr>
              <a:xfrm>
                <a:off x="5933160" y="23428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125040" y="22374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6024960" y="223740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7404120" y="3986280"/>
            <a:ext cx="569880" cy="286920"/>
            <a:chOff x="7404120" y="3986280"/>
            <a:chExt cx="569880" cy="286920"/>
          </a:xfrm>
        </p:grpSpPr>
        <p:sp>
          <p:nvSpPr>
            <p:cNvPr id="285" name=""/>
            <p:cNvSpPr/>
            <p:nvPr/>
          </p:nvSpPr>
          <p:spPr>
            <a:xfrm>
              <a:off x="7408440" y="4114440"/>
              <a:ext cx="565200" cy="158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0844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7400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08440" y="4100760"/>
              <a:ext cx="560160" cy="9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04120" y="3986280"/>
              <a:ext cx="564840" cy="1854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7539840" y="4026960"/>
              <a:ext cx="279720" cy="108360"/>
              <a:chOff x="7539840" y="4026960"/>
              <a:chExt cx="279720" cy="108360"/>
            </a:xfrm>
          </p:grpSpPr>
          <p:sp>
            <p:nvSpPr>
              <p:cNvPr id="291" name=""/>
              <p:cNvSpPr/>
              <p:nvPr/>
            </p:nvSpPr>
            <p:spPr>
              <a:xfrm flipV="1">
                <a:off x="7539840" y="40269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731720" y="413532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631640" y="4029120"/>
                <a:ext cx="1036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7539840" y="4025160"/>
              <a:ext cx="279720" cy="108360"/>
              <a:chOff x="7539840" y="4025160"/>
              <a:chExt cx="279720" cy="108360"/>
            </a:xfrm>
          </p:grpSpPr>
          <p:sp>
            <p:nvSpPr>
              <p:cNvPr id="295" name=""/>
              <p:cNvSpPr/>
              <p:nvPr/>
            </p:nvSpPr>
            <p:spPr>
              <a:xfrm>
                <a:off x="7539840" y="41313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731720" y="40251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7631640" y="4025160"/>
                <a:ext cx="1036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6710400" y="4584600"/>
            <a:ext cx="569880" cy="284040"/>
            <a:chOff x="6710400" y="4584600"/>
            <a:chExt cx="569880" cy="284040"/>
          </a:xfrm>
        </p:grpSpPr>
        <p:sp>
          <p:nvSpPr>
            <p:cNvPr id="299" name=""/>
            <p:cNvSpPr/>
            <p:nvPr/>
          </p:nvSpPr>
          <p:spPr>
            <a:xfrm>
              <a:off x="6714720" y="471132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1472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8028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14720" y="469800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10400" y="458460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846120" y="4624920"/>
              <a:ext cx="279720" cy="107280"/>
              <a:chOff x="6846120" y="4624920"/>
              <a:chExt cx="279720" cy="10728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6846120" y="462492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38000" y="47322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7920" y="46270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846120" y="4623480"/>
              <a:ext cx="279720" cy="107280"/>
              <a:chOff x="6846120" y="4623480"/>
              <a:chExt cx="279720" cy="107280"/>
            </a:xfrm>
          </p:grpSpPr>
          <p:sp>
            <p:nvSpPr>
              <p:cNvPr id="309" name=""/>
              <p:cNvSpPr/>
              <p:nvPr/>
            </p:nvSpPr>
            <p:spPr>
              <a:xfrm>
                <a:off x="6846120" y="47286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038000" y="46234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6937920" y="46234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5797440" y="4124160"/>
            <a:ext cx="569880" cy="284040"/>
            <a:chOff x="5797440" y="4124160"/>
            <a:chExt cx="569880" cy="284040"/>
          </a:xfrm>
        </p:grpSpPr>
        <p:sp>
          <p:nvSpPr>
            <p:cNvPr id="313" name=""/>
            <p:cNvSpPr/>
            <p:nvPr/>
          </p:nvSpPr>
          <p:spPr>
            <a:xfrm>
              <a:off x="5801760" y="425088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0176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6732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01760" y="423756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97440" y="412416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933160" y="4164480"/>
              <a:ext cx="279720" cy="107280"/>
              <a:chOff x="5933160" y="4164480"/>
              <a:chExt cx="279720" cy="10728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5933160" y="41644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25040" y="42717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024960" y="41666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5933160" y="4163040"/>
              <a:ext cx="279720" cy="107280"/>
              <a:chOff x="5933160" y="4163040"/>
              <a:chExt cx="279720" cy="107280"/>
            </a:xfrm>
          </p:grpSpPr>
          <p:sp>
            <p:nvSpPr>
              <p:cNvPr id="323" name=""/>
              <p:cNvSpPr/>
              <p:nvPr/>
            </p:nvSpPr>
            <p:spPr>
              <a:xfrm>
                <a:off x="5933160" y="42681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125040" y="41630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6024960" y="41630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6" name=""/>
          <p:cNvSpPr/>
          <p:nvPr/>
        </p:nvSpPr>
        <p:spPr>
          <a:xfrm>
            <a:off x="6080040" y="4416480"/>
            <a:ext cx="180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0" y="2371680"/>
            <a:ext cx="1533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ulticast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226.17.30.1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7327440" y="3254040"/>
            <a:ext cx="360360" cy="7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826160" y="1716120"/>
            <a:ext cx="546120" cy="1132920"/>
            <a:chOff x="4826160" y="1716120"/>
            <a:chExt cx="546120" cy="1132920"/>
          </a:xfrm>
        </p:grpSpPr>
        <p:pic>
          <p:nvPicPr>
            <p:cNvPr id="330" name="" descr=""/>
            <p:cNvPicPr/>
            <p:nvPr/>
          </p:nvPicPr>
          <p:blipFill>
            <a:blip r:embed="rId10"/>
            <a:stretch/>
          </p:blipFill>
          <p:spPr>
            <a:xfrm>
              <a:off x="4826160" y="171612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 flipV="1">
              <a:off x="5289480" y="2018160"/>
              <a:ext cx="8280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11"/>
            <a:stretch/>
          </p:blipFill>
          <p:spPr>
            <a:xfrm>
              <a:off x="4826160" y="244404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 flipV="1">
              <a:off x="5289480" y="2750760"/>
              <a:ext cx="82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4969080" y="2134080"/>
              <a:ext cx="81000" cy="272160"/>
              <a:chOff x="4969080" y="2134080"/>
              <a:chExt cx="81000" cy="272160"/>
            </a:xfrm>
          </p:grpSpPr>
          <p:sp>
            <p:nvSpPr>
              <p:cNvPr id="335" name=""/>
              <p:cNvSpPr/>
              <p:nvPr/>
            </p:nvSpPr>
            <p:spPr>
              <a:xfrm>
                <a:off x="4969080" y="2134080"/>
                <a:ext cx="74520" cy="766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72320" y="223200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75560" y="232992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5365800" y="2014560"/>
              <a:ext cx="0" cy="73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 flipV="1">
            <a:off x="6111720" y="3092040"/>
            <a:ext cx="654120" cy="9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6DB-14A2-4C29-B9B9-E967B6B1EB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Eleonora Luppi</cp:lastModifiedBy>
  <dcterms:modified xsi:type="dcterms:W3CDTF">2004-05-27T12:40:33Z</dcterms:modified>
  <cp:revision>138</cp:revision>
  <dc:subject/>
  <dc:title>Part I: Introduction</dc:title>
</cp:coreProperties>
</file>